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F88-B62E-4D7D-B2D2-816D1274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0C0-2916-4325-B1DD-CB3D847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7A6-CB2A-4B81-981E-F86FE52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AA0-39C6-48F5-97D4-27C3FD73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F99-6FAA-4CF3-A9C7-C325DA23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C03-2884-46C0-A4A8-AFA9BD74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AA9-3FF4-45EE-99A2-2FF7F6A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570-7252-463B-AD87-80737233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CFD-79E9-43B6-9BEF-D933434E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1BF-1CD1-4546-B232-40B27FB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0B6-ECEC-4DF3-AE43-953C399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61D-6565-4950-8325-5FE0913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4C8-016E-4D8F-92EE-6F41A1232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ДП «Дружны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C:\Documents and Settings\Admin\Рабочий стол\ФОТО\фото школы лето-2012\лето\IMG_1125.jpg"/>
          <p:cNvPicPr/>
          <p:nvPr/>
        </p:nvPicPr>
        <p:blipFill>
          <a:blip r:embed="rId1"/>
          <a:stretch/>
        </p:blipFill>
        <p:spPr>
          <a:xfrm>
            <a:off x="298440" y="1292400"/>
            <a:ext cx="4846680" cy="336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Admin\Рабочий стол\ФОТО\фото школы лето-2012\лето\IMG_1289.jpg"/>
          <p:cNvPicPr/>
          <p:nvPr/>
        </p:nvPicPr>
        <p:blipFill>
          <a:blip r:embed="rId2"/>
          <a:stretch/>
        </p:blipFill>
        <p:spPr>
          <a:xfrm>
            <a:off x="4035600" y="3041640"/>
            <a:ext cx="48765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1:05:34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