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9839-8745-4205-8590-BDC85EF2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12C-1928-4A60-AF9F-DF4C8F5A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2C71-4CC6-4BF8-9F86-0955940C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B80-AFFB-4B8A-9872-38EFEB9C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7B39-D42A-4121-89B8-6847DF52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32C-90A9-4EFD-8378-A60D7330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C46-2D84-4F58-96EC-A9A1476B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41D5-829A-4D2A-906F-71953D5F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7E2-8BD0-4A6D-B625-0128AC49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BDB-E2C5-49FD-BC4B-408724F0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72BB-6C64-4430-AAAE-AB5AD74D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6D0-5A2B-439D-A1F4-A49A4E03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ECCD-FBDB-4ADB-BCBE-876154776E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lor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lor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ДП «Дружны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7" descr="C:\Documents and Settings\Admin\Рабочий стол\ФОТО\фото школы лето-2012\лето\IMG_1125.jpg"/>
          <p:cNvPicPr/>
          <p:nvPr/>
        </p:nvPicPr>
        <p:blipFill>
          <a:blip r:embed="rId1"/>
          <a:stretch/>
        </p:blipFill>
        <p:spPr>
          <a:xfrm>
            <a:off x="298440" y="1292400"/>
            <a:ext cx="4846680" cy="336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C:\Documents and Settings\Admin\Рабочий стол\ФОТО\фото школы лето-2012\лето\IMG_1289.jpg"/>
          <p:cNvPicPr/>
          <p:nvPr/>
        </p:nvPicPr>
        <p:blipFill>
          <a:blip r:embed="rId2"/>
          <a:stretch/>
        </p:blipFill>
        <p:spPr>
          <a:xfrm>
            <a:off x="4035600" y="3041640"/>
            <a:ext cx="48765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0T01:05:34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