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205-60CE-4F74-AECB-BAC237EE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E26-083E-4C23-898F-4A7985B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529-70DC-4F20-9C98-A4915BF4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4E6-372D-4F61-A9D6-E344C068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6E2F-2249-4A4E-87D6-A51F5BBD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834E-392B-4D92-99EA-F4990A9C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78D2-3C1C-453C-AF11-6608F0DF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2607-EE6D-48E4-B956-609F51DB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2FE5-FD86-494B-B48A-038E489D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C859-E5FE-4C9E-AA97-401402B1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FF78-AC6A-4CC1-B49F-D689E59B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EC0-BC7D-4F88-AC0D-DFD67DC3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B72A-616D-4605-AEC5-1DEED1D2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D83A-A68F-4C96-90DF-2F67688F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84F4-482F-4A87-8797-CE608477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CF3F-4C1B-4AB4-9064-299A40FE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E850-275D-44D3-8A95-8DC5C241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603-8AC0-4FB3-A519-28821EFA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1F8-31CA-4BEA-978E-3B70B5F6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1C5-140F-44BB-AEAC-EC7662E5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167-A761-4FEB-B41F-F90D5472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F14-3B37-43B5-8484-05789470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015-BE83-4404-A38C-E63CCB6F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FDB-99E0-4308-8D6C-E9BA7F2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E76C-1D88-4C90-A492-29CA77EC59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CF43-1574-4848-8CF9-5C4D3573D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благоустройства школьного д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"Школьный двор – территория радости"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733920" y="5104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201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267080" y="304920"/>
            <a:ext cx="4724640" cy="9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КОУ Староакульшетская ООШ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65040 Иркутская область, Тайшетский рай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ело Старый Акульшет, улица Бирюсинская,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8 марта посл зв пдд 1444"/>
          <p:cNvPicPr/>
          <p:nvPr/>
        </p:nvPicPr>
        <p:blipFill>
          <a:blip r:embed="rId1"/>
          <a:stretch/>
        </p:blipFill>
        <p:spPr>
          <a:xfrm>
            <a:off x="1676520" y="1219320"/>
            <a:ext cx="7086600" cy="531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5" name="Picture 5" descr="C:\Documents and Settings\Admin\Рабочий стол\ФОТО\102_PANA\школа 860.jpg"/>
          <p:cNvPicPr/>
          <p:nvPr/>
        </p:nvPicPr>
        <p:blipFill>
          <a:blip r:embed="rId2"/>
          <a:stretch/>
        </p:blipFill>
        <p:spPr>
          <a:xfrm>
            <a:off x="1523880" y="1143000"/>
            <a:ext cx="7315200" cy="548640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льпийская го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98108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кусственный водо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G:\SDC14091.JPG"/>
          <p:cNvPicPr/>
          <p:nvPr/>
        </p:nvPicPr>
        <p:blipFill>
          <a:blip r:embed="rId3"/>
          <a:stretch/>
        </p:blipFill>
        <p:spPr>
          <a:xfrm>
            <a:off x="1447920" y="1143000"/>
            <a:ext cx="7513560" cy="556272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6"/>
          <p:cNvSpPr/>
          <p:nvPr/>
        </p:nvSpPr>
        <p:spPr>
          <a:xfrm>
            <a:off x="838080" y="228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юбимые уголки школьного дв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ff"/>
            </a:gs>
            <a:gs pos="100000">
              <a:srgbClr val="8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2" descr="0_61991_f221aff3_L"/>
          <p:cNvPicPr/>
          <p:nvPr/>
        </p:nvPicPr>
        <p:blipFill>
          <a:blip r:embed="rId1"/>
          <a:stretch/>
        </p:blipFill>
        <p:spPr>
          <a:xfrm>
            <a:off x="6195960" y="0"/>
            <a:ext cx="2948040" cy="3048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0_61991_f221aff3_L"/>
          <p:cNvPicPr/>
          <p:nvPr/>
        </p:nvPicPr>
        <p:blipFill>
          <a:blip r:embed="rId2"/>
          <a:stretch/>
        </p:blipFill>
        <p:spPr>
          <a:xfrm>
            <a:off x="0" y="3733920"/>
            <a:ext cx="3022560" cy="3124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«Школьный двор – территория радости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перспективное развитие, так как предложено для преобразования только некоторая часть школьной террит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ершение работы школьники должны самостоятельно сформулировать выводы о проделанной работе и предложить план дальнейшего благоустройства школьной территор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ные руками детей «объекты зеленого строительства»: клумбы, бордюры, дорожки, цветочные партеры, миксбордеры и др. должны приносить эстетическое наслаждение, радость всем участникам общешкольного проекта. Одновременно «объекты зеленого строительства» требуют постоянного внимания к себе со стороны учащихся, что, в свою очередь, является одной из форм воспитания чувств ответственности, любви к природе, родной школе и своей стр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0_6198e_c6ccb340_L"/>
          <p:cNvPicPr/>
          <p:nvPr/>
        </p:nvPicPr>
        <p:blipFill>
          <a:blip r:embed="rId5"/>
          <a:stretch/>
        </p:blipFill>
        <p:spPr>
          <a:xfrm>
            <a:off x="2971800" y="5460840"/>
            <a:ext cx="2971800" cy="1397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0_6198e_c6ccb340_L"/>
          <p:cNvPicPr/>
          <p:nvPr/>
        </p:nvPicPr>
        <p:blipFill>
          <a:blip r:embed="rId6"/>
          <a:stretch/>
        </p:blipFill>
        <p:spPr>
          <a:xfrm>
            <a:off x="0" y="1066680"/>
            <a:ext cx="1166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0T01:00:47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