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481-E29E-4C05-96F6-6A62FBEE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860-F4D4-4BF4-8DC2-5711F61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F92-AA57-4F8B-9EA9-39A31D69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4C4-A52F-4AB1-AE08-2E2FFAB4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A998-2D69-4845-9E6C-B4C65D15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F208-874F-45F0-939A-4F33241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7140-82FC-43A0-873C-EC11ECC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DAB9-2FA7-4F79-A8B7-3EAD48FF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882A-4280-40C0-8FE0-CB5F2E78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E20-4C3A-497E-AFA1-00DCFE67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A76D-F72F-4822-A934-D9A6D8D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264-B05B-40C0-A0F7-6012458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933E-4919-4D0F-A922-DED98FB1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AA7F-9356-4A71-82EB-6F0682E2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9F2A-2DDA-4F38-8384-D09CCFBC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B9B-5FCE-4223-BB3C-92CAFEBB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8E55-09C7-47BF-AC89-FD0D866D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911-DE18-47BA-B75E-91286A9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EFDB-2FB6-445F-B754-98016F27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26B-AB84-429F-9E2B-E5A39C30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889-1735-4879-A268-C2C8439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6BE-DBDF-4F2A-A8DA-59C3C579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107-AF43-42A8-8053-4A959290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F17-8785-48A5-902D-248FC1D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00F-EEE2-4EFF-927D-E17C41D374A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B186-319D-4D18-86AE-4243CBED42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8 марта посл зв пдд 1444"/>
          <p:cNvPicPr/>
          <p:nvPr/>
        </p:nvPicPr>
        <p:blipFill>
          <a:blip r:embed="rId1"/>
          <a:stretch/>
        </p:blipFill>
        <p:spPr>
          <a:xfrm>
            <a:off x="1676520" y="1219320"/>
            <a:ext cx="7086600" cy="5314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5" name="Picture 5" descr="C:\Documents and Settings\Admin\Рабочий стол\ФОТО\102_PANA\школа 860.jpg"/>
          <p:cNvPicPr/>
          <p:nvPr/>
        </p:nvPicPr>
        <p:blipFill>
          <a:blip r:embed="rId2"/>
          <a:stretch/>
        </p:blipFill>
        <p:spPr>
          <a:xfrm>
            <a:off x="1523880" y="1143000"/>
            <a:ext cx="7315200" cy="54864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ьпийская г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981080" y="304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кусственный водо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G:\SDC14091.JPG"/>
          <p:cNvPicPr/>
          <p:nvPr/>
        </p:nvPicPr>
        <p:blipFill>
          <a:blip r:embed="rId3"/>
          <a:stretch/>
        </p:blipFill>
        <p:spPr>
          <a:xfrm>
            <a:off x="1447920" y="1143000"/>
            <a:ext cx="7513560" cy="55627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6"/>
          <p:cNvSpPr/>
          <p:nvPr/>
        </p:nvSpPr>
        <p:spPr>
          <a:xfrm>
            <a:off x="8380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юбимые уголки школьного дв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2" descr="0_61991_f221aff3_L"/>
          <p:cNvPicPr/>
          <p:nvPr/>
        </p:nvPicPr>
        <p:blipFill>
          <a:blip r:embed="rId1"/>
          <a:stretch/>
        </p:blipFill>
        <p:spPr>
          <a:xfrm>
            <a:off x="6195960" y="0"/>
            <a:ext cx="2948040" cy="304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0_61991_f221aff3_L"/>
          <p:cNvPicPr/>
          <p:nvPr/>
        </p:nvPicPr>
        <p:blipFill>
          <a:blip r:embed="rId2"/>
          <a:stretch/>
        </p:blipFill>
        <p:spPr>
          <a:xfrm>
            <a:off x="0" y="3733920"/>
            <a:ext cx="3022560" cy="31240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«Школьный двор – территория радости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ет перспективное развитие, так как предложено для преобразования только некоторая часть школьной террито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ершение работы школьники должны самостоятельно сформулировать выводы о проделанной работе и предложить план дальнейшего благоустройства школьной территор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ные руками детей «объекты зеленого строительства»: клумбы, бордюры, дорожки, цветочные партеры, миксбордеры и др. должны приносить эстетическое наслаждение, радость всем участникам общешкольного проекта. Одновременно «объекты зеленого строительства» требуют постоянного внимания к себе со стороны учащихся, что, в свою очередь, является одной из форм воспитания чувств ответственности, любви к природе, родной школе и своей стр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4" descr="0_6198e_c6ccb340_L"/>
          <p:cNvPicPr/>
          <p:nvPr/>
        </p:nvPicPr>
        <p:blipFill>
          <a:blip r:embed="rId5"/>
          <a:stretch/>
        </p:blipFill>
        <p:spPr>
          <a:xfrm>
            <a:off x="2971800" y="5460840"/>
            <a:ext cx="2971800" cy="1397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0_6198e_c6ccb340_L"/>
          <p:cNvPicPr/>
          <p:nvPr/>
        </p:nvPicPr>
        <p:blipFill>
          <a:blip r:embed="rId6"/>
          <a:stretch/>
        </p:blipFill>
        <p:spPr>
          <a:xfrm>
            <a:off x="0" y="1066680"/>
            <a:ext cx="1166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0:47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