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7B9A-4AAD-49E7-94BF-4C7C40CA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4BEA-D4E9-4141-BB47-B0D150F9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07A1-ADDF-4B80-AED2-07539308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C53-8D7F-4A00-8F84-E276AF4E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D850-4FCE-4123-B468-F961D4E2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78E7-7C6D-47A4-9E2A-9ABAFEE9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2662-1938-4B33-8F8E-94C25175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7CD2-39F5-4BBC-B5DC-AD2AD3A8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1218-3386-431B-B425-B6D31AF9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735-1A65-4F01-B1C8-10385459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9550-2E74-4EC1-904F-B8214A98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9404-AC79-4F57-90D4-31C17809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FE4F-B49E-4413-8E59-D11DBA1C50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1186330404_3.gif"/>
          <p:cNvPicPr/>
          <p:nvPr/>
        </p:nvPicPr>
        <p:blipFill>
          <a:blip r:embed="rId1"/>
          <a:stretch/>
        </p:blipFill>
        <p:spPr>
          <a:xfrm>
            <a:off x="2666880" y="1047600"/>
            <a:ext cx="38102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785520"/>
            <a:ext cx="810108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идем в лес на лапах ели капли росы сухой лист упал на пень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Овал 3"/>
          <p:cNvGrpSpPr/>
          <p:nvPr/>
        </p:nvGrpSpPr>
        <p:grpSpPr>
          <a:xfrm>
            <a:off x="7223040" y="1749600"/>
            <a:ext cx="263520" cy="250560"/>
            <a:chOff x="7223040" y="1749600"/>
            <a:chExt cx="263520" cy="250560"/>
          </a:xfrm>
        </p:grpSpPr>
        <p:pic>
          <p:nvPicPr>
            <p:cNvPr id="46" name="Овал 3" descr=""/>
            <p:cNvPicPr/>
            <p:nvPr/>
          </p:nvPicPr>
          <p:blipFill>
            <a:blip r:embed="rId1"/>
            <a:stretch/>
          </p:blipFill>
          <p:spPr>
            <a:xfrm>
              <a:off x="7223040" y="1749600"/>
              <a:ext cx="263520" cy="2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307280" y="180648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Овал 4"/>
          <p:cNvGrpSpPr/>
          <p:nvPr/>
        </p:nvGrpSpPr>
        <p:grpSpPr>
          <a:xfrm>
            <a:off x="2938320" y="4175280"/>
            <a:ext cx="262080" cy="257040"/>
            <a:chOff x="2938320" y="4175280"/>
            <a:chExt cx="262080" cy="257040"/>
          </a:xfrm>
        </p:grpSpPr>
        <p:pic>
          <p:nvPicPr>
            <p:cNvPr id="49" name="Овал 4" descr=""/>
            <p:cNvPicPr/>
            <p:nvPr/>
          </p:nvPicPr>
          <p:blipFill>
            <a:blip r:embed="rId2"/>
            <a:stretch/>
          </p:blipFill>
          <p:spPr>
            <a:xfrm>
              <a:off x="2938320" y="4175280"/>
              <a:ext cx="26208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021120" y="423540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Овал 5"/>
          <p:cNvGrpSpPr/>
          <p:nvPr/>
        </p:nvGrpSpPr>
        <p:grpSpPr>
          <a:xfrm>
            <a:off x="6297480" y="5394240"/>
            <a:ext cx="255600" cy="250920"/>
            <a:chOff x="6297480" y="5394240"/>
            <a:chExt cx="255600" cy="250920"/>
          </a:xfrm>
        </p:grpSpPr>
        <p:pic>
          <p:nvPicPr>
            <p:cNvPr id="52" name="Овал 5" descr=""/>
            <p:cNvPicPr/>
            <p:nvPr/>
          </p:nvPicPr>
          <p:blipFill>
            <a:blip r:embed="rId3"/>
            <a:stretch/>
          </p:blipFill>
          <p:spPr>
            <a:xfrm>
              <a:off x="6297480" y="5394240"/>
              <a:ext cx="25560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378480" y="545004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" name="Прямоугольник 6" descr=""/>
          <p:cNvPicPr/>
          <p:nvPr/>
        </p:nvPicPr>
        <p:blipFill>
          <a:blip r:embed="rId4"/>
          <a:stretch/>
        </p:blipFill>
        <p:spPr>
          <a:xfrm>
            <a:off x="-457200" y="291960"/>
            <a:ext cx="2766960" cy="19814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ая соединительная линия 8"/>
          <p:cNvSpPr/>
          <p:nvPr/>
        </p:nvSpPr>
        <p:spPr>
          <a:xfrm flipH="1">
            <a:off x="856800" y="1214280"/>
            <a:ext cx="500040" cy="857520"/>
          </a:xfrm>
          <a:prstGeom prst="line">
            <a:avLst/>
          </a:prstGeom>
          <a:ln w="111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 flipH="1">
            <a:off x="7714800" y="1214280"/>
            <a:ext cx="500040" cy="857520"/>
          </a:xfrm>
          <a:prstGeom prst="line">
            <a:avLst/>
          </a:prstGeom>
          <a:ln w="111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Прямоугольник 11" descr=""/>
          <p:cNvPicPr/>
          <p:nvPr/>
        </p:nvPicPr>
        <p:blipFill>
          <a:blip r:embed="rId5"/>
          <a:stretch/>
        </p:blipFill>
        <p:spPr>
          <a:xfrm>
            <a:off x="6576840" y="291960"/>
            <a:ext cx="2567160" cy="19814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ая соединительная линия 12"/>
          <p:cNvSpPr/>
          <p:nvPr/>
        </p:nvSpPr>
        <p:spPr>
          <a:xfrm flipH="1">
            <a:off x="3642840" y="3571920"/>
            <a:ext cx="500040" cy="857160"/>
          </a:xfrm>
          <a:prstGeom prst="line">
            <a:avLst/>
          </a:prstGeom>
          <a:ln w="111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Прямоугольник 13" descr=""/>
          <p:cNvPicPr/>
          <p:nvPr/>
        </p:nvPicPr>
        <p:blipFill>
          <a:blip r:embed="rId6"/>
          <a:stretch/>
        </p:blipFill>
        <p:spPr>
          <a:xfrm>
            <a:off x="2462040" y="2719440"/>
            <a:ext cx="2494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9" descr="VEJY5CAL0H19PCA891B3QCAUTL1GSCAW3H414CAYZRB61CA3OQN5HCAXJRFFPCA9U3GMOCAVF6N10CAOFLJCHCAG54OLQCACZVNG7CAYEDQWLCA3C85IBCAREN07SCAID95QUCAEXM2VTCASTEWM9.jpg"/>
          <p:cNvPicPr/>
          <p:nvPr/>
        </p:nvPicPr>
        <p:blipFill>
          <a:blip r:embed="rId1"/>
          <a:stretch/>
        </p:blipFill>
        <p:spPr>
          <a:xfrm>
            <a:off x="571680" y="1033560"/>
            <a:ext cx="2071440" cy="21096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0" descr="VEJY5CAL0H19PCA891B3QCAUTL1GSCAW3H414CAYZRB61CA3OQN5HCAXJRFFPCA9U3GMOCAVF6N10CAOFLJCHCAG54OLQCACZVNG7CAYEDQWLCA3C85IBCAREN07SCAID95QUCAEXM2VTCASTEWM9.jpg"/>
          <p:cNvPicPr/>
          <p:nvPr/>
        </p:nvPicPr>
        <p:blipFill>
          <a:blip r:embed="rId2"/>
          <a:stretch/>
        </p:blipFill>
        <p:spPr>
          <a:xfrm>
            <a:off x="3286080" y="1033560"/>
            <a:ext cx="2071800" cy="21096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1" descr="VEJY5CAL0H19PCA891B3QCAUTL1GSCAW3H414CAYZRB61CA3OQN5HCAXJRFFPCA9U3GMOCAVF6N10CAOFLJCHCAG54OLQCACZVNG7CAYEDQWLCA3C85IBCAREN07SCAID95QUCAEXM2VTCASTEWM9.jpg"/>
          <p:cNvPicPr/>
          <p:nvPr/>
        </p:nvPicPr>
        <p:blipFill>
          <a:blip r:embed="rId3"/>
          <a:stretch/>
        </p:blipFill>
        <p:spPr>
          <a:xfrm>
            <a:off x="6000840" y="1033560"/>
            <a:ext cx="2071440" cy="21096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2" descr="VEJY5CAL0H19PCA891B3QCAUTL1GSCAW3H414CAYZRB61CA3OQN5HCAXJRFFPCA9U3GMOCAVF6N10CAOFLJCHCAG54OLQCACZVNG7CAYEDQWLCA3C85IBCAREN07SCAID95QUCAEXM2VTCASTEWM9.jpg"/>
          <p:cNvPicPr/>
          <p:nvPr/>
        </p:nvPicPr>
        <p:blipFill>
          <a:blip r:embed="rId4"/>
          <a:stretch/>
        </p:blipFill>
        <p:spPr>
          <a:xfrm>
            <a:off x="571680" y="3605040"/>
            <a:ext cx="2071440" cy="21099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3" descr="VEJY5CAL0H19PCA891B3QCAUTL1GSCAW3H414CAYZRB61CA3OQN5HCAXJRFFPCA9U3GMOCAVF6N10CAOFLJCHCAG54OLQCACZVNG7CAYEDQWLCA3C85IBCAREN07SCAID95QUCAEXM2VTCASTEWM9.jpg"/>
          <p:cNvPicPr/>
          <p:nvPr/>
        </p:nvPicPr>
        <p:blipFill>
          <a:blip r:embed="rId5"/>
          <a:stretch/>
        </p:blipFill>
        <p:spPr>
          <a:xfrm>
            <a:off x="3286080" y="3605040"/>
            <a:ext cx="2071800" cy="21099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4" descr="VEJY5CAL0H19PCA891B3QCAUTL1GSCAW3H414CAYZRB61CA3OQN5HCAXJRFFPCA9U3GMOCAVF6N10CAOFLJCHCAG54OLQCACZVNG7CAYEDQWLCA3C85IBCAREN07SCAID95QUCAEXM2VTCASTEWM9.jpg"/>
          <p:cNvPicPr/>
          <p:nvPr/>
        </p:nvPicPr>
        <p:blipFill>
          <a:blip r:embed="rId6"/>
          <a:stretch/>
        </p:blipFill>
        <p:spPr>
          <a:xfrm>
            <a:off x="6000840" y="3605040"/>
            <a:ext cx="2071440" cy="210996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15" descr=""/>
          <p:cNvPicPr/>
          <p:nvPr/>
        </p:nvPicPr>
        <p:blipFill>
          <a:blip r:embed="rId7"/>
          <a:stretch/>
        </p:blipFill>
        <p:spPr>
          <a:xfrm>
            <a:off x="1023840" y="2048040"/>
            <a:ext cx="2084400" cy="13842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16" descr=""/>
          <p:cNvPicPr/>
          <p:nvPr/>
        </p:nvPicPr>
        <p:blipFill>
          <a:blip r:embed="rId8"/>
          <a:stretch/>
        </p:blipFill>
        <p:spPr>
          <a:xfrm>
            <a:off x="3676680" y="2017800"/>
            <a:ext cx="2352600" cy="1384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17" descr=""/>
          <p:cNvPicPr/>
          <p:nvPr/>
        </p:nvPicPr>
        <p:blipFill>
          <a:blip r:embed="rId9"/>
          <a:stretch/>
        </p:blipFill>
        <p:spPr>
          <a:xfrm>
            <a:off x="6566040" y="2017800"/>
            <a:ext cx="2011320" cy="138420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18" descr=""/>
          <p:cNvPicPr/>
          <p:nvPr/>
        </p:nvPicPr>
        <p:blipFill>
          <a:blip r:embed="rId10"/>
          <a:stretch/>
        </p:blipFill>
        <p:spPr>
          <a:xfrm>
            <a:off x="933480" y="4621320"/>
            <a:ext cx="2266920" cy="138276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19" descr=""/>
          <p:cNvPicPr/>
          <p:nvPr/>
        </p:nvPicPr>
        <p:blipFill>
          <a:blip r:embed="rId11"/>
          <a:stretch/>
        </p:blipFill>
        <p:spPr>
          <a:xfrm>
            <a:off x="3882960" y="4621320"/>
            <a:ext cx="2084400" cy="13827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0" descr=""/>
          <p:cNvPicPr/>
          <p:nvPr/>
        </p:nvPicPr>
        <p:blipFill>
          <a:blip r:embed="rId12"/>
          <a:stretch/>
        </p:blipFill>
        <p:spPr>
          <a:xfrm>
            <a:off x="6595920" y="4584600"/>
            <a:ext cx="208440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5:26:31Z</dcterms:created>
  <dc:creator>home</dc:creator>
  <dc:description/>
  <dc:language>en-US</dc:language>
  <cp:lastModifiedBy>home</cp:lastModifiedBy>
  <dcterms:modified xsi:type="dcterms:W3CDTF">2012-02-11T16:00:26Z</dcterms:modified>
  <cp:revision>4</cp:revision>
  <dc:subject/>
  <dc:title>мы идем в лес на лапах ели капли росы сухой лист упал на пень</dc:title>
</cp:coreProperties>
</file>