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8F1-6E98-4198-9F80-95962AED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931-57B9-4B34-939B-1B5F8A42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9579-D518-4749-B303-C64ACFB2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50D9-AAD5-4B70-A4F7-4D0D2465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1B42-B3EC-4261-A844-0D6A094A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DFD8-535C-419A-9D05-7EE64BF3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7EF1-74E6-409C-A0BA-93492E85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6965-C80F-4DAE-B965-906B4258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F767-C853-4BE8-9DE8-72A2C9AE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FFF2-96C4-4835-8FCF-7637723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CD7D-99B7-4A5C-83BD-5736CFD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3CA-D0AD-4CA3-AEFD-07C04E7E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EAB7-DA44-453C-A130-8B304A96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CF85-27B3-45F5-9902-7D2FB71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BA97-0B61-4B76-8D8B-C53219BC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EF78-88CD-4C49-B7CB-A35ECA3B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E925-FD52-45E7-9D52-8831E482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450-0516-427E-BC56-709D7568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914-6C61-4813-B418-2BBFCD5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8E4-37FD-4BBD-91DD-210667AC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667-17DC-4627-957E-547B259A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BC9-A3C5-4DDA-8444-A91F6CE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90C-51FD-4E7A-A4A9-F2522A75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17D-C89F-4BB5-9443-7DDEE28D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7D7-1C4A-4A9E-8BCB-6006FC3DD9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D9D3-2050-47BA-9519-5E2053FC20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02480" cy="5642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90" name=""/>
          <p:cNvSpPr txBox="1"/>
          <p:nvPr/>
        </p:nvSpPr>
        <p:spPr>
          <a:xfrm>
            <a:off x="395280" y="2276640"/>
            <a:ext cx="5761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сим к столу!!!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5718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24720" y="1125360"/>
            <a:ext cx="936720" cy="865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133720"/>
            <a:ext cx="3240000" cy="30956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релка для торт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рож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404640"/>
            <a:ext cx="2519280" cy="223236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людце с чашк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чка чаш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ралл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аю ст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56360" y="2923920"/>
            <a:ext cx="0" cy="230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805360"/>
            <a:ext cx="4249440" cy="792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лфетка на колен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35280" y="692280"/>
            <a:ext cx="2592360" cy="0"/>
          </a:xfrm>
          <a:prstGeom prst="line">
            <a:avLst/>
          </a:prstGeom>
          <a:ln w="92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32720" y="3284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есертная в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551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/3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33360"/>
            <a:ext cx="2376720" cy="22320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релка для заку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ро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еное печен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619280" y="2565360"/>
            <a:ext cx="0" cy="2519280"/>
          </a:xfrm>
          <a:prstGeom prst="line">
            <a:avLst/>
          </a:prstGeom>
          <a:ln w="69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1773360"/>
            <a:ext cx="36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лка для заку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2924280"/>
            <a:ext cx="360360" cy="2376360"/>
          </a:xfrm>
          <a:prstGeom prst="lightningBol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4360" y="4365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ож для заку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6400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549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икола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02480" cy="5642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"/>
          <p:cNvSpPr txBox="1"/>
          <p:nvPr/>
        </p:nvSpPr>
        <p:spPr>
          <a:xfrm>
            <a:off x="468360" y="3068640"/>
            <a:ext cx="57610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ятного чаепития!!!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06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29:21Z</dcterms:created>
  <dc:creator>XTreme</dc:creator>
  <dc:description/>
  <dc:language>en-US</dc:language>
  <cp:lastModifiedBy>XTreme</cp:lastModifiedBy>
  <dcterms:modified xsi:type="dcterms:W3CDTF">2011-03-02T18:47:56Z</dcterms:modified>
  <cp:revision>2</cp:revision>
  <dc:subject/>
  <dc:title>Слайд 1</dc:title>
</cp:coreProperties>
</file>