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337-423F-49A0-9265-50ADF48E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41F-4A51-439A-B392-752090C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D5B-8596-421B-A88A-1C1873AD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580-8F77-437D-B031-C3E369AE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CA31-1B6C-4D59-BAAE-0C4B6A2C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4F23-5AFA-42E5-B983-EA0502B5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9F44-DA8C-43F5-8B42-F997D735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2D5F-ED0D-4664-971B-5A9D9777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ACD2-03C7-4993-BF41-775BDA99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08B8-8ED5-4B80-B4C5-97BD06AC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BE74-C539-4EF4-977E-E672F53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271-C6B3-46C3-82F0-00EBC10F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0372-14BC-40DB-9BC5-08998CEC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0C7E-BD95-47EB-A09D-24463FF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8E39-6165-40E6-A60F-F13789C3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C71D-2C04-475F-9691-34694067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DCA9-92E2-4452-98F6-7DFFAB83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8E3-E7F3-4962-8501-BD77C4DE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B76-D3AC-443B-A640-A880B8B8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4B7-45CF-4948-80BC-3401F0C4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E57-8E7E-400D-9F2C-956FEE98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2B1-0829-4AD1-96D9-A4FF90C9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36F-049C-4A26-B0A3-A223FCD6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782-3FE7-4C1D-9337-A134B7DB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D883-5028-4315-99D8-3EEBAD6C10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71BE-9072-4BB2-945F-BA9FD31267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02480" cy="5642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395280" y="2276640"/>
            <a:ext cx="5761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сим к столу!!!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5718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24720" y="1125360"/>
            <a:ext cx="936720" cy="865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133720"/>
            <a:ext cx="3240000" cy="30956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релка для торт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рож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404640"/>
            <a:ext cx="2519280" cy="22323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людце с чашк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чка чаш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лл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ю ст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56360" y="2923920"/>
            <a:ext cx="0" cy="2305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5805360"/>
            <a:ext cx="4249440" cy="7923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лфетка на колен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35280" y="692280"/>
            <a:ext cx="2592360" cy="0"/>
          </a:xfrm>
          <a:prstGeom prst="line">
            <a:avLst/>
          </a:prstGeom>
          <a:ln w="92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3284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сертная в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551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333360"/>
            <a:ext cx="2376720" cy="22320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релка для закус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ро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еное печен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619280" y="2565360"/>
            <a:ext cx="0" cy="2519280"/>
          </a:xfrm>
          <a:prstGeom prst="line">
            <a:avLst/>
          </a:prstGeom>
          <a:ln w="69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773360"/>
            <a:ext cx="36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лка для закус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2924280"/>
            <a:ext cx="360360" cy="2376360"/>
          </a:xfrm>
          <a:prstGeom prst="lightningBol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365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 для закус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549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549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икола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02480" cy="5642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08" name=""/>
          <p:cNvSpPr txBox="1"/>
          <p:nvPr/>
        </p:nvSpPr>
        <p:spPr>
          <a:xfrm>
            <a:off x="468360" y="3068640"/>
            <a:ext cx="5761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ятного чаепития!!!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0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29:21Z</dcterms:created>
  <dc:creator>XTreme</dc:creator>
  <dc:description/>
  <dc:language>en-US</dc:language>
  <cp:lastModifiedBy>XTreme</cp:lastModifiedBy>
  <dcterms:modified xsi:type="dcterms:W3CDTF">2011-03-02T18:47:56Z</dcterms:modified>
  <cp:revision>2</cp:revision>
  <dc:subject/>
  <dc:title>Слайд 1</dc:title>
</cp:coreProperties>
</file>