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99.jpeg" ContentType="image/jpeg"/>
  <Override PartName="/ppt/media/image71.jpeg" ContentType="image/jpeg"/>
  <Override PartName="/ppt/media/image96.jpeg" ContentType="image/jpeg"/>
  <Override PartName="/ppt/media/image93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6.jpeg" ContentType="image/jpeg"/>
  <Override PartName="/ppt/media/image73.jpeg" ContentType="image/jpeg"/>
  <Override PartName="/ppt/media/image72.jpeg" ContentType="image/jpeg"/>
  <Override PartName="/ppt/media/image83.jpeg" ContentType="image/jpeg"/>
  <Override PartName="/ppt/media/image103.jpeg" ContentType="image/jpeg"/>
  <Override PartName="/ppt/media/image24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92.jpeg" ContentType="image/jpeg"/>
  <Override PartName="/ppt/media/image3.png" ContentType="image/png"/>
  <Override PartName="/ppt/media/image56.jpeg" ContentType="image/jpe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25.jpeg" ContentType="image/jpeg"/>
  <Override PartName="/ppt/media/image104.jpeg" ContentType="image/jpeg"/>
  <Override PartName="/ppt/media/image8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DF1-2CC9-456E-B7FF-996434F3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8CB-D132-477C-A0B6-D54FED5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3D6-53CE-4C5C-B048-7EE09F1E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2EA-E78E-454F-AD22-17F70A29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DC4A-2B61-42A9-9291-0DDED86B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25A-C26D-43CA-93E8-99714C5F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37C-BA61-4349-BC83-504FA15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F0D4-600B-4B8F-8C9A-274916A4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821-6439-47DF-8ACB-909F65D3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96FD-E7FB-4721-A6AF-52ED9EA1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75B-FD7F-4259-AA7E-CEBFB9C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BAB-8096-4815-9CB1-2CD558C2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980-9CA6-4533-AB0F-294920FB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DAAA-5682-4E5B-A323-CC8411EF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AF06-F0FA-4169-A977-BCFFDB4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D7A-C9BB-4EF8-9808-8B5731A3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B2AC-7F03-487E-B1FF-57D3058D5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30C-48E1-491E-918F-72CCB700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325-5584-45DC-8D08-6540DCB2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A7D-01A7-439A-86AC-323A4D9E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B99-CABD-4BAA-8EFA-192C34D5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E95-91ED-4EE1-963C-65AA0A57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931-0D2C-46EF-9FBB-7B1F7B0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B4A-ED4D-43AB-967E-9E89936D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379-62C0-4963-9FC4-81F226CE79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prstGeom prst="pie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prstGeom prst="pie">
              <a:avLst/>
            </a:pr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prstGeom prst="pie">
              <a:avLst/>
            </a:pr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29B-8FD1-4F40-93A8-DE49E406A44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5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5.html" TargetMode="External"/><Relationship Id="rId2" Type="http://schemas.openxmlformats.org/officeDocument/2006/relationships/hyperlink" Target="http://www.ruschudo.ru/regions/5.html" TargetMode="External"/><Relationship Id="rId3" Type="http://schemas.openxmlformats.org/officeDocument/2006/relationships/hyperlink" Target="http://www.ruschudo.ru/regions/5.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image" Target="../media/image92.jpeg"/><Relationship Id="rId3" Type="http://schemas.openxmlformats.org/officeDocument/2006/relationships/image" Target="../media/image9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1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uschudo.ru/regions/4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3171960" y="1839960"/>
            <a:ext cx="28000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Чудо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оссии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Раифский Богородицкий мужской монастырь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38320" y="1752120"/>
            <a:ext cx="3124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Одна из жемчужин русской архитектуры XVII века. Здесь хранится одна из самых почитаемых православных святынь -- чудотворная икона Грузинской Божьей Матери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3" name="Picture 6" descr="C:\Documents and Settings\1\Рабочий стол\7.jpg"/>
          <p:cNvPicPr/>
          <p:nvPr/>
        </p:nvPicPr>
        <p:blipFill>
          <a:blip r:embed="rId2"/>
          <a:stretch/>
        </p:blipFill>
        <p:spPr>
          <a:xfrm>
            <a:off x="685800" y="2365200"/>
            <a:ext cx="46483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Башня Сююмбик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2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Одна из знаменитых «падающих» башен в мире: отклонение ее шпиля от вертикали в северо-восточном направлении составляет 1,98 метра. Увенчана шпилем с позолоченным полумесяцем на яблоке. Общая высота достигает 58 метров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C:\Documents and Settings\1\Рабочий стол\6.jpg"/>
          <p:cNvPicPr/>
          <p:nvPr/>
        </p:nvPicPr>
        <p:blipFill>
          <a:blip r:embed="rId2"/>
          <a:stretch/>
        </p:blipFill>
        <p:spPr>
          <a:xfrm>
            <a:off x="1238400" y="16765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3186000" y="2292480"/>
            <a:ext cx="27720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Урала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Тобольский кремл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1430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Тобольский кремль — единственный каменный кремль во всей Сибири, его памятники — уникальные образцы сибирского зодчества. Каждый этап строительства и каждый памятник кремля являются вехами важнейших событий русской истори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C:\Documents and Settings\1\Рабочий стол\1.jpg"/>
          <p:cNvPicPr/>
          <p:nvPr/>
        </p:nvPicPr>
        <p:blipFill>
          <a:blip r:embed="rId2"/>
          <a:stretch/>
        </p:blipFill>
        <p:spPr>
          <a:xfrm>
            <a:off x="685800" y="2311560"/>
            <a:ext cx="44956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Аркаим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5000" y="152388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древний город жрецов. Основан в семнадцатом веке до нашей эры. Это место называют российской Меккой. Те, кто здесь побывал, говорят, что в их жизни стали происходить чудес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6" descr="C:\Documents and Settings\1\Рабочий стол\2.jpg"/>
          <p:cNvPicPr/>
          <p:nvPr/>
        </p:nvPicPr>
        <p:blipFill>
          <a:blip r:embed="rId2"/>
          <a:stretch/>
        </p:blipFill>
        <p:spPr>
          <a:xfrm>
            <a:off x="685800" y="1989000"/>
            <a:ext cx="472428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Музей декабрист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91320" y="152388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Краеведческий музей Памяти декабристов - главная достопримечательность Ялуторовска. Открытый в 1927 году на базе краеведческого кружка, созданного энтузиастами-краеведами, музей сегодня широко известен всей России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6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685800" y="198108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Ямал. Река Юрибей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884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Эта удивительная река течет по соленой вечной мерзлоте, пересекает полуостров Ямал и впадает в Байдарацкую губу Карского моря. Зимой она становится узкой ледяной лентой, а летом, когда тают снега в тундре, Юрибей разливается на несколько километров в ширину всего на 5-6 дней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504800" y="1600200"/>
            <a:ext cx="3009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Невьянская падающая башня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10080" y="1294920"/>
            <a:ext cx="3353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Невьянскую наклонную башню по праву можно причислить к одному из самых ярких и загадочных чудес Урала. Нередко ее сравнивают с одной из ярчайших туристических достопримечательностей мира - Пизанской падающей башней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130480"/>
            <a:ext cx="44956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Озеро Зюраткул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9132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Озеро Зюраткуль - самое высокогорное и самое "пресное" на Урале. Вода здесь настолько чиста, что её можно пить прямо из озер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14164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Памятник клавиатуре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00600" y="11430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 центре Екатеринбурга на набережной реки Исеть разместился "памятник Клаве" - бетонный монумент, воспроизводящий клавиатуру компьютера в масштабе 30:1. Это самая большая клавиатура компьютера в мире. Памятник состоит из 86 клавиш, весом от 100 до 500 кг, сделанных из бетона. Клавиши расположены в углублениях, с интервалом 15 см. Общая площадь проекта 16 х 4 кв.м. Поверхность клавиш плоская с рельефными обозначениями алфавита и функциональных символов, размещенных в том же порядке, что и на обычной компьютерной клавиатуре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304920" y="22860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190600" y="2292480"/>
            <a:ext cx="476280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Поволжья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305000" y="1730520"/>
            <a:ext cx="6534000" cy="34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Центральной 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России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МГУ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252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Московский государственный университет имени М. В. Ломоносова (МГУ) — ведущий и крупнейший вуз Москвы, центр отечественной науки и культуры, старейший университет Российской Федераци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Picture 6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285920" y="1981080"/>
            <a:ext cx="344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Смоленская крепост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Times New Roman"/>
              </a:rPr>
              <a:t>Смоленскую крепость называют "ожерельем Русской земли", почти в первозданном виде дошедшим до наших дней. Смоленская крепостная стена с удивительной архитектурой, узенькими бойницами и строгими башнями -- выдающийся памятник русского зодчества XVII века. «Смоленский Кремль» -- так ее еще называют -- строили под руководством выдающегося зодчего Федора Коня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Picture 6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409760" y="1371600"/>
            <a:ext cx="3429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Сергиево-Посадская лавр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ергиева лавра основана в 1345 г. как монастырь, сыновьями ростовского дворянина Кирилла, Варфоломеем и Стефаном. Этот знаменитый мужской монастырь, вошел в историю как монументальный исторический символ православия (одно время был и центром Русской православной церкви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" name="Picture 6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1486080" y="12952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Богородицкий дворец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552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Богородицкий дворец и парк - это бывшее владение Екатерины II в Тульской области, которое после смерти императрицы унаследовал ее сын граф А.Г.Бобринский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685800" y="1844640"/>
            <a:ext cx="48006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Собор Василия Блаженного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Собор Покрова, что на Рву, также называемый Храм Василия Блаженного — православный храм, расположенный на Красной площади в Москве. Широко известный памятник русской архитектуры. До XVII века обычно назывался Троицким, так как первоначальный деревянный храм был посвящён Святой Троице; был также известен как «иерусалимский», что связано как с посвящением одного из приделов, так и с совершавшимся в Вербное воскресенье крестным ходом к нему из Успенского собора с «шествием на осляти» Патриарха. Покровский собор — одна из самых известных российских достопримечательностей. Именно Покровский собор является для многих жителей планеты Земля символом России и Москвы (таким же, как Эйфелева башня для Франции и Парижа, Статуя Свободы для США и Нью-Йорка, Биг Бен для Англии и Лондона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932040" y="1447920"/>
            <a:ext cx="4078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Селигер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3868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Озеро ледникового происхождения в Тверской и Новгородской областях Российской Федерации. Площадь озера 260 кв.км;, в том числе около 38 кв.км приходится на острова (их на Селигере более 160). Крупнейший — Хачин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259000"/>
            <a:ext cx="47242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Переславль-Залесcки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66920" y="1143000"/>
            <a:ext cx="3048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В Переславском крае много монастырей, но самый старинный из них -- Никитский, построенный в ХI веке. Рядом, в "ровеснице" монастыря -- церкви Благовещения, останавливался юный Петр I, когда приезжал на озеро Плещеево строить свой потешный флот. Здесь хранитс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ботик Петра, который, по легенде, сделан им собственноручно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441520"/>
            <a:ext cx="4724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535644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WordArt 4"/>
          <p:cNvSpPr txBox="1"/>
          <p:nvPr/>
        </p:nvSpPr>
        <p:spPr>
          <a:xfrm>
            <a:off x="2209680" y="914400"/>
            <a:ext cx="49532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Чудо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юга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России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Замок-крепость "Вовнушки"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00600" y="13712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Ингуши - один из древнейших народов Кавказа. Самоназвание ингушей - "галгай" - означает жители башен. Этнокультурный след ингушей уходит в далекое прошлое вплоть до новокаменного века. В III тысячелетии до н.э. здесь распространялась Куро-Аракская археологическая культура, которая на рубеже II-I-го тысячелетий до н.э. сменилась самобытной Кобанской культурой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6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652760" y="1447920"/>
            <a:ext cx="3017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Кунгурская Ледяная пещер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2895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00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Кунгурская ледяная пещера - уникальный памятник природы, овеянный множеством легенд. По одной из них, в 1578-1579 годах в окрестностях пещеры зимовал отряд Ермака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icture 6" descr="C:\Documents and Settings\1\Рабочий стол\1.jpg"/>
          <p:cNvPicPr/>
          <p:nvPr/>
        </p:nvPicPr>
        <p:blipFill>
          <a:blip r:embed="rId2"/>
          <a:stretch/>
        </p:blipFill>
        <p:spPr>
          <a:xfrm>
            <a:off x="762120" y="1143000"/>
            <a:ext cx="441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Цейское ущель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Знаменитый горно-рекреационный район. Благодаря своей исключительной красоте эти места пользуются заслуженной славой у горнолыжников и альпинистов. Отсюда расходятся многочисленные туристские маршруты через перевалы центрального Кавказа в Грузию, в Кабардино-Балкарию, а также к Военно-Грузинской и Военно-Осетинской дорога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6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465200" y="1371600"/>
            <a:ext cx="3164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Мамаев курган и статуя Родины-матери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28840" y="12949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Общая высота грандиозного памятника -- 85 метров, вес -- 8 тысяч тонн. (Для сравнения, американская статуя Свободы в высоту -- всего 46 метров). От подножия Мамаева кургана к постаменту памятника ведут 200 гранитных ступеней. Сам холм -- огромная братская могила, где похоронены 34 тысячи воинов -- защитников Сталингра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Picture 6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1319040" y="1447920"/>
            <a:ext cx="3456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Кавказские дольм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Уникальной достопримечательностью Кавказа являются дольмены. Неширокой цепью тянутся они вдоль побережья Черного моря. Это древние рукотворные сооружения. По словам ученых, их возраст от 9 тысяч лет, что древнее египетских пирамид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Picture 6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434960" y="160020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Эльбрус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097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Эльбрус — гора на Кавказе, на границе республик Кабардино-Балкария и Карачаево-Черкесия. Эльбрус расположен севернее Главного Кавказского Хребта и является высочайшей вершиной России и Европы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6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189160"/>
            <a:ext cx="441972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Домбай-Ульген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Южная граница Домбая — Главный Кавказский хребет. Высшая точка — вершина Домбай-Ёльген (Домбай-Ульген) высотой 4046 метров. Соединение 3-х главных ущелий: Домбая-Алибека, Аманауза и Домбай-Ёльгена — образует естественный центр территории — живописную Домбайскую поляну, лежащую на высоте 1630—1650 метров над уровнем моря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6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367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Озеро Баскунчак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сероссийская «солонка». Запасов соли в нем, утверждают ученые, хватит всему человечеству на несколько тысяч лет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6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494080"/>
            <a:ext cx="472428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r>
              <a:rPr b="0" i="1" lang="ru-RU" sz="7200" spc="-1" strike="noStrike">
                <a:solidFill>
                  <a:srgbClr val="ffcc00"/>
                </a:solidFill>
                <a:latin typeface="Times New Roman"/>
              </a:rPr>
              <a:t>Северо-         Западный округ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 </a:t>
            </a:r>
            <a:r>
              <a:rPr b="1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Кирилло-Белозерский   </a:t>
            </a:r>
            <a:br>
              <a:rPr sz="4400"/>
            </a:br>
            <a:r>
              <a:rPr b="1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    монастыр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Кирилло-Белозерский монастырь, расположенный в г. Кириллове, на берегу Сиверского озера, был основан в конце XIV столетия. Его основатель - преподобный Кирилл происходил из знатного московского боярского рода Вельяминовых. Он прошел путь от пострижника до архимандрита в московском Симоновом монастыре, однако отказался от высокого чина и в возрасте 60 лет отправился в Белозерье, где и основал обитель. Кирилловским монастырем он управлял до своей смерти в течение тридцати лет. Один из виднейших деятелей русской церкви, Кирилл Белозерский уже в середине XV века был причислен к лику святых. </a:t>
            </a: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Picture 4" descr="f3666-med"/>
          <p:cNvPicPr/>
          <p:nvPr/>
        </p:nvPicPr>
        <p:blipFill>
          <a:blip r:embed="rId1"/>
          <a:stretch/>
        </p:blipFill>
        <p:spPr>
          <a:xfrm>
            <a:off x="685800" y="2616120"/>
            <a:ext cx="38098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a42ea"/>
                </a:solidFill>
                <a:latin typeface="Times New Roman"/>
              </a:rPr>
              <a:t>                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</a:rPr>
              <a:t>Петергоф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етергоф (нидерл. Peterhof) или Петродворец — город на южном берегу Финского залива в 29 км от Санкт-Петербурга. Входит в состав Петродворцового района города Санкт-Петербурга, наукоград с 2005 года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Picture 4" descr="f1688-med"/>
          <p:cNvPicPr/>
          <p:nvPr/>
        </p:nvPicPr>
        <p:blipFill>
          <a:blip r:embed="rId1"/>
          <a:stretch/>
        </p:blipFill>
        <p:spPr>
          <a:xfrm>
            <a:off x="1179360" y="1981080"/>
            <a:ext cx="282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 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Столбы выветрива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ершину хребта Мань-Пупу-нёр украсили оригинальные фигуры – останцы выветривания древних метаморфических сланцев. Никто их не ваял, не обтачивал, создавались они бесконечно долгими – в течение 200 миллионов лет! Морозным выветриванием. Останцев 7, высота от 30 до 42 м. С ним связаны многочисленные легенды, прежде Столбцы Выветривания являлись объектами культа манси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8" name="Picture 4" descr="f393-med"/>
          <p:cNvPicPr/>
          <p:nvPr/>
        </p:nvPicPr>
        <p:blipFill>
          <a:blip r:embed="rId1"/>
          <a:stretch/>
        </p:blipFill>
        <p:spPr>
          <a:xfrm>
            <a:off x="685800" y="22860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Picture 4" descr="C:\Documents and Settings\1\Рабочий стол\_klp1.jpg"/>
          <p:cNvPicPr/>
          <p:nvPr/>
        </p:nvPicPr>
        <p:blipFill>
          <a:blip r:embed="rId1"/>
          <a:stretch/>
        </p:blipFill>
        <p:spPr>
          <a:xfrm>
            <a:off x="1066680" y="457200"/>
            <a:ext cx="3105360" cy="3352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7" descr="C:\Documents and Settings\1\Рабочий стол\27295.gif"/>
          <p:cNvPicPr/>
          <p:nvPr/>
        </p:nvPicPr>
        <p:blipFill>
          <a:blip r:embed="rId2"/>
          <a:stretch/>
        </p:blipFill>
        <p:spPr>
          <a:xfrm>
            <a:off x="5715000" y="228600"/>
            <a:ext cx="2994120" cy="4343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Documents and Settings\1\Рабочий стол\Brill1.jpg"/>
          <p:cNvPicPr/>
          <p:nvPr/>
        </p:nvPicPr>
        <p:blipFill>
          <a:blip r:embed="rId3"/>
          <a:stretch/>
        </p:blipFill>
        <p:spPr>
          <a:xfrm>
            <a:off x="1523880" y="4114800"/>
            <a:ext cx="381024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50920" y="1197000"/>
            <a:ext cx="30243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Кижи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амым выдающимся памятником древнего деревянного зодчества Севера является ансамбль Кижи - группа небольших островов в шхерах южной части Заонежского полуострова, на одном из которых расположился Кижский погост, включенный в список Всемирного Наследия ЮНЕСКО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4" descr="f2100-med"/>
          <p:cNvPicPr/>
          <p:nvPr/>
        </p:nvPicPr>
        <p:blipFill>
          <a:blip r:embed="rId1"/>
          <a:stretch/>
        </p:blipFill>
        <p:spPr>
          <a:xfrm>
            <a:off x="685800" y="2781360"/>
            <a:ext cx="3809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</a:t>
            </a:r>
            <a:r>
              <a:rPr b="0" i="1" lang="ru-RU" sz="3200" spc="-1" strike="noStrike">
                <a:solidFill>
                  <a:srgbClr val="1a42ea"/>
                </a:solidFill>
                <a:latin typeface="Times New Roman"/>
                <a:ea typeface="Arial"/>
              </a:rPr>
              <a:t>"</a:t>
            </a:r>
            <a:r>
              <a:rPr b="0" i="1" lang="ru-RU" sz="2800" spc="-1" strike="noStrike">
                <a:solidFill>
                  <a:srgbClr val="1a42ea"/>
                </a:solidFill>
                <a:latin typeface="Times New Roman"/>
                <a:ea typeface="Arial"/>
              </a:rPr>
              <a:t>Алеша"        мемориал защитникам   </a:t>
            </a:r>
            <a:br>
              <a:rPr sz="2800"/>
            </a:br>
            <a:r>
              <a:rPr b="0" i="1" lang="ru-RU" sz="2800" spc="-1" strike="noStrike">
                <a:solidFill>
                  <a:srgbClr val="1a42ea"/>
                </a:solidFill>
                <a:latin typeface="Times New Roman"/>
                <a:ea typeface="Arial"/>
              </a:rPr>
              <a:t>                                    Заполярья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       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</a:rPr>
              <a:t>Уступает по размерам лишь Родине-матери в Волгограде. Скульптура Алеши высотой 35,5 метра стоит на семиметровом основании. По вечерам фигуру воина-победителя подсвечивают мощные лампы. Монумент открыт в 1974-м, а 9 мая 1975 года перед ним торжественно перезахоронили останки Неизвестного солдата и зажгли Вечный огонь. Чуть в стороне -- два зенитных орудия: в годы войны на этой вершине зенитные батареи прикрывали с воздуха город и порт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Picture 4" descr="f3864-med"/>
          <p:cNvPicPr/>
          <p:nvPr/>
        </p:nvPicPr>
        <p:blipFill>
          <a:blip r:embed="rId1"/>
          <a:stretch/>
        </p:blipFill>
        <p:spPr>
          <a:xfrm>
            <a:off x="685800" y="2730600"/>
            <a:ext cx="3809880" cy="261612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3564000" y="404640"/>
            <a:ext cx="431640" cy="0"/>
          </a:xfrm>
          <a:prstGeom prst="line">
            <a:avLst/>
          </a:prstGeom>
          <a:ln w="38160">
            <a:solidFill>
              <a:srgbClr val="1a42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1a42ea"/>
                </a:solidFill>
                <a:latin typeface="Times New Roman"/>
                <a:ea typeface="Arial"/>
              </a:rPr>
              <a:t>Государственный Эрмитаж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Один из крупнейших в России и мире художественных и культурно-исторических музее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8" name="Picture 4" descr="f2327-med"/>
          <p:cNvPicPr/>
          <p:nvPr/>
        </p:nvPicPr>
        <p:blipFill>
          <a:blip r:embed="rId1"/>
          <a:stretch/>
        </p:blipFill>
        <p:spPr>
          <a:xfrm>
            <a:off x="685800" y="274320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    </a:t>
            </a:r>
            <a:r>
              <a:rPr b="0" i="1" lang="ru-RU" sz="4400" spc="-1" strike="noStrike">
                <a:solidFill>
                  <a:srgbClr val="1a42ea"/>
                </a:solidFill>
                <a:latin typeface="Times New Roman"/>
                <a:ea typeface="Arial"/>
              </a:rPr>
              <a:t>Исаакиевский собор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зван в честь Исаакия Далматского, почитаемого Петром I святого, так как император родился в день памяти святого (30 мая по с. с.). Построен в 1818—1858 гг. по проекту архитектора Агюста Монферрана. Строительство лично курировал император Николай I. Открытие состоялось только 30 мая (11 июня) 1858 года, собор был освящён как кафедральный. 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Picture 4" descr="f2961-med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Times New Roman"/>
              </a:rPr>
              <a:t>Чудо Сибири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Байкал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аксимальная глубина озера 1637 м, что делает его самым глубоким озером планеты. И даже если учесть, что водная гладь озера находится на высоте 456 м над уровнем моря, то эта часть котловины лежит на 1181 метр ниже уровня океана, являясь ещё и самой глубокой материковой впадиной. Протяжённость Байкала — 636 км, ширина колеблется от 25 до 80 км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6" name="Picture 4" descr="C:\Documents and Settings\1\Рабочий стол\1.jpg"/>
          <p:cNvPicPr/>
          <p:nvPr/>
        </p:nvPicPr>
        <p:blipFill>
          <a:blip r:embed="rId1"/>
          <a:stretch/>
        </p:blipFill>
        <p:spPr>
          <a:xfrm>
            <a:off x="1015920" y="1981080"/>
            <a:ext cx="31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8" name="Picture 3" descr="7"/>
          <p:cNvPicPr/>
          <p:nvPr/>
        </p:nvPicPr>
        <p:blipFill>
          <a:blip r:embed="rId1"/>
          <a:stretch/>
        </p:blipFill>
        <p:spPr>
          <a:xfrm>
            <a:off x="1219320" y="990720"/>
            <a:ext cx="3211560" cy="3951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8"/>
          <p:cNvPicPr/>
          <p:nvPr/>
        </p:nvPicPr>
        <p:blipFill>
          <a:blip r:embed="rId2"/>
          <a:stretch/>
        </p:blipFill>
        <p:spPr>
          <a:xfrm>
            <a:off x="5076720" y="1989000"/>
            <a:ext cx="3527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оломян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1" name="Picture 3" descr="гол1"/>
          <p:cNvPicPr/>
          <p:nvPr/>
        </p:nvPicPr>
        <p:blipFill>
          <a:blip r:embed="rId1"/>
          <a:stretch/>
        </p:blipFill>
        <p:spPr>
          <a:xfrm>
            <a:off x="468360" y="1628640"/>
            <a:ext cx="3887640" cy="4105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гол8"/>
          <p:cNvPicPr/>
          <p:nvPr/>
        </p:nvPicPr>
        <p:blipFill>
          <a:blip r:embed="rId2"/>
          <a:stretch/>
        </p:blipFill>
        <p:spPr>
          <a:xfrm>
            <a:off x="5076720" y="1268280"/>
            <a:ext cx="3095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4" name="Picture 3" descr="гол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4105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голом"/>
          <p:cNvPicPr/>
          <p:nvPr/>
        </p:nvPicPr>
        <p:blipFill>
          <a:blip r:embed="rId2"/>
          <a:stretch/>
        </p:blipFill>
        <p:spPr>
          <a:xfrm>
            <a:off x="4965840" y="2338560"/>
            <a:ext cx="340668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Байкальская нерп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3" descr="small_nerpa"/>
          <p:cNvPicPr/>
          <p:nvPr/>
        </p:nvPicPr>
        <p:blipFill>
          <a:blip r:embed="rId1"/>
          <a:stretch/>
        </p:blipFill>
        <p:spPr>
          <a:xfrm>
            <a:off x="1033560" y="2406600"/>
            <a:ext cx="2838240" cy="3551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нерп"/>
          <p:cNvPicPr/>
          <p:nvPr/>
        </p:nvPicPr>
        <p:blipFill>
          <a:blip r:embed="rId2"/>
          <a:stretch/>
        </p:blipFill>
        <p:spPr>
          <a:xfrm>
            <a:off x="5435640" y="1413000"/>
            <a:ext cx="2465280" cy="2016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нерп2"/>
          <p:cNvPicPr/>
          <p:nvPr/>
        </p:nvPicPr>
        <p:blipFill>
          <a:blip r:embed="rId3"/>
          <a:stretch/>
        </p:blipFill>
        <p:spPr>
          <a:xfrm>
            <a:off x="4427640" y="3860640"/>
            <a:ext cx="3960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Picture 6" descr="C:\Documents and Settings\1\Рабочий стол\Krest.jpg"/>
          <p:cNvPicPr/>
          <p:nvPr/>
        </p:nvPicPr>
        <p:blipFill>
          <a:blip r:embed="rId1"/>
          <a:stretch/>
        </p:blipFill>
        <p:spPr>
          <a:xfrm>
            <a:off x="990720" y="4191120"/>
            <a:ext cx="3809880" cy="2439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1\Рабочий стол\Ukrash.jpg"/>
          <p:cNvPicPr/>
          <p:nvPr/>
        </p:nvPicPr>
        <p:blipFill>
          <a:blip r:embed="rId2"/>
          <a:stretch/>
        </p:blipFill>
        <p:spPr>
          <a:xfrm>
            <a:off x="5181480" y="914400"/>
            <a:ext cx="3200400" cy="472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Documents and Settings\1\Рабочий стол\m_8189.jpg"/>
          <p:cNvPicPr/>
          <p:nvPr/>
        </p:nvPicPr>
        <p:blipFill>
          <a:blip r:embed="rId3"/>
          <a:stretch/>
        </p:blipFill>
        <p:spPr>
          <a:xfrm>
            <a:off x="152280" y="152280"/>
            <a:ext cx="45720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ймен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1" name="Picture 3" descr="таймень"/>
          <p:cNvPicPr/>
          <p:nvPr/>
        </p:nvPicPr>
        <p:blipFill>
          <a:blip r:embed="rId1"/>
          <a:stretch/>
        </p:blipFill>
        <p:spPr>
          <a:xfrm>
            <a:off x="539640" y="1341360"/>
            <a:ext cx="3240360" cy="374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тай"/>
          <p:cNvPicPr/>
          <p:nvPr/>
        </p:nvPicPr>
        <p:blipFill>
          <a:blip r:embed="rId2"/>
          <a:stretch/>
        </p:blipFill>
        <p:spPr>
          <a:xfrm>
            <a:off x="5148360" y="134136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тай2"/>
          <p:cNvPicPr/>
          <p:nvPr/>
        </p:nvPicPr>
        <p:blipFill>
          <a:blip r:embed="rId3"/>
          <a:stretch/>
        </p:blipFill>
        <p:spPr>
          <a:xfrm>
            <a:off x="5030640" y="4081320"/>
            <a:ext cx="288288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Эпишур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5" name="Picture 3" descr="эп1"/>
          <p:cNvPicPr/>
          <p:nvPr/>
        </p:nvPicPr>
        <p:blipFill>
          <a:blip r:embed="rId1"/>
          <a:stretch/>
        </p:blipFill>
        <p:spPr>
          <a:xfrm>
            <a:off x="903240" y="2338560"/>
            <a:ext cx="3013200" cy="2947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эп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8" name="Picture 3" descr="губки"/>
          <p:cNvPicPr/>
          <p:nvPr/>
        </p:nvPicPr>
        <p:blipFill>
          <a:blip r:embed="rId1"/>
          <a:stretch/>
        </p:blipFill>
        <p:spPr>
          <a:xfrm>
            <a:off x="652320" y="1916280"/>
            <a:ext cx="4351320" cy="424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э2"/>
          <p:cNvPicPr/>
          <p:nvPr/>
        </p:nvPicPr>
        <p:blipFill>
          <a:blip r:embed="rId2"/>
          <a:stretch/>
        </p:blipFill>
        <p:spPr>
          <a:xfrm>
            <a:off x="6084720" y="907920"/>
            <a:ext cx="2316240" cy="2303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э1"/>
          <p:cNvPicPr/>
          <p:nvPr/>
        </p:nvPicPr>
        <p:blipFill>
          <a:blip r:embed="rId3"/>
          <a:stretch/>
        </p:blipFill>
        <p:spPr>
          <a:xfrm>
            <a:off x="5580000" y="3645000"/>
            <a:ext cx="3095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аватча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2" name="Picture 3" descr="дават"/>
          <p:cNvPicPr/>
          <p:nvPr/>
        </p:nvPicPr>
        <p:blipFill>
          <a:blip r:embed="rId1"/>
          <a:stretch/>
        </p:blipFill>
        <p:spPr>
          <a:xfrm>
            <a:off x="1835280" y="2060640"/>
            <a:ext cx="6192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сетр и омуль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64" name="Picture 3" descr="осетр"/>
          <p:cNvPicPr/>
          <p:nvPr/>
        </p:nvPicPr>
        <p:blipFill>
          <a:blip r:embed="rId1"/>
          <a:stretch/>
        </p:blipFill>
        <p:spPr>
          <a:xfrm>
            <a:off x="324000" y="1268280"/>
            <a:ext cx="4194000" cy="3146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омуль"/>
          <p:cNvPicPr/>
          <p:nvPr/>
        </p:nvPicPr>
        <p:blipFill>
          <a:blip r:embed="rId2"/>
          <a:stretch/>
        </p:blipFill>
        <p:spPr>
          <a:xfrm>
            <a:off x="4641840" y="2575080"/>
            <a:ext cx="381636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320px-DSC01739"/>
          <p:cNvPicPr/>
          <p:nvPr/>
        </p:nvPicPr>
        <p:blipFill>
          <a:blip r:embed="rId1"/>
          <a:stretch/>
        </p:blipFill>
        <p:spPr>
          <a:xfrm>
            <a:off x="1143000" y="533520"/>
            <a:ext cx="6802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Новосибирский зоопарк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В 1947 году в Новосибирске открыли первый в Сибири зоологический парк. Поначалу животных и птиц в нем было очень мало, но сейчас число особей достигло 11000! Это единственный в мире зоопарк, где проживают такие животные, как аргали и путоранский баран. Здесь содержатся такие виды как львиный тамарин, аргали, такин, лигр и многие другие,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которых нет ни в одном зоопарке России и СНГ, а из всех зоопарков мира кавказский леопард есть только у нас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Picture 4" descr="C:\Documents and Settings\1\Рабочий стол\2.jpg"/>
          <p:cNvPicPr/>
          <p:nvPr/>
        </p:nvPicPr>
        <p:blipFill>
          <a:blip r:embed="rId1"/>
          <a:stretch/>
        </p:blipFill>
        <p:spPr>
          <a:xfrm>
            <a:off x="1015920" y="1981080"/>
            <a:ext cx="314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игр - саме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1" name="Picture 4" descr="C:\Documents and Settings\1\Рабочий стол\лигр1.jpg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:\Documents and Settings\1\Рабочий стол\лигр2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C:\Documents and Settings\1\Рабочий стол\лигрсамка.jpg"/>
          <p:cNvPicPr/>
          <p:nvPr/>
        </p:nvPicPr>
        <p:blipFill>
          <a:blip r:embed="rId1"/>
          <a:stretch/>
        </p:blipFill>
        <p:spPr>
          <a:xfrm>
            <a:off x="91440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Нижегородский кремль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81480" y="1066680"/>
            <a:ext cx="3733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Самое древнее архитектурное сооружение Нижнего построили в начале ХVI века под руководством итальянского военного инженера и зодчего Петра Фрязина (так его называли в России). По легенде, перед закладкой камня строители решили зарыть в землю первое живое существо, которое они увидят. Им стала девушка с коромыслом. Ее закопали, а в качестве</a:t>
            </a: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2000" spc="-1" strike="noStrike" u="sng">
                <a:solidFill>
                  <a:srgbClr val="9c004e"/>
                </a:solidFill>
                <a:uFillTx/>
                <a:latin typeface="Times New Roman"/>
                <a:hlinkClick r:id="rId3"/>
              </a:rPr>
              <a:t>надгробия возвели башню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6" descr="C:\Documents and Settings\1\Рабочий стол\2.jpg"/>
          <p:cNvPicPr/>
          <p:nvPr/>
        </p:nvPicPr>
        <p:blipFill>
          <a:blip r:embed="rId4"/>
          <a:stretch/>
        </p:blipFill>
        <p:spPr>
          <a:xfrm>
            <a:off x="1434960" y="914400"/>
            <a:ext cx="3454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ьвиный тамар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5" name="Picture 5" descr="C:\Documents and Settings\1\Рабочий стол\львтам.jpg"/>
          <p:cNvPicPr/>
          <p:nvPr/>
        </p:nvPicPr>
        <p:blipFill>
          <a:blip r:embed="rId1"/>
          <a:stretch/>
        </p:blipFill>
        <p:spPr>
          <a:xfrm>
            <a:off x="1738440" y="1295280"/>
            <a:ext cx="5667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аки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7" name="Picture 5" descr="C:\Documents and Settings\1\Рабочий стол\такин.jpg"/>
          <p:cNvPicPr/>
          <p:nvPr/>
        </p:nvPicPr>
        <p:blipFill>
          <a:blip r:embed="rId1"/>
          <a:stretch/>
        </p:blipFill>
        <p:spPr>
          <a:xfrm>
            <a:off x="2895480" y="304920"/>
            <a:ext cx="5029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аргали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79" name="Picture 5" descr="C:\Documents and Settings\1\Рабочий стол\ар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Гора Белух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Гора Белуха – одна из крупнейших горных вершин России, самая высокая вершина Сибири 4506 м над уровнем моря. В 1998 году включена в список объектов Всемирного природного наследия ЮНЕСКО «Алтай – Золотые горы»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2" name="Picture 4" descr="C:\Documents and Settings\1\Рабочий стол\3.jpg"/>
          <p:cNvPicPr/>
          <p:nvPr/>
        </p:nvPicPr>
        <p:blipFill>
          <a:blip r:embed="rId1"/>
          <a:stretch/>
        </p:blipFill>
        <p:spPr>
          <a:xfrm>
            <a:off x="685800" y="2781360"/>
            <a:ext cx="3808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Природный заповедник "Столбы"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Знаменитый русский художник Василий Иванович Суриков, родившийся на красноярской земле, говорил: "Видел я Альпы швейцарские и итальянские, но нигде не видел такой красоты, как эта, наша, сибирская!"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5" name="Picture 4" descr="C:\Documents and Settings\1\Рабочий стол\4.jpg"/>
          <p:cNvPicPr/>
          <p:nvPr/>
        </p:nvPicPr>
        <p:blipFill>
          <a:blip r:embed="rId1"/>
          <a:stretch/>
        </p:blipFill>
        <p:spPr>
          <a:xfrm>
            <a:off x="1184400" y="1981080"/>
            <a:ext cx="2811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толбы Перь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87" name="Picture 5" descr="C:\Documents and Settings\1\Рабочий стол\букина\ст.jpg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C:\Documents and Settings\1\Рабочий стол\букина\ст2.jpg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Столбы Грифы и Дед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90" name="Picture 7" descr="C:\Documents and Settings\1\Рабочий стол\букина\грифы.jpg"/>
          <p:cNvPicPr/>
          <p:nvPr/>
        </p:nvPicPr>
        <p:blipFill>
          <a:blip r:embed="rId1"/>
          <a:stretch/>
        </p:blipFill>
        <p:spPr>
          <a:xfrm>
            <a:off x="533520" y="15238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2" name="Picture 10" descr="C:\Documents and Settings\1\Рабочий стол\букина\дед.jpg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Васюганское болото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На территории Томской области, а также частично в пределах Новосибирской и Омской областей России, в долине одной из крупнейших евразийских рек — Оби и ее левого притока — Иртыша раскинулось Васюганское болото.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C:\Documents and Settings\1\Рабочий стол\5.jpg"/>
          <p:cNvPicPr/>
          <p:nvPr/>
        </p:nvPicPr>
        <p:blipFill>
          <a:blip r:embed="rId1"/>
          <a:stretch/>
        </p:blipFill>
        <p:spPr>
          <a:xfrm>
            <a:off x="685800" y="2819520"/>
            <a:ext cx="38084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Точка планетарного раздела пресных вод - Великий Исток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Точка планетарного раздела пресных вод - Великий Исток – уникальная в масштабах Земли место, расположенная на линии Мирового Водораздела. С Великого Истока водные потоки расходятся в три великих реки мира – Лену, Енисей и Амур, три моря – Лаптевых, Карское и Охотское, два океана – Северный Ледовитый и Тихий, и в самое древнее, самое глубокое, самое крупное пресное озеро Мира – священный Байка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4" descr="C:\Documents and Settings\1\Рабочий стол\6.jpg"/>
          <p:cNvPicPr/>
          <p:nvPr/>
        </p:nvPicPr>
        <p:blipFill>
          <a:blip r:embed="rId1"/>
          <a:stretch/>
        </p:blipFill>
        <p:spPr>
          <a:xfrm>
            <a:off x="685800" y="2568600"/>
            <a:ext cx="38084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174b"/>
                </a:solidFill>
                <a:latin typeface="Arial"/>
                <a:ea typeface="Arial"/>
              </a:rPr>
              <a:t>Горы Шиханы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143000"/>
            <a:ext cx="3352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На месте Башкирии в древности находился океан, а Шиханы были рифами. До сих пор они хранят на себе отпечатки моллюсков. Эти горы -- самый высокий скальный массив Среднего Урала. А у их подножия лежит одно из живописнейших уральских озер -- Аракуль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6" descr="C:\Documents and Settings\1\Рабочий стол\3.jpg"/>
          <p:cNvPicPr/>
          <p:nvPr/>
        </p:nvPicPr>
        <p:blipFill>
          <a:blip r:embed="rId2"/>
          <a:stretch/>
        </p:blipFill>
        <p:spPr>
          <a:xfrm>
            <a:off x="685800" y="2273400"/>
            <a:ext cx="39625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Иволгинский Дацан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У подножия Хамар-Дабана, на степных просторах, в тихом урочище, в 30-ти километрах от Улан-Удэ, находится духовная столица Буддийской Традиционной Сангхи России - Иволгинский дацан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1" name="Picture 4" descr="C:\Documents and Settings\1\Рабочий стол\7.jpg"/>
          <p:cNvPicPr/>
          <p:nvPr/>
        </p:nvPicPr>
        <p:blipFill>
          <a:blip r:embed="rId1"/>
          <a:stretch/>
        </p:blipFill>
        <p:spPr>
          <a:xfrm>
            <a:off x="685800" y="2570040"/>
            <a:ext cx="3808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35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ru-RU" sz="8800" spc="-1" strike="noStrike">
                <a:solidFill>
                  <a:srgbClr val="ffcc00"/>
                </a:solidFill>
                <a:latin typeface="Times New Roman"/>
              </a:rPr>
              <a:t>Чудо Дальнего       Востока</a:t>
            </a:r>
            <a:endParaRPr b="0" lang="en-US" sz="8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Долина Гейзеров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Долина Гейзеров — геотермальный заповедник на Камчатском полуострове в долине реки Гейзерной, впадающей в Кроноцкий залив Тихого океана, часть Кроноцкого государственного биосферного заповедника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6" name="Picture 4" descr="0"/>
          <p:cNvPicPr/>
          <p:nvPr/>
        </p:nvPicPr>
        <p:blipFill>
          <a:blip r:embed="rId1"/>
          <a:stretch/>
        </p:blipFill>
        <p:spPr>
          <a:xfrm>
            <a:off x="1141560" y="1981080"/>
            <a:ext cx="289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C:\Documents and Settings\1\Рабочий стол\букина\к.jpg"/>
          <p:cNvPicPr/>
          <p:nvPr/>
        </p:nvPicPr>
        <p:blipFill>
          <a:blip r:embed="rId1"/>
          <a:stretch/>
        </p:blipFill>
        <p:spPr>
          <a:xfrm>
            <a:off x="1600200" y="1066680"/>
            <a:ext cx="63262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09" name="Picture 4" descr="C:\Documents and Settings\1\Рабочий стол\г1.jpg"/>
          <p:cNvPicPr/>
          <p:nvPr/>
        </p:nvPicPr>
        <p:blipFill>
          <a:blip r:embed="rId1"/>
          <a:stretch/>
        </p:blipFill>
        <p:spPr>
          <a:xfrm>
            <a:off x="685800" y="2057400"/>
            <a:ext cx="3033720" cy="3276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7" descr="C:\Documents and Settings\1\Рабочий стол\г2.jpg"/>
          <p:cNvPicPr/>
          <p:nvPr/>
        </p:nvPicPr>
        <p:blipFill>
          <a:blip r:embed="rId2"/>
          <a:stretch/>
        </p:blipFill>
        <p:spPr>
          <a:xfrm>
            <a:off x="4724280" y="38098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C:\Documents and Settings\1\Рабочий стол\г3.jpg"/>
          <p:cNvPicPr/>
          <p:nvPr/>
        </p:nvPicPr>
        <p:blipFill>
          <a:blip r:embed="rId3"/>
          <a:stretch/>
        </p:blipFill>
        <p:spPr>
          <a:xfrm>
            <a:off x="4267080" y="9907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14" name="Picture 4" descr="C:\Documents and Settings\1\Рабочий стол\г4.jpg"/>
          <p:cNvPicPr/>
          <p:nvPr/>
        </p:nvPicPr>
        <p:blipFill>
          <a:blip r:embed="rId1"/>
          <a:stretch/>
        </p:blipFill>
        <p:spPr>
          <a:xfrm>
            <a:off x="838080" y="2133720"/>
            <a:ext cx="2133720" cy="4114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Picture 7" descr="C:\Documents and Settings\1\Рабочий стол\г5.jpg"/>
          <p:cNvPicPr/>
          <p:nvPr/>
        </p:nvPicPr>
        <p:blipFill>
          <a:blip r:embed="rId2"/>
          <a:stretch/>
        </p:blipFill>
        <p:spPr>
          <a:xfrm>
            <a:off x="3657600" y="762120"/>
            <a:ext cx="4876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99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Владивостокская крепость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Единственная из русских морских крепостей, сохранившихся в России с XIX века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1"/>
          <p:cNvPicPr/>
          <p:nvPr/>
        </p:nvPicPr>
        <p:blipFill>
          <a:blip r:embed="rId1"/>
          <a:stretch/>
        </p:blipFill>
        <p:spPr>
          <a:xfrm>
            <a:off x="685800" y="2617920"/>
            <a:ext cx="380988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Китовая алле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 1977 году на острове Ыттыгран вблизи юго-восточной оконечности Чукотки экспедиция обнаружила знаменитую "Китовую аллею" - сооружение из вкопанных в грунт параллельных рядов черепов и челюстей гренландских китов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2" name="Picture 4" descr="2"/>
          <p:cNvPicPr/>
          <p:nvPr/>
        </p:nvPicPr>
        <p:blipFill>
          <a:blip r:embed="rId1"/>
          <a:stretch/>
        </p:blipFill>
        <p:spPr>
          <a:xfrm>
            <a:off x="685800" y="2793960"/>
            <a:ext cx="380988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24" name="Picture 4" descr="C:\Documents and Settings\1\Рабочий стол\букина\1.jpg"/>
          <p:cNvPicPr/>
          <p:nvPr/>
        </p:nvPicPr>
        <p:blipFill>
          <a:blip r:embed="rId1"/>
          <a:stretch/>
        </p:blipFill>
        <p:spPr>
          <a:xfrm>
            <a:off x="685800" y="914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6" name="Picture 8" descr="C:\Documents and Settings\1\Рабочий стол\букина\3.jpg"/>
          <p:cNvPicPr/>
          <p:nvPr/>
        </p:nvPicPr>
        <p:blipFill>
          <a:blip r:embed="rId2"/>
          <a:stretch/>
        </p:blipFill>
        <p:spPr>
          <a:xfrm>
            <a:off x="47242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28" name="Picture 4" descr="C:\Documents and Settings\1\Рабочий стол\букина\4.jpg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:\Documents and Settings\1\Рабочий стол\букина\5.jpg"/>
          <p:cNvPicPr/>
          <p:nvPr/>
        </p:nvPicPr>
        <p:blipFill>
          <a:blip r:embed="rId2"/>
          <a:stretch/>
        </p:blipFill>
        <p:spPr>
          <a:xfrm>
            <a:off x="5486400" y="38088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C:\Documents and Settings\1\Рабочий стол\букина\6.jpg"/>
          <p:cNvPicPr/>
          <p:nvPr/>
        </p:nvPicPr>
        <p:blipFill>
          <a:blip r:embed="rId3"/>
          <a:stretch/>
        </p:blipFill>
        <p:spPr>
          <a:xfrm>
            <a:off x="4876920" y="342900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d174b"/>
                </a:solidFill>
                <a:latin typeface="Arial"/>
                <a:ea typeface="Arial"/>
              </a:rPr>
              <a:t>Мечеть Кул Шариф</a:t>
            </a:r>
            <a:r>
              <a:rPr b="1" lang="ru-RU" sz="4400" spc="-1" strike="noStrike">
                <a:solidFill>
                  <a:srgbClr val="ed174b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486040" y="1143000"/>
            <a:ext cx="350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Самая большая мечеть в Европе, названная в честь сеида Кул Шарифа (главы мусульман Казанского ханства, поэта XVI века, погибшего при защите ханской цитадели). По преданию, образ этой мечети повлиял на облик собора Василия Блаженного в Москве, построенного в честь взятия Казани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6" descr="C:\Documents and Settings\1\Рабочий стол\4.jpg"/>
          <p:cNvPicPr/>
          <p:nvPr/>
        </p:nvPicPr>
        <p:blipFill>
          <a:blip r:embed="rId2"/>
          <a:stretch/>
        </p:blipFill>
        <p:spPr>
          <a:xfrm>
            <a:off x="685800" y="2065320"/>
            <a:ext cx="4572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Камчатка. Авачинская бухт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Вторая по величине бухта в мире. Способна вместить весь мировой флот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3" name="Picture 4" descr="3"/>
          <p:cNvPicPr/>
          <p:nvPr/>
        </p:nvPicPr>
        <p:blipFill>
          <a:blip r:embed="rId1"/>
          <a:stretch/>
        </p:blipFill>
        <p:spPr>
          <a:xfrm>
            <a:off x="685800" y="2540160"/>
            <a:ext cx="3809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" descr="C:\Documents and Settings\1\Рабочий стол\ав1.jpg"/>
          <p:cNvPicPr/>
          <p:nvPr/>
        </p:nvPicPr>
        <p:blipFill>
          <a:blip r:embed="rId1"/>
          <a:stretch/>
        </p:blipFill>
        <p:spPr>
          <a:xfrm>
            <a:off x="685800" y="1085760"/>
            <a:ext cx="7772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C:\Documents and Settings\1\Рабочий стол\авб.jpg"/>
          <p:cNvPicPr/>
          <p:nvPr/>
        </p:nvPicPr>
        <p:blipFill>
          <a:blip r:embed="rId1"/>
          <a:stretch/>
        </p:blipFill>
        <p:spPr>
          <a:xfrm>
            <a:off x="685800" y="1989000"/>
            <a:ext cx="77724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Алмазный карьер в Мирном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</a:rPr>
              <a:t>Самый большой алмазный карьер (шахта открытого типа по добыче алмазов) находиться в Якутии в городе Мирный. Называется она тоже просто и незатейливо - "Мир" её глубина 525 м, диаметр 1200 м Над карьером, где добывают якутские алмазы, не летают вертолеты: воронка глубиной в пятьсот метров и шириной больше километра засасывает в себя летательные аппараты из космоса. Именно здесь 45 лет назад впервые в нашей стране началась промышленная добыча алмазов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8" name="Picture 4" descr="4"/>
          <p:cNvPicPr/>
          <p:nvPr/>
        </p:nvPicPr>
        <p:blipFill>
          <a:blip r:embed="rId1"/>
          <a:stretch/>
        </p:blipFill>
        <p:spPr>
          <a:xfrm>
            <a:off x="685800" y="2668680"/>
            <a:ext cx="38098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вулкан Ключевская сопка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Ключевская сопка (Ключевской вулкан) — действующий вулкан на востоке Камчатки, наиболее высокий (4750 м) активный вулкан в мире.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Picture 4" descr="5"/>
          <p:cNvPicPr/>
          <p:nvPr/>
        </p:nvPicPr>
        <p:blipFill>
          <a:blip r:embed="rId1"/>
          <a:stretch/>
        </p:blipFill>
        <p:spPr>
          <a:xfrm>
            <a:off x="68580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2" descr="C:\Documents and Settings\1\Рабочий стол\букина\к9.jpg"/>
          <p:cNvPicPr/>
          <p:nvPr/>
        </p:nvPicPr>
        <p:blipFill>
          <a:blip r:embed="rId1"/>
          <a:stretch/>
        </p:blipFill>
        <p:spPr>
          <a:xfrm>
            <a:off x="865080" y="609480"/>
            <a:ext cx="7413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344" name="Picture 8" descr="C:\Documents and Settings\1\Рабочий стол\букина\к1.jpg"/>
          <p:cNvPicPr/>
          <p:nvPr/>
        </p:nvPicPr>
        <p:blipFill>
          <a:blip r:embed="rId1"/>
          <a:stretch/>
        </p:blipFill>
        <p:spPr>
          <a:xfrm>
            <a:off x="1100160" y="1066680"/>
            <a:ext cx="2981160" cy="1981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C:\Documents and Settings\1\Рабочий стол\букина\к3.jpg"/>
          <p:cNvPicPr/>
          <p:nvPr/>
        </p:nvPicPr>
        <p:blipFill>
          <a:blip r:embed="rId2"/>
          <a:stretch/>
        </p:blipFill>
        <p:spPr>
          <a:xfrm>
            <a:off x="5991120" y="1447920"/>
            <a:ext cx="1428840" cy="1981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C:\Documents and Settings\1\Рабочий стол\букина\к8.jpg"/>
          <p:cNvPicPr/>
          <p:nvPr/>
        </p:nvPicPr>
        <p:blipFill>
          <a:blip r:embed="rId3"/>
          <a:stretch/>
        </p:blipFill>
        <p:spPr>
          <a:xfrm>
            <a:off x="1028880" y="358128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C:\Documents and Settings\1\Рабочий стол\букина\к7.jpg"/>
          <p:cNvPicPr/>
          <p:nvPr/>
        </p:nvPicPr>
        <p:blipFill>
          <a:blip r:embed="rId4"/>
          <a:stretch/>
        </p:blipFill>
        <p:spPr>
          <a:xfrm>
            <a:off x="5176800" y="4191120"/>
            <a:ext cx="2751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17160" y="54468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174b"/>
                </a:solidFill>
                <a:latin typeface="Times New Roman"/>
                <a:ea typeface="Arial"/>
              </a:rPr>
              <a:t>Полюс холод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олюс холода - это не самый северный (географически) участок, но это самые суровые по климату места на дороге - наиболее низкие зимние температуры там достигают -62С. Там также расположена сплошная зона вечной мерзлоты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0" name="Picture 4" descr="55"/>
          <p:cNvPicPr/>
          <p:nvPr/>
        </p:nvPicPr>
        <p:blipFill>
          <a:blip r:embed="rId1"/>
          <a:stretch/>
        </p:blipFill>
        <p:spPr>
          <a:xfrm>
            <a:off x="685800" y="2540160"/>
            <a:ext cx="38098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d174b"/>
                </a:solidFill>
                <a:latin typeface="Arial"/>
                <a:ea typeface="Arial"/>
              </a:rPr>
              <a:t>Автомат Калашникова и Музей стрелкового оружия имени Михаила Калашникова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c004e"/>
                </a:solidFill>
                <a:uFillTx/>
                <a:latin typeface="Times New Roman"/>
                <a:hlinkClick r:id="rId1"/>
              </a:rPr>
              <a:t>Знаменитый изобретатель-конструктор живет в Ижевске. А аналогов этого музея нет в мире. Да и сам автомат -- лучший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6" descr="C:\Documents and Settings\1\Рабочий стол\5.jpg"/>
          <p:cNvPicPr/>
          <p:nvPr/>
        </p:nvPicPr>
        <p:blipFill>
          <a:blip r:embed="rId2"/>
          <a:stretch/>
        </p:blipFill>
        <p:spPr>
          <a:xfrm>
            <a:off x="685800" y="2878200"/>
            <a:ext cx="4191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9:47:59Z</dcterms:created>
  <dc:creator>123</dc:creator>
  <dc:description/>
  <dc:language>en-US</dc:language>
  <cp:lastModifiedBy>Таня</cp:lastModifiedBy>
  <dcterms:modified xsi:type="dcterms:W3CDTF">2013-04-21T09:57:13Z</dcterms:modified>
  <cp:revision>10</cp:revision>
  <dc:subject/>
  <dc:title>Презентация PowerPoint</dc:title>
</cp:coreProperties>
</file>