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C9E-F7E2-4BAF-91FD-06E6D43A08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3FF8-8166-452A-8B7B-36542B39D2F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8FC9-EE5C-4DD4-8D45-DFDF39F2468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F4F-4A6B-4A09-8B05-D1F5F3A60DE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DF11-5813-4FAA-8047-9A70896DCD0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3C84-805B-4949-88C3-811E83FD045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B0D1-CBA8-43AC-AC61-26F0E303723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47D4-476E-4C9E-AFAD-B6E0473DFFF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D76C-DB24-4D75-A818-ADF4859F72C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29DA-231B-4471-93B9-B62B3F27CE6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F4F5-3F28-4FA4-A341-017CBFDDE6A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EAB-83ED-4DC5-B995-23BEE2AF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3D2-C811-43DE-979A-A6AFAF9A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80E-D3CF-4AD4-8D27-690EACF8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F41-8724-444A-BD7A-B75CC588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B371-FC8C-414C-9F9B-2E7AB3D2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2AE8-7A0E-4331-88FC-000CB8DB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37BD-300C-41E9-B3A0-266D04F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0335-EEF8-4A3F-B291-AF9CA824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53F2-F2C2-40EF-A355-AB771D16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3BB8-D8B8-46A4-85F6-EC28DF8C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30DB-49A6-49F8-813C-2C67C4D8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DD7-ACF6-47C8-8326-B2FE9465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AFC6-1629-4422-8664-D0D4A97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A2BA-8086-40D0-8ADE-EF46483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C538-341E-40D8-9AAB-F0A8754E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3975-281C-45D3-9D24-225F2E61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B8BB-FD07-47E1-B139-2DE09F2D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19E0-90F8-473F-8DCC-61CDCB29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F060-BEFD-455D-82A4-BCF3779F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C92C-6422-4E9E-877D-4BE9875E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3A821-DFB4-4CE7-8A07-E1837937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B37D-4771-4024-B735-6E714CC6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F01-78EF-46E8-8F6C-DD438115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7A7E-6A84-449E-8EA2-FB0590B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07F9-43E8-4AD1-8385-10F31F3F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5C82-2CF6-4986-9460-40D5EB46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870A-36B8-4096-B12B-2C2F98B9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8921-675D-4824-983E-6BCF8372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5A7E-1F6B-4194-8C1C-CAD78EEB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5C63-F546-43ED-B4C4-3B3A6A6C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5A94-40D6-4F2E-809F-A7ABC2BC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93EB-FEDA-455C-86F4-0B3477A1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32FB-FAE8-4CEF-8FD5-14D50C86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326-A436-485C-A36D-406E8721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4A2B9-C1C8-44FF-BFCB-1B75122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45E5-BF25-4DE2-819A-2004B1A1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B0B1-A525-42BC-BFB6-7F98691C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6AD3-6F1E-494B-A6B2-DD30157F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56E1-89EF-45A5-A96A-D2D57E5E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9C69-7785-491F-9279-6381604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6008-E028-46E9-900C-60429B06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A7F1-7C8D-4385-9481-3D04A554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F502-2838-42CC-BADF-88CC7E6E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D85E-465D-4720-AAE4-D5B1C4DC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25B-003D-4CCD-A74A-15F76F64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1A6E-6549-438D-AC79-1B9CFAF8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621ED-4E58-47AD-8A35-7879250F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EB37C-DADF-486A-91ED-54CE3E5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8F39-1AE7-4C85-8426-711A01E5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9A0E-BEE1-4B6C-9F6A-606D2049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E043-6842-47A8-B2F5-D9F9D46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824A-6698-4E91-AC78-FD93B996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4CBE-2F43-448B-906C-F5F44760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48A1D-203E-4A1F-9104-3E9FA168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B62D4-A5E8-4F87-A15F-EECD9D0E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44F-C2B7-4603-9528-6C138941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DDED1-225C-4595-B1E6-579315D4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898-CEB9-4C94-BFF0-41F0755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45D-ADA2-4BF7-933E-5525A0E6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A9E-9F7D-4A5B-B7B3-DF5A547C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F48B-2A53-4719-B3DD-D59B8EA0B2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4BD0-A3A5-4845-9861-B45B5D3FAB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A71-675E-4660-8BE5-424A0745C6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99BF-70A2-4580-853A-DFBEE10A07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2F2-6E97-4143-9F1D-EC2F2DFAC9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ff33"/>
                </a:solidFill>
                <a:latin typeface="Monotype Corsiva"/>
              </a:rPr>
              <a:t>ЭКОЛОГИЧЕСКАЯ ТРОПА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(путеводитель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МБОУ СОШ п.Октябрьс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64000" y="2420640"/>
            <a:ext cx="3322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 ученица 7 класса МБОУ СОШ п.Октябрьский Лысогорского района Саратовской обла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осенко Светл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cture 11" descr="S6301234"/>
          <p:cNvPicPr/>
          <p:nvPr/>
        </p:nvPicPr>
        <p:blipFill>
          <a:blip r:embed="rId1"/>
          <a:srcRect l="10801" t="0" r="0" b="0"/>
          <a:stretch/>
        </p:blipFill>
        <p:spPr>
          <a:xfrm>
            <a:off x="250920" y="2060640"/>
            <a:ext cx="4968720" cy="4051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хема экологической  тр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Изображение 087"/>
          <p:cNvPicPr/>
          <p:nvPr/>
        </p:nvPicPr>
        <p:blipFill>
          <a:blip r:embed="rId1"/>
          <a:stretch/>
        </p:blipFill>
        <p:spPr>
          <a:xfrm>
            <a:off x="2268360" y="981000"/>
            <a:ext cx="5062680" cy="5445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РОДНИЧОК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шрут  начинается на берегу р. Живая  Рельня, у родников. К северу от поселка в реку впадает в ручей с чистой, прозрачной  водой. Берега ручья поросли камышом, рогозом, осокой, здесь растет лекарственное растение – череда. В ручье живут лягушки, пиявки, водяные  жуки.  В траве  на  берегу  ручья гнездятся утки, серые  цапли. Ручей  берет начало из родников, которые  бьют из – под земли. Их здесь целая веселая семейка, журчащая и освежающая прир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7" name="Picture 17" descr="Изображение 032"/>
          <p:cNvPicPr/>
          <p:nvPr/>
        </p:nvPicPr>
        <p:blipFill>
          <a:blip r:embed="rId2"/>
          <a:srcRect l="1991" t="2943" r="3889" b="1965"/>
          <a:stretch/>
        </p:blipFill>
        <p:spPr>
          <a:xfrm>
            <a:off x="4716360" y="4005360"/>
            <a:ext cx="4038840" cy="266688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368" name="Picture 18" descr="Изображение 033"/>
          <p:cNvPicPr/>
          <p:nvPr/>
        </p:nvPicPr>
        <p:blipFill>
          <a:blip r:embed="rId3"/>
          <a:srcRect l="1914" t="4836" r="1873" b="6341"/>
          <a:stretch/>
        </p:blipFill>
        <p:spPr>
          <a:xfrm>
            <a:off x="4716360" y="1197000"/>
            <a:ext cx="3959280" cy="263988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ЧЕРЁМУХА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явлением цветов на черёмухе сюда устремляется масса любителей собирать букеты. При мысле об этом становится грустно. Тяжко расплачивается черёмуха за свою красоту, незащищённость. А между тем, черёмуха выделяет в воздух вещества, убивающие микробов. Черёмуха – лекарственное растение, помогает при расстройствах кишечника. В зарослях гнездятся соловьи, они поют всю ночь, наслаждаясь аромато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2" name="Picture 7" descr="Изображение 038"/>
          <p:cNvPicPr/>
          <p:nvPr/>
        </p:nvPicPr>
        <p:blipFill>
          <a:blip r:embed="rId1"/>
          <a:srcRect l="0" t="2953" r="10931" b="0"/>
          <a:stretch/>
        </p:blipFill>
        <p:spPr>
          <a:xfrm>
            <a:off x="755640" y="1916280"/>
            <a:ext cx="3148200" cy="3595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ЛЕКАРСТВЕН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клоне оврага богатый травянистый покров. Большинство растений имеют лекарственные свойства: душица, пижма, вероника, тысячелистник, ромашка, земляника, одуванчик. В овраге встречается липа, берёза, черёмуха, бересклет, дуб, шиповник, чисто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6" name="Picture 7" descr="13"/>
          <p:cNvPicPr/>
          <p:nvPr/>
        </p:nvPicPr>
        <p:blipFill>
          <a:blip r:embed="rId1"/>
          <a:srcRect l="6821" t="0" r="4599" b="0"/>
          <a:stretch/>
        </p:blipFill>
        <p:spPr>
          <a:xfrm>
            <a:off x="4211640" y="1989000"/>
            <a:ext cx="4680000" cy="3530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377" name=""/>
          <p:cNvSpPr txBox="1"/>
          <p:nvPr/>
        </p:nvSpPr>
        <p:spPr>
          <a:xfrm>
            <a:off x="478800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РАННЕЦВЕТУЩ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о весной оживает песнями птиц, прилетевших с дальнего юга, а на солнечных полянках появляются синие пушистые цветы сон-травы. Это растение лесное, осталось у нас после последнего оледенения. Занесено к Красную книгу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1" name="Picture 7" descr="Прострел обыкновенный"/>
          <p:cNvPicPr/>
          <p:nvPr/>
        </p:nvPicPr>
        <p:blipFill>
          <a:blip r:embed="rId1"/>
          <a:srcRect l="18083" t="0" r="0" b="0"/>
          <a:stretch/>
        </p:blipFill>
        <p:spPr>
          <a:xfrm>
            <a:off x="468360" y="1930320"/>
            <a:ext cx="4027320" cy="3278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МУРАВЕЙНИК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у часто встречаются горки – это муравейники. Муравьи – великие труженики, они приносят огромную пользу: уничтожают вредителей, очищают лес от погибших насекомых, распространяют семена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7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5" name="Picture 8" descr="Изображение 036"/>
          <p:cNvPicPr/>
          <p:nvPr/>
        </p:nvPicPr>
        <p:blipFill>
          <a:blip r:embed="rId1"/>
          <a:srcRect l="1805" t="0" r="5504" b="7406"/>
          <a:stretch/>
        </p:blipFill>
        <p:spPr>
          <a:xfrm>
            <a:off x="5003640" y="3789360"/>
            <a:ext cx="3743640" cy="25210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386" name="Picture 9" descr="Изображение 037"/>
          <p:cNvPicPr/>
          <p:nvPr/>
        </p:nvPicPr>
        <p:blipFill>
          <a:blip r:embed="rId2"/>
          <a:srcRect l="0" t="6371" r="5700" b="10127"/>
          <a:stretch/>
        </p:blipFill>
        <p:spPr>
          <a:xfrm>
            <a:off x="5796000" y="1341360"/>
            <a:ext cx="1973160" cy="22320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УЧАСТОК СТЕПИ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востоку от оврага есть участок стери с характерной растительностью и степной фауной. Этот участок осваивается людьми, используется под пастби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0" name="Picture 10" descr="8"/>
          <p:cNvPicPr/>
          <p:nvPr/>
        </p:nvPicPr>
        <p:blipFill>
          <a:blip r:embed="rId2"/>
          <a:srcRect l="0" t="2443" r="0" b="0"/>
          <a:stretch/>
        </p:blipFill>
        <p:spPr>
          <a:xfrm>
            <a:off x="468360" y="2205000"/>
            <a:ext cx="4038480" cy="28767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ЛУГ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йме реки Жилая Рельня раскинулся луг. Здесь – сенокосы, т.к. растут травы: тимофеевка, клевер, пырей, донник, одуванчик. Необходимо очищать луга от сорных растений и распространения кам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4" name="Picture 9" descr="Изображение 034"/>
          <p:cNvPicPr/>
          <p:nvPr/>
        </p:nvPicPr>
        <p:blipFill>
          <a:blip r:embed="rId1"/>
          <a:srcRect l="5231" t="0" r="3812" b="3837"/>
          <a:stretch/>
        </p:blipFill>
        <p:spPr>
          <a:xfrm>
            <a:off x="4500720" y="1773360"/>
            <a:ext cx="4176720" cy="2892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43:01Z</dcterms:created>
  <dc:creator>User</dc:creator>
  <dc:description/>
  <dc:language>en-US</dc:language>
  <cp:lastModifiedBy>1</cp:lastModifiedBy>
  <dcterms:modified xsi:type="dcterms:W3CDTF">2013-04-21T14:34:43Z</dcterms:modified>
  <cp:revision>46</cp:revision>
  <dc:subject/>
  <dc:title>ЭКОЛОГИЧЕСКАЯ ТРОПА</dc:title>
</cp:coreProperties>
</file>