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DEA1-E59B-444E-9F3F-C9B8002132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D56E-2CBE-4BBC-9349-A3A78122D49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B72A-777D-4ECD-BD6C-A66FBD48105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3344-0F3C-4B40-8469-8EE941CBBA4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5514-8430-437C-A525-B1E4EAE8377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3A5F-410F-4C47-806B-BF40555B64E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343C-003C-4273-A131-AE84C88A6AA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DDEE-31F8-4C51-953F-ADA8830F0A8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BA5E-149B-4E0D-8EE2-CE24B5972C3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49D1-9F49-40CC-9D6C-FD5ACA16C4A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E805-BF9F-4736-823C-19D4179C1A9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5C99-27D6-4AE4-B695-9D7ED249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258-7F9C-4012-A921-A6C563F4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4051-DEAB-4078-9973-353DEAB8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FE2-4537-40EB-AD58-22DEA67D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24A7-0934-4843-ADC2-82A67B0C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E741-44E2-4393-9BA3-EEB81404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C917-4778-4C69-97CD-A52B88D8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262A-766B-4F0F-8C86-C919119B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67F2-5A01-4190-BB11-143E6AF4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570C-3076-4D48-B1A6-E325073F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727A-8D3E-47C9-9B2E-00FA5E45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1AFD-21FC-495D-8B70-F53CFE2D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69B7-6619-4AFF-A446-BB2B5052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5030-B684-44B6-8340-76E73F33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2E1D-56BE-46C1-BF96-75BB0D7C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BA3E-F7F2-4345-B003-47757067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90CD-4709-4C32-B217-B689DE13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75687-9DFA-4DCB-AFDD-E7D78CDA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77863-067A-4905-BEB0-BC4C36CA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58120-0A70-47F4-884E-8F54EEB6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7FFE9-0D19-4BC7-A89D-95C9A1FD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32D84-5EC3-4F5D-856C-3D8BDB57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1148-0932-49B0-86F2-868F236A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E447B-4A96-4D98-AABA-3F69D787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7466B-F02C-47A8-9BF3-5ABB7AF7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328B2-7338-481E-ADD1-721D1FE5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F6942-025F-4B25-B558-BE0F596A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79D6E-6D95-42A3-B4A6-F64144E1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FDCA5-F9C5-4CF4-BCC5-A9117F02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E824B-8296-4245-84D3-A7A05E0A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EC603-A3A9-4241-8D27-EC675D7B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29768-F44F-47BE-AB27-F09FF9C8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3E3E9-3FA7-4CB5-AF91-581342BA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B91-0567-4E92-A235-DB9393BD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976CC-12D3-4558-B3FD-2B0BE656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3FE3A-6797-41AD-88FD-84F2FA4B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0A402-6BBF-49E0-8FAB-B4D41AE6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BC612-9F24-4602-9B38-151B3B9A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E2228-78F5-409A-BBBC-9FAB5E1D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FF9AE-00AA-4399-AE73-E6DDBD5C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3411A-4C16-48D2-8AAF-0AB23341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9F7C2-BF1F-44B1-81C0-1F1A6028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9F63E-2072-4756-9049-EB866F03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15F8A-5F1B-4A66-9861-D1CFCE32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927-2EA6-4020-BFF6-571CA7A3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585F5-C0CC-48C6-BB7C-614D9717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68FBE-6F0A-42F2-9D41-E7313520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24BE7-C417-4F21-9619-0DCE987E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F5AE1-F8AC-4B3E-948A-71D70E5F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4F30A-E35C-4CBD-A808-AD369FA4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FE19F-6AC4-4AEA-BB00-5F7E1DAA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6D058-025E-4111-8739-E1908A74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63719-26A0-4702-8C6B-D804D8A0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5C737-EF0D-4248-9E58-57C5FE7F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C55F1-2FF9-46B6-8D02-B51B97D9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C75-5089-49CE-A643-52D76976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99FF9-20CE-4E69-8033-4206735E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25A-E28F-4108-8B33-047863C2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9B1-DA86-4A97-8ABB-330A6DBE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073-67AD-47A9-8302-3D3022ED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4B1A-2E1B-437A-9FA9-0BED66C751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67EC-AEAA-491C-A563-90B5BAB0EB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38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1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3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4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5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F411-0B23-4484-AF51-F6CF6B12C4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9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0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0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0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0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2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41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2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3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4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5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6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7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8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0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84AA-2222-4F3B-8ED9-7989CBCB72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94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5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6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7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8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9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0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1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2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5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6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7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8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09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0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11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7601-524C-4FE5-8F2E-0E7377F7FEA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ff33"/>
                </a:solidFill>
                <a:latin typeface="Monotype Corsiva"/>
              </a:rPr>
              <a:t>ЭКОЛОГИЧЕСКАЯ ТРОПА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(путеводитель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МБОУ СОШ п.Октябрьски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64000" y="2420640"/>
            <a:ext cx="332280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ила ученица 7 класса МБОУ СОШ п.Октябрьский Лысогорского района Саратовской област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осенко Светла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Picture 11" descr="S6301234"/>
          <p:cNvPicPr/>
          <p:nvPr/>
        </p:nvPicPr>
        <p:blipFill>
          <a:blip r:embed="rId1"/>
          <a:srcRect l="10801" t="0" r="0" b="0"/>
          <a:stretch/>
        </p:blipFill>
        <p:spPr>
          <a:xfrm>
            <a:off x="250920" y="2060640"/>
            <a:ext cx="4968720" cy="4051080"/>
          </a:xfrm>
          <a:prstGeom prst="rect">
            <a:avLst/>
          </a:prstGeom>
          <a:ln w="3816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хема экологической  тр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Изображение 087"/>
          <p:cNvPicPr/>
          <p:nvPr/>
        </p:nvPicPr>
        <p:blipFill>
          <a:blip r:embed="rId1"/>
          <a:stretch/>
        </p:blipFill>
        <p:spPr>
          <a:xfrm>
            <a:off x="2268360" y="981000"/>
            <a:ext cx="5062680" cy="5445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РОДНИЧОК 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шрут  начинается на берегу р. Живая  Рельня, у родников. К северу от поселка в реку впадает в ручей с чистой, прозрачной  водой. Берега ручья поросли камышом, рогозом, осокой, здесь растет лекарственное растение – череда. В ручье живут лягушки, пиявки, водяные  жуки.  В траве  на  берегу  ручья гнездятся утки, серые  цапли. Ручей  берет начало из родников, которые  бьют из – под земли. Их здесь целая веселая семейка, журчащая и освежающая приро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4"/>
          <p:cNvSpPr/>
          <p:nvPr/>
        </p:nvSpPr>
        <p:spPr>
          <a:xfrm>
            <a:off x="971640" y="404640"/>
            <a:ext cx="936360" cy="863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Impact"/>
              </a:rPr>
              <a:t>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7" name="Picture 17" descr="Изображение 032"/>
          <p:cNvPicPr/>
          <p:nvPr/>
        </p:nvPicPr>
        <p:blipFill>
          <a:blip r:embed="rId2"/>
          <a:srcRect l="1991" t="2943" r="3889" b="1965"/>
          <a:stretch/>
        </p:blipFill>
        <p:spPr>
          <a:xfrm>
            <a:off x="4716360" y="4005360"/>
            <a:ext cx="4038840" cy="266688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  <p:pic>
        <p:nvPicPr>
          <p:cNvPr id="368" name="Picture 18" descr="Изображение 033"/>
          <p:cNvPicPr/>
          <p:nvPr/>
        </p:nvPicPr>
        <p:blipFill>
          <a:blip r:embed="rId3"/>
          <a:srcRect l="1914" t="4836" r="1873" b="6341"/>
          <a:stretch/>
        </p:blipFill>
        <p:spPr>
          <a:xfrm>
            <a:off x="4716360" y="1197000"/>
            <a:ext cx="3959280" cy="263988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ЧЕРЁМУХА 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явлением цветов на черёмухе сюда устремляется масса любителей собирать букеты. При мысле об этом становится грустно. Тяжко расплачивается черёмуха за свою красоту, незащищённость. А между тем, черёмуха выделяет в воздух вещества, убивающие микробов. Черёмуха – лекарственное растение, помогает при расстройствах кишечника. В зарослях гнездятся соловьи, они поют всю ночь, наслаждаясь ароматом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4"/>
          <p:cNvSpPr/>
          <p:nvPr/>
        </p:nvSpPr>
        <p:spPr>
          <a:xfrm>
            <a:off x="971640" y="404640"/>
            <a:ext cx="936360" cy="863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Impact"/>
              </a:rPr>
              <a:t>2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2" name="Picture 7" descr="Изображение 038"/>
          <p:cNvPicPr/>
          <p:nvPr/>
        </p:nvPicPr>
        <p:blipFill>
          <a:blip r:embed="rId1"/>
          <a:srcRect l="0" t="2953" r="10931" b="0"/>
          <a:stretch/>
        </p:blipFill>
        <p:spPr>
          <a:xfrm>
            <a:off x="755640" y="1916280"/>
            <a:ext cx="3148200" cy="35956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ЛЕКАРСТВЕННЫ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ТЕНИЯ 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клоне оврага богатый травянистый покров. Большинство растений имеют лекарственные свойства: душица, пижма, вероника, тысячелистник, ромашка, земляника, одуванчик. В овраге встречается липа, берёза, черёмуха, бересклет, дуб, шиповник, чисто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"/>
          <p:cNvSpPr/>
          <p:nvPr/>
        </p:nvSpPr>
        <p:spPr>
          <a:xfrm>
            <a:off x="971640" y="404640"/>
            <a:ext cx="936360" cy="863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Impact"/>
              </a:rPr>
              <a:t>3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6" name="Picture 7" descr="13"/>
          <p:cNvPicPr/>
          <p:nvPr/>
        </p:nvPicPr>
        <p:blipFill>
          <a:blip r:embed="rId1"/>
          <a:srcRect l="6821" t="0" r="4599" b="0"/>
          <a:stretch/>
        </p:blipFill>
        <p:spPr>
          <a:xfrm>
            <a:off x="4211640" y="1989000"/>
            <a:ext cx="4680000" cy="35308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377" name=""/>
          <p:cNvSpPr txBox="1"/>
          <p:nvPr/>
        </p:nvSpPr>
        <p:spPr>
          <a:xfrm>
            <a:off x="478800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РАННЕЦВЕТУЩ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ТЕНИЯ 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о весной оживает песнями птиц, прилетевших с дальнего юга, а на солнечных полянках появляются синие пушистые цветы сон-травы. Это растение лесное, осталось у нас после последнего оледенения. Занесено к Красную книгу Саратовск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4"/>
          <p:cNvSpPr/>
          <p:nvPr/>
        </p:nvSpPr>
        <p:spPr>
          <a:xfrm>
            <a:off x="971640" y="404640"/>
            <a:ext cx="936360" cy="863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Impact"/>
              </a:rPr>
              <a:t>4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1" name="Picture 7" descr="Прострел обыкновенный"/>
          <p:cNvPicPr/>
          <p:nvPr/>
        </p:nvPicPr>
        <p:blipFill>
          <a:blip r:embed="rId1"/>
          <a:srcRect l="18083" t="0" r="0" b="0"/>
          <a:stretch/>
        </p:blipFill>
        <p:spPr>
          <a:xfrm>
            <a:off x="468360" y="1930320"/>
            <a:ext cx="4027320" cy="327816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МУРАВЕЙНИК 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есу часто встречаются горки – это муравейники. Муравьи – великие труженики, они приносят огромную пользу: уничтожают вредителей, очищают лес от погибших насекомых, распространяют семена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7"/>
          <p:cNvSpPr/>
          <p:nvPr/>
        </p:nvSpPr>
        <p:spPr>
          <a:xfrm>
            <a:off x="971640" y="404640"/>
            <a:ext cx="936360" cy="863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Impact"/>
              </a:rPr>
              <a:t>5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5" name="Picture 8" descr="Изображение 036"/>
          <p:cNvPicPr/>
          <p:nvPr/>
        </p:nvPicPr>
        <p:blipFill>
          <a:blip r:embed="rId1"/>
          <a:srcRect l="1805" t="0" r="5504" b="7406"/>
          <a:stretch/>
        </p:blipFill>
        <p:spPr>
          <a:xfrm>
            <a:off x="5003640" y="3789360"/>
            <a:ext cx="3743640" cy="25210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pic>
        <p:nvPicPr>
          <p:cNvPr id="386" name="Picture 9" descr="Изображение 037"/>
          <p:cNvPicPr/>
          <p:nvPr/>
        </p:nvPicPr>
        <p:blipFill>
          <a:blip r:embed="rId2"/>
          <a:srcRect l="0" t="6371" r="5700" b="10127"/>
          <a:stretch/>
        </p:blipFill>
        <p:spPr>
          <a:xfrm>
            <a:off x="5796000" y="1341360"/>
            <a:ext cx="1973160" cy="223200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УЧАСТОК СТЕПИ 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востоку от оврага есть участок стери с характерной растительностью и степной фауной. Этот участок осваивается людьми, используется под пастбищ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7"/>
          <p:cNvSpPr/>
          <p:nvPr/>
        </p:nvSpPr>
        <p:spPr>
          <a:xfrm>
            <a:off x="971640" y="404640"/>
            <a:ext cx="936360" cy="863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Impact"/>
              </a:rPr>
              <a:t>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90" name="Picture 10" descr="8"/>
          <p:cNvPicPr/>
          <p:nvPr/>
        </p:nvPicPr>
        <p:blipFill>
          <a:blip r:embed="rId2"/>
          <a:srcRect l="0" t="2443" r="0" b="0"/>
          <a:stretch/>
        </p:blipFill>
        <p:spPr>
          <a:xfrm>
            <a:off x="468360" y="2205000"/>
            <a:ext cx="4038480" cy="28767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 ЛУГ 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йме реки Жилая Рельня раскинулся луг. Здесь – сенокосы, т.к. растут травы: тимофеевка, клевер, пырей, донник, одуванчик. Необходимо очищать луга от сорных растений и распространения камы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4"/>
          <p:cNvSpPr/>
          <p:nvPr/>
        </p:nvSpPr>
        <p:spPr>
          <a:xfrm>
            <a:off x="971640" y="404640"/>
            <a:ext cx="936360" cy="863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Impact"/>
              </a:rPr>
              <a:t>7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94" name="Picture 9" descr="Изображение 034"/>
          <p:cNvPicPr/>
          <p:nvPr/>
        </p:nvPicPr>
        <p:blipFill>
          <a:blip r:embed="rId1"/>
          <a:srcRect l="5231" t="0" r="3812" b="3837"/>
          <a:stretch/>
        </p:blipFill>
        <p:spPr>
          <a:xfrm>
            <a:off x="4500720" y="1773360"/>
            <a:ext cx="4176720" cy="28922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0:43:01Z</dcterms:created>
  <dc:creator>User</dc:creator>
  <dc:description/>
  <dc:language>en-US</dc:language>
  <cp:lastModifiedBy>1</cp:lastModifiedBy>
  <dcterms:modified xsi:type="dcterms:W3CDTF">2013-04-21T14:34:43Z</dcterms:modified>
  <cp:revision>46</cp:revision>
  <dc:subject/>
  <dc:title>ЭКОЛОГИЧЕСКАЯ ТРОПА</dc:title>
</cp:coreProperties>
</file>