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7DC1-4AED-4252-9D1B-ECD89C64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094E-2BB9-4DD6-A0C0-D2A01BF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4267-E29F-49B6-BE1A-A8386E6C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E51D-6186-4490-BE2E-EC06B1C7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738B-FFCE-4F21-B50A-6C0B0645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5E15-7118-474B-8C6F-71AABF08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6F0-E3CF-4D50-B0E4-A134580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0CE-4529-488B-9F16-ED5F24D4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C34-8579-4D22-91F7-21845F5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4FB-7536-4ABC-AB26-CEC9C889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D499-0CF9-420B-A02D-DC33CD8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E7EC-6A22-45DC-9542-26083FD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1A2D-1AD7-4E5D-9E5C-AF6500D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7739-6DC5-4F65-91E2-4E77A8B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348A-F6E5-4BD7-B2A3-84A556DA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D08F-96AE-485B-94E4-4FB9F4AA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BEB9-5D3B-407F-90F4-E3CE93A9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FF6C-4C03-4596-8D3D-1A3806BD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DA75-9573-4692-8EE6-23CAB382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4C99-92EA-4062-8397-F615F61C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E5DA-8886-4D26-B168-0F95644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984B-24FB-4A47-BA49-D1E2340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BB9E-A6E6-4A47-A99E-DE69255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E69C-7F1D-447B-82BB-F0A26D7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EA14-1F4B-4F31-89FA-844F350274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A4B-1424-48AA-AF8A-985DFB3F58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480" y="1999800"/>
            <a:ext cx="921708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91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917 г. в истории России) </a:t>
            </a:r>
            <a:br>
              <a:rPr sz="4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Comic Sans MS"/>
              </a:rPr>
              <a:t>Политические партии России</a:t>
            </a:r>
            <a:br>
              <a:rPr sz="4800"/>
            </a:br>
            <a:r>
              <a:rPr b="0" lang="ru-RU" sz="4800" spc="-1" strike="noStrike">
                <a:solidFill>
                  <a:srgbClr val="003399"/>
                </a:solidFill>
                <a:latin typeface="Comic Sans MS"/>
              </a:rPr>
              <a:t>в феврале-октябре 1917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 rot="20518800">
            <a:off x="610920" y="2638080"/>
            <a:ext cx="2736720" cy="385272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в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СДРП 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35280" y="5733720"/>
            <a:ext cx="3095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 rot="1163400">
            <a:off x="5999040" y="2639520"/>
            <a:ext cx="2627280" cy="3827520"/>
          </a:xfrm>
          <a:prstGeom prst="rect">
            <a:avLst/>
          </a:prstGeom>
          <a:solidFill>
            <a:srgbClr val="cc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276720" y="1989000"/>
            <a:ext cx="2808000" cy="295272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нтр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СДРП (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С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3"/>
          <p:cNvGraphicFramePr/>
          <p:nvPr/>
        </p:nvGraphicFramePr>
        <p:xfrm>
          <a:off x="3924360" y="0"/>
          <a:ext cx="5219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0"/>
                    <a:ext cx="5219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6"/>
          <p:cNvSpPr/>
          <p:nvPr/>
        </p:nvSpPr>
        <p:spPr>
          <a:xfrm>
            <a:off x="-252360" y="1484280"/>
            <a:ext cx="446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Garamond"/>
              </a:rPr>
              <a:t>З апреля </a:t>
            </a:r>
            <a:br>
              <a:rPr sz="6000"/>
            </a:br>
            <a:r>
              <a:rPr b="0" lang="ru-RU" sz="6000" spc="-1" strike="noStrike">
                <a:solidFill>
                  <a:srgbClr val="003399"/>
                </a:solidFill>
                <a:latin typeface="Garamond"/>
              </a:rPr>
              <a:t>1917 г.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Garamond"/>
              </a:rPr>
              <a:t>возвращение В.И.Ленин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Garamond"/>
              </a:rPr>
              <a:t>в Петрогр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ман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620640"/>
            <a:ext cx="91440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mic Sans MS"/>
              </a:rPr>
              <a:t>О задачах пролетариат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omic Sans MS"/>
              </a:rPr>
              <a:t>в данной революции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7d"/>
                </a:solidFill>
                <a:latin typeface="Comic Sans MS"/>
              </a:rPr>
              <a:t>(«Апрельские тезисы»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00040" y="253800"/>
            <a:ext cx="81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ризисы Временного прав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8" descr=""/>
          <p:cNvPicPr/>
          <p:nvPr/>
        </p:nvPicPr>
        <p:blipFill>
          <a:blip r:embed="rId1"/>
          <a:stretch/>
        </p:blipFill>
        <p:spPr>
          <a:xfrm>
            <a:off x="195120" y="1042920"/>
            <a:ext cx="9393480" cy="547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1928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 flipV="1" rot="10800000">
            <a:off x="499680" y="2857680"/>
            <a:ext cx="1428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 flipV="1" rot="10800000">
            <a:off x="499680" y="4286160"/>
            <a:ext cx="4357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 flipV="1" rot="10800000">
            <a:off x="428760" y="5643720"/>
            <a:ext cx="4357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2214720" y="528624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© Корниловский мят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® Формирование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оалиционного правительства         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К +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С) А.Ф.Кер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99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-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обще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ЦИК и Всероссийский съезд Со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 народных комиссаров и В. Л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ЧК и Ф. Дзерж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новные события 1917 г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ская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ржение самодержа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двоевл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ская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советск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Революционные матросы с флагом «Смерть Буржуям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дготовка Октябрьской револю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8760" y="221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– курс на социалистическую револю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ль – попытка захвата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тябрь – перевес большевиков в Петросо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 – создание ВРК (Л.Троц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32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50920" y="1341360"/>
          <a:ext cx="8569080" cy="5112000"/>
        </p:xfrm>
        <a:graphic>
          <a:graphicData uri="http://schemas.openxmlformats.org/drawingml/2006/table">
            <a:tbl>
              <a:tblPr/>
              <a:tblGrid>
                <a:gridCol w="2089080"/>
                <a:gridCol w="3095640"/>
                <a:gridCol w="338436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арт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ар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ктябр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Д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СДРП (м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СДРП (б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С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0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че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Arial"/>
              </a:rPr>
              <a:t>Численность политических парт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15372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Users\Ромко\Desktop\c3bf1c4deeecb706e3a3153453e74728_full.jpg"/>
          <p:cNvPicPr/>
          <p:nvPr/>
        </p:nvPicPr>
        <p:blipFill>
          <a:blip r:embed="rId1"/>
          <a:stretch/>
        </p:blipFill>
        <p:spPr>
          <a:xfrm>
            <a:off x="4448160" y="762120"/>
            <a:ext cx="4695840" cy="6095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Историческая фотография П"/>
          <p:cNvPicPr/>
          <p:nvPr/>
        </p:nvPicPr>
        <p:blipFill>
          <a:blip r:embed="rId2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85880" y="4287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-142920" y="3714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-26 окт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оруже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тро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5072040" y="85716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 октяб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Объявление ВРК о низложении Временного правительства"/>
          <p:cNvPicPr/>
          <p:nvPr/>
        </p:nvPicPr>
        <p:blipFill>
          <a:blip r:embed="rId3"/>
          <a:stretch/>
        </p:blipFill>
        <p:spPr>
          <a:xfrm>
            <a:off x="3500280" y="1857240"/>
            <a:ext cx="2411640" cy="33577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7"/>
          <p:cNvSpPr/>
          <p:nvPr/>
        </p:nvSpPr>
        <p:spPr>
          <a:xfrm>
            <a:off x="3429000" y="21420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Ход Октябрьской револю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Штурм Зимнего двор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57400" y="285840"/>
            <a:ext cx="5414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26 октября </a:t>
            </a:r>
            <a:br>
              <a:rPr sz="3200"/>
            </a:b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 Штурм Зимнего д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8000"/>
              </a:solidFill>
              <a:latin typeface="Comic Sans MS"/>
            </a:endParaRPr>
          </a:p>
        </p:txBody>
      </p:sp>
      <p:pic>
        <p:nvPicPr>
          <p:cNvPr id="174" name="Picture 5" descr="C:\Users\Ромко\Desktop\12628906.jpg"/>
          <p:cNvPicPr/>
          <p:nvPr/>
        </p:nvPicPr>
        <p:blipFill>
          <a:blip r:embed="rId2"/>
          <a:stretch/>
        </p:blipFill>
        <p:spPr>
          <a:xfrm>
            <a:off x="0" y="3429000"/>
            <a:ext cx="49687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57440" y="0"/>
            <a:ext cx="43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Итоги 191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14880" y="1071360"/>
            <a:ext cx="4929120" cy="47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жение самодержавия,                      а затем - Временного прав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власти Советов рабочих, солдатских и крестьянских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ошла смена общественно-политического ст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 система диктатуры пролетариата превратилась в  диктатуру партии, осуществлявшуюся большевиками авторитарными мет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С"/>
          <p:cNvPicPr/>
          <p:nvPr/>
        </p:nvPicPr>
        <p:blipFill>
          <a:blip r:embed="rId1"/>
          <a:stretch/>
        </p:blipFill>
        <p:spPr>
          <a:xfrm>
            <a:off x="0" y="0"/>
            <a:ext cx="421488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новные события 1917 г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ская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ржение самодержа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двоевла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ская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советск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шаги Советской в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00040" y="1856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крет о мире, Декрет о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ff"/>
                </a:solidFill>
                <a:latin typeface="Arial"/>
              </a:rPr>
              <a:t>Создание новых органо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Ликвидация со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ff"/>
                </a:solidFill>
                <a:latin typeface="Arial"/>
              </a:rPr>
              <a:t>Отделение церкви от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ереход на григорианский 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ff"/>
                </a:solidFill>
                <a:latin typeface="Arial"/>
              </a:rPr>
              <a:t>Созыв и разгон Учредительного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Брестск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ff"/>
                </a:solidFill>
                <a:latin typeface="Arial"/>
              </a:rPr>
              <a:t>Национал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циализация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ff"/>
                </a:solidFill>
                <a:latin typeface="Arial"/>
              </a:rPr>
              <a:t>Введение продовольственной диктатуры и создание комб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83" name="Прямая со стрелкой 5"/>
          <p:cNvCxnSpPr/>
          <p:nvPr/>
        </p:nvCxnSpPr>
        <p:spPr>
          <a:xfrm flipH="1">
            <a:off x="1712160" y="4287600"/>
            <a:ext cx="2520" cy="28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99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-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Гражданск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р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a6a6"/>
                </a:solidFill>
                <a:latin typeface="Arial"/>
              </a:rPr>
              <a:t>бе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зеле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Причины Февральск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9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ромные военные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иление диспропор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развитии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циальные лиш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разруха, голод, гибель солд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рессирующий паралич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удачи на фро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тивизация революционных с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армии и на фл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февра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Ход революционных собы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092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 забастовка на Путиловском за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2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 Всеобщая забастовка в Петрогр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 столкновения рабочих с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авительственными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27</a:t>
            </a: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 военные мятежи в Петрогр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 создание Временного комитет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осударственной Д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 создание Петроградского Сове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рабочих депу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3995640" y="0"/>
          <a:ext cx="5148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0"/>
                    <a:ext cx="5148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907920"/>
            <a:ext cx="4140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3300"/>
                </a:solidFill>
                <a:latin typeface="Garamond"/>
              </a:rPr>
              <a:t>2 марта 1917 г.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3399"/>
                </a:solidFill>
                <a:latin typeface="Garamond"/>
              </a:rPr>
              <a:t>отречение Николая </a:t>
            </a:r>
            <a:r>
              <a:rPr b="1" lang="en-US" sz="5400" spc="-1" strike="noStrike">
                <a:solidFill>
                  <a:srgbClr val="003399"/>
                </a:solidFill>
                <a:latin typeface="Garamond"/>
              </a:rPr>
              <a:t>II</a:t>
            </a:r>
            <a:r>
              <a:rPr b="1" lang="ru-RU" sz="54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0" y="0"/>
          <a:ext cx="5076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076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4932360" y="907920"/>
            <a:ext cx="4464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3300"/>
                </a:solidFill>
                <a:latin typeface="Garamond"/>
              </a:rPr>
              <a:t>3 марта 1917 г.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000" spc="-1" strike="noStrike">
                <a:solidFill>
                  <a:srgbClr val="003399"/>
                </a:solidFill>
                <a:latin typeface="Garamond"/>
              </a:rPr>
              <a:t>отречение Великого князя Михаила, сверж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99"/>
                </a:solidFill>
                <a:latin typeface="Garamond"/>
              </a:rPr>
              <a:t>самодержав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3399"/>
                </a:solidFill>
                <a:latin typeface="Monotype Corsiva"/>
              </a:rPr>
              <a:t>Воплощены сны вековые</a:t>
            </a:r>
            <a:br>
              <a:rPr sz="5800"/>
            </a:br>
            <a:r>
              <a:rPr b="1" lang="ru-RU" sz="5800" spc="-1" strike="noStrike">
                <a:solidFill>
                  <a:srgbClr val="003399"/>
                </a:solidFill>
                <a:latin typeface="Monotype Corsiva"/>
              </a:rPr>
              <a:t>Всех лучших, всех живых сердец:</a:t>
            </a:r>
            <a:br>
              <a:rPr sz="5800"/>
            </a:br>
            <a:r>
              <a:rPr b="1" lang="ru-RU" sz="5800" spc="-1" strike="noStrike">
                <a:solidFill>
                  <a:srgbClr val="003399"/>
                </a:solidFill>
                <a:latin typeface="Monotype Corsiva"/>
              </a:rPr>
              <a:t>Преображенная Россия</a:t>
            </a:r>
            <a:br>
              <a:rPr sz="5800"/>
            </a:br>
            <a:r>
              <a:rPr b="1" lang="ru-RU" sz="5800" spc="-1" strike="noStrike">
                <a:solidFill>
                  <a:srgbClr val="003399"/>
                </a:solidFill>
                <a:latin typeface="Monotype Corsiva"/>
              </a:rPr>
              <a:t>Свободной стала наконец!</a:t>
            </a:r>
            <a:br>
              <a:rPr sz="5800"/>
            </a:br>
            <a:br>
              <a:rPr sz="5400"/>
            </a:b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Брю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72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3300"/>
                </a:solidFill>
                <a:latin typeface="Comic Sans MS"/>
              </a:rPr>
              <a:t>Двоевластие</a:t>
            </a:r>
            <a:r>
              <a:rPr b="0" lang="ru-RU" sz="6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Comic Sans MS"/>
              </a:rPr>
              <a:t>2 марта – 24 октября 1917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8360" y="2421000"/>
            <a:ext cx="3887640" cy="25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Времен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правитель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aramond"/>
              </a:rPr>
              <a:t>(Г.Е. Льво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859280" y="2421000"/>
            <a:ext cx="3816360" cy="25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Петросо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aramond"/>
              </a:rPr>
              <a:t>(Н.С.Чхеидз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2050560" y="1413000"/>
            <a:ext cx="2305080" cy="1008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4788000" y="1413000"/>
            <a:ext cx="2305080" cy="1008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Comic Sans MS"/>
              </a:rPr>
              <a:t>Политические партии России</a:t>
            </a:r>
            <a:br>
              <a:rPr sz="4800"/>
            </a:br>
            <a:r>
              <a:rPr b="0" lang="ru-RU" sz="4800" spc="-1" strike="noStrike">
                <a:solidFill>
                  <a:srgbClr val="003399"/>
                </a:solidFill>
                <a:latin typeface="Comic Sans MS"/>
              </a:rPr>
              <a:t>в 1905-1916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 rot="20518800">
            <a:off x="610920" y="2638080"/>
            <a:ext cx="2736720" cy="385272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в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СДРП 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СДРП (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С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35280" y="5733720"/>
            <a:ext cx="3095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 rot="1163400">
            <a:off x="5999040" y="2639520"/>
            <a:ext cx="2627280" cy="3827520"/>
          </a:xfrm>
          <a:prstGeom prst="rect">
            <a:avLst/>
          </a:prstGeom>
          <a:solidFill>
            <a:srgbClr val="cc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ы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юз 17 октяб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юз русского на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3276720" y="1989000"/>
            <a:ext cx="2808000" cy="295272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нтри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Д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4:58:36Z</dcterms:created>
  <dc:creator>1</dc:creator>
  <dc:description/>
  <dc:language>en-US</dc:language>
  <cp:lastModifiedBy>Гусева</cp:lastModifiedBy>
  <dcterms:modified xsi:type="dcterms:W3CDTF">2013-01-23T06:51:55Z</dcterms:modified>
  <cp:revision>37</cp:revision>
  <dc:subject/>
  <dc:title>Февральская революция. Углубление раскола общества.</dc:title>
</cp:coreProperties>
</file>