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AE0-79AB-440B-9B1E-26D1E356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E509-87B7-4F30-9D50-DA1FFA83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3DF-83A9-43CF-9F87-F864E2F4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8AE-9996-405A-AC50-D4296EFF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EA10-884D-4071-B74C-71D49443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656B-1572-46FB-BEF6-085BEC64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FD98-79E9-4701-A0C1-FE7A0BF4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1D50-2E59-4449-8CDA-00FF42AD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B985-63AF-41EC-8D0E-52EF7BC0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70E-64B3-4E61-A524-96615CC1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A85D-7690-4129-925B-604455C2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BD0-A9FF-4D59-9D55-1C16BD70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10DF-A1B0-409B-AED7-21742695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1719-8804-4E58-9297-44B3EC0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007B-4555-40FE-8583-E84EBCED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007D-F28C-4C52-A0EA-564393B7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9424-5689-4D91-BE83-9E11709D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E792-0B43-461C-8FDF-905A6765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E2286-6BDB-4F38-82DC-B64EAFD5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F865-BB8A-4DBA-94D0-C8BE1BFA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5FAE-38DF-4E63-85FE-99E680E3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55F0-4D34-424F-B77B-A4F1FDC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884-2409-4601-B1D5-93EA0148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5D5C-D012-47FE-9415-5908338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4C57-D2FD-4435-A698-3CF624D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EF7A5-BA14-4AC4-AE49-8976E871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97D7-7428-46A8-AB63-075A0435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592A7-F5D2-4744-8CA5-DAC93B4D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F9D5-3100-4654-A00E-2D1F3B22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5E1C-3FD5-4DDA-A320-96A541B0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5769-4F72-4A26-9667-640BE379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86876-B52C-4655-A390-901A72F0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0D87C-6BA4-44F6-85EA-59D66F5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8C1-52BD-41AF-8607-F391CFE8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18AF9-B2AB-4F39-B36D-6C3034EC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6FE07-EA73-455D-8F5F-4655C5A2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EF449-A7D2-4296-956D-32921AA2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A6B04-C0C0-4F59-B556-7F2FAA9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F7AA0-AA3E-4445-A621-EABF7E91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1177-4B01-46A5-9A87-4946C6E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94C6-C0BE-43DA-BAFB-AA6139D7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5F60-F820-4554-9EBB-AB02F0AC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85B8-7CD7-4F68-8390-52EBA558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363-557E-4FFD-B32D-489F92FE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13E-8334-4506-90F5-C0445D43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FF0-B89B-4312-A51D-4506950A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F6D-E087-4841-8EA1-4ADEC5BA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FA7-3F92-4BAC-939C-21CCE80D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66D9-08B7-4F6A-8748-684BD0A8D5E6}" type="slidenum">
              <a:rPr b="1" lang="ru-RU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F513-EE84-4F1A-86AF-2FE4B4DD2181}" type="slidenum">
              <a:rPr b="1" lang="ru-RU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B84F-7445-4AB9-8898-FE74ADC63E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30D7-E6A4-4877-ADA7-90DB79474D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Tahoma"/>
              </a:rPr>
              <a:t>Готовность к школ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1. Физическая готовность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остояние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зическ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мелких групп мыш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ординация движений (возрастная нор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товность организма к учебным нагруз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57800" y="4038480"/>
            <a:ext cx="3521160" cy="26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 </a:t>
            </a: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2. Интеллектуальная готовность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иентировка в окружающем, запас знаний (систе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елание узнавать новое, любознате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витие речи и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ысловое запомин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5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4. Социально-психологическая  готовность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ребность в об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ие подчиняться правилам и интересам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ность устанавливать отношения с другими детьми и взросл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ность действовать совместно с друг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800600" y="3962520"/>
            <a:ext cx="3519360" cy="26398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34120" y="91440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3. Личностная  готовность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ятие позиции школь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ожительное отношение к школе, к учебной деятельности, к учителю, к себе сам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330033"/>
                </a:solidFill>
                <a:uFillTx/>
                <a:latin typeface="Times New Roman"/>
              </a:rPr>
              <a:t>5. Эмоционально-волевая готовность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собность управлять своими эмоциями и повед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ие организовывать рабочее место и поддерживать порядок на н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емление преодолевать тру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10666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522600" cy="26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20T21:39:0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