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77A-B6A9-4BD7-A815-17E47EE0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21D-E9BA-43CB-A339-23FC71C8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BA0-6C5F-4C76-80C2-55BB3491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362-4E4E-4048-9D34-6AEA5EFC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F10-5F2E-4BEC-9095-D1D812C5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E2CB-97BD-4070-85ED-B1169BC0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55DC-0AD4-445E-A38C-BEA8DA5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189-7C2A-44D3-AC24-F1B4DD74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755-A0DC-4D11-A36A-B806A40E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0EF-B4BD-4835-81AD-9AA30CD5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5672-A4EC-418A-B7A5-2CF243CD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B4D-7D7A-4751-9147-23C1E6B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9F0-5BA4-4EFC-8ADB-11C6C2A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1D0-B63C-42C5-814C-A251473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1EA8-98B7-430A-9E52-C358781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C73-F1E6-43E0-9B10-773BE73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34E-377E-4813-B52C-8936C65A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5F1D-30B7-4FE6-B232-0DB84558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E11C-5953-4B70-BAD3-EDC8672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104D-5599-484C-B975-7699EFE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1A2C-6BDB-4471-B341-8F2A3AD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7D5C-83B8-4750-8918-29FF7DB5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A01-AFB7-4AA9-A61F-B2F9261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43A0-77D5-4759-881E-9C8F0271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EAF7-EF97-4EE2-B9D8-0B486E8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C1BD-F958-4545-A567-CE0F2F9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2FDB-303A-4C6D-A12B-476B430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F0C6-52DA-44D2-A3AB-044E4C82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D099-E1ED-4032-84BF-2E1F645D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D8CC-F69D-4145-908E-5AB101F6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E186-6FCC-48C0-9B76-B4E2094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4F48-8255-400C-86E8-84BA1C4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FDB3-D9BC-444C-BC21-1A2CE7D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D84-CA7E-4B19-8978-4C364FF8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D419-6515-4C95-92AA-DDDC7385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72AB-DD03-48C5-BDDA-9988EEE4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23E9-17F0-41AC-B4B8-549574C9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AEBD-3F37-4C99-902E-1AF527E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A506-2113-4795-B57B-D412EEB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1FE0-98F5-454F-A0D3-6DE0224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C6CF-3247-4C7F-B177-F9DD047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343C-1C50-4206-964A-3E70877B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8691-8385-4770-8221-F91F3044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C49-83CD-4283-BAE1-EEB0C69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585-0B0E-4E68-854A-10713BC4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C1C-58B1-454C-823B-74B48276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D9B-B980-4482-9CBB-3FC53EA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809-7589-4A6A-BB52-F021392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99F-686B-405F-9179-C42D9CCEDEFE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C71-F03A-4E46-BE1E-24EBDF5B1738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4D2-40EE-421E-8598-70DA66B7D0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EBF7-44ED-45C6-ABEA-1F9D34BE74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ahoma"/>
              </a:rPr>
              <a:t>Готовность к школ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1. Физическая готовность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мелких групп мыш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ординация движений (возрастная нор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товность организма к учебным нагруз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52116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2. Интеллектуальная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иентировка в окружающем, запас знаний (систе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ание узнавать новое, любозна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речи и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ысловое запомин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4. Социально-психологическая 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подчиняться правилам и интересам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устанавливать отношения с другими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действовать совместно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519360" cy="263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3. Личностная  готовность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ятие позиции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ительное отношение к школе, к учебной деятельности, к учителю, к себе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5. Эмоционально-волевая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управлять своими эмоциями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организовывать рабочее место и поддерживать порядок на 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преодолевать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52260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0T21:39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