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AB7D-F0D5-4E4A-8C48-A88D0920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49A2-F07B-493C-8753-2968BBBB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C0DD-8686-44F6-B725-6AAC1E8A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92C3-B365-46F6-892F-CE89F3C4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87E-F7B2-4A2D-BBBE-761C4E2A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2F41-2656-4540-9392-7E311A4A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361C-26AE-4A69-981D-2DEA4463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AAC1-E568-4716-8C80-4400781F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79E-A3C3-4DEE-973B-08AFE75F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8EF-B35A-489B-8F3D-12946FB5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4DE-F245-4221-966C-22D815E6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615-BF23-4060-B399-F60E5B18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10D1-1DBF-41C4-A56E-B7723AC513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Arial"/>
              </a:rPr>
              <a:t>Для наших любимых родителе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то было интересного в прошедшем го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ная деятельность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роект Лег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собирали лего по инструкции и без, используя фантазию. Мальчики собирали разные по конструкции и сложности машины, самолеты, вертолеты, полицию. А девочки: различные домики, деревья, зоопарк, кафе, конюшню, ветеринарную клиник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Каждую неделю подводили итоги, по пятницам проходило награжд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MG_5282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G_5328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y_dab120e3"/>
          <p:cNvPicPr/>
          <p:nvPr/>
        </p:nvPicPr>
        <p:blipFill>
          <a:blip r:embed="rId1"/>
          <a:stretch/>
        </p:blipFill>
        <p:spPr>
          <a:xfrm>
            <a:off x="728640" y="547560"/>
            <a:ext cx="768672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лего ракета\DSC09237.JPG"/>
          <p:cNvPicPr/>
          <p:nvPr/>
        </p:nvPicPr>
        <p:blipFill>
          <a:blip r:embed="rId1"/>
          <a:stretch/>
        </p:blipFill>
        <p:spPr>
          <a:xfrm>
            <a:off x="714240" y="714240"/>
            <a:ext cx="7977240" cy="59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гра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место – Алеша Мош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енная баз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место – Максим Мурз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торожевая башн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место Молчанова Ол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оопар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место Оленин Сераф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смический кораб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339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337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 «Библиот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5640" y="1773360"/>
            <a:ext cx="7264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али Пороховскую библиотеку 2 года 2 раза в нед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Люби книгу»; «Знакомство с творчеством Маршака, Носова, Чуковского, русских поэтов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артины русских художников»; «День птиц»; «Безопасность»; «Здоровый образ жизни»; «Весна пришла»; «Мамин день»; «День космонавтики»; «Посадка овса и гороха»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ндерные особенности в воспитании мальчиков и девоч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IMG_2566"/>
          <p:cNvPicPr/>
          <p:nvPr/>
        </p:nvPicPr>
        <p:blipFill>
          <a:blip r:embed="rId1"/>
          <a:stretch/>
        </p:blipFill>
        <p:spPr>
          <a:xfrm>
            <a:off x="324000" y="115920"/>
            <a:ext cx="853596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IMG_4085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IMG_3994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IMG_3998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IMG_5272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IMG_5263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гендерной устойчивости зависит от того, как к ребёнку относятся родители, от характера их установок, а также от воспитания его в дошкольном образовательном учрежд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понимать своих детей важно помнить, что перед нами не просто ребенок, а мальчик и девочка. Они по-разному смотрят и видят, слушают и слышат, говорят и молчат, чувствуют и переживают. Наиболее продуктивный подход к воспитанию заключается в том, чтобы создать все услов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создали центр для девочек «Рукоделие» и центр для мальчиков «Конструкторская мастерск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IMG_5028"/>
          <p:cNvPicPr/>
          <p:nvPr/>
        </p:nvPicPr>
        <p:blipFill>
          <a:blip r:embed="rId1"/>
          <a:stretch/>
        </p:blipFill>
        <p:spPr>
          <a:xfrm>
            <a:off x="324000" y="189000"/>
            <a:ext cx="853596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енно-спортивная игра «Зарни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MG_3404"/>
          <p:cNvPicPr/>
          <p:nvPr/>
        </p:nvPicPr>
        <p:blipFill>
          <a:blip r:embed="rId1"/>
          <a:stretch/>
        </p:blipFill>
        <p:spPr>
          <a:xfrm>
            <a:off x="324000" y="260280"/>
            <a:ext cx="8535960" cy="64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IMG_3422"/>
          <p:cNvPicPr/>
          <p:nvPr/>
        </p:nvPicPr>
        <p:blipFill>
          <a:blip r:embed="rId1"/>
          <a:stretch/>
        </p:blipFill>
        <p:spPr>
          <a:xfrm>
            <a:off x="324000" y="189000"/>
            <a:ext cx="853596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G_3426"/>
          <p:cNvPicPr/>
          <p:nvPr/>
        </p:nvPicPr>
        <p:blipFill>
          <a:blip r:embed="rId1"/>
          <a:stretch/>
        </p:blipFill>
        <p:spPr>
          <a:xfrm>
            <a:off x="324000" y="260280"/>
            <a:ext cx="8535960" cy="64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3:57:01Z</dcterms:created>
  <dc:creator>Галина Кузнецова</dc:creator>
  <dc:description/>
  <dc:language>en-US</dc:language>
  <cp:lastModifiedBy>Галина Кузнецова</cp:lastModifiedBy>
  <dcterms:modified xsi:type="dcterms:W3CDTF">2013-04-21T19:26:45Z</dcterms:modified>
  <cp:revision>25</cp:revision>
  <dc:subject/>
  <dc:title>Презентация подготовительной группы №1</dc:title>
</cp:coreProperties>
</file>