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0AC-24DE-4113-827C-733EEDBF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81A-0669-4878-8264-0A4C5CB4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98D-D7A7-47D3-8AAF-38437AAB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183-3C11-46B9-9CA5-1016969D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287-150A-4D2A-957B-2C6E327D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82B-02C8-4D7D-BF26-A3DCDCD1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F0E-7667-4D66-8F21-9C9B0259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BB2-5AD4-4EBD-A32E-CB761EED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5A0-34FC-496A-A075-0DF8E1F8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20D-62DD-4EB5-AAE9-BAF6846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395-B84D-4436-B206-6AD0AE76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145-712E-4F7B-97A2-1EDE64D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30DE-F3B3-481F-B74C-32C50259A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cc00"/>
                </a:solidFill>
                <a:latin typeface="Arial"/>
              </a:rPr>
              <a:t>Для наших любимых родител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Что было интересного в прошедшем г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ная деятельность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роект Ле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собирали лего по инструкции и без, используя фантазию. Мальчики собирали разные по конструкции и сложности машины, самолеты, вертолеты, полицию. А девочки: различные домики, деревья, зоопарк, кафе, конюшню, ветеринарную клини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Каждую неделю подводили итоги, по пятницам проходило награжд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G_528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G_532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y_dab120e3"/>
          <p:cNvPicPr/>
          <p:nvPr/>
        </p:nvPicPr>
        <p:blipFill>
          <a:blip r:embed="rId1"/>
          <a:stretch/>
        </p:blipFill>
        <p:spPr>
          <a:xfrm>
            <a:off x="728640" y="547560"/>
            <a:ext cx="768672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лего ракета\DSC09237.JPG"/>
          <p:cNvPicPr/>
          <p:nvPr/>
        </p:nvPicPr>
        <p:blipFill>
          <a:blip r:embed="rId1"/>
          <a:stretch/>
        </p:blipFill>
        <p:spPr>
          <a:xfrm>
            <a:off x="714240" y="714240"/>
            <a:ext cx="797724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гра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187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есто – Алеша Мош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енная баз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место – Максим Мур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орожевая башн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место Молчанова Ол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Зоопар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место Оленин Сераф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смический кораб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39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37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ект «Библиот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5640" y="1773360"/>
            <a:ext cx="7264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али Пороховскую библиотеку 2 года 2 раза в нед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Люби книгу»; «Знакомство с творчеством Маршака, Носова, Чуковского, русских поэтов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ртины русских художников»; «День птиц»; «Безопасность»; «Здоровый образ жизни»; «Весна пришла»; «Мамин день»; «День космонавтики»; «Посадка овса и гороха»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ндерные особенности в воспитании мальчиков и девоч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IMG_2566"/>
          <p:cNvPicPr/>
          <p:nvPr/>
        </p:nvPicPr>
        <p:blipFill>
          <a:blip r:embed="rId1"/>
          <a:stretch/>
        </p:blipFill>
        <p:spPr>
          <a:xfrm>
            <a:off x="324000" y="115920"/>
            <a:ext cx="85359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MG_4085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MG_3994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MG_399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IMG_5272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IMG_526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гендерной устойчивости зависит от того, как к ребёнку относятся родители, от характера их установок, а также от воспитания его в дошкольном образовательном учре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понимать своих детей важно помнить, что перед нами не просто ребенок, а мальчик и девочка. Они по-разному смотрят и видят, слушают и слышат, говорят и молчат, чувствуют и переживают. Наиболее продуктивный подход к воспитанию заключается в том, чтобы создать все услов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создали центр для девочек «Рукоделие» и центр для мальчиков «Конструкторская мастерска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IMG_5028"/>
          <p:cNvPicPr/>
          <p:nvPr/>
        </p:nvPicPr>
        <p:blipFill>
          <a:blip r:embed="rId1"/>
          <a:stretch/>
        </p:blipFill>
        <p:spPr>
          <a:xfrm>
            <a:off x="324000" y="189000"/>
            <a:ext cx="85359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енно-спортивная игра «Зарн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MG_3404"/>
          <p:cNvPicPr/>
          <p:nvPr/>
        </p:nvPicPr>
        <p:blipFill>
          <a:blip r:embed="rId1"/>
          <a:stretch/>
        </p:blipFill>
        <p:spPr>
          <a:xfrm>
            <a:off x="324000" y="260280"/>
            <a:ext cx="853596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IMG_3422"/>
          <p:cNvPicPr/>
          <p:nvPr/>
        </p:nvPicPr>
        <p:blipFill>
          <a:blip r:embed="rId1"/>
          <a:stretch/>
        </p:blipFill>
        <p:spPr>
          <a:xfrm>
            <a:off x="324000" y="189000"/>
            <a:ext cx="85359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G_3426"/>
          <p:cNvPicPr/>
          <p:nvPr/>
        </p:nvPicPr>
        <p:blipFill>
          <a:blip r:embed="rId1"/>
          <a:stretch/>
        </p:blipFill>
        <p:spPr>
          <a:xfrm>
            <a:off x="324000" y="260280"/>
            <a:ext cx="853596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13:57:01Z</dcterms:created>
  <dc:creator>Галина Кузнецова</dc:creator>
  <dc:description/>
  <dc:language>en-US</dc:language>
  <cp:lastModifiedBy>Галина Кузнецова</cp:lastModifiedBy>
  <dcterms:modified xsi:type="dcterms:W3CDTF">2013-04-21T19:26:45Z</dcterms:modified>
  <cp:revision>25</cp:revision>
  <dc:subject/>
  <dc:title>Презентация подготовительной группы №1</dc:title>
</cp:coreProperties>
</file>