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9F3B-B667-4FD6-ADC8-5259D4ABA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33B6-006B-45D4-BCE2-DF31FD930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1323-6624-4739-8E6B-28D211855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A7DF-E50E-4219-BCB8-7A0FA862E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66CF-2D79-4F4A-AD26-AEDD4B4C2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A747-C9D7-4193-8B56-9F81BEF93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BBB0-CB81-4195-BEC2-C19A6DABC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2BFD-7966-4D29-86C8-5C5FAE562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BA6C-0081-432C-A49F-C1359D94C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1216-77D8-4C4C-9897-6A466386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6A71-35FD-45D0-A501-496C494F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1655-DC74-4B4A-A5E3-78AE0F85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7C176-FDE4-4026-B676-00FA6A8696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иблиотека в групп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IMG_4123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IMG_5169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IMG_5198"/>
          <p:cNvPicPr/>
          <p:nvPr/>
        </p:nvPicPr>
        <p:blipFill>
          <a:blip r:embed="rId1"/>
          <a:stretch/>
        </p:blipFill>
        <p:spPr>
          <a:xfrm>
            <a:off x="1523880" y="-635040"/>
            <a:ext cx="60962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ект «Мы строител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и строили из деревянного цветного крупного строительного материала по образцам и без н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130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ект «Космос»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ект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Космос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оялся, благодаря родителям Алеши Мошкова и Полины Плюсниной, которые проявили инициативу и сделали космические корабли, планету Земля, Лу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124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132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ект «Умники и умницы»</a:t>
            </a:r>
            <a:br>
              <a:rPr sz="4000"/>
            </a:br>
            <a:br>
              <a:rPr sz="40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и любят разгадывать кроссворды, ребусы,  играть в современные развивающие игры, игры с блоками, палочками Кюизен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IMG_2269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IMG_5281"/>
          <p:cNvPicPr/>
          <p:nvPr/>
        </p:nvPicPr>
        <p:blipFill>
          <a:blip r:embed="rId1"/>
          <a:stretch/>
        </p:blipFill>
        <p:spPr>
          <a:xfrm>
            <a:off x="1523880" y="-635040"/>
            <a:ext cx="6096240" cy="812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исование на компьютере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049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ект «Дни рождения»   </a:t>
            </a:r>
            <a:br>
              <a:rPr sz="4000"/>
            </a:br>
            <a:br>
              <a:rPr sz="40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елили место для уголка именинников, оформили его: сделали из картона торт со свечами, красивые цветы в вазе, коробку для подарков,шапкуклоуна, фотоальбом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076"/>
          <p:cNvPicPr/>
          <p:nvPr/>
        </p:nvPicPr>
        <p:blipFill>
          <a:blip r:embed="rId1"/>
          <a:stretch/>
        </p:blipFill>
        <p:spPr>
          <a:xfrm>
            <a:off x="2627280" y="0"/>
            <a:ext cx="5189400" cy="691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DSC06354"/>
          <p:cNvPicPr/>
          <p:nvPr/>
        </p:nvPicPr>
        <p:blipFill>
          <a:blip r:embed="rId1"/>
          <a:stretch/>
        </p:blipFill>
        <p:spPr>
          <a:xfrm>
            <a:off x="395280" y="549360"/>
            <a:ext cx="8231040" cy="61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DSC06394"/>
          <p:cNvPicPr/>
          <p:nvPr/>
        </p:nvPicPr>
        <p:blipFill>
          <a:blip r:embed="rId1"/>
          <a:stretch/>
        </p:blipFill>
        <p:spPr>
          <a:xfrm>
            <a:off x="395280" y="404640"/>
            <a:ext cx="8231040" cy="61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DSC06407"/>
          <p:cNvPicPr/>
          <p:nvPr/>
        </p:nvPicPr>
        <p:blipFill>
          <a:blip r:embed="rId1"/>
          <a:stretch/>
        </p:blipFill>
        <p:spPr>
          <a:xfrm>
            <a:off x="324000" y="260280"/>
            <a:ext cx="8231040" cy="61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IMG_5166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ект «Город мастеров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и делают интересные работы, используя пластилин, бросовый материал, пуговицы, салфетки, проволоку, бис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061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IMG_4107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DSC06449"/>
          <p:cNvPicPr/>
          <p:nvPr/>
        </p:nvPicPr>
        <p:blipFill>
          <a:blip r:embed="rId1"/>
          <a:stretch/>
        </p:blipFill>
        <p:spPr>
          <a:xfrm>
            <a:off x="539640" y="260280"/>
            <a:ext cx="8226360" cy="617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IMG_4080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граждение в конце нед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30T13:57:01Z</dcterms:created>
  <dc:creator>Галина Кузнецова</dc:creator>
  <dc:description/>
  <dc:language>en-US</dc:language>
  <cp:lastModifiedBy>Галина Кузнецова</cp:lastModifiedBy>
  <dcterms:modified xsi:type="dcterms:W3CDTF">2013-04-21T19:36:31Z</dcterms:modified>
  <cp:revision>24</cp:revision>
  <dc:subject/>
  <dc:title>Презентация подготовительной группы №1</dc:title>
</cp:coreProperties>
</file>