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44F-D4B7-44CE-9E71-08F9C70D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25C-D021-4956-BBD8-3FC97F26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32D-347A-4117-886D-9DF793A9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937-10DA-4BE1-9AB3-C229FB47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0B8-1C9E-4777-B78E-31A9DE5A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340-3774-4AAD-BD62-FE47521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C1E-8EB4-4BA9-9861-F1FC4491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2C0-926E-4AD1-AF69-3D6DEF4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D23-231E-4F3C-88C2-EA5784A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5E2-B1FF-4319-BD68-F7D4129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B4B-BC3A-4D94-A9B7-5FF9150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1A9-16B5-4F69-805C-796DCC9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7944-00E1-4E5F-BADD-1C6039B20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блиотека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_412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G_516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G_5198"/>
          <p:cNvPicPr/>
          <p:nvPr/>
        </p:nvPicPr>
        <p:blipFill>
          <a:blip r:embed="rId1"/>
          <a:stretch/>
        </p:blipFill>
        <p:spPr>
          <a:xfrm>
            <a:off x="1523880" y="-635040"/>
            <a:ext cx="60962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Мы строите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строили из деревянного цветного крупного строительного материала по образцам и бе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Космос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мос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лся, благодаря родителям Алеши Мошкова и Полины Плюсниной, которые проявили инициативу и сделали космические корабли, планету Земля, Лу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2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3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Умники и умницы»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разгадывать кроссворды, ребусы,  играть в современные развивающие игры, игры с блоками, палочками Кюизе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_226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MG_5281"/>
          <p:cNvPicPr/>
          <p:nvPr/>
        </p:nvPicPr>
        <p:blipFill>
          <a:blip r:embed="rId1"/>
          <a:stretch/>
        </p:blipFill>
        <p:spPr>
          <a:xfrm>
            <a:off x="1523880" y="-635040"/>
            <a:ext cx="60962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исование на компьютере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4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Дни рождения»   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ли место для уголка именинников, оформили его: сделали из картона торт со свечами, красивые цветы в вазе, коробку для подарков,шапкуклоуна, фотоальб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76"/>
          <p:cNvPicPr/>
          <p:nvPr/>
        </p:nvPicPr>
        <p:blipFill>
          <a:blip r:embed="rId1"/>
          <a:stretch/>
        </p:blipFill>
        <p:spPr>
          <a:xfrm>
            <a:off x="2627280" y="0"/>
            <a:ext cx="51894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SC06354"/>
          <p:cNvPicPr/>
          <p:nvPr/>
        </p:nvPicPr>
        <p:blipFill>
          <a:blip r:embed="rId1"/>
          <a:stretch/>
        </p:blipFill>
        <p:spPr>
          <a:xfrm>
            <a:off x="395280" y="549360"/>
            <a:ext cx="823104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SC06394"/>
          <p:cNvPicPr/>
          <p:nvPr/>
        </p:nvPicPr>
        <p:blipFill>
          <a:blip r:embed="rId1"/>
          <a:stretch/>
        </p:blipFill>
        <p:spPr>
          <a:xfrm>
            <a:off x="395280" y="404640"/>
            <a:ext cx="82310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SC06407"/>
          <p:cNvPicPr/>
          <p:nvPr/>
        </p:nvPicPr>
        <p:blipFill>
          <a:blip r:embed="rId1"/>
          <a:stretch/>
        </p:blipFill>
        <p:spPr>
          <a:xfrm>
            <a:off x="324000" y="260280"/>
            <a:ext cx="82310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G_516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Город мастер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делают интересные работы, используя пластилин, бросовый материал, пуговицы, салфетки, проволоку, бис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61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_410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SC06449"/>
          <p:cNvPicPr/>
          <p:nvPr/>
        </p:nvPicPr>
        <p:blipFill>
          <a:blip r:embed="rId1"/>
          <a:stretch/>
        </p:blipFill>
        <p:spPr>
          <a:xfrm>
            <a:off x="539640" y="260280"/>
            <a:ext cx="82263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408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ждение в конце не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3:57:01Z</dcterms:created>
  <dc:creator>Галина Кузнецова</dc:creator>
  <dc:description/>
  <dc:language>en-US</dc:language>
  <cp:lastModifiedBy>Галина Кузнецова</cp:lastModifiedBy>
  <dcterms:modified xsi:type="dcterms:W3CDTF">2013-04-21T19:36:31Z</dcterms:modified>
  <cp:revision>24</cp:revision>
  <dc:subject/>
  <dc:title>Презентация подготовительной группы №1</dc:title>
</cp:coreProperties>
</file>