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A94-B68F-4A26-86FE-C72CD040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116-7CED-4F86-B76E-8BAC5AB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491-F6DE-435B-AEED-36ECCAA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AC6-D1CA-4F2A-B193-3C4F44A9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A34-8E64-4EF9-A353-7834B54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6E5-0977-4803-88A2-56957B70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186-C2F7-49C0-9382-46A44AC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D35-8E93-48C2-B923-4BC01A34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65C-727C-49FD-9122-52E7A257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F02-43D9-4B5B-A567-4FCBFF4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054-369D-46FF-8F63-6F20D258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702-FE87-4C08-80EE-76AB774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A176-BFEF-4529-9E87-5EBE5F89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udovik.ucoz.ua/load/12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иготовление салата»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трукционная карта для урока «Кулинарии» в 5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540972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ицкая Александра Семенов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технологии МБОУ СОШ №2 город-курорт Ан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тернет ресурсы, используемые при подготовке презен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6629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rudovik.ucoz.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bankreceptov.ru/bit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tvcook.ru/recip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ulinyamka.ru/ukrasheni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ykymaka.ru/page/46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troinyashka.com/fotoga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ori.ru/2417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ые свойства овощ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вощах имеются необходимые для организма питательные вещества: углеводы, белки, минеральные соли и витамин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ощи не содержат такого большого количества белков, как продукты животного происхождения, и практически не содержат жиров, но они значительно богаче минеральными солями и витаминами. Кроме того, овощи, благодаря наличию в них органических кислот и эфирных масел, обладают приятным вкусом и позволяют разнообразить пищ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гредиенты для са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ый л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ительное ма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39076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0080" y="4368960"/>
            <a:ext cx="3351240" cy="22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2712" b="11123"/>
          <a:stretch/>
        </p:blipFill>
        <p:spPr>
          <a:xfrm>
            <a:off x="6019920" y="1981080"/>
            <a:ext cx="27241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уда и приспособ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ла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жи и приспособления для фигурной наре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очная до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4297320"/>
            <a:ext cx="1912680" cy="176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2479680" cy="1868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3796" t="0" r="17245" b="13796"/>
          <a:stretch/>
        </p:blipFill>
        <p:spPr>
          <a:xfrm>
            <a:off x="2743200" y="4114800"/>
            <a:ext cx="18907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705720" y="3429000"/>
            <a:ext cx="1981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ичная обработка овощ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54864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ищают овощи незадол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приготовления бл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ак заранее очищ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теряют аромат и увя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410080"/>
            <a:ext cx="6248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очистки ов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ова промывают в холодной во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45720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обработкой ов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щательно пром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009960" cy="2130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1667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езка овощ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6172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ломтиками помид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657600"/>
            <a:ext cx="5334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кружочками огур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81480"/>
            <a:ext cx="41907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зелены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к, укроп, петру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28715" r="16970" b="6038"/>
          <a:stretch/>
        </p:blipFill>
        <p:spPr>
          <a:xfrm>
            <a:off x="6553080" y="1371600"/>
            <a:ext cx="22100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327672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5909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готовление са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езанные овощи, зелень положить в салат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соль, перец, растительное ма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куратно перемешать лож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3548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удожественное оформление сал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5240" y="1600200"/>
            <a:ext cx="2550960" cy="244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1320" y="1600200"/>
            <a:ext cx="3054600" cy="235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2514600" cy="220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28191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2748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5800" y="4572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3-04-21T12:18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