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2E2-55DD-4FD4-AF2F-8A483374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9BA-403F-47E5-BD27-8ABAD671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C35-00B7-4AC7-BBCD-F74DA6F7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7B5-718F-4EE1-8489-3D5431EE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AC5-11DF-4C10-8FA7-72CCEC7B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FE2-6428-418A-87D6-E8148C8E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083-D1C1-403C-A123-CD8AA55A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98C-6478-4DF9-813F-3E98F1EA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BA4-86A8-4F1C-B1D2-8FB9471D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83F-2198-49C5-9245-0B7325FA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869-5F5B-4756-9929-DA2EA45A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370-A1D1-447A-A7CF-42DD71E6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448B-E7EB-4646-ABFB-92EC1A837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rudovik.ucoz.ua/load/12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Приготовление салата»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трукционная карта для урока «Кулинарии» в 5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720" y="540972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ваницкая Александра Семенов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итель технологии МБОУ СОШ №2 город-курорт Ан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895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тернет ресурсы, используемые при подготовке презентац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6629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rudovik.ucoz.u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bankreceptov.ru/bit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tvcook.ru/recip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kulinyamka.ru/ukrasheni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kykymaka.ru/page/46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stroinyashka.com/fotoga…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lori.ru/2417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езные свойства овощ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вощах имеются необходимые для организма питательные вещества: углеводы, белки, минеральные соли и витамины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ощи не содержат такого большого количества белков, как продукты животного происхождения, и практически не содержат жиров, но они значительно богаче минеральными солями и витаминами. Кроме того, овощи, благодаря наличию в них органических кислот и эфирных масел, обладают приятным вкусом и позволяют разнообразить пищу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гредиенты для са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мид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ур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еленый л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ительное ма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390760" cy="2186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10080" y="4368960"/>
            <a:ext cx="3351240" cy="2238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2712" b="11123"/>
          <a:stretch/>
        </p:blipFill>
        <p:spPr>
          <a:xfrm>
            <a:off x="6019920" y="1981080"/>
            <a:ext cx="272412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уда и приспособ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ла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жи и приспособления для фигурной наре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делочная до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4297320"/>
            <a:ext cx="1912680" cy="1760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1219320"/>
            <a:ext cx="2479680" cy="1868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rcRect l="13796" t="0" r="17245" b="13796"/>
          <a:stretch/>
        </p:blipFill>
        <p:spPr>
          <a:xfrm>
            <a:off x="2743200" y="4114800"/>
            <a:ext cx="1890720" cy="2362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705720" y="3429000"/>
            <a:ext cx="1981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вичная обработка овощ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200400"/>
            <a:ext cx="54864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чищают овощи незадол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приготовления блю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 как заранее очищ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теряют аромат и увяд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5410080"/>
            <a:ext cx="6248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очистки ов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нова промывают в холодной вод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45720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 обработкой ов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щательно промыв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3009960" cy="2130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5880" y="1371600"/>
            <a:ext cx="16671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резка овощ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600200"/>
            <a:ext cx="6172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езают ломтиками помид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657600"/>
            <a:ext cx="5334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езают кружочками огур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181480"/>
            <a:ext cx="419076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езают зеленый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ук, укроп, петруш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28715" r="16970" b="6038"/>
          <a:stretch/>
        </p:blipFill>
        <p:spPr>
          <a:xfrm>
            <a:off x="6553080" y="1371600"/>
            <a:ext cx="2210040" cy="21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3276720" cy="209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943600" y="4724280"/>
            <a:ext cx="25909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готовление сал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езанные овощи, зелень положить в салат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авить соль, перец, растительное ма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куратно перемешать лож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3548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удожественное оформление сал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5240" y="1600200"/>
            <a:ext cx="2550960" cy="2444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1320" y="1600200"/>
            <a:ext cx="3054600" cy="235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371600" y="4343400"/>
            <a:ext cx="2514600" cy="2206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28191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2748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85800" y="457200"/>
            <a:ext cx="7162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3-04-21T12:18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