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BE54-BA79-4101-B500-BCC8ED78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7BCF-7275-427D-83DA-59BD5B46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C7BE-0CFA-4815-92EB-993BC157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6D2D-0604-4FAF-8581-1F9D1D59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D987-EA52-4251-B52F-14CB7066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1C13-BD0F-4A6F-82B7-51C1EA5F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FBF4-4A6A-4489-A52A-F7D7EFA0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0419-477C-4BF5-96EF-DA187381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DE5D-3A64-41AE-97F3-0ED89513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D9C9-3B1B-4BD3-90EE-2FC21E21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B6C1-6C0B-49D7-BFAA-78894655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846-F85D-4C38-A84E-AE0C534E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5A43-A7EB-41E2-9D74-A58CE119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AA42-14E7-4743-895A-958FBCA6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2514-867E-4086-B622-ABC3130C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60A7-05B0-445E-857C-1E58BBA8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E918-92E4-4C47-8859-377832A4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B1C8-4035-4FD5-86DC-062D0B1B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2DA1-0E87-4DF1-A2DB-1B77A800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73C0-21CD-472D-AC27-C5BAD318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5792-EB9B-40C6-8EE5-38DD42AB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1755-C53B-4C09-8223-297C904C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9F1F-74A2-4FAB-B78B-A1819CA0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84DB-2C0D-4393-A05D-90F16EE7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DF8E-0565-4FDC-B052-E6828F5EE3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D892-9B3C-47C4-ADE5-10D05EE9FF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крытый урок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 русскому языку 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 класс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зменение глаголов по времена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E26C-129A-402E-8538-436DB19A5A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лгоритм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71640" y="1413000"/>
            <a:ext cx="3456000" cy="57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дай в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2276640"/>
            <a:ext cx="2087640" cy="57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дела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4653000"/>
            <a:ext cx="244800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стоящее врем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04000" y="2349360"/>
            <a:ext cx="2087640" cy="57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дела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0" y="4653000"/>
            <a:ext cx="2662200" cy="57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удущее врем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59280" y="2637000"/>
            <a:ext cx="2736720" cy="1079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будет дела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сдела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59640" y="4653000"/>
            <a:ext cx="2232000" cy="57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шедшее врем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331640" y="1628640"/>
            <a:ext cx="136836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56000" y="1989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476000" y="2852640"/>
            <a:ext cx="3636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27640" y="1700280"/>
            <a:ext cx="172908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356000" y="3716280"/>
            <a:ext cx="3672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885080" y="2997360"/>
            <a:ext cx="36720" cy="158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A39A-494E-475E-A4F3-650F788D503F}" type="slidenum">
              <a:t>10</a:t>
            </a:fld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машнее задание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чебник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. 94, упр. 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386B-544F-45A9-8F2D-BE8DD92744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ставьте вместо многоточия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лов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0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ля    …             сочин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ля    …             сочин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ля    …             сочин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ля    …   …      сочин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867280" y="1599840"/>
            <a:ext cx="28195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напис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пиш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напиш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будет пис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84720" y="1844640"/>
            <a:ext cx="0" cy="388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33DF-126C-42CA-8180-6D1A71E246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Минутка чистописания</a:t>
            </a: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г  го  л  л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71280" y="2491920"/>
            <a:ext cx="771516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Глагол – часть реч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520B-5062-46BE-AB9B-FF6A3FCB7B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Языковая разминка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) какое слово является именем      существительным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411280" y="2133360"/>
            <a:ext cx="627552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ОРОЗНА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АМОРОЗИ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АМОРОЗ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А   МНО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3917-9948-4119-8623-038CE8176A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Языковая разминка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) какое слово является именем  прилагательным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11280" y="2133360"/>
            <a:ext cx="627552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ДВИНУЛ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ДВИ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ДВИЖНАЯ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0720" y="61650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1ED3-D9D8-4AAB-B07F-2960F1B34C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Языковая разминка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) какое слово является глаголом?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11280" y="2133360"/>
            <a:ext cx="627552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РЕ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РЕДНЯ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РЕДА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РЕХ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0720" y="61650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3954-C5BC-4E89-A3AB-2BB054360F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0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иктуют   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злагают 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пражняются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очиняют    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70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иктан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злож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пражне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08360" y="1989000"/>
            <a:ext cx="3024360" cy="2232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19640" y="5445000"/>
            <a:ext cx="2881080" cy="792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очин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5445000"/>
            <a:ext cx="5832360" cy="792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4A1A-0426-4729-80E6-DFCA42A78207}" type="slidenum">
              <a:t>6</a:t>
            </a:fld>
          </a:p>
        </p:txBody>
      </p:sp>
    </p:spTree>
  </p:cSld>
  <p:transition>
    <p:wedg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ревний корень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-чин-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порядок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ставка               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со-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соединение, объедин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Сочинение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это соединение мыслей в определенном порядке на нужную тем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5229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сочинить, присочинить, сочини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1D70-DFA9-46A6-85BA-0C9C307EC7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Georgia"/>
              </a:rPr>
              <a:t>Изменение глагол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Georgia"/>
              </a:rPr>
              <a:t>по  </a:t>
            </a:r>
            <a:r>
              <a:rPr b="0" lang="en-US" sz="6600" spc="-1" strike="noStrike">
                <a:solidFill>
                  <a:srgbClr val="cc0000"/>
                </a:solidFill>
                <a:latin typeface="Georgia"/>
              </a:rPr>
              <a:t>ВРЕМЕНАМ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C1B8-7F66-460B-AEF9-3D49215BB5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полните таблиц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268280"/>
          <a:ext cx="8075520" cy="4738680"/>
        </p:xfrm>
        <a:graphic>
          <a:graphicData uri="http://schemas.openxmlformats.org/drawingml/2006/table">
            <a:tbl>
              <a:tblPr/>
              <a:tblGrid>
                <a:gridCol w="2019240"/>
                <a:gridCol w="2455920"/>
                <a:gridCol w="2087640"/>
                <a:gridCol w="151272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Время глаго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Обозначает действие, которое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было, сейчас, будет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Вопрос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Пример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99"/>
                          </a:solidFill>
                          <a:latin typeface="Arial"/>
                        </a:rPr>
                        <a:t>настояще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йча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о делает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гра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99"/>
                          </a:solidFill>
                          <a:latin typeface="Arial"/>
                        </a:rPr>
                        <a:t>прошедше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ы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о делал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о сделал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гр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99"/>
                          </a:solidFill>
                          <a:latin typeface="Arial"/>
                        </a:rPr>
                        <a:t>будуще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уд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о сделает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о будет делать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игра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68360" y="2924280"/>
          <a:ext cx="8064360" cy="865080"/>
        </p:xfrm>
        <a:graphic>
          <a:graphicData uri="http://schemas.openxmlformats.org/drawingml/2006/table">
            <a:tbl>
              <a:tblPr/>
              <a:tblGrid>
                <a:gridCol w="1979640"/>
                <a:gridCol w="2484360"/>
                <a:gridCol w="2087640"/>
                <a:gridCol w="151272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68360" y="4797360"/>
          <a:ext cx="8064360" cy="1224000"/>
        </p:xfrm>
        <a:graphic>
          <a:graphicData uri="http://schemas.openxmlformats.org/drawingml/2006/table">
            <a:tbl>
              <a:tblPr/>
              <a:tblGrid>
                <a:gridCol w="1979640"/>
                <a:gridCol w="2484360"/>
                <a:gridCol w="2087640"/>
                <a:gridCol w="151272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468360" y="3789360"/>
          <a:ext cx="8064360" cy="936720"/>
        </p:xfrm>
        <a:graphic>
          <a:graphicData uri="http://schemas.openxmlformats.org/drawingml/2006/table">
            <a:tbl>
              <a:tblPr/>
              <a:tblGrid>
                <a:gridCol w="1998720"/>
                <a:gridCol w="2465280"/>
                <a:gridCol w="2087640"/>
                <a:gridCol w="151272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D31A-D653-4557-8AF3-D01D3D2748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4:17:31Z</dcterms:created>
  <dc:creator> ирина</dc:creator>
  <dc:description/>
  <dc:language>en-US</dc:language>
  <cp:lastModifiedBy>User</cp:lastModifiedBy>
  <dcterms:modified xsi:type="dcterms:W3CDTF">2012-03-18T21:55:31Z</dcterms:modified>
  <cp:revision>7</cp:revision>
  <dc:subject>Изменение глаголов по временам</dc:subject>
  <dc:title>Русский язык 3 класс</dc:title>
</cp:coreProperties>
</file>