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F24-6D4F-4433-9BFA-77478131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18C-88A6-469B-833B-15AB7EBC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E0B-7C52-48F9-B39B-2BB7189A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1FC-1AED-48D1-B953-1BECF508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DA26-D703-4EE1-8D63-3C29FD3A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2F1C-45ED-4478-B522-93DCF47C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D5B9-A6F0-43A9-B66B-E3A5C355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49C7-D6A6-4CDC-84EA-EF4073A0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2007-07D5-446A-96D3-258408A0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4EDC-95AD-4D05-8E48-8D58B9FD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01F6-86A2-4CCF-9044-C8788E5F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C74-C537-4DE0-BFAD-7D8DBA19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8493-5036-4BBF-A0E1-F570084D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EF56-6E9E-4EB1-A4CF-6B3A0E46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B018-13A1-45AD-8C11-FA8212FA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E6CC-CC08-48E9-AA5F-D3B0D907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4037-3E2B-416A-B201-6B294C46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E3DE-DA24-4EE6-A4C5-80392A14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DBE-741C-451E-ACFE-625332B9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770-CF49-49CB-8D02-7B9D07E2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F6D5-538C-4AF0-95D6-6A0EE8F9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DC1-CF01-42C3-826B-609CC7ED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B2C-6BAD-4B77-88F0-04E156A3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269A-D299-45A4-80AF-7EB90016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0971-7762-4E7C-933E-328ADE5E76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8147-7834-4DF8-ACDD-2533B66ADE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крытый урок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 русскому языку 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 класс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зменение глаголов по времен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DF47-FAEF-439D-95D6-0FE1CADDCC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лгоритм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71640" y="1413000"/>
            <a:ext cx="3456000" cy="57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адай вопр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2276640"/>
            <a:ext cx="2087640" cy="57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дела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4653000"/>
            <a:ext cx="244800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стоящее врем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04000" y="2349360"/>
            <a:ext cx="2087640" cy="57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дела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4653000"/>
            <a:ext cx="2662200" cy="57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удущее врем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59280" y="2637000"/>
            <a:ext cx="2736720" cy="1079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будет дел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то сдела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59640" y="4653000"/>
            <a:ext cx="2232000" cy="57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шедшее врем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331640" y="1628640"/>
            <a:ext cx="136836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56000" y="198900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476000" y="2852640"/>
            <a:ext cx="3636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27640" y="1700280"/>
            <a:ext cx="172908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356000" y="3716280"/>
            <a:ext cx="3672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885080" y="2997360"/>
            <a:ext cx="36720" cy="158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FB0-4989-49B2-A8D7-EA1C65867056}" type="slidenum">
              <a:t>10</a:t>
            </a:fld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чебник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. 94, упр. 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F1FA-EE2D-4840-A5AA-CAE9EA85BF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ставьте вместо многоточия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лов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я    …             сочин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я    …             сочин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я    …             сочин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ля    …   …      сочин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867280" y="1599840"/>
            <a:ext cx="28195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напис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пиш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напиш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будет пис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84720" y="1844640"/>
            <a:ext cx="0" cy="388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6E88-DA53-41B6-A54C-3ECEC7EFE9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Минутка чистописания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г  го  л  ла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71516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Глагол – часть реч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76A-CC15-475C-A698-EF045F9DD2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Языковая разминка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) какое слово является именем      существительным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11280" y="2133360"/>
            <a:ext cx="627552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ОРОЗНА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АМОРОЗИ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АМОРОЗ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А   МНО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1F61-AD9B-4028-A293-D331D43899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Языковая разминка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) какое слово является именем  прилагательным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11280" y="2133360"/>
            <a:ext cx="627552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ИНУЛ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И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ИЖНАЯ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0720" y="61650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788-3832-4B77-AEBA-859ABB91A8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Языковая разминка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) какое слово является глаголом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11280" y="2133360"/>
            <a:ext cx="627552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Е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ЕДНЯ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ЕД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ЕХ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0720" y="61650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94B5-2A3F-4CF9-AD68-033DCC6274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иктуют  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злагают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пражняются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чиняют   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70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икта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злож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пражне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08360" y="1989000"/>
            <a:ext cx="3024360" cy="2232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19640" y="5445000"/>
            <a:ext cx="2881080" cy="792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очин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5445000"/>
            <a:ext cx="5832360" cy="792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5F0-3ADD-4ABC-932D-AD6258BBA40A}" type="slidenum">
              <a:t>6</a:t>
            </a:fld>
          </a:p>
        </p:txBody>
      </p:sp>
    </p:spTree>
  </p:cSld>
  <p:transition>
    <p:wedg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ревний корень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-чин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порядок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ставка               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со-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соединение, объедин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Сочинение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это соединение мыслей в определенном порядке на нужную те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5229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сочинить, присочинить, сочини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712B-53C3-45A0-B6D4-1A1FC3D5D1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Georgia"/>
              </a:rPr>
              <a:t>Изменение глаголо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Georgia"/>
              </a:rPr>
              <a:t>по  </a:t>
            </a:r>
            <a:r>
              <a:rPr b="0" lang="en-US" sz="6600" spc="-1" strike="noStrike">
                <a:solidFill>
                  <a:srgbClr val="cc0000"/>
                </a:solidFill>
                <a:latin typeface="Georgia"/>
              </a:rPr>
              <a:t>ВРЕМЕНАМ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9F12-C533-4D7A-B492-C09787A377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полните таблиц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1268280"/>
          <a:ext cx="8075520" cy="4738680"/>
        </p:xfrm>
        <a:graphic>
          <a:graphicData uri="http://schemas.openxmlformats.org/drawingml/2006/table">
            <a:tbl>
              <a:tblPr/>
              <a:tblGrid>
                <a:gridCol w="2019240"/>
                <a:gridCol w="2455920"/>
                <a:gridCol w="2087640"/>
                <a:gridCol w="151272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Время глаго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Обозначает действие, которое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было, сейчас, буде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Вопрос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Пример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настояще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йча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делает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гра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прошедше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ы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делал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сделал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гр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будуще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уд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сделает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то будет делать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игра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68360" y="2924280"/>
          <a:ext cx="8064360" cy="865080"/>
        </p:xfrm>
        <a:graphic>
          <a:graphicData uri="http://schemas.openxmlformats.org/drawingml/2006/table">
            <a:tbl>
              <a:tblPr/>
              <a:tblGrid>
                <a:gridCol w="1979640"/>
                <a:gridCol w="2484360"/>
                <a:gridCol w="2087640"/>
                <a:gridCol w="151272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68360" y="4797360"/>
          <a:ext cx="8064360" cy="1224000"/>
        </p:xfrm>
        <a:graphic>
          <a:graphicData uri="http://schemas.openxmlformats.org/drawingml/2006/table">
            <a:tbl>
              <a:tblPr/>
              <a:tblGrid>
                <a:gridCol w="1979640"/>
                <a:gridCol w="2484360"/>
                <a:gridCol w="2087640"/>
                <a:gridCol w="15127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68360" y="3789360"/>
          <a:ext cx="8064360" cy="936720"/>
        </p:xfrm>
        <a:graphic>
          <a:graphicData uri="http://schemas.openxmlformats.org/drawingml/2006/table">
            <a:tbl>
              <a:tblPr/>
              <a:tblGrid>
                <a:gridCol w="1998720"/>
                <a:gridCol w="2465280"/>
                <a:gridCol w="2087640"/>
                <a:gridCol w="15127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08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C8ED-BAAF-4F34-865E-2DEFDE6DED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4:17:31Z</dcterms:created>
  <dc:creator> ирина</dc:creator>
  <dc:description/>
  <dc:language>en-US</dc:language>
  <cp:lastModifiedBy>User</cp:lastModifiedBy>
  <dcterms:modified xsi:type="dcterms:W3CDTF">2012-03-18T21:55:31Z</dcterms:modified>
  <cp:revision>7</cp:revision>
  <dc:subject>Изменение глаголов по временам</dc:subject>
  <dc:title>Русский язык 3 класс</dc:title>
</cp:coreProperties>
</file>