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D591-7F8B-4A2D-A7B6-97AD2EE3C2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85A-4C09-49C8-AE45-5BDA811D38A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E42-D443-4C37-B1A6-7FEBAE125E5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5B50-2E04-4ADF-A275-CF2A21057B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F830-DE6A-41FD-9355-EF7B27F3C5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3694-FC3E-4B9B-81C9-ED96958A0F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ADB3-00DC-4DBA-8B97-044D53ADED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2712-EEFE-422E-AE36-8A761969B0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FA3F-8E1D-4C22-9A7E-904B3CEC29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ECF8-62CB-4246-B636-A141BB773E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A26-3DDC-4EC7-BAB1-238789FD23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3F2F-1AF8-469A-AFA1-37F9622BB2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B68-D20C-4D65-8C4E-9CD349CB1B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094-9D6D-4D6C-8DE6-F67276E1AB4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2BDF-3071-4E76-BBF2-AB7C94F7B1A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364-398B-4FA5-A8A6-B7914C706FF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9B6-4796-49DD-BAA5-C054A01FA3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7D1D-3302-41EE-AF23-14EA7FBE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7BD-22B5-4BA1-9E01-C1D1BECB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4479-E53C-464F-A539-DC37FF8A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5E6-3FBA-49B4-B156-A2CD3400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F46C-0323-48A5-831E-AB997280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1CC7-FBD9-47E2-B63F-8A0C0B2B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DD90-A635-422C-A335-029A184D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ADD1-4458-482B-9B10-53F5F928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E888-58FB-4654-815B-086EBF2A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8019-CB23-4940-B5DE-6F13809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5FF-DAA5-43D6-A352-164C29F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1B9-8AAD-4ED9-9EE8-60AD8E53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A4A-D9AC-46AC-81AB-5A41CCA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23C6-0C42-4359-914B-B373DBAF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321-BA1D-44C3-BF0F-8A24464E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0D6A-544F-4F68-97A8-C5125DEB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CCE3-87A8-49EE-90B9-7BE43D4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9FA-0BC8-464F-8579-913EF253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BAA-ADB7-401D-A7C0-4E5DD232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D49-9A6C-4F08-AFB3-FF344D6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979-A3CD-4923-8828-8E8B246F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34A-661D-4ADA-89C7-B455D273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4AD-4C61-4F45-9C89-1830E32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91B-83FB-4FED-8028-3BE5F6F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3A1E-6498-4FE1-A74C-436DDA0B83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49E5-FE77-4784-801C-CE05C5BD3A2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95280" y="714240"/>
            <a:ext cx="8385120" cy="54738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Мир, в котором мы  живем – полон звук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И т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ейбус и трамвай – затянули песн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Ты им тоже подпевай, станет жизнь чудесн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Вслушайся, весь мир поёт шорох, свист и щебет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  <a:ea typeface="Times New Roman"/>
              </a:rPr>
              <a:t>Музыка во всем живет, мир ее волшеб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Autumn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Осень - Воспоминание о золото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раски осени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Горная дорог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Picture 6" descr="фотограф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i-main-pic" descr="Картинка 3 из 283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89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5"/>
          <p:cNvSpPr/>
          <p:nvPr/>
        </p:nvSpPr>
        <p:spPr>
          <a:xfrm>
            <a:off x="4356000" y="1557360"/>
            <a:ext cx="4176720" cy="489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076720" y="200988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00720" y="2492280"/>
            <a:ext cx="3958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ОСЕННЯ ПЕСНЯ» (ОКТЯБР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З ЦИКЛА ПРОИЗВЕ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ВРЕМЕНА ГОД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.И. ЛЕВИТАН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Левитан Золотая осень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968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eec94"/>
                </a:solidFill>
                <a:latin typeface="Times New Roman"/>
              </a:rPr>
              <a:t>Краски и звуки осе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Задачи заняти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004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тить внимание на неповторимость красоты родной природы, через различные виды искусства ( музыки, живописи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отка навыков  чистого интонирования и  художественно-выразительного исполн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Autumn Leaves"/>
          <p:cNvPicPr/>
          <p:nvPr/>
        </p:nvPicPr>
        <p:blipFill>
          <a:blip r:embed="rId1"/>
          <a:stretch/>
        </p:blipFill>
        <p:spPr>
          <a:xfrm>
            <a:off x="0" y="0"/>
            <a:ext cx="5435640" cy="419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фотография"/>
          <p:cNvPicPr/>
          <p:nvPr/>
        </p:nvPicPr>
        <p:blipFill>
          <a:blip r:embed="rId2"/>
          <a:stretch/>
        </p:blipFill>
        <p:spPr>
          <a:xfrm>
            <a:off x="3635280" y="3213000"/>
            <a:ext cx="5508720" cy="36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i-main-pic" descr="Картинка 3 из 283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489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357800" y="1643040"/>
            <a:ext cx="4176720" cy="4896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76720" y="200988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500720" y="2492280"/>
            <a:ext cx="395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4429080" y="1500120"/>
            <a:ext cx="414360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одился в 1840 году в городе Воткинске на Урале, умер в 1893 году в Петербург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н вошел в историю музыки как великий психолог и реалис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йковским создано 6 симфоний и ряд симфонических увертюр, 11 опер, 3 симфонических балета, романсы, фантазии, сюиты, фортепианные концер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Еловый лес под снег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Весенние подснежн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8" descr="C:\Users\User\Desktop\Forest Flowers.jpg"/>
          <p:cNvPicPr/>
          <p:nvPr/>
        </p:nvPicPr>
        <p:blipFill>
          <a:blip r:embed="rId1"/>
          <a:stretch/>
        </p:blipFill>
        <p:spPr>
          <a:xfrm>
            <a:off x="0" y="-457200"/>
            <a:ext cx="1007748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3" descr="C:\Users\User\Desktop\Forest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9:08:57Z</dcterms:created>
  <dc:creator>11 Класс</dc:creator>
  <dc:description/>
  <dc:language>en-US</dc:language>
  <cp:lastModifiedBy>User</cp:lastModifiedBy>
  <dcterms:modified xsi:type="dcterms:W3CDTF">2012-09-23T09:31:46Z</dcterms:modified>
  <cp:revision>17</cp:revision>
  <dc:subject/>
  <dc:title>Краска и звуки осени</dc:title>
</cp:coreProperties>
</file>