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245D-ADC5-42AE-9196-8E95B0A060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67CB-6731-4287-B08A-3E00751D07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1715-7A63-4C53-969F-AC6C7FFAC6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F662-216B-4E1A-99DE-668BFD5CE6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D060-DACE-4DED-A413-F43DCE3099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0BDB-9501-4BD6-86A5-0144C6AA7D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EC41-656F-4B53-8AB1-B64AF9A243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2315-1188-4E2C-8E25-E5FE8DD198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2E24-FC83-4520-830B-3EA4D1617F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4E8B-0B88-45BE-8D76-BFB8CDB27B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7B06-9C48-4EAB-A39A-197AD91B34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64B9-14E9-461B-A3FC-13656597C6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2D64-8709-426D-92AF-83A429799D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BD0D-AF59-46EE-BF54-6AA61317E8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483D-06E8-418F-8B63-247DDCF6205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BA3F-3D72-4731-90FD-5F18B01ADA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8755-C32D-470F-BB68-656F594B4A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A8A-E165-41DC-A181-E7DADCD0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BEB-7571-44B1-AB22-84598577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94C-F05E-483F-8A77-E1722933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7C0-5AA7-446D-8732-36BE60D0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5ABA-A6EE-4FE5-AD04-478F3300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5DA2-63FB-4AB6-B9A5-4BA0C67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ED15-E315-49C3-8A96-F4A9E65C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58DB-3DBD-4D7F-BE6D-6076C13B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0F70-C435-4258-8523-7858B765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5A80-2975-4D04-B01C-A4678740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03AC-5976-40DE-92FF-1097CAF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23E-8C00-4F5B-B470-8112BF31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ABA3-ADD5-49F0-AA5C-723B75AF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3FB6-8A1C-4B6E-B509-73CE9724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234F-4B98-43D5-9517-8B06FD1F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A208-4F51-424A-88B2-1A901CD2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152E-4B89-49E2-A870-83DE783F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FE6-4F78-47A4-81E5-7923935E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AF4-F654-4429-87C6-E187BD44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CF5-FF15-47CE-97A2-269E1596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06F-6AAA-4300-9AD2-A24B6DD8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12E-43EA-4D70-B13A-137D168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783-E159-40A8-BA17-0F26513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0CA-2432-46F1-AC7F-E0B2B956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E8CC-10EB-4062-A5ED-663776C72D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BD29-B07D-4609-BADF-176EAAF918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95280" y="714240"/>
            <a:ext cx="8385120" cy="5473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Мир, в котором мы  живем – полон звук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И т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ейбус и трамвай – затянули песн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Ты им тоже подпевай, станет жизнь чудесн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Вслушайся, весь мир поёт шорох, свист и щебе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Музыка во всем живет, мир ее волшеб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Autumn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Осень - Воспоминание о золот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раски осени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Горная дорог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6" descr="фотограф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ТР ИЛЬИЧ ЧАЙКОВ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i-main-pic" descr="Картинка 3 из 283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489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4356000" y="1557360"/>
            <a:ext cx="4176720" cy="489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076720" y="200988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00720" y="2492280"/>
            <a:ext cx="395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ОСЕННЯ ПЕСНЯ» (ОКТЯБР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 ЦИКЛА ПРОИЗВЕД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ВРЕМЕНА ГО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.И. ЛЕВИТАН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Левитан Золотая осень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968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eec94"/>
                </a:solidFill>
                <a:latin typeface="Times New Roman"/>
              </a:rPr>
              <a:t>Краски и звуки осе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дачи занятия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004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тить внимание на неповторимость красоты родной природы, через различные виды искусства ( музыки, живопис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ботка навыков  чистого интонирования и  художественно-выразительного исполн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Autumn Leaves"/>
          <p:cNvPicPr/>
          <p:nvPr/>
        </p:nvPicPr>
        <p:blipFill>
          <a:blip r:embed="rId1"/>
          <a:stretch/>
        </p:blipFill>
        <p:spPr>
          <a:xfrm>
            <a:off x="0" y="0"/>
            <a:ext cx="5435640" cy="419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фотография"/>
          <p:cNvPicPr/>
          <p:nvPr/>
        </p:nvPicPr>
        <p:blipFill>
          <a:blip r:embed="rId2"/>
          <a:stretch/>
        </p:blipFill>
        <p:spPr>
          <a:xfrm>
            <a:off x="3635280" y="3213000"/>
            <a:ext cx="5508720" cy="36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ТР ИЛЬИЧ ЧАЙКОВ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i-main-pic" descr="Картинка 3 из 283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4896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357800" y="1643040"/>
            <a:ext cx="4176720" cy="489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76720" y="200988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500720" y="2492280"/>
            <a:ext cx="395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4429080" y="1500120"/>
            <a:ext cx="414360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лся в 1840 году в городе Воткинске на Урале, умер в 1893 году в Петербург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 вошел в историю музыки как великий психолог и реалис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айковским создано 6 симфоний и ряд симфонических увертюр, 11 опер, 3 симфонических балета, романсы, фантазии, сюиты, фортепианные концер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Еловый лес под снег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Весенние подснеж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8" descr="C:\Users\User\Desktop\Forest Flowers.jpg"/>
          <p:cNvPicPr/>
          <p:nvPr/>
        </p:nvPicPr>
        <p:blipFill>
          <a:blip r:embed="rId1"/>
          <a:stretch/>
        </p:blipFill>
        <p:spPr>
          <a:xfrm>
            <a:off x="0" y="-457200"/>
            <a:ext cx="1007748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3" descr="C:\Users\User\Desktop\Forest.jpg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9:08:57Z</dcterms:created>
  <dc:creator>11 Класс</dc:creator>
  <dc:description/>
  <dc:language>en-US</dc:language>
  <cp:lastModifiedBy>User</cp:lastModifiedBy>
  <dcterms:modified xsi:type="dcterms:W3CDTF">2012-09-23T09:31:46Z</dcterms:modified>
  <cp:revision>17</cp:revision>
  <dc:subject/>
  <dc:title>Краска и звуки осени</dc:title>
</cp:coreProperties>
</file>