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961-7EA5-4326-9BAD-25D64FA7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A68-12A5-4FB0-BDE3-F279F8E6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B0E-7BB1-4D86-823E-BBFD208E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371-6A53-45AA-A567-75ECCC96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47F-264A-4158-A1E3-89F272FC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864-B8F2-4C95-966E-5312C1D6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E00-B92F-4E1E-A50B-95A09EE8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071-CC6E-4C71-AFB6-FE3409F8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E66-8971-41EB-813E-507BEF71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1C4-2ACC-47A9-8E72-ACD36593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A8E-4A53-489A-9B8F-42640F4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65C-7985-4E60-B154-58B3A1E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0F97-4DC3-44DC-AEF9-16010BB7E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 октяб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84720" y="3774960"/>
            <a:ext cx="2448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600360" cy="493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692360" y="47628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мена.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425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Больше, </a:t>
            </a:r>
            <a:br>
              <a:rPr sz="7200"/>
            </a:b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меньше, </a:t>
            </a:r>
            <a:br>
              <a:rPr sz="7200"/>
            </a:b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одинаков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08360" y="4221000"/>
            <a:ext cx="20131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333680" cy="489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29210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00360" y="571680"/>
            <a:ext cx="554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2111400" cy="2948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2111400" cy="2948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867280" y="1916280"/>
            <a:ext cx="211140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064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682560"/>
            <a:ext cx="82818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487440"/>
            <a:ext cx="77058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20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4:58:47Z</dcterms:created>
  <dc:creator>XTreme</dc:creator>
  <dc:description/>
  <dc:language>en-US</dc:language>
  <cp:lastModifiedBy>XTreme</cp:lastModifiedBy>
  <dcterms:modified xsi:type="dcterms:W3CDTF">2011-10-09T17:17:15Z</dcterms:modified>
  <cp:revision>2</cp:revision>
  <dc:subject/>
  <dc:title>Математика</dc:title>
</cp:coreProperties>
</file>