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2E6-C649-4744-9D71-2EAF3DC2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BFE-8C6C-49BE-A236-1CEBC132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520-0BC0-4FC3-B557-FA102FC2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D94-D0CD-47F3-9E45-12823FB0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805-1A85-4950-8A08-7DEE140C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08DF-9A9C-46CE-A6BD-BA25A53C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335-2285-44E4-952D-BDE0905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F36-298A-41B7-A709-FA84B896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16D-CAE7-4373-93E6-78308853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60A-D078-4731-AF1C-B48C79D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B97-CB0E-4276-A404-2375FFDA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801-F2FF-40E9-B63C-77EAED0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B767-A81A-4617-9309-C68935DF7D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 октяб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84720" y="3774960"/>
            <a:ext cx="2448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600360" cy="493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692360" y="476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мена.</a:t>
            </a:r>
            <a:endParaRPr b="0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425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Больше, </a:t>
            </a: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меньше, </a:t>
            </a:r>
            <a:br>
              <a:rPr sz="7200"/>
            </a:b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одинаков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08360" y="4221000"/>
            <a:ext cx="20131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33680" cy="4897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29210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00360" y="571680"/>
            <a:ext cx="554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111400" cy="2948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32000" y="1989000"/>
            <a:ext cx="2111400" cy="294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867280" y="1916280"/>
            <a:ext cx="21114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064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682560"/>
            <a:ext cx="82818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487440"/>
            <a:ext cx="77058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4:58:47Z</dcterms:created>
  <dc:creator>XTreme</dc:creator>
  <dc:description/>
  <dc:language>en-US</dc:language>
  <cp:lastModifiedBy>XTreme</cp:lastModifiedBy>
  <dcterms:modified xsi:type="dcterms:W3CDTF">2011-10-09T17:17:15Z</dcterms:modified>
  <cp:revision>2</cp:revision>
  <dc:subject/>
  <dc:title>Математика</dc:title>
</cp:coreProperties>
</file>