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903-71EF-4453-8B3D-4A69D9E2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485-318D-44D8-A0CA-24B47BB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846-C976-47C3-8125-EE0129A9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625-6B62-4B97-AD43-F70D65F5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44D5-083D-4E65-9671-BFCDDF13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92F0-856F-4A4C-9986-336CA08A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21D0-26BA-480F-9B5A-CD011EE9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6D8B-68BB-408D-A8DD-11A5B63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BA0-8A12-42B5-8F7B-657353D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F26-C5AB-416E-A7FD-F585AF38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EDBD-9E4E-4DCC-9887-2116377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2A6-F3DA-405E-96B9-7E502A04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2152-6AD4-4213-A90A-8010E41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072E-231D-4A25-A5B9-F6E5204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8460-0A8F-4857-9091-CF65EEE3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8340-1012-4AD1-A780-7CEBB572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1D95-A848-4EE3-8B9B-5199BC84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AB53C-B314-47D9-98B1-5EFF831F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64E6-5CC5-4205-98D9-3E6D218A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7987-A673-4663-B9B9-B166C175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F710-D31B-4B65-8D2F-7F40DA3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4ED4-6C71-4A9A-B347-B29B3E5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EC7-ECE9-4BCE-9CF1-00A0947C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1384-1A6F-4E7F-A909-4721D2B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10B4-F2D6-496A-92B7-C6B9C3D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05B0-921F-45BF-90E4-57791120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3BC8-2A75-4521-BC0B-2642A37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5DF3-9754-4611-89CD-B511A11A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E102-817F-40E0-B99C-7369CAFA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ED6D-BB10-464E-91E0-DD0E705B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E66-523F-4F93-9E73-F88E30B1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1F3-0A23-41EC-8363-BAB1014A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12E-B15D-485B-87E7-919BD32C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107-78BF-4ECA-A851-C5A447B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AFD-0BF7-4B28-A696-7431346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747-CB00-4C29-B0EF-1A806EE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7D2-1E39-4AEB-9B03-DFF74A6413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43B0-CF7C-4B9E-B3F5-8EDE41AB2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DF3-16E8-482B-A56D-BAD5C4FDAA6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24000" y="1773360"/>
            <a:ext cx="842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AL VERB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24000" y="270828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24000" y="263700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12"/>
          <p:cNvSpPr/>
          <p:nvPr/>
        </p:nvSpPr>
        <p:spPr>
          <a:xfrm flipH="1">
            <a:off x="-108000" y="1989000"/>
            <a:ext cx="1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76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 BE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должно произойти в соответствии с намеченным планом или договор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are to finish this work in two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а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ll her she’s not to be back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что неизбежное (предстоит, сужде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 went about thinking of his life and what was to become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1000" autoRev="1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СТАЕВА Н.В. – учитель английского языка МБОУ гимназия №5 г. Владикавка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77480" y="90792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71640" y="1700280"/>
            <a:ext cx="168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U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116000" y="2492280"/>
            <a:ext cx="13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116000" y="328464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UL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042920" y="4149720"/>
            <a:ext cx="275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UGHT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06920" y="501336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EDN’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035720" y="580536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BE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565000" y="90792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L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980600" y="907920"/>
            <a:ext cx="37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BE ABLE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327840" y="170028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HAVE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939760" y="2492280"/>
            <a:ext cx="18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5689440" y="2658960"/>
            <a:ext cx="24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o be allow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/C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4305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, 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, создаваемая обстоятель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нение (отрицательн. предл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роятрость, удивление (вопросит. пред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n speak English but he can’t write ver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 smoke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body can make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e really be at home all this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can’t be telling 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/M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.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ее официален, ч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(обычно фактическая, а не теоретическая) в утвердительных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, основанное на неуве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ек, неодобрение (толь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borrow my car if you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ad may be blo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may (might) be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have phone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лженствование или необходимость в настоящем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ложение,основанное на уверенности ( в утвердительных предложени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прет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n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be back by 10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terday you had to be back by 10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ust be a mis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ust have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n’t play with mat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й совет, личное мнение, рекомендация, порицание. (следует, следовало бы, должен, нужно, нужно б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hould do exercises every morning (= I advise h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have called on your friend long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3" dur="2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" dur="2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2" dur="2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3" dur="2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UGHT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, мнение (с простым инфинитивом) и порицание (перфектным инфинитивом). В отличие о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ыражающего субъективное мнение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ght t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более объективный оттенок необходи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ught to start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ught to be here b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1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5" dur="indefinite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6" dur="indefinite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E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НЕОБХОДИМОСТИ ЧТО-ТО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n’t tell Jennifer = She already kn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n’t + Perfect Infinitiv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ает, что действие совершено, но совершать его не было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needn’t have gone to the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8:05Z</dcterms:created>
  <dc:creator>www.PHILka.RU</dc:creator>
  <dc:description/>
  <dc:language>en-US</dc:language>
  <cp:lastModifiedBy>User</cp:lastModifiedBy>
  <dcterms:modified xsi:type="dcterms:W3CDTF">2013-04-18T19:37:40Z</dcterms:modified>
  <cp:revision>7</cp:revision>
  <dc:subject/>
  <dc:title>MODAL VERBS</dc:title>
</cp:coreProperties>
</file>