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57F-CCD7-448F-ABF6-64F71A57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BA3-61F7-4BF0-86BF-C56B2DFC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C83-684C-427E-A3DB-66B8A863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881-A799-4907-8C38-4D53B482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D05-F0F2-4F57-9092-2A5A5A1F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CCD1-C4EF-4D77-BC87-853CDC92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FB12-0F10-4893-A4DC-0B1A48F5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9EE0-2C34-49F4-96E3-08146DB8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B8C0-0076-4568-B43A-ABB92D96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A7D-9FC9-4D18-A822-F6510CC3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254C-D7E1-4861-BDF3-E276D5EC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1E4-9C52-4688-BCB8-69C08780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EDE0-AD68-44DB-AB2A-5C679CC2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4234-9975-4A56-8242-C4D9FD7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31F-E9CD-4EB7-94BE-EF9C5422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3498-820D-48C6-A035-A87E4620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29DB-1D64-4C10-9442-30C90337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F1A5-0BFB-4E2A-AD12-0B67259E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F65E-B4A0-4EF3-B4F1-6874460B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D40C-9FBD-4734-88AC-7AE645BE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5E5B-735E-4946-BEA5-0257801A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1F3C6-008F-47C0-AEBA-FDE0E777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192-7996-478E-AF9E-4D2E1BF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29637-5661-446E-98BF-CD6E749F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98F9-21B6-4DF4-9343-125E5D7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B2804-2B6C-4A73-B8B1-EC9D22B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C29B-02D5-4C09-A7F6-0BB6A673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0264-3F26-4C99-A40F-96931DA2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573F-622B-4CED-9AC0-0D033EDA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1A16-34C2-4E55-A2F7-BF793E5A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D02-6E24-4A16-AE16-145C54A7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D98-F74A-429B-AA0A-D5081006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246-C872-4829-9AAF-DD3616A0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47F-CE81-4073-8FD0-6460FDB2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615-31D7-47E7-833D-E358C4E3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BC0-39F4-4899-892B-7F0FEE2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B824-9258-4CB3-9BDE-3CA5D5D14B0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90A3-89F2-4857-A1FB-870217C96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9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86EE-CB9E-42D7-A60B-D828EE623A4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24000" y="1773360"/>
            <a:ext cx="8424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AL VERB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24000" y="2708280"/>
            <a:ext cx="187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24000" y="263700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12"/>
          <p:cNvSpPr/>
          <p:nvPr/>
        </p:nvSpPr>
        <p:spPr>
          <a:xfrm flipH="1">
            <a:off x="-108000" y="1989000"/>
            <a:ext cx="1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76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 BE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должно произойти в соответствии с намеченным планом или договорен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are to finish this work in two wee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аз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ll her she’s not to be back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что неизбежное (предстоит, сужде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 went about thinking of his life and what was to become of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1000" autoRev="1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АСТАЕВА Н.В. – учитель английского языка МБОУ гимназия №5 г. Владикавка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1077480" y="90792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71640" y="1700280"/>
            <a:ext cx="168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US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116000" y="2492280"/>
            <a:ext cx="13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116000" y="328464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U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042920" y="4149720"/>
            <a:ext cx="275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UGHT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006920" y="501336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EDN’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035720" y="580536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B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565000" y="90792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L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980600" y="907920"/>
            <a:ext cx="374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BE ABL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327840" y="1700280"/>
            <a:ext cx="308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HAVE T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2939760" y="2492280"/>
            <a:ext cx="18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5689440" y="2658960"/>
            <a:ext cx="24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o be allo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/COU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43052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, способ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ь, создаваемая обстоятель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нение (отрицательн. предл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вероятрость, удивление (вопросит. пред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can speak English but he can’t write very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 smoke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body can make mist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he really be at home all this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can’t be telling 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/M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ение.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олее официален, ч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(обычно фактическая, а не теоретическая) в утвердительных предлож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ожение, основанное на неувер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ек, неодобрение (толь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ay borrow my car if you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ad may be bloc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may (might) be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have phoned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7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лженствование или необходимость в настоящем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дположение,основанное на уверенности ( в утвердительных предложения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рет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n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be back by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terday you had to be back by 10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ust be a mist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ust have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n’t play with mat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ый совет, личное мнение, рекомендация, порицание. (следует, следовало бы, должен, нужно, нужно б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hould do exercises every morning (= I advise h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have called on your friend long a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3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4" dur="2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2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3" dur="2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64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UGHT 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т, мнение (с простым инфинитивом) и порицание (перфектным инфинитивом). В отличие от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выражающего субъективное мнение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ught to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более объективный оттенок необходим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ught to start a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ought to be here b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1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5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6" dur="indefinite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5e4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EE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НЕОБХОДИМОСТИ ЧТО-ТО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n’t tell Jennifer = She already kn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n’t + Perfect Infinitiv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значает, что действие совершено, но совершать его не было необход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needn’t have gone to the s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2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1" dur="2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38:05Z</dcterms:created>
  <dc:creator>www.PHILka.RU</dc:creator>
  <dc:description/>
  <dc:language>en-US</dc:language>
  <cp:lastModifiedBy>User</cp:lastModifiedBy>
  <dcterms:modified xsi:type="dcterms:W3CDTF">2013-04-18T19:37:40Z</dcterms:modified>
  <cp:revision>7</cp:revision>
  <dc:subject/>
  <dc:title>MODAL VERBS</dc:title>
</cp:coreProperties>
</file>