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A1B-5D83-420C-9366-CE6D7AFA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D4F-6114-4B25-ACA3-2A351B5C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842-3E69-4F71-9DA1-81C8EE41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E98-BC40-44A7-8A72-FCD4D76F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2FF-06B5-4F5B-98DC-CD37EA6B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A56E-DFAB-4B90-88E4-25472DF2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90C7-739F-4D7A-984D-51E6BEA7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194-7B0E-4DFC-851E-796FA17D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3314-0F3E-4340-BA57-647E57D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C0CC-2BF9-444B-8C72-9F531E55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7EDC-37BE-4C51-B4A9-9094BFC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150-7DD3-4EF8-BF8E-CA59F017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CDEE-C301-4D6C-A5AA-D3E90F5F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07AF-718E-4CC3-9240-1033D72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69FA-6734-4928-B73E-8F570F4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49D1-5FC3-49CE-8ED9-14F16D91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5B4C-0B60-4C74-BB3E-E425E460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036EF-F883-4DD1-A5F5-3E57B44D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A95B2-6070-4050-98B3-962E0EF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40413-6B96-4B6A-A3A8-6D2AEAE1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C6F5B-50FB-4BC1-A7BE-F0CF91A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E54AD-53F6-461D-BB76-D6F34BE0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D2D-68F8-4EB6-9062-369E863E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AC972-1F76-4106-823C-663095FB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FDAB9-9F8B-4E61-9221-B19B9BB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4F82D-DFC4-4E65-AB28-28CB3E84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09550-CDB9-495E-BDC3-4EB4A2A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24215-466F-4B83-AECC-5E2E7C24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2D8D7-7166-4A1E-AA91-82A09EF6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A1186-E820-4B90-8507-EA0716A1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D1D3-B2F1-49FC-A8BC-75B526F1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17C4-D84B-4A19-84D4-EDB6392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67361-198B-47C4-A504-AFA98BC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F92-4A58-4CE6-9CEC-08CB9DFB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14FB8-3FD6-4195-A766-8FEECC40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426E-7624-471A-A037-701539B2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B2E19-F240-44CA-971C-AC1DE90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F568-CA6A-42F8-BB4D-519D4B1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4174-3197-4A58-BFD3-14DE4EA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5907-7AC6-464E-8C05-EC5B0FF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EFBF-347D-4B04-A432-D46C49D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F57B-212A-4ED8-A1CB-DFECF848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19D2-847A-4BD5-9252-9475253F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E10C0-4DC7-49EC-8C5B-0A831668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532-FB26-4007-9621-55235B82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1E6A2-ED31-4619-8C91-2F571CDF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592BF-329B-4572-BA02-04050C9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A35EE-2EF0-420D-AAF8-0FA84FA8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01EC0-2AC2-4CC0-B11C-EA25DCAC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50D7C-2F71-4D2E-9C9F-0F2B95CB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67C2A-3E8C-474E-82C7-81D9242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72E43-DDE3-45FF-90B1-5ECE845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64423-8FCB-45F7-9F1C-1FF839A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BDD3D-8FFC-4530-B917-037BE5C4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C9C52-331E-41B2-842F-867F64B0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B64-4126-466C-ACC8-2B159E1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88A83-3124-43BD-83A1-FED73E96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3E10E-41A4-409F-93A5-5D9E469B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6A943-671C-47BF-BC26-4DAA7162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C4C09-85AB-40B4-BBBB-C850504F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8F31C-EC7E-4F07-9EE4-CC222592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18FB8-3729-41C9-B278-FB0BB9A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1B30D-2859-4FC2-A49C-AEB436A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FBD67-D7FD-411E-9A51-9C7B994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B1A10-7130-47A5-B7F8-3E21B5A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8C791-1BC0-4022-A93F-29587FD9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1EB-00F4-4DE5-ACB6-4F1CE9D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9F3A6-B51F-4C1B-BDA8-52EF2B1C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A42EA-A703-4F14-A15C-0B4B252A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8B0BF-9E97-49EE-A858-A0745EAD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64E1E-CFCC-4EEF-8EEB-04AB0C86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3AA81-273A-4F7D-876C-B1E57A11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FE05C-8166-4692-A9D4-253E7D5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1FA41-B1E4-4093-847D-23091654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CD871-15A3-456D-94CE-5FD34B8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70A99-8506-4BB6-8A13-86FAE504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FF522-24CA-45E9-9B97-95C83E5B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D13-579D-41DB-9A01-9CE259A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9F68D-27CF-4D5F-ACA8-C48B0AD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13427-492B-4033-A7E4-FE68675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A3BF6-E3F6-45BA-8587-C700AFD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4496B-5360-4000-9461-3B0C0FA5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88D99-728B-4BAB-A58D-F43544A5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218-14B8-44F1-8BD4-5CEBE1EF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B122-1DE2-4C1C-865E-1D26D5D77D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e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0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0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ea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ea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ea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2D17-FA20-4F26-96B6-402E3DBCEB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F547-7A14-4DA1-BFAD-34B91459FF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e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0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0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ea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ea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ea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D2EE-FF9C-4A87-A7BB-777F38D88B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FC2-ABF9-4D41-83E2-AF01216AED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568-F74B-48BC-9D24-207D8FCE23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F4DE-147E-4F65-B3A9-EB99E150BA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80605"/>
                </a:solidFill>
                <a:latin typeface="Times New Roman"/>
              </a:rPr>
              <a:t>Актуальные проблемы внедрения                 ФГОС.</a:t>
            </a:r>
            <a:br>
              <a:rPr sz="4100"/>
            </a:br>
            <a:endParaRPr b="0" lang="en-US" sz="41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142800" y="4572000"/>
            <a:ext cx="5591160" cy="168120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Autofit/>
          </a:bodyPr>
          <a:p>
            <a:pPr marL="136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МОУ «Гимназия №2» г.Ким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Наузияйнен О.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600" y="272520"/>
            <a:ext cx="735804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БЕЗОТМЕТОЧНОЕ ОБУЧЕНИ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371840" y="2214720"/>
            <a:ext cx="4486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: направленность программы, цель, задачи, ценностные ориентиры содержания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ewtonCSanPin-Regular"/>
              </a:rPr>
              <a:t>Характеристики личностных результатов, регулятивных, познавательных, коммуникативных УУД обучающихся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ич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е свойства УМК и их опис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ewtonCSanPin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ы связи УУД с содержанием учебных предме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0800" y="1389240"/>
            <a:ext cx="3593520" cy="594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 fontScale="8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чало формирований регулятивных УУ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818240" y="1317960"/>
            <a:ext cx="3793680" cy="594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 fontScale="8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е программы формирования УУ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" descr="C:\Documents and Settings\UserXP\Рабочий стол\к семимнару\азбукуа пришу и проверяю себя.jpg"/>
          <p:cNvPicPr/>
          <p:nvPr/>
        </p:nvPicPr>
        <p:blipFill>
          <a:blip r:embed="rId1"/>
          <a:stretch/>
        </p:blipFill>
        <p:spPr>
          <a:xfrm>
            <a:off x="500040" y="2357280"/>
            <a:ext cx="1730520" cy="2286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Documents and Settings\UserXP\Рабочий стол\к семимнару\азбука №2.jpg"/>
          <p:cNvPicPr/>
          <p:nvPr/>
        </p:nvPicPr>
        <p:blipFill>
          <a:blip r:embed="rId2"/>
          <a:stretch/>
        </p:blipFill>
        <p:spPr>
          <a:xfrm>
            <a:off x="1571760" y="385776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2c24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3b2c24"/>
                </a:solidFill>
                <a:latin typeface="Arial"/>
              </a:rPr>
              <a:t>ГОСУДАРСТВЕННОЕ БЮДЖЕТНОЕ УЧРЕЖДЕНИЕ ТВЕ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3b2c24"/>
                </a:solidFill>
                <a:latin typeface="Arial"/>
              </a:rPr>
              <a:t>«ЦЕНТР ОЦЕНКИ КАЧЕСТВА ОБРАЗОВАНИЯ»  </a:t>
            </a:r>
            <a:br>
              <a:rPr sz="1600"/>
            </a:b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0" name="Прямоугольник 9"/>
          <p:cNvSpPr/>
          <p:nvPr/>
        </p:nvSpPr>
        <p:spPr>
          <a:xfrm flipV="1" rot="10800000">
            <a:off x="571320" y="899280"/>
            <a:ext cx="80722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комендации по проведению мониторинга образовательных достижений обучающихся 1 классов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варианта итоговой работы по математик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 варианта итоговой работы по русскому языку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 варианта итоговой работы по чтению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комендации по оценке выполнения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рта первоклассник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нкета для учителя начальной школы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нкета для родителе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нструментарий для выявления школьной мотивации первоклассника и его отношения к учебной деятельности «Настроение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нструментарий для измерения самооценки по методике Дембо-Рубинштейн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ы для ввода и первичной обработки данных (на электронном носителе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1" name="Picture 4" descr="C:\Documents and Settings\UserXP\Рабочий стол\к семимнару\эмблема.jpeg"/>
          <p:cNvPicPr/>
          <p:nvPr/>
        </p:nvPicPr>
        <p:blipFill>
          <a:blip r:embed="rId1"/>
          <a:stretch/>
        </p:blipFill>
        <p:spPr>
          <a:xfrm>
            <a:off x="7429680" y="214200"/>
            <a:ext cx="142848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C:\Documents and Settings\UserXP\Рабочий стол\1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6067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C:\Documents and Settings\UserXP\Рабочий стол\2.jpg"/>
          <p:cNvPicPr/>
          <p:nvPr/>
        </p:nvPicPr>
        <p:blipFill>
          <a:blip r:embed="rId2"/>
          <a:stretch/>
        </p:blipFill>
        <p:spPr>
          <a:xfrm>
            <a:off x="4357800" y="2500200"/>
            <a:ext cx="4368600" cy="309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-642240"/>
            <a:ext cx="26146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286080" y="571680"/>
            <a:ext cx="5500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кажите, пожалуйста, куда мне отсюда идти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во многом зависит от того, куда ты хочешь прийти,- ответил Кот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а мне почти все равно,- начала Алиса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огда все равно, куда идти,- сказал Кот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ишь бы попасть куда-нибудь,- пояснила Алиса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е беспокойся, куда-нибудь ты обязательно попадешь,- сказал Кот,-конечно, если не остановишься на полпу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ьюис Кэрролл. 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ИСА В СТРАНЕ ЧУДЕ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2" descr="C:\Documents and Settings\UserXP\Рабочий стол\к семимнару\алиса и кот.jpg"/>
          <p:cNvPicPr/>
          <p:nvPr/>
        </p:nvPicPr>
        <p:blipFill>
          <a:blip r:embed="rId1"/>
          <a:stretch/>
        </p:blipFill>
        <p:spPr>
          <a:xfrm>
            <a:off x="357120" y="214200"/>
            <a:ext cx="29307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356920" y="-148680"/>
            <a:ext cx="55674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57176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Есть  такое  твердое правило,  -сказал  Маленький  прин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стал  поутру, умыл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ивел себя  в порядо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иведи  в  порядок   свою 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C:\Documents and Settings\UserXP\Рабочий стол\к семимнару\МалПринц23.jpg"/>
          <p:cNvPicPr/>
          <p:nvPr/>
        </p:nvPicPr>
        <p:blipFill>
          <a:blip r:embed="rId1"/>
          <a:stretch/>
        </p:blipFill>
        <p:spPr>
          <a:xfrm>
            <a:off x="5072040" y="500040"/>
            <a:ext cx="3571920" cy="461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7353000" cy="654120"/>
          </a:xfrm>
          <a:prstGeom prst="rect">
            <a:avLst/>
          </a:prstGeom>
          <a:solidFill>
            <a:srgbClr val="dbc1a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4e3b30"/>
                </a:solidFill>
                <a:latin typeface="Arial"/>
              </a:rPr>
              <a:t>МАРШРУТНЫЙ ЛИСТ САМООБРАЗОВАНИЯ</a:t>
            </a: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357" name="Содержимое 3" descr=""/>
          <p:cNvPicPr/>
          <p:nvPr/>
        </p:nvPicPr>
        <p:blipFill>
          <a:blip r:embed="rId1"/>
          <a:stretch/>
        </p:blipFill>
        <p:spPr>
          <a:xfrm>
            <a:off x="420840" y="1359000"/>
            <a:ext cx="8242200" cy="5121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0e8e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СОСТАВЛЯЮЩИЕ СОДЕРЖАНИЯ ОБРАЗОВАНИЯ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C:\Documents and Settings\UserXP\Рабочий стол\к семимнару\лента мёбиуса.jpg"/>
          <p:cNvPicPr/>
          <p:nvPr/>
        </p:nvPicPr>
        <p:blipFill>
          <a:blip r:embed="rId1"/>
          <a:stretch/>
        </p:blipFill>
        <p:spPr>
          <a:xfrm>
            <a:off x="571680" y="1643040"/>
            <a:ext cx="7373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3"/>
          <p:cNvSpPr/>
          <p:nvPr/>
        </p:nvSpPr>
        <p:spPr>
          <a:xfrm>
            <a:off x="6553080" y="6272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CC8-9A30-4E75-B881-6EA4D1BFC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611280" y="431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372360" y="2571840"/>
            <a:ext cx="277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Предметные </a:t>
            </a:r>
            <a:r>
              <a:rPr b="0" i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я, пре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знаний</a:t>
            </a: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снова научной картины ми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86080" y="2643120"/>
            <a:ext cx="2954520" cy="3751560"/>
          </a:xfrm>
          <a:prstGeom prst="rect">
            <a:avLst/>
          </a:prstGeom>
          <a:solidFill>
            <a:srgbClr val="f9da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ые учеб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познава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регулятив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9410"/>
                </a:solidFill>
                <a:latin typeface="Arial"/>
              </a:rPr>
              <a:t>коммуникатив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-  основа умения учитьс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предметные поняти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0" y="2428920"/>
            <a:ext cx="314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Личностные</a:t>
            </a: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ностно-смысл. установки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й позици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.компетентност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российской и  гражданской идентичност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развит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285840"/>
            <a:ext cx="9144000" cy="647640"/>
          </a:xfrm>
          <a:prstGeom prst="rect">
            <a:avLst/>
          </a:prstGeom>
          <a:solidFill>
            <a:srgbClr val="fcecd5"/>
          </a:solidFill>
          <a:ln w="38160">
            <a:solidFill>
              <a:srgbClr val="f9d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ad1f1f"/>
                </a:solidFill>
                <a:uFillTx/>
                <a:latin typeface="Arial"/>
                <a:hlinkClick r:id="rId1" action="ppaction://hlinksldjump"/>
              </a:rPr>
              <a:t>ФГОС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2900" spc="-1" strike="noStrike">
                <a:solidFill>
                  <a:srgbClr val="35cb5c"/>
                </a:solidFill>
                <a:latin typeface="Arial"/>
              </a:rPr>
              <a:t>новый образовательный результат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Line 7"/>
          <p:cNvSpPr/>
          <p:nvPr/>
        </p:nvSpPr>
        <p:spPr>
          <a:xfrm flipH="1">
            <a:off x="4408560" y="1857240"/>
            <a:ext cx="46080" cy="571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Line 8"/>
          <p:cNvSpPr/>
          <p:nvPr/>
        </p:nvSpPr>
        <p:spPr>
          <a:xfrm flipH="1">
            <a:off x="2214720" y="1785960"/>
            <a:ext cx="793440" cy="5000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6143760" y="1785960"/>
            <a:ext cx="1377720" cy="5968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539640" y="13572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В ЧЕМ ЗАКЛЮЧАЕТСЯ ЗАДАЧА ШКОЛЫ?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кола – не единственный источник знаний и информации для уче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 каждого ребенка умения учитьСЯ – учить СЕБ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Рисунок 11" descr="034.JPG"/>
          <p:cNvPicPr/>
          <p:nvPr/>
        </p:nvPicPr>
        <p:blipFill>
          <a:blip r:embed="rId1"/>
          <a:stretch/>
        </p:blipFill>
        <p:spPr>
          <a:xfrm>
            <a:off x="523800" y="4143240"/>
            <a:ext cx="3119400" cy="2340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2" descr="getImage.jpeg"/>
          <p:cNvPicPr/>
          <p:nvPr/>
        </p:nvPicPr>
        <p:blipFill>
          <a:blip r:embed="rId2"/>
          <a:stretch/>
        </p:blipFill>
        <p:spPr>
          <a:xfrm>
            <a:off x="5072040" y="4071960"/>
            <a:ext cx="313524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467840" cy="2714760"/>
          </a:xfrm>
          <a:prstGeom prst="rect">
            <a:avLst/>
          </a:prstGeom>
          <a:solidFill>
            <a:srgbClr val="e7d6c5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Arial"/>
              </a:rPr>
              <a:t>«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ЗАТЕМ ОН ПОЛОЖИЛ БУМАГУ В БУТЫЛКУ, ЗАТКНУЛ ЕЕ ПРОБКОЙ ТАК ТУГО, КАК ТОЛЬКО МОГ, ВЫСУНУЛСЯ ИЗ ОКНА ТАК ДАЛЕКО, КАК ТОЛЬКО МОГ ВЫСУНУТЬСЯ, И БРОСИЛ БУТЫЛКУ ТАК ДАЛЕКО, КАК ТОЛЬКО МОГ БРОСИТЬ» .</a:t>
            </a:r>
            <a:br>
              <a:rPr sz="2500"/>
            </a:br>
            <a:r>
              <a:rPr b="0" lang="ru-RU" sz="1600" spc="-1" strike="noStrike">
                <a:solidFill>
                  <a:srgbClr val="4e3b30"/>
                </a:solidFill>
                <a:latin typeface="Arial"/>
              </a:rPr>
              <a:t>                           А.МИЛН «ВИННИ ПУХ И ФИЛОСОФИЯ ОБЫДЕННОГО ЯЗЫКА»</a:t>
            </a:r>
            <a:br>
              <a:rPr sz="1600"/>
            </a:b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377" name="Picture 4" descr="C:\Documents and Settings\UserXP\Рабочий стол\к семимнару\прыгающий поросёнок.jpg"/>
          <p:cNvPicPr/>
          <p:nvPr/>
        </p:nvPicPr>
        <p:blipFill>
          <a:blip r:embed="rId1"/>
          <a:stretch/>
        </p:blipFill>
        <p:spPr>
          <a:xfrm>
            <a:off x="285840" y="3143160"/>
            <a:ext cx="4433760" cy="2962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:\Documents and Settings\UserXP\Рабочий стол\к семимнару\высунулся так далеко как только мог.png"/>
          <p:cNvPicPr/>
          <p:nvPr/>
        </p:nvPicPr>
        <p:blipFill>
          <a:blip r:embed="rId2"/>
          <a:stretch/>
        </p:blipFill>
        <p:spPr>
          <a:xfrm>
            <a:off x="5572080" y="3214800"/>
            <a:ext cx="314316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C:\Users\Черепаха &amp; Ахиллес\Desktop\Обложки\1 класс\1kl_Matem_Uch2.jpg"/>
          <p:cNvPicPr/>
          <p:nvPr/>
        </p:nvPicPr>
        <p:blipFill>
          <a:blip r:embed="rId1"/>
          <a:stretch/>
        </p:blipFill>
        <p:spPr>
          <a:xfrm>
            <a:off x="7072200" y="2109960"/>
            <a:ext cx="1127160" cy="1598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80" name="Rectangle 2"/>
          <p:cNvGrpSpPr/>
          <p:nvPr/>
        </p:nvGrpSpPr>
        <p:grpSpPr>
          <a:xfrm>
            <a:off x="298440" y="92160"/>
            <a:ext cx="8577360" cy="657000"/>
            <a:chOff x="298440" y="92160"/>
            <a:chExt cx="8577360" cy="657000"/>
          </a:xfrm>
        </p:grpSpPr>
        <p:pic>
          <p:nvPicPr>
            <p:cNvPr id="381" name="Rectangle 2" descr=""/>
            <p:cNvPicPr/>
            <p:nvPr/>
          </p:nvPicPr>
          <p:blipFill>
            <a:blip r:embed="rId2"/>
            <a:stretch/>
          </p:blipFill>
          <p:spPr>
            <a:xfrm>
              <a:off x="298440" y="92160"/>
              <a:ext cx="85773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03120" y="95400"/>
              <a:ext cx="8569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-102600"/>
            <a:ext cx="7543800" cy="459720"/>
          </a:xfrm>
          <a:prstGeom prst="rect">
            <a:avLst/>
          </a:prstGeom>
          <a:solidFill>
            <a:srgbClr val="dbc1a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928440"/>
            <a:ext cx="3614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714920" y="2000160"/>
            <a:ext cx="4214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9840" y="644400"/>
            <a:ext cx="3997080" cy="5997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бщей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  <a:ea typeface="Arial"/>
              </a:rPr>
              <a:t>особенностью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входящих в комплект учебников являетс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соответствие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внутрипредметного материала современным научным представлениям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практическая направлен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включение механизмов формирования общеучебных умений и навыков (обучение работе с несколькими источниками информации, словарям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и и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справочниками, периодическими изданиями, интернетом), которые помещены в сами учебни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899600" y="613080"/>
            <a:ext cx="3574080" cy="773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и для 1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4643280" y="1571760"/>
            <a:ext cx="2214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грамот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273720" y="3643200"/>
            <a:ext cx="28702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лект по математик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0" name="Picture 2" descr="C:\Users\Черепаха &amp; Ахиллес\Desktop\Обложки\1 класс\1kl_Azb_Uch.jpg"/>
          <p:cNvPicPr/>
          <p:nvPr/>
        </p:nvPicPr>
        <p:blipFill>
          <a:blip r:embed="rId3"/>
          <a:stretch/>
        </p:blipFill>
        <p:spPr>
          <a:xfrm>
            <a:off x="4643280" y="2000160"/>
            <a:ext cx="1041480" cy="1462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sp>
        <p:nvSpPr>
          <p:cNvPr id="391" name="Rectangle 7"/>
          <p:cNvSpPr/>
          <p:nvPr/>
        </p:nvSpPr>
        <p:spPr>
          <a:xfrm>
            <a:off x="4500720" y="5072040"/>
            <a:ext cx="1571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писи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2" name="Picture 3" descr="C:\Users\Черепаха &amp; Ахиллес\Desktop\Обложки\1 класс\1k_Azb_Tet3.jpg"/>
          <p:cNvPicPr/>
          <p:nvPr/>
        </p:nvPicPr>
        <p:blipFill>
          <a:blip r:embed="rId4"/>
          <a:stretch/>
        </p:blipFill>
        <p:spPr>
          <a:xfrm>
            <a:off x="6000840" y="5072040"/>
            <a:ext cx="801720" cy="1166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pic>
        <p:nvPicPr>
          <p:cNvPr id="393" name="Picture 6" descr="C:\Users\Черепаха &amp; Ахиллес\Desktop\Обложки\1 класс\1kl_Azb_Tet2.jpg"/>
          <p:cNvPicPr/>
          <p:nvPr/>
        </p:nvPicPr>
        <p:blipFill>
          <a:blip r:embed="rId5"/>
          <a:stretch/>
        </p:blipFill>
        <p:spPr>
          <a:xfrm>
            <a:off x="5500800" y="4357800"/>
            <a:ext cx="877680" cy="1276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pic>
        <p:nvPicPr>
          <p:cNvPr id="394" name="Picture 5" descr="C:\Users\Черепаха &amp; Ахиллес\Desktop\Обложки\1 класс\1kl_Azb_Tet1.jpg"/>
          <p:cNvPicPr/>
          <p:nvPr/>
        </p:nvPicPr>
        <p:blipFill>
          <a:blip r:embed="rId6"/>
          <a:stretch/>
        </p:blipFill>
        <p:spPr>
          <a:xfrm>
            <a:off x="5143680" y="3857760"/>
            <a:ext cx="839520" cy="1222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sp>
        <p:nvSpPr>
          <p:cNvPr id="395" name="Rectangle 7"/>
          <p:cNvSpPr/>
          <p:nvPr/>
        </p:nvSpPr>
        <p:spPr>
          <a:xfrm>
            <a:off x="4714920" y="3357720"/>
            <a:ext cx="10843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ебник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6" name="Picture 7" descr="C:\Users\Черепаха &amp; Ахиллес\Desktop\Обложки\1 класс\1kl_Matem_Uch1.jpg"/>
          <p:cNvPicPr/>
          <p:nvPr/>
        </p:nvPicPr>
        <p:blipFill>
          <a:blip r:embed="rId7"/>
          <a:stretch/>
        </p:blipFill>
        <p:spPr>
          <a:xfrm>
            <a:off x="6500880" y="2357280"/>
            <a:ext cx="981000" cy="1395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7" name="Rectangle 7"/>
          <p:cNvSpPr/>
          <p:nvPr/>
        </p:nvSpPr>
        <p:spPr>
          <a:xfrm>
            <a:off x="4897440" y="6000840"/>
            <a:ext cx="4246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етради для самостоятельных работ №1,2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8" name="Picture 9" descr="C:\Users\Черепаха &amp; Ахиллес\Desktop\Обложки\1 класс\1kl_Matem_Tet1.jpg"/>
          <p:cNvPicPr/>
          <p:nvPr/>
        </p:nvPicPr>
        <p:blipFill>
          <a:blip r:embed="rId8">
            <a:lum contrast="28000"/>
          </a:blip>
          <a:stretch/>
        </p:blipFill>
        <p:spPr>
          <a:xfrm>
            <a:off x="7643880" y="4714920"/>
            <a:ext cx="823680" cy="1071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99" name="Picture 10" descr="C:\Users\Черепаха &amp; Ахиллес\Desktop\Обложки\1 класс\1kl_Matem_Tet2.jpg"/>
          <p:cNvPicPr/>
          <p:nvPr/>
        </p:nvPicPr>
        <p:blipFill>
          <a:blip r:embed="rId9">
            <a:lum contrast="28000"/>
          </a:blip>
          <a:stretch/>
        </p:blipFill>
        <p:spPr>
          <a:xfrm>
            <a:off x="7286760" y="4357800"/>
            <a:ext cx="795240" cy="103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0" name="Rectangle 7"/>
          <p:cNvSpPr/>
          <p:nvPr/>
        </p:nvSpPr>
        <p:spPr>
          <a:xfrm>
            <a:off x="6672240" y="3929040"/>
            <a:ext cx="2471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1440000"/>
          </a:xfrm>
          <a:prstGeom prst="rect">
            <a:avLst/>
          </a:prstGeom>
          <a:noFill/>
          <a:ln w="9360">
            <a:solidFill>
              <a:srgbClr val="85540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                                    </a:t>
            </a: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ВИДЫ </a:t>
            </a:r>
            <a:br>
              <a:rPr sz="2900"/>
            </a:b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  УНИВЕРСАЛЬНЫХ    УЧЕБНЫХ       ДЕЙСТВИЙ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ятивные(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 , коррекция, оцен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ые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ическ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ка и решение пробле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ланирование сотрудничества,  согласование действий с партнёром, построение речевых высказываний, постановка вопросов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08:59:48Z</dcterms:created>
  <dc:creator>Molchanov</dc:creator>
  <dc:description/>
  <dc:language>en-US</dc:language>
  <cp:lastModifiedBy>UserXP</cp:lastModifiedBy>
  <dcterms:modified xsi:type="dcterms:W3CDTF">2012-04-13T14:23:45Z</dcterms:modified>
  <cp:revision>100</cp:revision>
  <dc:subject/>
  <dc:title>Слайд 1</dc:title>
</cp:coreProperties>
</file>