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A5E8-EEA4-436E-AB00-AB92298A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5B9-2415-42DE-AD22-2D2EFCD5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A96D-CEAD-4717-A374-D234AE7E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15FA-2F15-4CA8-8CAB-C62998B5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1992-CEEB-44FD-BA8E-E18CD1CE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47E4-69A1-47FC-B61D-AFDE35D7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41F3-5625-4BDA-BA40-01C68D19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F70E-3034-4F0D-8CCC-DF0B831A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E8DD-3A5B-465F-9105-BD960851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F776-8D54-4646-A9B4-B5EE946E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1101-18EA-4E68-A82B-16E36F37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D009-0BF6-49DA-936A-B741E095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79A7-E051-4FB5-A862-0CAA95D7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5449-A8E8-4C5A-BB61-25A11688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1543-9581-43F8-9A61-B8522D17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091D-7E64-4E8A-B4A5-BA5532CD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48D0-9C00-46C8-9CE1-64A9E1D4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3AB949-892B-491C-AA74-BD188598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9BB10-FE09-4306-90EC-3BF0399D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56C94A-0770-4EFF-A5EE-37E9D941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B1A06-ADB4-4832-A05C-EC2B5C9A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C81E9-51D7-4022-92C1-093E85AE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4A4A-105E-4CB4-9A41-4F48143D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51C39-94F9-4F09-895A-139D2604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5C7EE-CC01-43B7-8316-891F469A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4124D-2576-4F23-965F-F4403A75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5389B-7716-41F5-8D42-1D1A95B4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066A31-BEDB-4BF5-AD38-C908CBCE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5F268F-CE66-4E13-91E1-50890020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0A977-FF17-4449-B67D-6FC1EC77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B1332-517E-456F-867F-1619F66C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A9194-294A-41E6-8626-A03E23D3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6FB2F-46B6-44D4-A2EB-7657F4AD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436B-1AF8-4252-A586-72D7E90C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EC15A-0C26-40E3-887C-FAD332E9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00398-4223-41A1-B083-9D65BA8A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13832-EC32-479A-9DF2-EECA7AA1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792FC-9E24-4193-B5D9-731053FE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AC07D-C236-44B2-9E72-9E966748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7E860-9DE5-48B2-B83C-04754C9C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326E9-0616-4219-AEFD-51E0D3AF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098CD-1208-4B62-A0CC-A4FEC004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FD58A-5577-40B9-B7D2-955EB261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D03C27-C8BE-4F8D-AE66-5E65B9EC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168D-8E60-43E6-B905-204B2A03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7768B9-D4D2-4E81-8B6E-84D6EB3E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0B4A01-5C74-4FBD-A89D-3ABB65F1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8E9AEE-AE95-44B1-B40D-60CF8B1B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A5208E-8955-42C8-A68B-BC45442E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3F76CF-E106-45B1-BB08-6F7369A3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09C90D-BE00-4C90-B9E6-EB8BDD93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CF6328-306A-4CF6-A292-548D976E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558F94-C524-46B0-86DF-A568F498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A392F7-4C85-48D9-A5A2-54C034C0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5B0A94-478E-47F5-B474-934D43EF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ECE-0AA6-4933-B8C6-8F896556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AA8BDC-C092-4010-8A2C-95763F11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D6EEF9-78EE-4B98-98FD-7F765948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84A119-C71C-4D5E-A9AB-2130640F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3931E4-5E5C-4334-9D53-0A407682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683578-4897-4F40-A9E8-3D6D428F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626792-8178-4805-A7B7-B9B3CCD6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12E334-7155-48AE-B2C2-554A16F7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E89912-B31F-41AE-A318-9DF3DE96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90363D-A0C5-4F38-9154-657BFD90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B26866-9958-4F28-B046-EDE5FFE3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269B-7CE7-4D74-89A7-A487C700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B90F0C-DF56-4354-9F1C-B33693D0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C23BC6-DE3A-4C83-AD51-599218EE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43232B-1D9C-4BC2-8131-84A71FE0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047E33-B8F4-4B79-8CA5-BFAA934B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FE9D00-4063-4174-B93D-C6C2D171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846B04-3856-4942-B5B6-7F15C449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AF48D7-DA63-4708-8FF3-7AC190B7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69F3F4-E100-4453-ABC8-ACF4916C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E8D015-5819-4010-A4EC-3DD2E79B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94EDF3-EFE2-4974-A262-184726AC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29F6-1D75-4F47-BDCC-09D1E83D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5E188F-4E50-4FA9-9884-B09453C7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671034-7F10-497B-A1F2-6EB3CB66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8CF9B0-21C8-453B-A057-09D3B155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8E4EC5-FDAD-4B4D-B4F1-192E975B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C27703-03E2-4F08-9BFE-B13DCF42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F0B6-8AC9-492B-82B0-5FD8CC24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bd98"/>
            </a:gs>
            <a:gs pos="100000">
              <a:srgbClr val="fdf7e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ea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ea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3388-2A03-464E-B659-AD988978F69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bd98"/>
            </a:gs>
            <a:gs pos="100000">
              <a:srgbClr val="fdf7e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ea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e0cd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e0c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f0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ea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f0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ea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ea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85E0-71F9-48C2-9968-BD068F1FF57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bd98"/>
            </a:gs>
            <a:gs pos="100000">
              <a:srgbClr val="fdf7e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ea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ea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FD18-F871-4FDD-A70D-09DC9759460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bd98"/>
            </a:gs>
            <a:gs pos="100000">
              <a:srgbClr val="fdf7e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ead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e0cd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e0c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f0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ead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f0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ead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ead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ED20-A304-4E50-8724-8F1169BDA7E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bd98"/>
            </a:gs>
            <a:gs pos="100000">
              <a:srgbClr val="fdf7e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ea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ea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4276-C7E6-47F6-A6CB-C646882C3E5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bd98"/>
            </a:gs>
            <a:gs pos="100000">
              <a:srgbClr val="fdf7e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ead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ea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1A3E-D2F1-4ADC-AF71-A151447A533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bd98"/>
            </a:gs>
            <a:gs pos="100000">
              <a:srgbClr val="fdf7e6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e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e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66B8-7DAF-4D44-B1E6-AD4B564375C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1680" y="1143000"/>
            <a:ext cx="77724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80605"/>
                </a:solidFill>
                <a:latin typeface="Times New Roman"/>
              </a:rPr>
              <a:t>Актуальные проблемы внедрения                 ФГОС.</a:t>
            </a:r>
            <a:br>
              <a:rPr sz="4100"/>
            </a:br>
            <a:endParaRPr b="0" lang="en-US" sz="41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142800" y="4572000"/>
            <a:ext cx="5591160" cy="1681200"/>
          </a:xfrm>
          <a:prstGeom prst="rect">
            <a:avLst/>
          </a:prstGeom>
          <a:solidFill>
            <a:srgbClr val="f8e19f"/>
          </a:solidFill>
          <a:ln w="0">
            <a:noFill/>
          </a:ln>
        </p:spPr>
        <p:txBody>
          <a:bodyPr anchor="t">
            <a:noAutofit/>
          </a:bodyPr>
          <a:p>
            <a:pPr marL="1364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Учитель начальных класс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МОУ «Гимназия №2» г.Ким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Times New Roman"/>
              </a:rPr>
              <a:t>Наузияйнен О.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42600" y="272520"/>
            <a:ext cx="7358040" cy="7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Arial"/>
              </a:rPr>
              <a:t>БЕЗОТМЕТОЧНОЕ ОБУЧЕНИЕ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371840" y="2214720"/>
            <a:ext cx="44863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яснительная записка: направленность программы, цель, задачи, ценностные ориентиры содержания образ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ewtonCSanPin-Regular"/>
              </a:rPr>
              <a:t>Характеристики личностных результатов, регулятивных, познавательных, коммуникативных УУД обучающихся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ич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ие свойства УМК и их опис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NewtonCSanPin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ы связи УУД с содержанием учебных предме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60800" y="1389240"/>
            <a:ext cx="3593520" cy="59472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txBody>
          <a:bodyPr anchor="ctr">
            <a:normAutofit fontScale="8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чало формирований регулятивных УУ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818240" y="1317960"/>
            <a:ext cx="3793680" cy="59472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txBody>
          <a:bodyPr anchor="ctr">
            <a:normAutofit fontScale="8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оздание программы формирования УУ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Picture 2" descr="C:\Documents and Settings\UserXP\Рабочий стол\к семимнару\азбукуа пришу и проверяю себя.jpg"/>
          <p:cNvPicPr/>
          <p:nvPr/>
        </p:nvPicPr>
        <p:blipFill>
          <a:blip r:embed="rId1"/>
          <a:stretch/>
        </p:blipFill>
        <p:spPr>
          <a:xfrm>
            <a:off x="500040" y="2357280"/>
            <a:ext cx="1730520" cy="2286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C:\Documents and Settings\UserXP\Рабочий стол\к семимнару\азбука №2.jpg"/>
          <p:cNvPicPr/>
          <p:nvPr/>
        </p:nvPicPr>
        <p:blipFill>
          <a:blip r:embed="rId2"/>
          <a:stretch/>
        </p:blipFill>
        <p:spPr>
          <a:xfrm>
            <a:off x="1571760" y="3857760"/>
            <a:ext cx="190476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b2c24"/>
                </a:solidFill>
                <a:latin typeface="Arial"/>
              </a:rPr>
              <a:t>                   </a:t>
            </a:r>
            <a:r>
              <a:rPr b="1" lang="ru-RU" sz="2000" spc="-1" strike="noStrike">
                <a:solidFill>
                  <a:srgbClr val="3b2c24"/>
                </a:solidFill>
                <a:latin typeface="Arial"/>
              </a:rPr>
              <a:t>ГОСУДАРСТВЕННОЕ БЮДЖЕТНОЕ УЧРЕЖДЕНИЕ ТВЕРСКОЙ ОБЛАСТИ </a:t>
            </a:r>
            <a:br>
              <a:rPr sz="2000"/>
            </a:br>
            <a:r>
              <a:rPr b="1" lang="ru-RU" sz="2000" spc="-1" strike="noStrike">
                <a:solidFill>
                  <a:srgbClr val="3b2c24"/>
                </a:solidFill>
                <a:latin typeface="Arial"/>
              </a:rPr>
              <a:t>«ЦЕНТР ОЦЕНКИ КАЧЕСТВА ОБРАЗОВАНИЯ»  </a:t>
            </a:r>
            <a:br>
              <a:rPr sz="1600"/>
            </a:b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0" name="Прямоугольник 9"/>
          <p:cNvSpPr/>
          <p:nvPr/>
        </p:nvSpPr>
        <p:spPr>
          <a:xfrm flipV="1" rot="10800000">
            <a:off x="571320" y="899280"/>
            <a:ext cx="807228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екомендации по проведению мониторинга образовательных достижений обучающихся 1 классов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 варианта итоговой работы по математике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4 варианта итоговой работы по русскому языку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4 варианта итоговой работы по чтению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екомендации по оценке выполнения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Карта первоклассника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Анкета для учителя начальной школы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Анкета для родителей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нструментарий для выявления школьной мотивации первоклассника и его отношения к учебной деятельности «Настроение»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Инструментарий для измерения самооценки по методике Дембо-Рубинштейна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Формы для ввода и первичной обработки данных (на электронном носителе)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11" name="Picture 4" descr="C:\Documents and Settings\UserXP\Рабочий стол\к семимнару\эмблема.jpeg"/>
          <p:cNvPicPr/>
          <p:nvPr/>
        </p:nvPicPr>
        <p:blipFill>
          <a:blip r:embed="rId1"/>
          <a:stretch/>
        </p:blipFill>
        <p:spPr>
          <a:xfrm>
            <a:off x="7429680" y="214200"/>
            <a:ext cx="1428480" cy="1071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C:\Documents and Settings\UserXP\Рабочий стол\1.jpg"/>
          <p:cNvPicPr/>
          <p:nvPr/>
        </p:nvPicPr>
        <p:blipFill>
          <a:blip r:embed="rId1"/>
          <a:stretch/>
        </p:blipFill>
        <p:spPr>
          <a:xfrm>
            <a:off x="285840" y="357120"/>
            <a:ext cx="4000320" cy="60674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C:\Documents and Settings\UserXP\Рабочий стол\2.jpg"/>
          <p:cNvPicPr/>
          <p:nvPr/>
        </p:nvPicPr>
        <p:blipFill>
          <a:blip r:embed="rId2"/>
          <a:stretch/>
        </p:blipFill>
        <p:spPr>
          <a:xfrm>
            <a:off x="4357800" y="2500200"/>
            <a:ext cx="4368600" cy="3090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-642240"/>
            <a:ext cx="26146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286080" y="571680"/>
            <a:ext cx="55008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кажите, пожалуйста, куда мне отсюда идти?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Это во многом зависит от того, куда ты хочешь прийти,- ответил Кот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а мне почти все равно,- начала Алиса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Тогда все равно, куда идти,- сказал Кот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Лишь бы попасть куда-нибудь,- пояснила Алиса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Не беспокойся, куда-нибудь ты обязательно попадешь,- сказал Кот,-конечно, если не остановишься на полпу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ьюис Кэрролл. 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ИСА В СТРАНЕ ЧУДЕ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2" descr="C:\Documents and Settings\UserXP\Рабочий стол\к семимнару\алиса и кот.jpg"/>
          <p:cNvPicPr/>
          <p:nvPr/>
        </p:nvPicPr>
        <p:blipFill>
          <a:blip r:embed="rId1"/>
          <a:stretch/>
        </p:blipFill>
        <p:spPr>
          <a:xfrm>
            <a:off x="357120" y="214200"/>
            <a:ext cx="2930760" cy="4000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356920" y="-148680"/>
            <a:ext cx="55674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85480" y="1571760"/>
            <a:ext cx="47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Есть  такое  твердое правило,  -сказал  Маленький  прин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Встал  поутру, умылс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привел себя  в порядок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приведи  в  порядок   свою  планет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3" descr="C:\Documents and Settings\UserXP\Рабочий стол\к семимнару\МалПринц23.jpg"/>
          <p:cNvPicPr/>
          <p:nvPr/>
        </p:nvPicPr>
        <p:blipFill>
          <a:blip r:embed="rId1"/>
          <a:stretch/>
        </p:blipFill>
        <p:spPr>
          <a:xfrm>
            <a:off x="5072040" y="500040"/>
            <a:ext cx="3571920" cy="4616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7353000" cy="654120"/>
          </a:xfrm>
          <a:prstGeom prst="rect">
            <a:avLst/>
          </a:prstGeom>
          <a:solidFill>
            <a:srgbClr val="dbc1a7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Arial"/>
              </a:rPr>
              <a:t>    </a:t>
            </a:r>
            <a:r>
              <a:rPr b="1" lang="ru-RU" sz="2700" spc="-1" strike="noStrike">
                <a:solidFill>
                  <a:srgbClr val="4e3b30"/>
                </a:solidFill>
                <a:latin typeface="Arial"/>
              </a:rPr>
              <a:t>МАРШРУТНЫЙ ЛИСТ САМООБРАЗОВАНИЯ</a:t>
            </a:r>
            <a:r>
              <a:rPr b="0" lang="ru-RU" sz="3000" spc="-1" strike="noStrike">
                <a:solidFill>
                  <a:srgbClr val="4e3b3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357" name="Содержимое 3" descr=""/>
          <p:cNvPicPr/>
          <p:nvPr/>
        </p:nvPicPr>
        <p:blipFill>
          <a:blip r:embed="rId1"/>
          <a:stretch/>
        </p:blipFill>
        <p:spPr>
          <a:xfrm>
            <a:off x="420840" y="1359000"/>
            <a:ext cx="8242200" cy="5121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solidFill>
            <a:srgbClr val="f0e8e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Arial"/>
              </a:rPr>
              <a:t>СОСТАВЛЯЮЩИЕ СОДЕРЖАНИЯ ОБРАЗОВАНИЯ</a:t>
            </a:r>
            <a:endParaRPr b="0" lang="en-US" sz="28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2" descr="C:\Documents and Settings\UserXP\Рабочий стол\к семимнару\лента мёбиуса.jpg"/>
          <p:cNvPicPr/>
          <p:nvPr/>
        </p:nvPicPr>
        <p:blipFill>
          <a:blip r:embed="rId1"/>
          <a:stretch/>
        </p:blipFill>
        <p:spPr>
          <a:xfrm>
            <a:off x="571680" y="1643040"/>
            <a:ext cx="737388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Номер слайда 3"/>
          <p:cNvSpPr/>
          <p:nvPr/>
        </p:nvSpPr>
        <p:spPr>
          <a:xfrm>
            <a:off x="6553080" y="6272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F1BF-30F2-45C6-BFE2-CB52CB466F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AutoShape 2"/>
          <p:cNvSpPr/>
          <p:nvPr/>
        </p:nvSpPr>
        <p:spPr>
          <a:xfrm>
            <a:off x="611280" y="431640"/>
            <a:ext cx="7848360" cy="98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6372360" y="2571840"/>
            <a:ext cx="2771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a10"/>
                </a:solidFill>
                <a:uFillTx/>
                <a:latin typeface="Arial"/>
              </a:rPr>
              <a:t>Предметные </a:t>
            </a:r>
            <a:r>
              <a:rPr b="0" i="1" lang="ru-RU" sz="2400" spc="-1" strike="noStrike">
                <a:solidFill>
                  <a:srgbClr val="000a1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т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ия, преобразова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метных знани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знаний</a:t>
            </a:r>
            <a:r>
              <a:rPr b="1" lang="ru-RU" sz="2400" spc="-1" strike="noStrike">
                <a:solidFill>
                  <a:srgbClr val="a5644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снова научной картины мир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286080" y="2643120"/>
            <a:ext cx="2954520" cy="3751560"/>
          </a:xfrm>
          <a:prstGeom prst="rect">
            <a:avLst/>
          </a:prstGeom>
          <a:solidFill>
            <a:srgbClr val="f9da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етапредметные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альные учеб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познаватель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регулятив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9410"/>
                </a:solidFill>
                <a:latin typeface="Arial"/>
              </a:rPr>
              <a:t>коммуникатив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-  основа умения учитьс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предметные понятия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0" y="2428920"/>
            <a:ext cx="314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Личностные</a:t>
            </a:r>
            <a:r>
              <a:rPr b="1" lang="ru-RU" sz="2400" spc="-1" strike="noStrike" u="sng">
                <a:solidFill>
                  <a:srgbClr val="000a1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ностно-смысл. установки</a:t>
            </a:r>
            <a:r>
              <a:rPr b="1" lang="ru-RU" sz="2400" spc="-1" strike="noStrike">
                <a:solidFill>
                  <a:srgbClr val="2b03f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остной позици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.компетентност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ы российской и  гражданской идентичности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развитие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0" y="285840"/>
            <a:ext cx="9144000" cy="647640"/>
          </a:xfrm>
          <a:prstGeom prst="rect">
            <a:avLst/>
          </a:prstGeom>
          <a:solidFill>
            <a:srgbClr val="fcecd5"/>
          </a:solidFill>
          <a:ln w="38160">
            <a:solidFill>
              <a:srgbClr val="f9da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ad1f1f"/>
                </a:solidFill>
                <a:uFillTx/>
                <a:latin typeface="Arial"/>
                <a:hlinkClick r:id="rId1" action="ppaction://hlinksldjump"/>
              </a:rPr>
              <a:t>ФГОС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2900" spc="-1" strike="noStrike">
                <a:solidFill>
                  <a:srgbClr val="35cb5c"/>
                </a:solidFill>
                <a:latin typeface="Arial"/>
              </a:rPr>
              <a:t>новый образовательный результат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Line 7"/>
          <p:cNvSpPr/>
          <p:nvPr/>
        </p:nvSpPr>
        <p:spPr>
          <a:xfrm flipH="1">
            <a:off x="4408560" y="1857240"/>
            <a:ext cx="46080" cy="571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Line 8"/>
          <p:cNvSpPr/>
          <p:nvPr/>
        </p:nvSpPr>
        <p:spPr>
          <a:xfrm flipH="1">
            <a:off x="2214720" y="1785960"/>
            <a:ext cx="793440" cy="50004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Line 9"/>
          <p:cNvSpPr/>
          <p:nvPr/>
        </p:nvSpPr>
        <p:spPr>
          <a:xfrm>
            <a:off x="6143760" y="1785960"/>
            <a:ext cx="1377720" cy="5968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539640" y="13572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ЬТАТЫ НАЧАЛЬНОГО ОБРАЗОВАНИ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В ЧЕМ ЗАКЛЮЧАЕТСЯ ЗАДАЧА ШКОЛЫ?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кола – не единственный источник знаний и информации для уче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у каждого ребенка умения учитьСЯ – учить СЕБ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Рисунок 11" descr="034.JPG"/>
          <p:cNvPicPr/>
          <p:nvPr/>
        </p:nvPicPr>
        <p:blipFill>
          <a:blip r:embed="rId1"/>
          <a:stretch/>
        </p:blipFill>
        <p:spPr>
          <a:xfrm>
            <a:off x="523800" y="4143240"/>
            <a:ext cx="3119400" cy="234000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12" descr="getImage.jpeg"/>
          <p:cNvPicPr/>
          <p:nvPr/>
        </p:nvPicPr>
        <p:blipFill>
          <a:blip r:embed="rId2"/>
          <a:stretch/>
        </p:blipFill>
        <p:spPr>
          <a:xfrm>
            <a:off x="5072040" y="4071960"/>
            <a:ext cx="3135240" cy="2351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467840" cy="2714760"/>
          </a:xfrm>
          <a:prstGeom prst="rect">
            <a:avLst/>
          </a:prstGeom>
          <a:solidFill>
            <a:srgbClr val="e7d6c5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Arial"/>
              </a:rPr>
              <a:t>«</a:t>
            </a:r>
            <a:r>
              <a:rPr b="1" lang="ru-RU" sz="2500" spc="-1" strike="noStrike">
                <a:solidFill>
                  <a:srgbClr val="4e3b30"/>
                </a:solidFill>
                <a:latin typeface="Arial"/>
              </a:rPr>
              <a:t>ЗАТЕМ ОН ПОЛОЖИЛ БУМАГУ В БУТЫЛКУ, ЗАТКНУЛ ЕЕ ПРОБКОЙ ТАК ТУГО, КАК ТОЛЬКО МОГ, ВЫСУНУЛСЯ ИЗ ОКНА ТАК ДАЛЕКО, КАК ТОЛЬКО МОГ ВЫСУНУТЬСЯ, И БРОСИЛ БУТЫЛКУ ТАК ДАЛЕКО, КАК ТОЛЬКО МОГ БРОСИТЬ» .</a:t>
            </a:r>
            <a:br>
              <a:rPr sz="2500"/>
            </a:br>
            <a:r>
              <a:rPr b="0" lang="ru-RU" sz="1600" spc="-1" strike="noStrike">
                <a:solidFill>
                  <a:srgbClr val="4e3b30"/>
                </a:solidFill>
                <a:latin typeface="Arial"/>
              </a:rPr>
              <a:t>                           А.МИЛН «ВИННИ ПУХ И ФИЛОСОФИЯ ОБЫДЕННОГО ЯЗЫКА»</a:t>
            </a:r>
            <a:br>
              <a:rPr sz="1600"/>
            </a:br>
            <a:endParaRPr b="0" lang="en-US" sz="1600" spc="-1" strike="noStrike">
              <a:solidFill>
                <a:srgbClr val="4e3b30"/>
              </a:solidFill>
              <a:latin typeface="Arial"/>
            </a:endParaRPr>
          </a:p>
        </p:txBody>
      </p:sp>
      <p:pic>
        <p:nvPicPr>
          <p:cNvPr id="377" name="Picture 4" descr="C:\Documents and Settings\UserXP\Рабочий стол\к семимнару\прыгающий поросёнок.jpg"/>
          <p:cNvPicPr/>
          <p:nvPr/>
        </p:nvPicPr>
        <p:blipFill>
          <a:blip r:embed="rId1"/>
          <a:stretch/>
        </p:blipFill>
        <p:spPr>
          <a:xfrm>
            <a:off x="285840" y="3143160"/>
            <a:ext cx="4433760" cy="2962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C:\Documents and Settings\UserXP\Рабочий стол\к семимнару\высунулся так далеко как только мог.png"/>
          <p:cNvPicPr/>
          <p:nvPr/>
        </p:nvPicPr>
        <p:blipFill>
          <a:blip r:embed="rId2"/>
          <a:stretch/>
        </p:blipFill>
        <p:spPr>
          <a:xfrm>
            <a:off x="5572080" y="3214800"/>
            <a:ext cx="3143160" cy="3384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8" descr="C:\Users\Черепаха &amp; Ахиллес\Desktop\Обложки\1 класс\1kl_Matem_Uch2.jpg"/>
          <p:cNvPicPr/>
          <p:nvPr/>
        </p:nvPicPr>
        <p:blipFill>
          <a:blip r:embed="rId1"/>
          <a:stretch/>
        </p:blipFill>
        <p:spPr>
          <a:xfrm>
            <a:off x="7072200" y="2109960"/>
            <a:ext cx="1127160" cy="1598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80" name="Rectangle 2"/>
          <p:cNvGrpSpPr/>
          <p:nvPr/>
        </p:nvGrpSpPr>
        <p:grpSpPr>
          <a:xfrm>
            <a:off x="298440" y="92160"/>
            <a:ext cx="8577360" cy="657000"/>
            <a:chOff x="298440" y="92160"/>
            <a:chExt cx="8577360" cy="657000"/>
          </a:xfrm>
        </p:grpSpPr>
        <p:pic>
          <p:nvPicPr>
            <p:cNvPr id="381" name="Rectangle 2" descr=""/>
            <p:cNvPicPr/>
            <p:nvPr/>
          </p:nvPicPr>
          <p:blipFill>
            <a:blip r:embed="rId2"/>
            <a:stretch/>
          </p:blipFill>
          <p:spPr>
            <a:xfrm>
              <a:off x="298440" y="92160"/>
              <a:ext cx="8577360" cy="65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303120" y="95400"/>
              <a:ext cx="8569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-102600"/>
            <a:ext cx="7543800" cy="459720"/>
          </a:xfrm>
          <a:prstGeom prst="rect">
            <a:avLst/>
          </a:prstGeom>
          <a:solidFill>
            <a:srgbClr val="dbc1a7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928440"/>
            <a:ext cx="3614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714920" y="2000160"/>
            <a:ext cx="42148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29840" y="644400"/>
            <a:ext cx="3997080" cy="59972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txBody>
          <a:bodyPr anchor="ctr">
            <a:norm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Общей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  <a:ea typeface="Arial"/>
              </a:rPr>
              <a:t>особенностью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входящих в комплект учебников является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соответствие </a:t>
            </a:r>
            <a:r>
              <a:rPr b="1" lang="ru-RU" sz="1600" spc="-1" strike="noStrike">
                <a:solidFill>
                  <a:srgbClr val="262626"/>
                </a:solidFill>
                <a:latin typeface="Arial"/>
                <a:ea typeface="Arial"/>
              </a:rPr>
              <a:t>внутрипредметного материала современным научным представлениям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Arial"/>
                <a:ea typeface="Arial"/>
              </a:rPr>
              <a:t>практическая направленность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Clr>
                <a:srgbClr val="0000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Arial"/>
                <a:ea typeface="Arial"/>
              </a:rPr>
              <a:t>включение механизмов формирования общеучебных умений и навыков (обучение работе с несколькими источниками информации, словарям</a:t>
            </a:r>
            <a:r>
              <a:rPr b="1" lang="ru-RU" sz="2000" spc="-1" strike="noStrike">
                <a:solidFill>
                  <a:srgbClr val="262626"/>
                </a:solidFill>
                <a:latin typeface="Arial"/>
                <a:ea typeface="Arial"/>
              </a:rPr>
              <a:t>и и </a:t>
            </a:r>
            <a:r>
              <a:rPr b="1" lang="ru-RU" sz="1600" spc="-1" strike="noStrike">
                <a:solidFill>
                  <a:srgbClr val="262626"/>
                </a:solidFill>
                <a:latin typeface="Arial"/>
                <a:ea typeface="Arial"/>
              </a:rPr>
              <a:t>справочниками, периодическими изданиями, интернетом), которые помещены в сами учебник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899600" y="613080"/>
            <a:ext cx="3574080" cy="7736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и для 1 кла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4643280" y="1571760"/>
            <a:ext cx="2214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грамот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6273720" y="3643200"/>
            <a:ext cx="28702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мплект по математик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90" name="Picture 2" descr="C:\Users\Черепаха &amp; Ахиллес\Desktop\Обложки\1 класс\1kl_Azb_Uch.jpg"/>
          <p:cNvPicPr/>
          <p:nvPr/>
        </p:nvPicPr>
        <p:blipFill>
          <a:blip r:embed="rId3"/>
          <a:stretch/>
        </p:blipFill>
        <p:spPr>
          <a:xfrm>
            <a:off x="4643280" y="2000160"/>
            <a:ext cx="1041480" cy="1462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cc">
                <a:alpha val="40000"/>
              </a:srgbClr>
            </a:outerShdw>
          </a:effectLst>
        </p:spPr>
      </p:pic>
      <p:sp>
        <p:nvSpPr>
          <p:cNvPr id="391" name="Rectangle 7"/>
          <p:cNvSpPr/>
          <p:nvPr/>
        </p:nvSpPr>
        <p:spPr>
          <a:xfrm>
            <a:off x="4500720" y="5072040"/>
            <a:ext cx="1571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писи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92" name="Picture 3" descr="C:\Users\Черепаха &amp; Ахиллес\Desktop\Обложки\1 класс\1k_Azb_Tet3.jpg"/>
          <p:cNvPicPr/>
          <p:nvPr/>
        </p:nvPicPr>
        <p:blipFill>
          <a:blip r:embed="rId4"/>
          <a:stretch/>
        </p:blipFill>
        <p:spPr>
          <a:xfrm>
            <a:off x="6000840" y="5072040"/>
            <a:ext cx="801720" cy="1166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cc">
                <a:alpha val="40000"/>
              </a:srgbClr>
            </a:outerShdw>
          </a:effectLst>
        </p:spPr>
      </p:pic>
      <p:pic>
        <p:nvPicPr>
          <p:cNvPr id="393" name="Picture 6" descr="C:\Users\Черепаха &amp; Ахиллес\Desktop\Обложки\1 класс\1kl_Azb_Tet2.jpg"/>
          <p:cNvPicPr/>
          <p:nvPr/>
        </p:nvPicPr>
        <p:blipFill>
          <a:blip r:embed="rId5"/>
          <a:stretch/>
        </p:blipFill>
        <p:spPr>
          <a:xfrm>
            <a:off x="5500800" y="4357800"/>
            <a:ext cx="877680" cy="1276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cc">
                <a:alpha val="40000"/>
              </a:srgbClr>
            </a:outerShdw>
          </a:effectLst>
        </p:spPr>
      </p:pic>
      <p:pic>
        <p:nvPicPr>
          <p:cNvPr id="394" name="Picture 5" descr="C:\Users\Черепаха &amp; Ахиллес\Desktop\Обложки\1 класс\1kl_Azb_Tet1.jpg"/>
          <p:cNvPicPr/>
          <p:nvPr/>
        </p:nvPicPr>
        <p:blipFill>
          <a:blip r:embed="rId6"/>
          <a:stretch/>
        </p:blipFill>
        <p:spPr>
          <a:xfrm>
            <a:off x="5143680" y="3857760"/>
            <a:ext cx="839520" cy="1222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cc">
                <a:alpha val="40000"/>
              </a:srgbClr>
            </a:outerShdw>
          </a:effectLst>
        </p:spPr>
      </p:pic>
      <p:sp>
        <p:nvSpPr>
          <p:cNvPr id="395" name="Rectangle 7"/>
          <p:cNvSpPr/>
          <p:nvPr/>
        </p:nvSpPr>
        <p:spPr>
          <a:xfrm>
            <a:off x="4714920" y="3357720"/>
            <a:ext cx="10843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ебник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96" name="Picture 7" descr="C:\Users\Черепаха &amp; Ахиллес\Desktop\Обложки\1 класс\1kl_Matem_Uch1.jpg"/>
          <p:cNvPicPr/>
          <p:nvPr/>
        </p:nvPicPr>
        <p:blipFill>
          <a:blip r:embed="rId7"/>
          <a:stretch/>
        </p:blipFill>
        <p:spPr>
          <a:xfrm>
            <a:off x="6500880" y="2357280"/>
            <a:ext cx="981000" cy="1395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97" name="Rectangle 7"/>
          <p:cNvSpPr/>
          <p:nvPr/>
        </p:nvSpPr>
        <p:spPr>
          <a:xfrm>
            <a:off x="4897440" y="6000840"/>
            <a:ext cx="42465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етради для самостоятельных работ №1,2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98" name="Picture 9" descr="C:\Users\Черепаха &amp; Ахиллес\Desktop\Обложки\1 класс\1kl_Matem_Tet1.jpg"/>
          <p:cNvPicPr/>
          <p:nvPr/>
        </p:nvPicPr>
        <p:blipFill>
          <a:blip r:embed="rId8">
            <a:lum contrast="28000"/>
          </a:blip>
          <a:stretch/>
        </p:blipFill>
        <p:spPr>
          <a:xfrm>
            <a:off x="7643880" y="4714920"/>
            <a:ext cx="823680" cy="1071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99" name="Picture 10" descr="C:\Users\Черепаха &amp; Ахиллес\Desktop\Обложки\1 класс\1kl_Matem_Tet2.jpg"/>
          <p:cNvPicPr/>
          <p:nvPr/>
        </p:nvPicPr>
        <p:blipFill>
          <a:blip r:embed="rId9">
            <a:lum contrast="28000"/>
          </a:blip>
          <a:stretch/>
        </p:blipFill>
        <p:spPr>
          <a:xfrm>
            <a:off x="7286760" y="4357800"/>
            <a:ext cx="795240" cy="1033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00" name="Rectangle 7"/>
          <p:cNvSpPr/>
          <p:nvPr/>
        </p:nvSpPr>
        <p:spPr>
          <a:xfrm>
            <a:off x="6672240" y="3929040"/>
            <a:ext cx="24717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72560" cy="1440000"/>
          </a:xfrm>
          <a:prstGeom prst="rect">
            <a:avLst/>
          </a:prstGeom>
          <a:noFill/>
          <a:ln w="9360">
            <a:solidFill>
              <a:srgbClr val="85540a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e3b30"/>
                </a:solidFill>
                <a:latin typeface="Times New Roman"/>
              </a:rPr>
              <a:t>                                    </a:t>
            </a:r>
            <a:r>
              <a:rPr b="1" lang="ru-RU" sz="2900" spc="-1" strike="noStrike">
                <a:solidFill>
                  <a:srgbClr val="4e3b30"/>
                </a:solidFill>
                <a:latin typeface="Times New Roman"/>
              </a:rPr>
              <a:t>ВИДЫ </a:t>
            </a:r>
            <a:br>
              <a:rPr sz="2900"/>
            </a:br>
            <a:r>
              <a:rPr b="1" lang="ru-RU" sz="2900" spc="-1" strike="noStrike">
                <a:solidFill>
                  <a:srgbClr val="4e3b30"/>
                </a:solidFill>
                <a:latin typeface="Times New Roman"/>
              </a:rPr>
              <a:t>  УНИВЕРСАЛЬНЫХ    УЧЕБНЫХ       ДЕЙСТВИЙ</a:t>
            </a:r>
            <a:endParaRPr b="0" lang="en-US" sz="29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гулятивные(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оль , коррекция, оценк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навательные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гическ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ановка и решение пробле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муникативн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ланирование сотрудничества,  согласование действий с партнёром, построение речевых высказываний, постановка вопросов…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08:59:48Z</dcterms:created>
  <dc:creator>Molchanov</dc:creator>
  <dc:description/>
  <dc:language>en-US</dc:language>
  <cp:lastModifiedBy>UserXP</cp:lastModifiedBy>
  <dcterms:modified xsi:type="dcterms:W3CDTF">2012-04-13T14:23:45Z</dcterms:modified>
  <cp:revision>100</cp:revision>
  <dc:subject/>
  <dc:title>Слайд 1</dc:title>
</cp:coreProperties>
</file>