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CEE-5AAA-4E4D-8BB7-2B755EF8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44E-D013-4043-9F6C-4DC660C7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456-B74D-4379-9759-2F063850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357-B532-4547-8A1E-261897D7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09B-3715-47FD-A58A-0C53956F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7B09-B3D4-49AA-99E4-5D914E28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D8FB-F595-4A3C-827A-AEEA26F8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346-FEF1-464E-A1FA-E4599A34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F90-D879-443B-B945-9C770E23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4CF6-E1E6-4487-A96C-25E093D9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3D2-3B00-46A0-B31D-5A78CCE3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9D1-75C6-41D9-A139-6D985769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0FA7-6DD7-4635-9599-DEAFC86D4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2514600"/>
            <a:ext cx="8534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Georgia"/>
              </a:rPr>
              <a:t>Мы считаем до пяти.</a:t>
            </a:r>
            <a:endParaRPr b="1" i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19920" y="43434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9480" y="4419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91320" y="457200"/>
            <a:ext cx="25146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724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1112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6396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5680" y="-1260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48520" y="-8892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981080" y="31240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429000" y="44197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581280" y="20574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547960" y="1650960"/>
            <a:ext cx="336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КОЛЬК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7480" y="411480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П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781680" y="16002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65 0.12165 L -0.08698 0.51018 E">
                                      <p:cBhvr>
                                        <p:cTn id="211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219320" y="2743200"/>
            <a:ext cx="673416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ЛОДЕЦ!</a:t>
            </a:r>
            <a:endParaRPr b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2514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476760" y="2209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81080" y="6094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99360" y="609480"/>
            <a:ext cx="591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ю подготовила: Пашнин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-дефект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жневартовская специальная (коррекцион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образовательная шко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,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50840" y="2297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4762800" cy="3514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4960" y="30492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1112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2560" y="22860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4080" y="5334120"/>
            <a:ext cx="336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КОЛЬК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7680" y="4800600"/>
            <a:ext cx="181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ОД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5040" y="38088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9296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438280" y="53341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5486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23852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44 0.03098 L 0.56111 0.38621 E">
                                      <p:cBhvr>
                                        <p:cTn id="2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981080" y="2743200"/>
            <a:ext cx="52009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МОЛОДЕЦ!</a:t>
            </a:r>
            <a:endParaRPr b="1" i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86692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10920" y="15228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44640" y="30492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344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77600" y="5257800"/>
            <a:ext cx="336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С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КОЛЬК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86040" y="4897440"/>
            <a:ext cx="138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7320" y="45720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9752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66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895480" y="52578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5410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962 0.0865 L 0.45295 0.39732 E">
                                      <p:cBhvr>
                                        <p:cTn id="6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523880" y="2362320"/>
            <a:ext cx="6019920" cy="25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entury Gothic"/>
              </a:rPr>
              <a:t>УМНИЦА!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133360" y="25146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8640" y="22860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516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39920" y="38088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2160" y="5410080"/>
            <a:ext cx="336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КОЛЬК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981080" y="15238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886200" y="22860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782760" y="4648320"/>
            <a:ext cx="12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Т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1644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68920" y="38088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76360" y="53341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5638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65587E-006 L 0.325 0.37743 E">
                                      <p:cBhvr>
                                        <p:cTn id="105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095560" y="2922480"/>
            <a:ext cx="495288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ЛОДЕЦ!</a:t>
            </a:r>
            <a:endParaRPr b="0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866920" y="2362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066680" y="41911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733920" y="403848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6360" y="22860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656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904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7840" y="22860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6892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58880" y="1849320"/>
            <a:ext cx="278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С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КОЛЬК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5560" y="4572000"/>
            <a:ext cx="21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ЧЕТЫ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162560" y="18288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543440" y="4419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8.23312E-007 L 0.19167 0.46624 E">
                                      <p:cBhvr>
                                        <p:cTn id="15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371600" y="2743200"/>
            <a:ext cx="5943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ОРОШО!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2438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78132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6:15:46Z</dcterms:created>
  <dc:creator>ПК</dc:creator>
  <dc:description/>
  <dc:language>en-US</dc:language>
  <cp:lastModifiedBy>ПК</cp:lastModifiedBy>
  <dcterms:modified xsi:type="dcterms:W3CDTF">2013-04-21T15:49:5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