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E83C-E343-47AD-86E4-DD8F39C8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B1A-8B28-4ED0-B2CA-7DB973B0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E61-DD73-4D1D-BC22-1EDC321C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938A-E0E1-460F-918E-1481B06D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96E-4CE9-4AA7-922C-F8264EAA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E5C-C4E4-4809-ABF5-0FA3E3A7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06C-4CB1-46A9-B886-764C5CB2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E0F8-C3D1-4536-B29D-6363F0F9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BAE-F2A0-41CE-87F3-6F700162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831-F0AF-4DF6-892D-7D352B0F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ECFA-885E-4BBA-BA15-3AF29831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2E2-1304-4FD3-A13E-F4E53603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AAA9-DEA7-4682-BC01-B39F43B29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2514600"/>
            <a:ext cx="8534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Мы считаем до пяти.</a:t>
            </a:r>
            <a:endParaRPr b="1" i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992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948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91320" y="457200"/>
            <a:ext cx="25146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724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1112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396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5680" y="-126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48520" y="-88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81080" y="31240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429000" y="4419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81280" y="20574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547960" y="1650960"/>
            <a:ext cx="33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ОЛЬК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480" y="411480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П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781680" y="16002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65 0.12165 L -0.08698 0.51018 E">
                                      <p:cBhvr>
                                        <p:cTn id="21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19320" y="2743200"/>
            <a:ext cx="673416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ЕЦ!</a:t>
            </a:r>
            <a:endParaRPr b="1" lang="en-US" sz="9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2514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76760" y="2209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6094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99360" y="609480"/>
            <a:ext cx="591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ю подготовила: Пашнин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дефект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жневартовская специальная (коррекцион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образовательная школ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,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50840" y="2297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4762800" cy="3514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4960" y="304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1112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2560" y="2286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4080" y="5334120"/>
            <a:ext cx="33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ОЛЬК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7680" y="4800600"/>
            <a:ext cx="181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ОД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5040" y="3808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296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438280" y="53341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238520" y="4572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0.03098 L 0.56111 0.38621 E">
                                      <p:cBhvr>
                                        <p:cTn id="2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981080" y="2743200"/>
            <a:ext cx="52009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МОЛОДЕЦ!</a:t>
            </a:r>
            <a:endParaRPr b="1" i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8669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0920" y="1522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44640" y="30492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344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77600" y="5257800"/>
            <a:ext cx="33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КОЛЬК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386040" y="4897440"/>
            <a:ext cx="138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7320" y="4572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752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895480" y="52578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962 0.0865 L 0.45295 0.39732 E">
                                      <p:cBhvr>
                                        <p:cTn id="6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523880" y="2362320"/>
            <a:ext cx="6019920" cy="25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entury Gothic"/>
              </a:rPr>
              <a:t>УМНИЦА!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133360" y="2514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8640" y="2286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516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39920" y="3808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2160" y="5410080"/>
            <a:ext cx="33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КОЛЬК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782760" y="4648320"/>
            <a:ext cx="12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Т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644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8920" y="3808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76360" y="533412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5638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5587E-006 L 0.325 0.37743 E">
                                      <p:cBhvr>
                                        <p:cTn id="105" dur="2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095560" y="2922480"/>
            <a:ext cx="49528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ЛОДЕЦ!</a:t>
            </a:r>
            <a:endParaRPr b="0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866920" y="2362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81280" y="19810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66680" y="41911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733920" y="40384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6360" y="2286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656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904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7840" y="22860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8920" y="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8880" y="1849320"/>
            <a:ext cx="278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КОЛЬК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5560" y="4572000"/>
            <a:ext cx="21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ЧЕТЫ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162560" y="182880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43440" y="4419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8.23312E-007 L 0.19167 0.46624 E">
                                      <p:cBhvr>
                                        <p:cTn id="155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cafe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371600" y="2743200"/>
            <a:ext cx="5943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ОРОШО!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2438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78132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6:15:46Z</dcterms:created>
  <dc:creator>ПК</dc:creator>
  <dc:description/>
  <dc:language>en-US</dc:language>
  <cp:lastModifiedBy>ПК</cp:lastModifiedBy>
  <dcterms:modified xsi:type="dcterms:W3CDTF">2013-04-21T15:49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