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FF7-FD00-408F-AF18-6FE59FF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B86-21EE-4A62-9FC5-B4A054A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75D-3893-47EC-8A79-886C9A6A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701-7EC8-45E2-8BD7-E1DA4FB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A743-4E75-4E99-ABA4-39EA8636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480-A242-4073-856C-E18D9D9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B114-A971-4D28-B51D-11BE8E0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3360-33FD-4FE8-9962-BC41C32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2D7-6AD8-48BD-9353-F03A08C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8F8-C209-41D2-ADC1-40E0BFF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DA8B-98E4-49DC-BF23-33738D2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72C-9151-4CD2-8855-D3EE2C5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6A0-88AE-45AB-A53B-F8F6FD8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72C7-0956-4DD1-820F-92E1C7F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9B03-60E3-4F8B-B1C9-E18FB462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BFE6-14DD-4FC4-86DE-FADAC580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1F1F-9543-4D7B-8F29-D996724C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7C79-CE47-42C4-8E8B-9D9AFB6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E23D-5522-41D9-9436-4482E99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A8CF-E829-4C76-9032-9C84946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5227-E657-481A-8E74-95DC28B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4C30-FADE-491C-A2B5-68561FA9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2D2-020E-4949-87FA-0B58E6B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167C-0E39-4E45-8910-B4DE98C8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16E7-5821-44E1-ADC2-BD25765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9636-9FD1-4D17-A156-F127D4E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FC83-1BA6-4F25-8901-DC0576A5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DBED-6BE0-47F7-90FE-150FCFAE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A379-79B3-4473-B17F-B0B65EC6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415C-930E-4D30-B85D-59E1DA38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E187-7947-411D-B7C0-D9BC5F1B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C2AB-042A-4D35-9836-1849BF65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E2E5-8C9F-48E0-9051-1E704A38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CAD-697D-4999-B573-0AB8AAD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9CC0-BFD5-4BBA-B842-206E8E4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888E-37ED-48A4-B88D-809173E8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06D6-C421-40B5-8CD8-DDE6CF4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A22E-705B-4121-A5DE-D352D7D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A63B-5DAF-495B-B1C3-BBFFA22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BD73-FFFA-4237-801C-9BE786C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A389-317B-4B20-B880-4386494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E177-F9BB-478A-B661-A07B8EEB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5C532-D6B5-4F73-8FFC-BF33272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231-FC39-4EF3-9B2B-CA8C30F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3BC-F9E5-4F13-920A-6620400E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419-2C1E-43F8-9414-BFB9A19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292-E329-44EC-A968-8C46C14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C1D-0ABC-4110-9E32-90BA738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F8D-CCEB-4D9C-9DE4-330E63FC8F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F59B-7C2C-439E-9FEB-1722258255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0B97-AB7D-460A-8D1E-72A35622D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7E7-4019-4DE7-ABFB-0D60B783B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1.wmf"/><Relationship Id="rId3" Type="http://schemas.openxmlformats.org/officeDocument/2006/relationships/slide" Target="slide16.xml"/><Relationship Id="rId4" Type="http://schemas.openxmlformats.org/officeDocument/2006/relationships/image" Target="../media/image12.wmf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981000"/>
            <a:ext cx="69850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О значении домашнего задания в учебной деятельности пяти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16000" y="4005000"/>
            <a:ext cx="3240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Родительское собрание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16.01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Класс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Мрясева Ольга Зосим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. С каким настроением ты выполняешь домашние зад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орошим, веселым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 желанием – 2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ез удовольствия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лохим – 6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4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. Всегда ли ты успеваешь записывать  домашнее задание на урок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- 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 -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514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. Если ты не выполнил домашнее задание потому, что не понял его, как поступит учитель, если ты ему это объясниш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 БЫЛО ТАКОГО СЛУЧАЯ –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ЧИТЕЛЬ ОБЪЯСНИЛ –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СТАВИЛ  2 -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Бывают ли случаи, когда ты просто списываешь задание перед уроком у своих товарище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-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03640" y="2997360"/>
            <a:ext cx="2952720" cy="9471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320b"/>
                </a:solidFill>
                <a:latin typeface="Comic Sans MS"/>
              </a:rPr>
              <a:t>СОВЕТЫ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761200">
            <a:off x="2990520" y="4074120"/>
            <a:ext cx="1006200" cy="1874880"/>
          </a:xfrm>
          <a:custGeom>
            <a:avLst/>
            <a:gdLst>
              <a:gd name="textAreaLeft" fmla="*/ 134640 w 1006200"/>
              <a:gd name="textAreaRight" fmla="*/ 871560 w 1006200"/>
              <a:gd name="textAreaTop" fmla="*/ 327960 h 1874880"/>
              <a:gd name="textAreaBottom" fmla="*/ 1359360 h 18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9594000">
            <a:off x="1506600" y="1871280"/>
            <a:ext cx="1224000" cy="18734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327600 h 1873440"/>
              <a:gd name="textAreaBottom" fmla="*/ 13582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2144000">
            <a:off x="6648120" y="2044440"/>
            <a:ext cx="1584360" cy="194292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165000">
            <a:off x="5111640" y="4041360"/>
            <a:ext cx="1152360" cy="1800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404640"/>
            <a:ext cx="1962000" cy="17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11280" y="404640"/>
            <a:ext cx="1825920" cy="171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50920" y="4797360"/>
            <a:ext cx="2448000" cy="577080"/>
          </a:xfrm>
          <a:prstGeom prst="rect">
            <a:avLst/>
          </a:prstGeom>
          <a:solidFill>
            <a:srgbClr val="ffff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Comic Sans MS"/>
                <a:hlinkClick r:id="rId5" action="ppaction://hlinksldjump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4941720"/>
            <a:ext cx="1944720" cy="57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Comic Sans MS"/>
                <a:hlinkClick r:id="rId6" action="ppaction://hlinksldjump"/>
              </a:rPr>
              <a:t>И ЕЩЁ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817236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6877080" y="5589720"/>
            <a:ext cx="1295280" cy="57600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556" h="21600">
                <a:moveTo>
                  <a:pt x="0" y="0"/>
                </a:moveTo>
                <a:lnTo>
                  <a:pt x="48556" y="0"/>
                </a:lnTo>
                <a:lnTo>
                  <a:pt x="48556" y="21600"/>
                </a:lnTo>
                <a:lnTo>
                  <a:pt x="0" y="21600"/>
                </a:lnTo>
                <a:close/>
              </a:path>
              <a:path fill="lightenLess" w="48556" h="21600">
                <a:moveTo>
                  <a:pt x="0" y="0"/>
                </a:moveTo>
                <a:lnTo>
                  <a:pt x="48556" y="0"/>
                </a:lnTo>
                <a:lnTo>
                  <a:pt x="47156" y="1400"/>
                </a:lnTo>
                <a:lnTo>
                  <a:pt x="1400" y="1400"/>
                </a:lnTo>
                <a:close/>
              </a:path>
              <a:path fill="darken" w="48556" h="21600">
                <a:moveTo>
                  <a:pt x="48556" y="0"/>
                </a:moveTo>
                <a:lnTo>
                  <a:pt x="48556" y="21600"/>
                </a:lnTo>
                <a:lnTo>
                  <a:pt x="47156" y="20200"/>
                </a:lnTo>
                <a:lnTo>
                  <a:pt x="47156" y="1400"/>
                </a:lnTo>
                <a:close/>
              </a:path>
              <a:path fill="darkenLess" w="48556" h="21600">
                <a:moveTo>
                  <a:pt x="48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6" y="20200"/>
                </a:lnTo>
                <a:close/>
              </a:path>
              <a:path fill="lighten" w="48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6" h="21600">
                <a:moveTo>
                  <a:pt x="17272" y="3794"/>
                </a:moveTo>
                <a:lnTo>
                  <a:pt x="31285" y="10800"/>
                </a:lnTo>
                <a:lnTo>
                  <a:pt x="1727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еобходимо чаще играть с ребенком в развивающие игры, чтобы тренировать его память, внимание, и мышление. Разгадывать кроссворды, головоломки, шара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451640" y="5373720"/>
            <a:ext cx="1152720" cy="503280"/>
          </a:xfrm>
          <a:custGeom>
            <a:avLst/>
            <a:gdLst>
              <a:gd name="textAreaLeft" fmla="*/ 32400 w 1152720"/>
              <a:gd name="textAreaRight" fmla="*/ 1120320 w 115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53" h="21600">
                <a:moveTo>
                  <a:pt x="0" y="0"/>
                </a:moveTo>
                <a:lnTo>
                  <a:pt x="49453" y="0"/>
                </a:lnTo>
                <a:lnTo>
                  <a:pt x="49453" y="21600"/>
                </a:lnTo>
                <a:lnTo>
                  <a:pt x="0" y="21600"/>
                </a:lnTo>
                <a:close/>
              </a:path>
              <a:path fill="lightenLess" w="49453" h="21600">
                <a:moveTo>
                  <a:pt x="0" y="0"/>
                </a:moveTo>
                <a:lnTo>
                  <a:pt x="49453" y="0"/>
                </a:lnTo>
                <a:lnTo>
                  <a:pt x="48053" y="1400"/>
                </a:lnTo>
                <a:lnTo>
                  <a:pt x="1400" y="1400"/>
                </a:lnTo>
                <a:close/>
              </a:path>
              <a:path fill="darken" w="49453" h="21600">
                <a:moveTo>
                  <a:pt x="49453" y="0"/>
                </a:moveTo>
                <a:lnTo>
                  <a:pt x="49453" y="21600"/>
                </a:lnTo>
                <a:lnTo>
                  <a:pt x="48053" y="20200"/>
                </a:lnTo>
                <a:lnTo>
                  <a:pt x="48053" y="1400"/>
                </a:lnTo>
                <a:close/>
              </a:path>
              <a:path fill="darkenLess" w="49453" h="21600">
                <a:moveTo>
                  <a:pt x="4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53" y="20200"/>
                </a:lnTo>
                <a:close/>
              </a:path>
              <a:path fill="lighten" w="4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53" h="21600">
                <a:moveTo>
                  <a:pt x="17720" y="3794"/>
                </a:moveTo>
                <a:lnTo>
                  <a:pt x="31733" y="10800"/>
                </a:lnTo>
                <a:lnTo>
                  <a:pt x="1772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524720" y="595008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0" h="21600">
                <a:moveTo>
                  <a:pt x="19249" y="3794"/>
                </a:moveTo>
                <a:lnTo>
                  <a:pt x="33262" y="10800"/>
                </a:lnTo>
                <a:lnTo>
                  <a:pt x="1924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213372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Нужно приучать ребенка к режиму дня, тем самым развивая его волю и собр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И   ЕЩЁ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236000" y="566100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1628640"/>
            <a:ext cx="7200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Помогать ему стремиться совершенствовать свои способности не только в учебе, но и в других де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320b"/>
                </a:solidFill>
                <a:uFillTx/>
                <a:latin typeface="Comic Sans MS"/>
              </a:rPr>
              <a:t>Что касается учебы, то пусть ребенок научится в первую очередь добросовестно выполнять домаш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806616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5320b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Домашние зад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играют огромную роль в развитии самостоятельных учебных умений школьник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работу качественно и в сро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0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320b"/>
                </a:solidFill>
                <a:latin typeface="Comic Sans MS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нятие в школе может только доставить ограниченному рассудку и как бы вдолбить в него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. 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наши дети хотят быть людьми в самом деле образованными, они должны приобретать образование самостоятельными занят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320b"/>
                </a:solidFill>
                <a:latin typeface="Arial"/>
              </a:rPr>
              <a:t>Главное назначение  </a:t>
            </a:r>
            <a:br>
              <a:rPr sz="3200"/>
            </a:br>
            <a:r>
              <a:rPr b="1" lang="en-US" sz="3200" spc="-1" strike="noStrike">
                <a:solidFill>
                  <a:srgbClr val="f5320b"/>
                </a:solidFill>
                <a:latin typeface="Arial"/>
              </a:rPr>
              <a:t>домашнего зад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оспитание волевых усилий ребенка, ответственности и самостоятель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владение навыками учебного труда, выраженное в различных способах учебной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умения добывать информацию из различных справочников, пособий, словар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исследовательских умений ученика (сопоставление, сравнение, предположение, построение гипотезы  и  т. д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1395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Какое количество времени в день ты тратишь на приготовление домашних задан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нее часа – 2 человека (Иванова А., Мустафин 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-1,5 часа – 14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 – 2,5 часа  - 10 человек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часа – 2 человека (Гайнутдинова Д., Климакова 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7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усский язык и литература – 1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тория - 7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тематика – 4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иродоведение – 2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м. язык - 2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98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Тебе всегда понятно задание, которое ты выполняешь дома,  или ты уточняешь его у кого-нибуд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точняю – 19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сегда понятно – 7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246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Ты делаешь домашнее задание самостоятель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 –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299200" y="2852640"/>
            <a:ext cx="2770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Проверяют ли взрослые выполнение тобой домашних задан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 –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0" y="3284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 Всегда ли ты доволен отметкой за домашнее задани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–  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-  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4624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18936000">
            <a:off x="4932720" y="5228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3:21:57Z</dcterms:created>
  <dc:creator>JKkk</dc:creator>
  <dc:description/>
  <dc:language>en-US</dc:language>
  <cp:lastModifiedBy>JKkk</cp:lastModifiedBy>
  <dcterms:modified xsi:type="dcterms:W3CDTF">2009-02-14T05:15:22Z</dcterms:modified>
  <cp:revision>15</cp:revision>
  <dc:subject/>
  <dc:title>О значении домашнего задания в учебной деятельности школьника</dc:title>
</cp:coreProperties>
</file>