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DD2-4094-426B-A8DD-9DBE14D3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C58-59F7-4CB3-9327-B0842B4D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AE0-B064-4993-B55A-5203527B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EA7-C680-4364-A6CC-E6618DC3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F640-1393-4006-8074-ACFC3C75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7754-FFE6-4BD4-B8AE-CC62FF12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F153-0332-41A6-8B65-1C0726DA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081-E2FB-4822-B93D-B3D183B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85FD-C7FA-4163-A93B-4BC8886A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1CCD-DE97-4199-B664-76AABF45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BFB-255A-4A7C-AA83-97BC56C6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1FB-DBF9-4DD7-9DA9-71C5AA0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22A7-B006-4CF6-B60D-3535319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08A-3ABC-4C3C-8371-C6F2E750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80E6-EB57-487C-96AF-99E52E34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7AE-4325-4B6B-A675-4D3FA644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EE1C-F0E9-4594-95C2-05EE3573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5D69-B859-4874-A8C8-4AD2A8CE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18454-A6E7-48BF-9977-4287174F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EE6E-F037-4860-8689-263AC10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03C95-346D-447A-A22D-468DFF9D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DDAC5-628D-4989-B373-4B96923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CA3-53C2-4F6D-AC7A-6966DF8F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010BF-D593-4F5A-AD3A-F1134B87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DE4D-83B5-4E55-8E1B-58E5C07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F592F-2848-4336-B81F-D75D1C5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0109-70C0-4715-A0C1-76D99EF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4B2EB-561E-4203-A951-B2456E72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28A5-F1A3-4593-8EFA-7199D3F6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FB761-40EC-4CE0-A8DF-6D299183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75BBB-3840-40C3-A785-8747CAD7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D1FCE-E903-43F1-A3C7-7E1F80DF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A383-7BA3-448F-9CBC-0D49B80A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6CA-6B2C-49FB-82BE-B09A8AC2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9655-4135-4785-83D6-30B9F7B5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566D-A4DF-4DAE-8CF9-85EA7895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BF797-2105-4E61-A2C2-D4709102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3058-D220-4115-B0B3-4BD9368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D328-4535-42F0-B58D-F0FB57AF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B872-DFB8-4B49-AE4E-8EF173D0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5E00-CCCC-485F-A1AC-8F0C2615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03440-FE51-443C-8C3C-CC051A68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DD80-7C98-4DE3-B0F5-4D5F4CE6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7FB-779D-4855-8EB2-9C23EE78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28C-80EA-4944-8E51-7A139E65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0F2-2313-494C-B93C-1378266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A4C-493F-4ED3-95FF-3BFAD78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03E-B847-4A8E-A593-299145BE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622-08E3-4F38-957E-2FD95DDAC8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A312-0786-4B76-AA14-75746B24E0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2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000-0DBB-4F1B-8E0B-688363514B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7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9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43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EE0-0138-4006-A264-CFFEAEB46D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1.wmf"/><Relationship Id="rId3" Type="http://schemas.openxmlformats.org/officeDocument/2006/relationships/slide" Target="slide16.xml"/><Relationship Id="rId4" Type="http://schemas.openxmlformats.org/officeDocument/2006/relationships/image" Target="../media/image12.wmf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981000"/>
            <a:ext cx="69850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Times New Roman"/>
              </a:rPr>
              <a:t>О значении домашнего задания в учебной деятельности пятиклассн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16000" y="4005000"/>
            <a:ext cx="32400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Родительское собрание №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16.01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Классный руководи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Мрясева Ольга Зосим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384720" cy="21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 . С каким настроением ты выполняешь домашние зад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Хорошим, веселым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 желанием – 20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Без удовольствия,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лохим – 6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26463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. Всегда ли ты успеваешь записывать  домашнее задание на урок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- 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 -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19640" y="3068640"/>
            <a:ext cx="2514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 . Если ты не выполнил домашнее задание потому, что не понял его, как поступит учитель, если ты ему это объясниш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 БЫЛО ТАКОГО СЛУЧАЯ – 2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ЧИТЕЛЬ ОБЪЯСНИЛ –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ОСТАВИЛ  2 -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. Бывают ли случаи, когда ты просто списываешь задание перед уроком у своих товарище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-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03640" y="2997360"/>
            <a:ext cx="2952720" cy="9471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320b"/>
                </a:solidFill>
                <a:latin typeface="Comic Sans MS"/>
              </a:rPr>
              <a:t>СОВЕТЫ РОД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2761200">
            <a:off x="2990520" y="4074120"/>
            <a:ext cx="1006200" cy="1874880"/>
          </a:xfrm>
          <a:custGeom>
            <a:avLst/>
            <a:gdLst>
              <a:gd name="textAreaLeft" fmla="*/ 134640 w 1006200"/>
              <a:gd name="textAreaRight" fmla="*/ 871560 w 1006200"/>
              <a:gd name="textAreaTop" fmla="*/ 327960 h 1874880"/>
              <a:gd name="textAreaBottom" fmla="*/ 1359360 h 187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9594000">
            <a:off x="1506600" y="1871280"/>
            <a:ext cx="1224000" cy="18734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327600 h 1873440"/>
              <a:gd name="textAreaBottom" fmla="*/ 1358280 h 18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2144000">
            <a:off x="6648120" y="2044440"/>
            <a:ext cx="1584360" cy="194292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339840 h 1942920"/>
              <a:gd name="textAreaBottom" fmla="*/ 140868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165000">
            <a:off x="5111640" y="4041360"/>
            <a:ext cx="1152360" cy="180000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32360" y="404640"/>
            <a:ext cx="1962000" cy="17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11280" y="404640"/>
            <a:ext cx="1825920" cy="1717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250920" y="4797360"/>
            <a:ext cx="2448000" cy="577080"/>
          </a:xfrm>
          <a:prstGeom prst="rect">
            <a:avLst/>
          </a:prstGeom>
          <a:solidFill>
            <a:srgbClr val="ffff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Comic Sans MS"/>
                <a:hlinkClick r:id="rId5" action="ppaction://hlinksldjump"/>
              </a:rPr>
              <a:t>РЕЖИМ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4941720"/>
            <a:ext cx="1944720" cy="577080"/>
          </a:xfrm>
          <a:prstGeom prst="rect">
            <a:avLst/>
          </a:prstGeom>
          <a:solidFill>
            <a:srgbClr val="ffff66"/>
          </a:solidFill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Comic Sans MS"/>
                <a:hlinkClick r:id="rId6" action="ppaction://hlinksldjump"/>
              </a:rPr>
              <a:t>И ЕЩЁ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817236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3794"/>
                </a:moveTo>
                <a:lnTo>
                  <a:pt x="31306" y="10800"/>
                </a:lnTo>
                <a:lnTo>
                  <a:pt x="172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ужно помогать ребенку в учебе, чтобы он понял все детали трудного задания и сам мог выполнить аналогичное, подробно объясняя свои действ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6877080" y="5589720"/>
            <a:ext cx="1295280" cy="57600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556" h="21600">
                <a:moveTo>
                  <a:pt x="0" y="0"/>
                </a:moveTo>
                <a:lnTo>
                  <a:pt x="48556" y="0"/>
                </a:lnTo>
                <a:lnTo>
                  <a:pt x="48556" y="21600"/>
                </a:lnTo>
                <a:lnTo>
                  <a:pt x="0" y="21600"/>
                </a:lnTo>
                <a:close/>
              </a:path>
              <a:path fill="lightenLess" w="48556" h="21600">
                <a:moveTo>
                  <a:pt x="0" y="0"/>
                </a:moveTo>
                <a:lnTo>
                  <a:pt x="48556" y="0"/>
                </a:lnTo>
                <a:lnTo>
                  <a:pt x="47156" y="1400"/>
                </a:lnTo>
                <a:lnTo>
                  <a:pt x="1400" y="1400"/>
                </a:lnTo>
                <a:close/>
              </a:path>
              <a:path fill="darken" w="48556" h="21600">
                <a:moveTo>
                  <a:pt x="48556" y="0"/>
                </a:moveTo>
                <a:lnTo>
                  <a:pt x="48556" y="21600"/>
                </a:lnTo>
                <a:lnTo>
                  <a:pt x="47156" y="20200"/>
                </a:lnTo>
                <a:lnTo>
                  <a:pt x="47156" y="1400"/>
                </a:lnTo>
                <a:close/>
              </a:path>
              <a:path fill="darkenLess" w="48556" h="21600">
                <a:moveTo>
                  <a:pt x="48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6" y="20200"/>
                </a:lnTo>
                <a:close/>
              </a:path>
              <a:path fill="lighten" w="48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6" h="21600">
                <a:moveTo>
                  <a:pt x="17272" y="3794"/>
                </a:moveTo>
                <a:lnTo>
                  <a:pt x="31285" y="10800"/>
                </a:lnTo>
                <a:lnTo>
                  <a:pt x="1727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Необходимо чаще играть с ребенком в развивающие игры, чтобы тренировать его память, внимание, и мышление. Разгадывать кроссворды, головоломки, шара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7451640" y="5373720"/>
            <a:ext cx="1152720" cy="503280"/>
          </a:xfrm>
          <a:custGeom>
            <a:avLst/>
            <a:gdLst>
              <a:gd name="textAreaLeft" fmla="*/ 32400 w 1152720"/>
              <a:gd name="textAreaRight" fmla="*/ 1120320 w 115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53" h="21600">
                <a:moveTo>
                  <a:pt x="0" y="0"/>
                </a:moveTo>
                <a:lnTo>
                  <a:pt x="49453" y="0"/>
                </a:lnTo>
                <a:lnTo>
                  <a:pt x="49453" y="21600"/>
                </a:lnTo>
                <a:lnTo>
                  <a:pt x="0" y="21600"/>
                </a:lnTo>
                <a:close/>
              </a:path>
              <a:path fill="lightenLess" w="49453" h="21600">
                <a:moveTo>
                  <a:pt x="0" y="0"/>
                </a:moveTo>
                <a:lnTo>
                  <a:pt x="49453" y="0"/>
                </a:lnTo>
                <a:lnTo>
                  <a:pt x="48053" y="1400"/>
                </a:lnTo>
                <a:lnTo>
                  <a:pt x="1400" y="1400"/>
                </a:lnTo>
                <a:close/>
              </a:path>
              <a:path fill="darken" w="49453" h="21600">
                <a:moveTo>
                  <a:pt x="49453" y="0"/>
                </a:moveTo>
                <a:lnTo>
                  <a:pt x="49453" y="21600"/>
                </a:lnTo>
                <a:lnTo>
                  <a:pt x="48053" y="20200"/>
                </a:lnTo>
                <a:lnTo>
                  <a:pt x="48053" y="1400"/>
                </a:lnTo>
                <a:close/>
              </a:path>
              <a:path fill="darkenLess" w="49453" h="21600">
                <a:moveTo>
                  <a:pt x="4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53" y="20200"/>
                </a:lnTo>
                <a:close/>
              </a:path>
              <a:path fill="lighten" w="4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53" h="21600">
                <a:moveTo>
                  <a:pt x="17720" y="3794"/>
                </a:moveTo>
                <a:lnTo>
                  <a:pt x="31733" y="10800"/>
                </a:lnTo>
                <a:lnTo>
                  <a:pt x="1772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СОВЕТ 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7524720" y="5950080"/>
            <a:ext cx="1224000" cy="503280"/>
          </a:xfrm>
          <a:custGeom>
            <a:avLst/>
            <a:gdLst>
              <a:gd name="textAreaLeft" fmla="*/ 32400 w 1224000"/>
              <a:gd name="textAreaRight" fmla="*/ 1191600 w 122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52510" h="21600">
                <a:moveTo>
                  <a:pt x="0" y="0"/>
                </a:moveTo>
                <a:lnTo>
                  <a:pt x="52510" y="0"/>
                </a:lnTo>
                <a:lnTo>
                  <a:pt x="52510" y="21600"/>
                </a:lnTo>
                <a:lnTo>
                  <a:pt x="0" y="21600"/>
                </a:lnTo>
                <a:close/>
              </a:path>
              <a:path fill="lightenLess" w="52510" h="21600">
                <a:moveTo>
                  <a:pt x="0" y="0"/>
                </a:moveTo>
                <a:lnTo>
                  <a:pt x="52510" y="0"/>
                </a:lnTo>
                <a:lnTo>
                  <a:pt x="51110" y="1400"/>
                </a:lnTo>
                <a:lnTo>
                  <a:pt x="1400" y="1400"/>
                </a:lnTo>
                <a:close/>
              </a:path>
              <a:path fill="darken" w="52510" h="21600">
                <a:moveTo>
                  <a:pt x="52510" y="0"/>
                </a:moveTo>
                <a:lnTo>
                  <a:pt x="52510" y="21600"/>
                </a:lnTo>
                <a:lnTo>
                  <a:pt x="51110" y="20200"/>
                </a:lnTo>
                <a:lnTo>
                  <a:pt x="51110" y="1400"/>
                </a:lnTo>
                <a:close/>
              </a:path>
              <a:path fill="darkenLess" w="52510" h="21600">
                <a:moveTo>
                  <a:pt x="525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110" y="20200"/>
                </a:lnTo>
                <a:close/>
              </a:path>
              <a:path fill="lighten" w="525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510" h="21600">
                <a:moveTo>
                  <a:pt x="19249" y="3794"/>
                </a:moveTo>
                <a:lnTo>
                  <a:pt x="33262" y="10800"/>
                </a:lnTo>
                <a:lnTo>
                  <a:pt x="1924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2133720"/>
            <a:ext cx="64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Нужно приучать ребенка к режиму дня, тем самым развивая его волю и собр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И   ЕЩЁ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236000" y="5661000"/>
            <a:ext cx="1439640" cy="720720"/>
          </a:xfrm>
          <a:custGeom>
            <a:avLst/>
            <a:gdLst>
              <a:gd name="textAreaLeft" fmla="*/ 46440 w 1439640"/>
              <a:gd name="textAreaRight" fmla="*/ 1393200 w 143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3135" h="21600">
                <a:moveTo>
                  <a:pt x="0" y="0"/>
                </a:moveTo>
                <a:lnTo>
                  <a:pt x="43135" y="0"/>
                </a:lnTo>
                <a:lnTo>
                  <a:pt x="43135" y="21600"/>
                </a:lnTo>
                <a:lnTo>
                  <a:pt x="0" y="21600"/>
                </a:lnTo>
                <a:close/>
              </a:path>
              <a:path fill="lightenLess" w="43135" h="21600">
                <a:moveTo>
                  <a:pt x="0" y="0"/>
                </a:moveTo>
                <a:lnTo>
                  <a:pt x="43135" y="0"/>
                </a:lnTo>
                <a:lnTo>
                  <a:pt x="41735" y="1400"/>
                </a:lnTo>
                <a:lnTo>
                  <a:pt x="1400" y="1400"/>
                </a:lnTo>
                <a:close/>
              </a:path>
              <a:path fill="darken" w="43135" h="21600">
                <a:moveTo>
                  <a:pt x="43135" y="0"/>
                </a:moveTo>
                <a:lnTo>
                  <a:pt x="43135" y="21600"/>
                </a:lnTo>
                <a:lnTo>
                  <a:pt x="41735" y="20200"/>
                </a:lnTo>
                <a:lnTo>
                  <a:pt x="41735" y="1400"/>
                </a:lnTo>
                <a:close/>
              </a:path>
              <a:path fill="darkenLess" w="43135" h="21600">
                <a:moveTo>
                  <a:pt x="43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5" y="20200"/>
                </a:lnTo>
                <a:close/>
              </a:path>
              <a:path fill="lighten" w="43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5" h="21600">
                <a:moveTo>
                  <a:pt x="14561" y="3794"/>
                </a:moveTo>
                <a:lnTo>
                  <a:pt x="28574" y="10800"/>
                </a:lnTo>
                <a:lnTo>
                  <a:pt x="145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1628640"/>
            <a:ext cx="7200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Помогать ему стремиться совершенствовать свои способности не только в учебе, но и в других дел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5320b"/>
                </a:solidFill>
                <a:uFillTx/>
                <a:latin typeface="Comic Sans MS"/>
              </a:rPr>
              <a:t>Что касается учебы, то пусть ребенок научится в первую очередь добросовестно выполнять домашние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806616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5320b"/>
                </a:solidFill>
                <a:latin typeface="Verdan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Домашние зада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играют огромную роль в развитии самостоятельных учебных умений школьник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	</a:t>
            </a:r>
            <a:r>
              <a:rPr b="1" lang="en-US" sz="2500" spc="-1" strike="noStrike">
                <a:solidFill>
                  <a:srgbClr val="006666"/>
                </a:solidFill>
                <a:latin typeface="Georgia"/>
              </a:rPr>
              <a:t>Системная работа ученика дома приводит к тому, что процесс учения его не отягощает, он получает навыки поиска информации, учится выполнять работу качественно и в сро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064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320b"/>
                </a:solidFill>
                <a:latin typeface="Comic Sans MS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нятие в школе может только доставить ограниченному рассудку и как бы вдолбить в него все правила, добытые чужим пониманием, но способность правильно пользоваться ими разовьет только домашний самостоятельный тр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. К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Если наши дети хотят быть людьми в самом деле образованными, они должны приобретать образование самостоятельными заняти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771640" y="301320"/>
            <a:ext cx="591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320b"/>
                </a:solidFill>
                <a:latin typeface="Arial"/>
              </a:rPr>
              <a:t>Главное назначение  </a:t>
            </a:r>
            <a:br>
              <a:rPr sz="3200"/>
            </a:br>
            <a:r>
              <a:rPr b="1" lang="en-US" sz="3200" spc="-1" strike="noStrike">
                <a:solidFill>
                  <a:srgbClr val="f5320b"/>
                </a:solidFill>
                <a:latin typeface="Arial"/>
              </a:rPr>
              <a:t>домашнего зад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143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Воспитание волевых усилий ребенка, ответственности и самостоятель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Овладение навыками учебного труда, выраженное в различных способах учебной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умения добывать информацию из различных справочников, пособий, словар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01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Формирование исследовательских умений ученика (сопоставление, сравнение, предположение, построение гипотезы  и  т. д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451640" y="3284640"/>
            <a:ext cx="1395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Какое количество времени в день ты тратишь на приготовление домашних задан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нее часа – 2 человека (Иванова А., Мустафин Р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-1,5 часа – 14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 – 2,5 часа  - 10 человек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 часа – 2 человека (Гайнутдинова Д., Климакова 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43280" y="4797360"/>
            <a:ext cx="3168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74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На подготовку каких домашних заданий тебе приходится тратить больше времени, чем на все остальны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Русский язык и литература – 15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стория - 7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Математика – 4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Природоведение – 2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м. язык - 2 челове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56360" y="2924280"/>
            <a:ext cx="298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. Тебе всегда понятно задание, которое ты выполняешь дома,  или ты уточняешь его у кого-нибуд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Уточняю – 19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Всегда понятно – 7 челове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2464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 Ты делаешь домашнее задание самостоятель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 –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299200" y="2852640"/>
            <a:ext cx="2770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. Проверяют ли взрослые выполнение тобой домашних задан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 – 1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–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0" y="3284640"/>
            <a:ext cx="273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5320b"/>
                </a:solidFill>
                <a:latin typeface="Arial"/>
              </a:rPr>
              <a:t>Данные исследований учащихс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. Всегда ли ты доволен отметкой за домашнее задание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ОТ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А –  1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НЕТ -  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Иногда -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46240" cy="2879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 rot="18936000">
            <a:off x="4932720" y="522864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5320b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3:21:57Z</dcterms:created>
  <dc:creator>JKkk</dc:creator>
  <dc:description/>
  <dc:language>en-US</dc:language>
  <cp:lastModifiedBy>JKkk</cp:lastModifiedBy>
  <dcterms:modified xsi:type="dcterms:W3CDTF">2009-02-14T05:15:22Z</dcterms:modified>
  <cp:revision>15</cp:revision>
  <dc:subject/>
  <dc:title>О значении домашнего задания в учебной деятельности школьника</dc:title>
</cp:coreProperties>
</file>