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media/image4.gif" ContentType="image/gi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C31B-7CC8-4308-BC34-85E588542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FE15-38C9-49EE-A4FA-D4CE9AF6D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9C6C-B6B6-4C52-A84C-30F89E900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E5DD-60E9-4176-B41E-B970ECC52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4E622-11A5-4BCB-8180-696852A50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49A96-D90A-4F15-90B8-943B41B75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07702-D562-455C-9B9B-B24A275A8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C58D3-59D0-4E38-92FF-A92432C61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C01E0-0E34-4A46-B983-28A08C89C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71008-C6D1-4FFF-9745-8CDE8D08E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7BAE7-5975-4B3C-A532-6F33C47B5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00BC-5B15-4116-A835-D4EA70219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94D06-E5F9-4D3F-A86F-CC81A5F9D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C3212-9B4E-4DB4-B7A9-3C9C782C5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037BC-C887-4D0F-87BD-9112EF936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0C3D1-BE13-449C-9759-BEB8AFFCF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C3E0A-DF89-4527-B066-74551F3B7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F71CA2-5A62-4475-8E0B-B705A712C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C3168B-5DD5-430F-9708-E5AD0A328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66B956-B598-49C7-ABA7-EA29D1C90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203D83-A01E-4453-9030-DAD6411F9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A74B1D-83B9-40F8-BB51-5AD0CC37A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DD8D-38F9-44F2-8C05-29FA8C390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21D5E7-FC24-4197-87A7-F936DBA67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5B2133-21F0-414B-AED0-81C11FB8F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DE6543-F045-4504-B0AF-CFE3A2438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A2A39B-E448-4AED-A68C-ADDF68D04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2EBDF1-97C8-42AD-896E-67E4A1B11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0FCB02-F954-48BC-BE18-485430EA8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858E04-4027-4E0F-931B-875BCF702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27CA94-2763-4A7D-946F-5AAA3339F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EB1E0C-5728-46F2-B64C-790CF99DA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1DB4CD-9633-48ED-BE88-88A867DBB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8566-C3F1-431F-8B95-EA22F04EA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35FA9C-F03B-4BFE-9B29-620876F7E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26E35B-D336-4D41-81C1-1F304FB1D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78D227-EC73-4EB8-B1E6-232B5B8A4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50B9C0-F6E1-4E17-85AC-63F9F4332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EF1663-5167-4C98-B935-07929D2C2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D82ED3-A694-4E8F-89E1-47EE3282B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C7E262-E817-447D-9C2A-A13FD8A99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9C77FE-65A6-43A9-9CD1-F61217AFB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5BFB97-55BE-41F2-B578-4F591732C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155B18-7BBE-4ADF-BD7C-19A5F2E30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2BA2-5EDB-4731-9A05-8644B5896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2E2013-4DC9-45FA-996D-5D56A65C5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EBB8A0-7E07-4C00-A7F0-E402959B3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B81604-AAD9-4466-AF3A-9F6112F49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9346BD-AA6C-4E52-BF16-5DC3B8793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E3E189-26F0-423C-AD8F-FBE74067A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EEE44F-61CC-437F-A01C-46B664C9A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AB2BA3-CF47-42A1-A24C-47D4DBF7D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B66958-DCB2-432B-ADBD-3C359AB71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9708B6-E806-4A04-A36E-18B7BB2FB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ED0DEF-125D-4290-9626-1C73B3AF9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3FD1-3626-4C59-A4EB-842F520B2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E73991-D5B9-4A32-A8A0-4BA6AFC59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CCF2-D864-44C2-A5B2-32ADFFD6B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B380-23FA-4192-AEB7-225765271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73A6-61F7-4D10-8193-FE1C90B6E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94BBA-C744-48FC-ADE7-B366AE8AB5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C10F0-9E07-46EC-BA70-DD20A20869EA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47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50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53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56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59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99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102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05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08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PlaceHolder 2"/>
          <p:cNvSpPr>
            <a:spLocks noGrp="1"/>
          </p:cNvSpPr>
          <p:nvPr>
            <p:ph type="dt" idx="7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ftr" idx="8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sldNum" idx="9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F627C-CD4A-469A-823B-4A4D5704B467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50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151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154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dt" idx="10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ftr" idx="1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sldNum" idx="12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847A6-2D94-476A-BFF6-664E23FECA54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198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201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PlaceHolder 1"/>
          <p:cNvSpPr>
            <a:spLocks noGrp="1"/>
          </p:cNvSpPr>
          <p:nvPr>
            <p:ph type="dt" idx="13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ftr" idx="14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sldNum" idx="15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AEF4A-9299-4976-A2B9-848970B03A2A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Пишем сочинение по исходному тексту художественного стил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81360" y="5084640"/>
            <a:ext cx="456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бота учителя русского языка и литера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ацера Е.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0" y="4292640"/>
            <a:ext cx="392436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Комментируя авторскую позиции, можно воспользоваться и такими оборотами</a:t>
            </a:r>
            <a:r>
              <a:rPr b="0" lang="ru-RU" sz="1400" spc="-1" strike="noStrike">
                <a:solidFill>
                  <a:srgbClr val="ff33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вто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- посвящает свою статью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- полемически заостряет проблем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- эмоционально воздействует на читател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- делает читателя своим союзнико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- образно воссоздаёт картину происходящего (изображаемого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- раскрывает сущность поставленных пробле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- точно формулирует мысл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- заставляет читателя задуматься над проблемо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- показывает злободневность рассматриваемой им проблем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- пытается найти причины негативных (позитивных) явлен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- убеждает читателя в правоте своей позиц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- пытается найти в читателе единомышленника;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- ставит ряд нравственных вопросов, требующих немедленного разреш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- пишет интересно и ново о старых проблема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- говорит с тревогой о наболевших проблема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- открыто заявляет о своей гражданской позиции по отношению к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611280" y="-36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3300"/>
                </a:solidFill>
                <a:uFillTx/>
                <a:latin typeface="Arial"/>
              </a:rPr>
              <a:t>4. Как аргументировать свою позицию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В этой части работы вы должны строго следовать правилам построения </a:t>
            </a: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текста-рассужд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Цель аргументации — убедить в чем-либо, укрепить или изменить мнение. Для этого используется логически стройная система доказательст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Типичное (полное) рассуждение строится по схеме, в которой выделяются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три част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•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тезис (положение, которое надо доказать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•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аргументация (доказательства, доводы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•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вывод (общий итог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Однако следует помнить, что от вас требуется не просто сформулировать позицию автора, а показать его мнение по выделенной и прокомментированной вами проблем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Тезис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— это главная мысль автора текста, которую необходимо обосновать, доказать или опровергнуть. Аргументы — это доказательства, приводимые в поддержку тезиса: факты, примеры, утверждения, объяснения — словом, все, что может подтвердить тезис. От тезиса к аргументам можно поставить вопрос «Почему?», а аргументы отвечают: «Потому что...». Различают аргументы «за» (свой тезис) и аргументы «против» чужого тезиса. Таким образом, если вы согласны с позицией автора, то его и ваш тезис совпадают. Обратите внимание на то, что вы должны постараться не повторять доводы автора, использованные в тексте, а привести сво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Типичная ошибка всех пишущих сочинение заключается в том, что если вы поддерживаете позицию автора, то нет смысла анализировать его аргументы. Такая работа не предусмотрена условием задания, а значит, не нужно тратить на нее драгоценного времени. Аргументы «за» должны быть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равдивыми, опираться на авторитетные источник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доступными, простыми, понятным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отражающими объективную реальность, соответствующими здравому смысл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2484360" y="549360"/>
            <a:ext cx="2808360" cy="7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итательский опы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11280" y="2205000"/>
            <a:ext cx="187308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удожественн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итерату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492360" y="1916280"/>
            <a:ext cx="1871640" cy="12254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сторическ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итерату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940360" y="2276640"/>
            <a:ext cx="2305080" cy="936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учно-популярн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итерату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1834920" y="1341360"/>
            <a:ext cx="93636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211640" y="134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076720" y="1341360"/>
            <a:ext cx="165600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539280" y="3499920"/>
            <a:ext cx="79930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Обращение к читательскому опыту – сильнейший аргумент сочинения.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о обращаться к нему нужно в том случае, если ты хорошо помнишь и автора книги, и само произведение, чтобы избежать фактических  ошибо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апример: </a:t>
            </a:r>
            <a:r>
              <a:rPr b="0" i="1" lang="en-US" sz="1400" spc="-1" strike="noStrike">
                <a:solidFill>
                  <a:srgbClr val="333399"/>
                </a:solidFill>
                <a:latin typeface="Arial"/>
              </a:rPr>
              <a:t>Что значит быть высоконравственным человеком? Мне кажется, нравственный человек – это тот, кто стремиться к тому, чтобы стать лучше, не причинять боли другим людям. Примеров стремления «быть вполне хорошим» очень много в русской классической литературе. Вспомним героев романа»Война и мир»  Льва Николаевича Толстого. Андрей Болконский, Пьер Безухов, Наташа Ростова…Все они стремились стать лучше, добрее,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чище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Когда вы будете обращаться  к русской классической литературе, запомните такое правило: не допускайте выражений типа Александр Пушкин, или, говоря, допустим, о М. И. Цветаевой, нельзя назвать её Марина; говоря о героях литературного произведения, именуйте их так, как это делает автор (Евгений Базаров, но не Женя, Татьяна Ларина, но не Таня, Катерина (из «Грозы»), но не Екатерина. Необходимо соблюдать корректность и точность, иначе вы потеряете баллы по критериям  К 11, К 12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179280" y="333000"/>
            <a:ext cx="896472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8f8f8"/>
                </a:solidFill>
                <a:latin typeface="Tahoma"/>
              </a:rPr>
              <a:t>Примерно такими могут быть твои аргументы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ahoma"/>
              </a:rPr>
              <a:t>      </a:t>
            </a:r>
            <a:r>
              <a:rPr b="0" lang="ru-RU" sz="2800" spc="-1" strike="noStrike">
                <a:solidFill>
                  <a:srgbClr val="ccecff"/>
                </a:solidFill>
                <a:latin typeface="Tahoma"/>
              </a:rPr>
              <a:t>«Судьба Зои Лещеевой потрясла меня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ccecff"/>
                </a:solidFill>
                <a:latin typeface="Tahoma"/>
              </a:rPr>
              <a:t>Как же бесчеловечно государство, в котором жизнь человека, тем более ребенка ценится так низко. От своих дедушки и бабушки я слышал о том страшном времени. Мне рассказывали, что в 30-е годы человека могли арестовать за что угодно: за политический анекдот, за двусмысленную шутку, за украденные с поля колоски…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ccecff"/>
                </a:solidFill>
                <a:latin typeface="Tahoma"/>
              </a:rPr>
              <a:t>Примеров страшных гонений против личности в тоталитарном государстве немало в нашей литературе. Вспомним трагическую поэму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ccecff"/>
                </a:solidFill>
                <a:latin typeface="Tahoma"/>
              </a:rPr>
              <a:t>А. А. Ахматовой «Реквием». (…..). Как страшна судьба талантливого поэта О, Мандельштама. (….)»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68360" y="1699920"/>
            <a:ext cx="81360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Не забудьте сделать вывод из написанного вами, обязательно соотнеся его и с авторской позицией по поднятой им проблеме, и со своим собственным видением этого вопро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4427640" y="3789360"/>
            <a:ext cx="1960560" cy="2320920"/>
          </a:xfrm>
          <a:prstGeom prst="rect">
            <a:avLst/>
          </a:prstGeom>
          <a:ln w="0">
            <a:noFill/>
          </a:ln>
        </p:spPr>
      </p:pic>
    </p:spTree>
  </p:cSld>
  <p:transition spd="med">
    <p:cover dir="rd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971280" y="2491920"/>
            <a:ext cx="7715160" cy="39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 работе использована материалы статьи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Н. А. Борисенко, А. Г. Нарушевич,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Н. А. Шапиро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«Требования к содержанию части С на ЕГЭ по русскому языку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пособы выявления проблемы текста и авторской позиции. Комментирование как аналитико-синтетическая работа с текстом.»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Русский язык, №22, 2008 год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Текст для анализ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Зоя Лещева сумела всю семью свою превзойти. Это вот как было. Ее отца, мать, дедушку с бабушкой и старших братьев-подростков — всех рассеяли по даль­ним лагерям за веру в Бога. А </a:t>
            </a: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Зое было всего десять лет.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Взяли ее в детский дом (Ивановская область). Там она объявила, что </a:t>
            </a: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никогда не снимет с шеи крес­та, который мать надела ей при расставании.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И за­вязала ниточку узлом туже, чтобы не сняли во время сна. Борьба шла долго, Зоя озлоблялась: вы можете меня задушить, с мертвой снимете! Тогда как не под­дающуюся воспитанию ее отослали в детдом для де­фективных! Борьба за крест продолжалась. Зоя устоя­ла: она и здесь не научилась ни воровать, ни сквернос­ловить. «У такой святой женщины, как моя мать, дочь не может быть уголовницей. Лучше буду поли­тической, как вся семья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И она стала политической! Чем больше воспита­тели и радио </a:t>
            </a: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славили Сталина, тем верней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угадала она в нем виновника всех несчастий.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И, не поддавшаяся уголовникам, она теперь увлекла за собою их. Во дво­ре стояла стандартная гипсовая статуя Сталина. На ней стали появляться издевательские и непри­личные надписи. (Малолетки любят спорт! Важно только правильно их направить.) Администрация под­крашивает статую, устанавливает слежку, сообща­ет и в МГБ. А надписи все появляются, и ребята хо­хочут. Наконец в одно утро голову статуи нашли отбитой, перевернутой и в пустоте ее — ка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Террористический акт! Приехали гебисты. Нача­лись по всем их правилам допросы и угрозы: «Выдай­те банду террористов, иначе всех расстреляем за террор!» (А ничего дивного, подумаешь, полторы сот­ни детей расстрелять. Если б Сам узнал — он бы и сам распорядился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Неизвестно,  устояли бы малолетки или дрогнули, но Зоя Лещева объявил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Это сделала все я одна! А на что другое годит­ся голова папаши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И ее судили. И </a:t>
            </a: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присудили к высшей мере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, безо всякого смеха. Но из-за недопустимой гуманности закона о возвращенной </a:t>
            </a: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смертной казни расстрелять 14-лет­нюю вроде не полагалось. И потому дали ей десятку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(удивительно, что не двадцать пять). До восемнадцати лет она была в обычных лагерях, с восемнадцати -  в особых. За прямоту и язык был у нее и второй лагерный срок, и, кажется, трети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Освободились уже и родители Зои, и братья, а Зоя все сидел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?Да здравствует наша веротерпимость! Да здравствуют дети — хозяева коммунизма! Отзовись, та страна, которая так любила бы своих детей, как мы своих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(По А. И.   Солженицыну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 Black"/>
              </a:rPr>
              <a:t>КОМПОЗИЦИЯ СОЧИНЕНИ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ступление. Формулировка в той или иной форме одной из проблем исходного текс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омментарий к сформулированной проблеме текс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Формулировка позиции автора по прокомментированной проблем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ргументация собственного мнения по проблем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).Тезис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) Аргумент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) первый аргумен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) второй аргумен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) Выво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аклю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Обрати внимание на то, что согласно этому плану у тебя как    минимум должно быть </a:t>
            </a: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пять,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а если ты выделишь отдельным абзацем пункты аргументации собственного мнения, то </a:t>
            </a: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и больше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абзацев.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Если в тексте нарушено абзацное членение текста,  снижается оценка по </a:t>
            </a: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критерию К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tebulb"/>
          <p:cNvSpPr/>
          <p:nvPr/>
        </p:nvSpPr>
        <p:spPr>
          <a:xfrm>
            <a:off x="0" y="5373720"/>
            <a:ext cx="647640" cy="1152360"/>
          </a:xfrm>
          <a:prstGeom prst="pie">
            <a:avLst/>
          </a:prstGeom>
          <a:solidFill>
            <a:srgbClr val="ff33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7596360" y="2924280"/>
            <a:ext cx="1012680" cy="1439640"/>
          </a:xfrm>
          <a:prstGeom prst="rect">
            <a:avLst/>
          </a:prstGeom>
          <a:ln w="0">
            <a:noFill/>
          </a:ln>
        </p:spPr>
      </p:pic>
    </p:spTree>
  </p:cSld>
  <p:transition spd="med">
    <p:cover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Формулировка проблем исходного текс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пределяя проблему, вы должны задуматься над тем, каким образом содержание текста касается вас, других людей, всего человечества. Помните, что описанная в тексте конкретная ситуация, факты чьей-либо биографии и т.п. — это иллюстрация, частный случай, пример проявления какой-либо абстрактной идеи, рассматриваемой автором. Поэтому формулируйте проблему так, чтобы она охватывала не только случай, рассмотренный в тексте, но и многие подобные ситу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ределяя проблему, важно понять, что можно с ней «сделать». Её можно обозначить следующим образо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) С помощью речевых клише: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втор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N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коснулся такой-то проблемы. Уделил внимание какой-либо проблем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Можно: </a:t>
            </a: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над какой-либо проблемой думать, работать. Какая-либо проблема возникает, встает, представляет интерес, заслуживает внимания, ждет решения. Поставить, выдвинуть, рассмотреть, изложить, обсудить, разрешить какую-либо пробле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539640" y="260280"/>
            <a:ext cx="1008000" cy="1079640"/>
          </a:xfrm>
          <a:prstGeom prst="rect">
            <a:avLst/>
          </a:prstGeom>
          <a:ln w="0">
            <a:noFill/>
          </a:ln>
        </p:spPr>
      </p:pic>
    </p:spTree>
  </p:cSld>
  <p:transition spd="med">
    <p:cover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5" dur="20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0" dur="2000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5" dur="2000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0" dur="2000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чень выигрышно проблему обозначить с помощью риторического вопроса, например,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Что такое настоящая дружба? Каких друзей можно назвать настоящим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Над этими вопросами размышляет NN  в своём  очерке (рассказе, эссе и т. п.) ил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Четь… Человеческое достоинство… Всегда ли нужно отстаивать их? Не лучше ли в трудную минуту  для своего собственного покоя, покоя близких людей промолчать, спрятаться? Очень многие размышляли над этими вопросам, не оставили они равнодушными и </a:t>
            </a: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NN</a:t>
            </a: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, который  остро и полемично рассматривает проблему чети и бесчестия в 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бе поможет начать сочинения и такая фраз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Проблема, обозначенная таким-то автором, заключается в следующем: …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Можно указать №  предложе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из текста или записать то предложение, в котором, по вашему мнению, содержится главная проблема, выдвинутая автором, прокомментировать её, отметив, что она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ложная или трудная, глубокая, актуальная, злободневная, философская, политическая, нравственная 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т. 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так, надо быть внимательными при выявлении проблемы текста. Неправильно выделенная проблема ставит под удар содержание всего сочинения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539280" y="549000"/>
            <a:ext cx="814716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f8f8f8"/>
                </a:solidFill>
                <a:latin typeface="Tahoma"/>
              </a:rPr>
              <a:t>Перед нами отрывок из книги Александра Исаевича Солженицына «Архипелаг ГУЛАГ». В книге Солженицына приводится множество историй людей, несправедливо обвиненных в различных преступлениях против существующего государственного строя и попавших в тюрьмы или на лагерные работы. Рассказывая историю Зои Лещевой, автор поднимает </a:t>
            </a:r>
            <a:r>
              <a:rPr b="1" i="1" lang="ru-RU" sz="2800" spc="-1" strike="noStrike">
                <a:solidFill>
                  <a:srgbClr val="f8f8f8"/>
                </a:solidFill>
                <a:latin typeface="Tahoma"/>
              </a:rPr>
              <a:t>проблему бесчеловечного отношения к ребенку (и человеку вообще) в тоталитарном государстве (почему обесценивается жизнь человека в тоталитарном государстве?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476360" y="260280"/>
            <a:ext cx="72216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Другие проблем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2. Вспомним, что героиня, как и вся ее семья, страдает за веру в Бога. Следовательно, автор поднимает </a:t>
            </a:r>
            <a:r>
              <a:rPr b="1" i="1" lang="en-US" sz="2800" spc="-1" strike="noStrike">
                <a:solidFill>
                  <a:srgbClr val="f8f8f8"/>
                </a:solidFill>
                <a:latin typeface="Tahoma"/>
              </a:rPr>
              <a:t>проблему свободы вероисповедания (имеет ли право государство преследовать человека за его религиозные убеждения?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3. История Зои Лещевой — это потрясающий пример человеческого мужества, верности своим идеалам. Здесь мы видим </a:t>
            </a:r>
            <a:r>
              <a:rPr b="1" i="1" lang="en-US" sz="2800" spc="-1" strike="noStrike">
                <a:solidFill>
                  <a:srgbClr val="f8f8f8"/>
                </a:solidFill>
                <a:latin typeface="Tahoma"/>
              </a:rPr>
              <a:t>проблему духовной стойкости (что помогает человеку сохранить человеческое достоинство в нечеловеческих условиях?)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400" spc="-1" strike="noStrike">
                <a:solidFill>
                  <a:srgbClr val="990000"/>
                </a:solidFill>
                <a:latin typeface="Tahoma"/>
              </a:rPr>
              <a:t>Комментарий к проблеме исходного текс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11280" y="76464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8f8f8"/>
                </a:solidFill>
                <a:latin typeface="Tahoma"/>
              </a:rPr>
              <a:t>Проблему духовной стойкости человека А. И. Солженицын </a:t>
            </a:r>
            <a:r>
              <a:rPr b="1" i="1" lang="en-US" sz="2800" spc="-1" strike="noStrike">
                <a:solidFill>
                  <a:srgbClr val="f8f8f8"/>
                </a:solidFill>
                <a:latin typeface="Tahoma"/>
              </a:rPr>
              <a:t>раскрывает на примере </a:t>
            </a:r>
            <a:r>
              <a:rPr b="0" i="1" lang="en-US" sz="2800" spc="-1" strike="noStrike">
                <a:solidFill>
                  <a:srgbClr val="f8f8f8"/>
                </a:solidFill>
                <a:latin typeface="Tahoma"/>
              </a:rPr>
              <a:t>сложной судьбы Зои Лещевой, которая вслед за другими членами своей семьи подверглась преследованиям за религиозные убеждения, </a:t>
            </a:r>
            <a:r>
              <a:rPr b="1" i="1" lang="en-US" sz="2800" spc="-1" strike="noStrike">
                <a:solidFill>
                  <a:srgbClr val="f8f8f8"/>
                </a:solidFill>
                <a:latin typeface="Tahoma"/>
              </a:rPr>
              <a:t>Автор не случайно подчеркивает, </a:t>
            </a:r>
            <a:r>
              <a:rPr b="0" i="1" lang="en-US" sz="2800" spc="-1" strike="noStrike">
                <a:solidFill>
                  <a:srgbClr val="f8f8f8"/>
                </a:solidFill>
                <a:latin typeface="Tahoma"/>
              </a:rPr>
              <a:t>что речь идет о судьбе ребенка. Ведь даже взрослому человеку трудно сохранить веру в себя и свои идеалы, когда он сталкивается с насилием, ненавистью, ложью, а Зоя, несмотря ни на что, не захотела учиться воровать и сквернословить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659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Если проблема текста формулируется в виде вопроса, то позиция автора — это ответ на вопрос, поставленный в тексте. Для того чтобы выявить позицию автора, постарайтесь ответить на следующие вопросы: </a:t>
            </a:r>
            <a:r>
              <a:rPr b="0" lang="ru-RU" sz="1400" spc="-1" strike="noStrike">
                <a:solidFill>
                  <a:srgbClr val="990033"/>
                </a:solidFill>
                <a:latin typeface="Arial"/>
              </a:rPr>
              <a:t>«Что хотел сказать своим читателям автор, создавая текст?», «Как автор оценивает описываемую конкретную ситуацию, поступки героев?»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ледует помнить, что в любом случае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омментарий должен осуществляться с опорой на прочитанный текст. Конкретизировать содержание комментария можно с помощью следующих вопросов: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- Как, на каком материале автор раскрывает проблему?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- На чем заостряет внимание?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- Какие аспекты проблемы рассматриваются в тексте?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- Какие эмоции автора выражены в тексте?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- Как выражено отношение автора к изображае­мому?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- Какие средства выразительности помогают выявить авторское отношение к проблеме?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омментарий представляет собой логический переход от формулировки проблемы к изложению авторской позиции по данной проблеме.</a:t>
            </a:r>
            <a:br>
              <a:rPr sz="1400"/>
            </a:br>
            <a:r>
              <a:rPr b="1" lang="ru-RU" sz="1400" spc="-1" strike="noStrike">
                <a:solidFill>
                  <a:srgbClr val="990033"/>
                </a:solidFill>
                <a:latin typeface="Arial"/>
              </a:rPr>
              <a:t>Чтобы отличить комментарий от пересказа, нужно помнить следующее. Пересказывая, мы говорим о том, что делают герои, а комментируя, мы гово­рим о том, что делает автор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Позиция автора публицистического текста обычно выявляется довольно просто. Значительно труднее определить авторскую точку зрения художественного текста. И тут на помощь придёт хорошее знание изобразительно-выразительных средств речи, так как именно через их анализ мы можем определить отношение автора к своим героям, к заявленной им проблеме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Можно написать:</a:t>
            </a:r>
            <a:br>
              <a:rPr sz="1400"/>
            </a:b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«</a:t>
            </a:r>
            <a:r>
              <a:rPr b="1" i="1" lang="ru-RU" sz="1400" spc="-1" strike="noStrike">
                <a:solidFill>
                  <a:srgbClr val="333399"/>
                </a:solidFill>
                <a:latin typeface="Arial"/>
              </a:rPr>
              <a:t>Невозможно не согласиться с точкой зрения автора на (указываем проблему)»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Если ты не согласен с авторской позицией, выражай своё несогласие очень корректно. Например так: </a:t>
            </a:r>
            <a:r>
              <a:rPr b="1" i="1" lang="ru-RU" sz="1400" spc="-1" strike="noStrike">
                <a:solidFill>
                  <a:srgbClr val="333399"/>
                </a:solidFill>
                <a:latin typeface="Arial"/>
              </a:rPr>
              <a:t>«При всём моём уважении к авторской точке зрения. (или к мыслям </a:t>
            </a:r>
            <a:r>
              <a:rPr b="1" i="1" lang="en-US" sz="1400" spc="-1" strike="noStrike">
                <a:solidFill>
                  <a:srgbClr val="333399"/>
                </a:solidFill>
                <a:latin typeface="Arial"/>
              </a:rPr>
              <a:t>NN</a:t>
            </a:r>
            <a:r>
              <a:rPr b="1" i="1" lang="ru-RU" sz="1400" spc="-1" strike="noStrike">
                <a:solidFill>
                  <a:srgbClr val="333399"/>
                </a:solidFill>
                <a:latin typeface="Arial"/>
              </a:rPr>
              <a:t> о …), я всё-таки позволю себе высказать собственное видение этой проблемы (или я попытаюсь опровергнуть его мнение).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971640" y="0"/>
            <a:ext cx="690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3</a:t>
            </a:r>
            <a:r>
              <a:rPr b="1" lang="en-US" sz="1800" spc="-1" strike="noStrike" u="sng">
                <a:solidFill>
                  <a:srgbClr val="ff3300"/>
                </a:solidFill>
                <a:uFillTx/>
                <a:latin typeface="Arial"/>
              </a:rPr>
              <a:t>. Как выявить позицию автора?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7T15:19:29Z</dcterms:created>
  <dc:creator>Programmer</dc:creator>
  <dc:description/>
  <dc:language>en-US</dc:language>
  <cp:lastModifiedBy>123</cp:lastModifiedBy>
  <dcterms:modified xsi:type="dcterms:W3CDTF">2013-04-21T09:21:57Z</dcterms:modified>
  <cp:revision>7</cp:revision>
  <dc:subject/>
  <dc:title>КОМПОЗИЦИЯ СОЧИНЕНИЯ </dc:title>
</cp:coreProperties>
</file>