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C8BA-1E2A-4746-9E63-1676BB88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FE8C-F9BB-4BC9-958F-91648A8E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9D95-7E4A-4CE5-9970-960E4EBE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A17-6573-425E-B898-4AB2948A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4116-8D74-4C1E-BD3A-2D27E628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DBDA-FFF0-4496-A559-CDC0F47A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95DC-7DC8-410B-8F32-9EFAEE02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3290-A3C1-4760-B817-EEC50E3E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B705-FABA-47FD-8A48-A9622FD3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B491-D075-441D-A379-A4EA140A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203A-1616-49EE-830B-4ED90358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450-A0B8-4527-A792-B8298649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CB5D-FE96-4C44-B68C-FE05D8B6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AF5D-BE31-4229-90CA-DE685666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020C-0518-40CD-B001-A05E4E4A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3183-4358-460E-B066-F2F84E0F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AAF6-ED05-42FC-AE8B-2DC23D3F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10A46-2F51-467C-B5A3-CFE18090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53077-986D-416D-ACC8-4A881102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E0B1C-1288-434F-B0E8-35385272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E2D3E-1F05-4921-AFD3-1161EF4B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DC710-4B9C-4A58-A335-222EE65F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9E36-9A47-4BDB-BEB0-3CB64F68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15F6-3A8B-4080-B83F-2D5DBD45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07430-DEE2-4362-BDE7-17F3121B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730E4-CBC7-4F76-8CAD-12473611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91110-8129-4E7B-9031-7346DC8C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063BA-132F-40F9-8574-219CC286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5E44A-9CBD-4ECD-BD35-44199C18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3E76D-BE60-4655-99F7-BE5EC020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6CCFA-7EEE-4D53-9F3C-21D62913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7CAA9-2FB8-476E-A87A-BE1A16C9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EA03F-F0F6-42BE-9BB8-8D418160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CEB6-5B5C-4E95-9938-5E3E9F09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AE19E-152C-40F4-9137-4A2F9B01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7E678-249A-4BCE-A87D-A8BFA3B7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88E4B-E29E-4687-BA0E-5FF78FB5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F9DE1-100F-4604-9DBB-4993428C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940CA-B641-4148-B3B4-99728DB0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05414-F678-4A2E-9B44-C6F6F175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6D1BB-EA01-4DDB-9B96-16CDE322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8920E-D89D-4C6B-B570-165CBF23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D5E07-E9F6-44FB-B656-6CF0A1AC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1FF65-0378-4668-B440-D07A42F3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C9A6-8631-4027-B9B3-59D23BBA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C3F1E-F1AE-473E-A49D-6A766856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E931F-F731-4767-9F5A-E57906FB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457CF-03DB-4BD9-AF8E-8FF339EC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0EF18-6B30-45A8-8FFE-C94B66DB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F25D4-5D4F-4A19-8E33-7D85F8D9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DB392-107D-48C4-8D11-30E1D08F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2F442-7E55-4C45-979F-30DCC638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E5457-3B33-4680-866E-6580C0B7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42E17-DC25-481C-87B9-1B46643E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DDBC1-1DCD-4595-8B74-6BBE9862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AD5-72F0-4658-9F0E-90A57686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024A6-1DCF-4171-9BE3-4E017F25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5B1-033C-4E86-9974-117C22A1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62C-A569-4962-87F2-18B5A679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AB4-BF83-48E6-BA2C-7786998B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3AD6-0868-4C9D-B61B-C1F711EC7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28C8-0AB7-4462-AF90-965AA59711F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4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5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5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5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59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99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02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05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8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8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9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B63F-CF7F-427D-8DDE-48ED6E7C8609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50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51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54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6F9E-39DD-4616-B625-5C08CF2078B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0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AF22-401F-4897-BAFD-2739E4BE338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ишем сочинение по исходному тексту художественного сти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81360" y="5084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учителя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цера Е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3924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Комментируя авторскую позиции, можно воспользоваться и такими оборотами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посвящает свою ста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полемически заостряет пробле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эмоционально воздействует на читате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делает читателя своим союзни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образно воссоздаёт картину происходящего (изображаем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раскрывает сущность поставленны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точно формулирует мыс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заставляет читателя задуматься над проблем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показывает злободневность рассматриваемой им пробл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пытается найти причины негативных (позитивных) явл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убеждает читателя в правоте своей пози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пытается найти в читателе единомышленника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ставит ряд нравственных вопросов, требующих немедленного раз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пишет интересно и ново о старых проблем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говорит с тревогой о наболевших проблем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открыто заявляет о своей гражданской позиции по отношению к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1128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4. Как аргументировать свою позицию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этой части работы вы должны строго следовать правилам построения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текста-рассу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ель аргументации — убедить в чем-либо, укрепить или изменить мнение. Для этого используется логически стройная система доказатель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ипичное (полное) рассуждение строится по схеме, в которой выделяются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три ча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тезис (положение, которое надо доказать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аргументация (доказательства, доводы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вывод (общий итог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днако следует помнить, что от вас требуется не просто сформулировать позицию автора, а показать его мнение по выделенной и прокомментированной вами пробле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Тезис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— это главная мысль автора текста, которую необходимо обосновать, доказать или опровергнуть. Аргументы — это доказательства, приводимые в поддержку тезиса: факты, примеры, утверждения, объяснения — словом, все, что может подтвердить тезис. От тезиса к аргументам можно поставить вопрос «Почему?», а аргументы отвечают: «Потому что...». Различают аргументы «за» (свой тезис) и аргументы «против» чужого тезиса. Таким образом, если вы согласны с позицией автора, то его и ваш тезис совпадают. Обратите внимание на то, что вы должны постараться не повторять доводы автора, использованные в тексте, а привести сво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ипичная ошибка всех пишущих сочинение заключается в том, что если вы поддерживаете позицию автора, то нет смысла анализировать его аргументы. Такая работа не предусмотрена условием задания, а значит, не нужно тратить на нее драгоценного времени. Аргументы «за» должны бы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авдивыми, опираться на авторитетные источни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ступными, простыми, понятны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ражающими объективную реальность, соответствующими здравому смысл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484360" y="549360"/>
            <a:ext cx="2808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тательский оп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11280" y="2205000"/>
            <a:ext cx="18730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удожест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92360" y="1916280"/>
            <a:ext cx="1871640" cy="1225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тор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0360" y="2276640"/>
            <a:ext cx="230508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о-популя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834920" y="1341360"/>
            <a:ext cx="93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11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76720" y="1341360"/>
            <a:ext cx="1656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39280" y="3499920"/>
            <a:ext cx="79930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ращение к читательскому опыту – сильнейший аргумент сочинения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 обращаться к нему нужно в том случае, если ты хорошо помнишь и автора книги, и само произведение, чтобы избежать фактических  ошиб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Что значит быть высоконравственным человеком? Мне кажется, нравственный человек – это тот, кто стремиться к тому, чтобы стать лучше, не причинять боли другим людям. Примеров стремления «быть вполне хорошим» очень много в русской классической литературе. Вспомним героев романа»Война и мир»  Льва Николаевича Толстого. Андрей Болконский, Пьер Безухов, Наташа Ростова…Все они стремились стать лучше, добрее,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чище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гда вы будете обращаться  к русской классической литературе, запомните такое правило: не допускайте выражений типа Александр Пушкин, или, говоря, допустим, о М. И. Цветаевой, нельзя назвать её Марина; говоря о героях литературного произведения, именуйте их так, как это делает автор (Евгений Базаров, но не Женя, Татьяна Ларина, но не Таня, Катерина (из «Грозы»), но не Екатерина. Необходимо соблюдать корректность и точность, иначе вы потеряете баллы по критериям  К 11, К 1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римерно такими могут быть твои аргументы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«Судьба Зои Лещеевой потрясла меня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Как же бесчеловечно государство, в котором жизнь человека, тем более ребенка ценится так низко. От своих дедушки и бабушки я слышал о том страшном времени. Мне рассказывали, что в 30-е годы человека могли арестовать за что угодно: за политический анекдот, за двусмысленную шутку, за украденные с поля колоски…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Примеров страшных гонений против личности в тоталитарном государстве немало в нашей литературе. Вспомним трагическую поэму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А. А. Ахматовой «Реквием». (…..). Как страшна судьба талантливого поэта О, Мандельштама. (….)»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136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е забудьте сделать вывод из написанного вами, обязательно соотнеся его и с авторской позицией по поднятой им проблеме, и со своим собственным видением этого во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427640" y="3789360"/>
            <a:ext cx="1960560" cy="2320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971280" y="2491920"/>
            <a:ext cx="771516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работе использована материалы стать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. А. Борисенко, А. Г. Нарушевич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. А. Шапир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Требования к содержанию части С на ЕГЭ по русскому язык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особы выявления проблемы текста и авторской позиции. Комментирование как аналитико-синтетическая работа с текстом.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усский язык, №22, 2008 го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екст для анали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оя Лещева сумела всю семью свою превзойти. Это вот как было. Ее отца, мать, дедушку с бабушкой и старших братьев-подростков — всех рассеяли по даль­ним лагерям за веру в Бога. 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Зое было всего десять лет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Взяли ее в детский дом (Ивановская область). Там она объявила, что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никогда не снимет с шеи крес­та, который мать надела ей при расставании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И за­вязала ниточку узлом туже, чтобы не сняли во время сна. Борьба шла долго, Зоя озлоблялась: вы можете меня задушить, с мертвой снимете! Тогда как не под­дающуюся воспитанию ее отослали в детдом для де­фективных! Борьба за крест продолжалась. Зоя устоя­ла: она и здесь не научилась ни воровать, ни сквернос­ловить. «У такой святой женщины, как моя мать, дочь не может быть уголовницей. Лучше буду поли­тической, как вся семь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 она стала политической! Чем больше воспита­тели и радио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лавили Сталина, тем верней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угадала она в нем виновника всех несчастий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И, не поддавшаяся уголовникам, она теперь увлекла за собою их. Во дво­ре стояла стандартная гипсовая статуя Сталина. На ней стали появляться издевательские и непри­личные надписи. (Малолетки любят спорт! Важно только правильно их направить.) Администрация под­крашивает статую, устанавливает слежку, сообща­ет и в МГБ. А надписи все появляются, и ребята хо­хочут. Наконец в одно утро голову статуи нашли отбитой, перевернутой и в пустоте ее — к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ррористический акт! Приехали гебисты. Нача­лись по всем их правилам допросы и угрозы: «Выдай­те банду террористов, иначе всех расстреляем за террор!» (А ничего дивного, подумаешь, полторы сот­ни детей расстрелять. Если б Сам узнал — он бы и сам распорядилс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еизвестно,  устояли бы малолетки или дрогнули, но Зоя Лещева объяв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то сделала все я одна! А на что другое годит­ся голова папаш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 ее судили. 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рисудили к высшей мере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, безо всякого смеха. Но из-за недопустимой гуманности закона о возвращенной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мертной казни расстрелять 14-лет­нюю вроде не полагалось. И потому дали ей десятку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(удивительно, что не двадцать пять). До восемнадцати лет она была в обычных лагерях, с восемнадцати -  в особых. За прямоту и язык был у нее и второй лагерный срок, и, кажется, трет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свободились уже и родители Зои, и братья, а Зоя все сиде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?Да здравствует наша веротерпимость! Да здравствуют дети — хозяева коммунизма! Отзовись, та страна, которая так любила бы своих детей, как мы свои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(По А. И.   Солженицын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Black"/>
              </a:rPr>
              <a:t>КОМПОЗИЦИЯ СОЧИН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тупление. Формулировка в той или иной форме одной из проблем исходного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ментарий к сформулированной проблеме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улировка позиции автора по прокомментированной проб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ргументация собственного мнения по пробле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.Тези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Аргу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первый аргу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второй аргу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Выв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брати внимание на то, что согласно этому плану у тебя как    минимум должно быть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пять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а если ты выделишь отдельным абзацем пункты аргументации собственного мнения, то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и больш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абзацев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Если в тексте нарушено абзацное членение текста,  снижается оценка по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критерию К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tebulb"/>
          <p:cNvSpPr/>
          <p:nvPr/>
        </p:nvSpPr>
        <p:spPr>
          <a:xfrm>
            <a:off x="0" y="5373720"/>
            <a:ext cx="647640" cy="1152360"/>
          </a:xfrm>
          <a:prstGeom prst="pie">
            <a:avLst/>
          </a:prstGeom>
          <a:solidFill>
            <a:srgbClr val="ff33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96360" y="2924280"/>
            <a:ext cx="101268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улировка проблем исходного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яя проблему, вы должны задуматься над тем, каким образом содержание текста касается вас, других людей, всего человечества. Помните, что описанная в тексте конкретная ситуация, факты чьей-либо биографии и т.п. — это иллюстрация, частный случай, пример проявления какой-либо абстрактной идеи, рассматриваемой автором. Поэтому формулируйте проблему так, чтобы она охватывала не только случай, рассмотренный в тексте, но и многие подобные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я проблему, важно понять, что можно с ней «сделать». Её можно обозначить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С помощью речевых клише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р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N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коснулся такой-то проблемы. Уделил внимание какой-либо пробл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жно: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над какой-либо проблемой думать, работать. Какая-либо проблема возникает, встает, представляет интерес, заслуживает внимания, ждет решения. Поставить, выдвинуть, рассмотреть, изложить, обсудить, разрешить какую-либо пробл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100800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0" dur="2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выигрышно проблему обозначить с помощью риторического вопроса, например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Что такое настоящая дружба? Каких друзей можно назвать настоящи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Над этими вопросами размышляет NN  в своём  очерке (рассказе, эссе и т. п.)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Четь… Человеческое достоинство… Всегда ли нужно отстаивать их? Не лучше ли в трудную минуту  для своего собственного покоя, покоя близких людей промолчать, спрятаться? Очень многие размышляли над этими вопросам, не оставили они равнодушными и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NN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, который  остро и полемично рассматривает проблему чети и бесчестия в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бе поможет начать сочинения и такая фра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роблема, обозначенная таким-то автором, заключается в следующем: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Можно указать №  предло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из текста или записать то предложение, в котором, по вашему мнению, содержится главная проблема, выдвинутая автором, прокомментировать её, отметив, что он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ложная или трудная, глубокая, актуальная, злободневная, философская, политическая, нравственная 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надо быть внимательными при выявлении проблемы текста. Неправильно выделенная проблема ставит под удар содержание всего сочинен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814716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еред нами отрывок из книги Александра Исаевича Солженицына «Архипелаг ГУЛАГ». В книге Солженицына приводится множество историй людей, несправедливо обвиненных в различных преступлениях против существующего государственного строя и попавших в тюрьмы или на лагерные работы. Рассказывая историю Зои Лещевой, автор поднимает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проблему бесчеловечного отношения к ребенку (и человеку вообще) в тоталитарном государстве (почему обесценивается жизнь человека в тоталитарном государстве?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221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ие пробле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2. Вспомним, что героиня, как и вся ее семья, страдает за веру в Бога. Следовательно, автор поднимает </a:t>
            </a:r>
            <a:r>
              <a:rPr b="1" i="1" lang="en-US" sz="2800" spc="-1" strike="noStrike">
                <a:solidFill>
                  <a:srgbClr val="f8f8f8"/>
                </a:solidFill>
                <a:latin typeface="Tahoma"/>
              </a:rPr>
              <a:t>проблему свободы вероисповедания (имеет ли право государство преследовать человека за его религиозные убеждения?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3. История Зои Лещевой — это потрясающий пример человеческого мужества, верности своим идеалам. Здесь мы видим </a:t>
            </a:r>
            <a:r>
              <a:rPr b="1" i="1" lang="en-US" sz="2800" spc="-1" strike="noStrike">
                <a:solidFill>
                  <a:srgbClr val="f8f8f8"/>
                </a:solidFill>
                <a:latin typeface="Tahoma"/>
              </a:rPr>
              <a:t>проблему духовной стойкости (что помогает человеку сохранить человеческое достоинство в нечеловеческих условиях?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Комментарий к проблеме исходного тек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1280" y="7646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Tahoma"/>
              </a:rPr>
              <a:t>Проблему духовной стойкости человека А. И. Солженицын </a:t>
            </a:r>
            <a:r>
              <a:rPr b="1" i="1" lang="en-US" sz="2800" spc="-1" strike="noStrike">
                <a:solidFill>
                  <a:srgbClr val="f8f8f8"/>
                </a:solidFill>
                <a:latin typeface="Tahoma"/>
              </a:rPr>
              <a:t>раскрывает на примере </a:t>
            </a:r>
            <a:r>
              <a:rPr b="0" i="1" lang="en-US" sz="2800" spc="-1" strike="noStrike">
                <a:solidFill>
                  <a:srgbClr val="f8f8f8"/>
                </a:solidFill>
                <a:latin typeface="Tahoma"/>
              </a:rPr>
              <a:t>сложной судьбы Зои Лещевой, которая вслед за другими членами своей семьи подверглась преследованиям за религиозные убеждения, </a:t>
            </a:r>
            <a:r>
              <a:rPr b="1" i="1" lang="en-US" sz="2800" spc="-1" strike="noStrike">
                <a:solidFill>
                  <a:srgbClr val="f8f8f8"/>
                </a:solidFill>
                <a:latin typeface="Tahoma"/>
              </a:rPr>
              <a:t>Автор не случайно подчеркивает, </a:t>
            </a:r>
            <a:r>
              <a:rPr b="0" i="1" lang="en-US" sz="2800" spc="-1" strike="noStrike">
                <a:solidFill>
                  <a:srgbClr val="f8f8f8"/>
                </a:solidFill>
                <a:latin typeface="Tahoma"/>
              </a:rPr>
              <a:t>что речь идет о судьбе ребенка. Ведь даже взрослому человеку трудно сохранить веру в себя и свои идеалы, когда он сталкивается с насилием, ненавистью, ложью, а Зоя, несмотря ни на что, не захотела учиться воровать и сквернословить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проблема текста формулируется в виде вопроса, то позиция автора — это ответ на вопрос, поставленный в тексте. Для того чтобы выявить позицию автора, постарайтесь ответить на следующие вопросы: </a:t>
            </a:r>
            <a:r>
              <a:rPr b="0" lang="ru-RU" sz="1400" spc="-1" strike="noStrike">
                <a:solidFill>
                  <a:srgbClr val="990033"/>
                </a:solidFill>
                <a:latin typeface="Arial"/>
              </a:rPr>
              <a:t>«Что хотел сказать своим читателям автор, создавая текст?», «Как автор оценивает описываемую конкретную ситуацию, поступки героев?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едует помнить, что в любом случа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ментарий должен осуществляться с опорой на прочитанный текст. Конкретизировать содержание комментария можно с помощью следующих вопросов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ак, на каком материале автор раскрывает проблему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На чем заостряет внимание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акие аспекты проблемы рассматриваются в тексте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акие эмоции автора выражены в тексте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ак выражено отношение автора к изображае­мому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акие средства выразительности помогают выявить авторское отношение к проблеме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ментарий представляет собой логический переход от формулировки проблемы к изложению авторской позиции по данной проблеме.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Чтобы отличить комментарий от пересказа, нужно помнить следующее. Пересказывая, мы говорим о том, что делают герои, а комментируя, мы гово­рим о том, что делает автор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Позиция автора публицистического текста обычно выявляется довольно просто. Значительно труднее определить авторскую точку зрения художественного текста. И тут на помощь придёт хорошее знание изобразительно-выразительных средств речи, так как именно через их анализ мы можем определить отношение автора к своим героям, к заявленной им проблем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Можно написать:</a:t>
            </a:r>
            <a:br>
              <a:rPr sz="1400"/>
            </a:b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Невозможно не согласиться с точкой зрения автора на (указываем проблему)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ты не согласен с авторской позицией, выражай своё несогласие очень корректно. Например так: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«При всём моём уважении к авторской точке зрения. (или к мыслям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NN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о …), я всё-таки позволю себе высказать собственное видение этой проблемы (или я попытаюсь опровергнуть его мнение)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71640" y="0"/>
            <a:ext cx="69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. Как выявить позицию автора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5:19:29Z</dcterms:created>
  <dc:creator>Programmer</dc:creator>
  <dc:description/>
  <dc:language>en-US</dc:language>
  <cp:lastModifiedBy>123</cp:lastModifiedBy>
  <dcterms:modified xsi:type="dcterms:W3CDTF">2013-04-21T09:21:57Z</dcterms:modified>
  <cp:revision>7</cp:revision>
  <dc:subject/>
  <dc:title>КОМПОЗИЦИЯ СОЧИНЕНИЯ </dc:title>
</cp:coreProperties>
</file>