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5898-C75D-494C-BF4D-1C1EF9D0ED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80AD-B9A1-4DF9-9064-4FFA8002B6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B34-0E83-4E5C-A243-E121CA79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E39-BF28-44CF-BAEE-F5BB79E6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8BB-BC9B-4A6C-8C85-5456624B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F78-A492-471F-B511-AD8703CA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F489-F5B6-4A1E-86E7-5A13B3E3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CA63-8CA3-4A24-A092-63B82056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C811-57F8-4D05-ACD2-C2DB7F34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AFE2-EF6B-4875-8D79-61FBCF6E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A932-AC4E-47B5-9E0C-5E08F2B0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1947-6B64-4A28-A1CB-E7AA0AE2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BBDF-E5A1-4423-9829-ADF9EA9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A6F-53AF-4B79-A8C7-978E08D3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85C0-5454-47E0-B61A-2D7A3F0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E81C-558F-4576-B87A-0296B68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D092-44E0-4555-A55E-B561F05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086F-D04E-4011-B76F-10E6A6429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6763-0D59-4285-A988-DBC30F0C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5FB09-8BD0-4974-BF1D-FF7E4190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6281-5F88-4948-B514-85D31DB0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BAB7-D9D3-434B-95CE-8E68487E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F25F-F2A2-4C5B-86C8-5F9BD6CF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49CE3-40C6-4CCB-B9C6-0B8919F5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C47-0644-4673-A5BB-F8B648E5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A15C-83D7-4B04-8597-F32477A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EB28-6EF2-4AB1-9C55-315C912B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8F1C-476C-4A29-B250-F293B44C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89C8-8483-49AF-BFAC-271B0D66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E963-2738-4AB8-87C7-A94E689E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3A59-181B-4465-9C5F-5B7B4CB2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AD28-8165-49CC-A0EF-1B7A9EAE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24A0B-38A3-42AF-BC93-EC9273B8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75E15-F099-47D1-9552-C22F850C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C649-FBC8-47FA-AAFE-76C36E77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225-3843-4927-97DE-D6683FF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9068-932C-4A21-8A36-B6D62CF0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B5BF3-4281-454A-9899-E4BDA022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3D23-62D3-471A-8314-846D47C4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4E786-5AF6-41B5-A2F2-448E156D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06B2-F655-4270-A092-2287508A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C136-6AD3-4FE0-91D5-BD6E344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79F1-4892-45A7-A0BD-A7C53913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F373-8448-487D-8963-890D2563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F8083-0F08-4586-B2B9-C8449476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2528-CBF2-4691-A0B6-564C96C7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952-1C0C-4038-A5A3-3C97C8DA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411A-12AD-4D43-BA6C-60D93E93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FBA87-31A4-4318-A27A-0FE28E7F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367FA-158B-4F79-86C9-093192B3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122AF-F4A9-4973-BF2D-F3A39C96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C8BC4-DB3F-49C0-BE78-D0D25C8E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C93C-275B-4C85-8F88-AF7B951F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A700-370E-44D5-8C42-4ADCC07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1D2C6-E04B-442F-AAAA-72C6B85A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74BA9-EB23-4F25-B044-DED7A416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4348-FE4A-42E6-A50F-69F8D8E9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4E8-12D1-4760-9DFC-792DB577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C60D-CD1C-4EB3-8AD3-C4D22057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490-F026-4B22-BF51-3B11379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97E-CBF0-43EC-B14B-02EAB27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60C-BA8C-47CF-A485-78A96EBB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EC09-C36B-4910-ADDC-941CD20B6D6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BE11-0862-41BA-A3C7-5EC7EDADE41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E279-AFDD-4AA3-BE48-320B4077127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D876-8F54-4B3C-B9A2-6D53EF5B39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DEA4-D26F-4705-841B-62C82F1C33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source=wiz&amp;uinfo=sw-1423-sh-729-fw-1198-fh-523-pd-1&amp;p=1&amp;text=&#1089;&#1086;&#1083;&#1085;&#1099;&#1096;&#1082;&#1086;%20&#1082;&#1072;&#1088;&#1090;&#1080;&#1085;&#1082;&#1080;&amp;noreask=1&amp;pos=40&amp;rpt=simage&amp;lr=10828&amp;img_url=http%3A%2F%2Fbestsmileys.ru%2Fsunb13007.gif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source=wiz&amp;uinfo=sw-1423-sh-729-fw-1198-fh-523-pd-1&amp;p=1&amp;text=&#1076;&#1077;&#1074;&#1086;&#1095;&#1082;&#1072;%20&#1082;&#1072;&#1088;&#1090;&#1080;&#1085;&#1082;&#1080;%20&#1076;&#1083;&#1103;%20&#1076;&#1077;&#1090;&#1077;&#1081;&amp;noreask=1&amp;pos=57&amp;rpt=simage&amp;lr=10828&amp;img_url=http%3A%2F%2Fimg0.liveinternet.ru%2Fimages%2Fattach%2Fc%2F1%2F62%2F151%2F62151944_45.gif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052640"/>
            <a:ext cx="46008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640" y="98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В КОПИЛКУ ЗНАНИ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Имя прилагательное стоит в той же падежной форме, числе и роде что и имя существительное, от которого оно зависит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2492280"/>
            <a:ext cx="712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«Труд будит в человеке творческие силы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.Н.Толстой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3" descr="http://www.artswet.com/book/book/fil.jpg"/>
          <p:cNvPicPr/>
          <p:nvPr/>
        </p:nvPicPr>
        <p:blipFill>
          <a:blip r:embed="rId2"/>
          <a:stretch/>
        </p:blipFill>
        <p:spPr>
          <a:xfrm>
            <a:off x="539640" y="404640"/>
            <a:ext cx="4383360" cy="58057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http://ic.pics.livejournal.com/zinina_galina/36442258/661141/661141_original.jpg"/>
          <p:cNvPicPr/>
          <p:nvPr/>
        </p:nvPicPr>
        <p:blipFill>
          <a:blip r:embed="rId3"/>
          <a:stretch/>
        </p:blipFill>
        <p:spPr>
          <a:xfrm>
            <a:off x="5651640" y="549360"/>
            <a:ext cx="2511360" cy="20764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http://img.labirint.ru/images/comments_pic/1015/04labd26b1271266480.jpg"/>
          <p:cNvPicPr/>
          <p:nvPr/>
        </p:nvPicPr>
        <p:blipFill>
          <a:blip r:embed="rId4"/>
          <a:stretch/>
        </p:blipFill>
        <p:spPr>
          <a:xfrm>
            <a:off x="5148360" y="2781360"/>
            <a:ext cx="32860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557360"/>
            <a:ext cx="37432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Лев Николаевич Толсто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4" name="Содержимое 3" descr="http://i27.tinypic.com/2ep7hqh.jpg"/>
          <p:cNvPicPr/>
          <p:nvPr/>
        </p:nvPicPr>
        <p:blipFill>
          <a:blip r:embed="rId2"/>
          <a:stretch/>
        </p:blipFill>
        <p:spPr>
          <a:xfrm>
            <a:off x="4643280" y="404640"/>
            <a:ext cx="41245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6836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ез своей Ясной Поляны я трудно могу представить себе Россию и моё отношение к н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Л.Н.Толсто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Рисунок 3" descr="http://im0-tub-ru.yandex.net/i?id=123863596-52-72&amp;n=21"/>
          <p:cNvPicPr/>
          <p:nvPr/>
        </p:nvPicPr>
        <p:blipFill>
          <a:blip r:embed="rId2"/>
          <a:stretch/>
        </p:blipFill>
        <p:spPr>
          <a:xfrm>
            <a:off x="1116000" y="2421000"/>
            <a:ext cx="3071880" cy="2214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http://im6-tub-ru.yandex.net/i?id=378228818-59-72&amp;n=21"/>
          <p:cNvPicPr/>
          <p:nvPr/>
        </p:nvPicPr>
        <p:blipFill>
          <a:blip r:embed="rId3"/>
          <a:stretch/>
        </p:blipFill>
        <p:spPr>
          <a:xfrm>
            <a:off x="5076720" y="24922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6" descr="http://im0-tub-ru.yandex.net/i?id=462208253-05-72&amp;n=21"/>
          <p:cNvPicPr/>
          <p:nvPr/>
        </p:nvPicPr>
        <p:blipFill>
          <a:blip r:embed="rId4"/>
          <a:stretch/>
        </p:blipFill>
        <p:spPr>
          <a:xfrm>
            <a:off x="1187280" y="4797360"/>
            <a:ext cx="2821320" cy="18576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7" descr="http://im7-tub-ru.yandex.net/i?id=141351166-45-72&amp;n=21"/>
          <p:cNvPicPr/>
          <p:nvPr/>
        </p:nvPicPr>
        <p:blipFill>
          <a:blip r:embed="rId5"/>
          <a:stretch/>
        </p:blipFill>
        <p:spPr>
          <a:xfrm>
            <a:off x="5292720" y="4797360"/>
            <a:ext cx="27608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692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ерёзовая                    малень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липовая                       узк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руктовый                   могу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усский                        стар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68360" y="475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ерёзовая                    малень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липовая                       узк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фруктовый                   могуч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русский                        стары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549360"/>
            <a:ext cx="1101600" cy="1512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156360" y="476280"/>
            <a:ext cx="10634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60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40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адьба Ясная Поляна находится в Тульской области Щёкинского района. Здесь родился и прожил последние годы жизни  писатель Лев Николаевич Толст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ятно пройтись по берёзовой аллее, полюбоваться красотой фруктового сада. Маленький мостик перекинут через узкое болотце. Хочется постоять в тени под могучим дубом. В липовой аллее старого парка можно найти могилу великого русского писател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9:54:09Z</dcterms:created>
  <dc:creator>Учитель</dc:creator>
  <dc:description/>
  <dc:language>en-US</dc:language>
  <cp:lastModifiedBy>Галина</cp:lastModifiedBy>
  <dcterms:modified xsi:type="dcterms:W3CDTF">2013-04-14T11:12:02Z</dcterms:modified>
  <cp:revision>46</cp:revision>
  <dc:subject/>
  <dc:title>Слайд 1</dc:title>
</cp:coreProperties>
</file>