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2CAB-ADE6-4F16-B780-0A9B1CB519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35ED-9AE2-4E8B-89EA-5B5A879087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071-B40D-4DAE-B765-7C542BED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C8A-31BC-41DD-916A-18B4C6E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093-0367-4E42-8B9A-3042BBBC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D2B-EE95-4F82-A657-ADFCE036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5F07-8922-4701-99D6-85025E3B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EE45-AE5C-4A7D-AD75-D7754C06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5717-A180-494E-85AD-18B1AC30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50D5-A39E-4248-A58B-1568A05C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F7F6-709B-4486-8FF5-712B33A2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D634-CDC6-495B-8367-0A6BC558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5BC2-6658-42E0-AEE3-ED438050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D0A-BE61-4722-B83A-4C837598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6907-2906-4070-8C4C-80573E6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201D-B144-4C57-B4CC-DB937B12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5039-A8FF-4F96-90AC-76BDC759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4874-5BD1-4317-A7EC-85DDCAB9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5F36-3449-4EE0-950B-DAF8F0AE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AD43-383E-4DCF-AC5F-052AA1E6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8167-E43D-4CD8-AFFF-DE37B78F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1261-42A7-4D3C-A93C-E5CF6AE0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56EB-FFA5-447D-B5BF-10C5DA20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3C70-3B34-4C86-8585-BA29FFD3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0BE-1153-4C4D-AEA0-A0CC3203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A349-E1FF-4847-A5B4-23B3C2A7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3CC7-AAA8-4959-BEC0-9D12474E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FFC6-016B-48B6-B7FB-19448339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85C9-3871-4011-B805-89415B0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935D-6E1E-464A-8D5E-8F75884B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65D09-048D-4267-9F6C-9A57D381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7966-41C5-46CB-AD64-9D0494B1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400F-35FF-4F31-A1D1-AE24507F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9ABB-96E7-4716-A1CB-21EF6160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D3695-3D57-4363-A836-F86E173D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391-16C0-4E70-85DB-0175B946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D0F1-C764-47C2-9974-C85F1D60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E1BE-F1B2-4F0E-9548-67D72041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67DC5-2FE2-481B-B07F-1F595AA2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CBAA-080C-463E-99D9-E6F1101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B431-6634-470D-92BC-B0E37C4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FA91-17E7-4921-A345-BBCEF97D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C572E-C738-46AD-B900-D3BE5683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2127C-67AB-4FF2-8B56-2E933F42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39A2-FB52-4FF7-B6DE-80CA02DA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22EAC-F368-471F-B58F-C8B74910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2B4-A06F-4C56-8EFB-ACF156B1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141D4-4F72-43F6-9A82-47A19FC9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FD69-C42C-4716-80B2-328DD127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582F2-7A9A-4010-9F8A-4B4298CF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B6A78-E9B3-4144-8F6B-AC6B3DDF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26B6-275B-493D-8CA2-509247C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02DE-FCCA-4806-AA29-3CCC9EFA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E7AE-A9DB-4CFF-A37F-269DCAB9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AA7B6-72FB-4218-958A-B3248A2B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BACB4-EBEA-476F-9BC6-A35D4726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C5625-DEB9-4004-832F-FD732871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6A6-82DC-4484-921A-14616B8B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63B75-6172-4966-8918-27BF3A1D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910-4A4C-4F20-A2E3-8F5887C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D9E-0F50-4C62-A9CE-991B2DAF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91D-751D-4E39-98F7-ED50603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FA36-50AF-4F9F-AE84-9D53C4A9E01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31D8-1EB9-4003-8CA5-E09365ED25C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7829-8543-4006-A4DE-B03A8EBDCD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5B61-A9E4-46EC-8C44-C0E28447C0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9BF-9577-4611-82CD-66CB153D28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source=wiz&amp;uinfo=sw-1423-sh-729-fw-1198-fh-523-pd-1&amp;p=1&amp;text=&#1089;&#1086;&#1083;&#1085;&#1099;&#1096;&#1082;&#1086;%20&#1082;&#1072;&#1088;&#1090;&#1080;&#1085;&#1082;&#1080;&amp;noreask=1&amp;pos=40&amp;rpt=simage&amp;lr=10828&amp;img_url=http%3A%2F%2Fbestsmileys.ru%2Fsunb13007.gif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source=wiz&amp;uinfo=sw-1423-sh-729-fw-1198-fh-523-pd-1&amp;p=1&amp;text=&#1076;&#1077;&#1074;&#1086;&#1095;&#1082;&#1072;%20&#1082;&#1072;&#1088;&#1090;&#1080;&#1085;&#1082;&#1080;%20&#1076;&#1083;&#1103;%20&#1076;&#1077;&#1090;&#1077;&#1081;&amp;noreask=1&amp;pos=57&amp;rpt=simage&amp;lr=10828&amp;img_url=http%3A%2F%2Fimg0.liveinternet.ru%2Fimages%2Fattach%2Fc%2F1%2F62%2F151%2F62151944_45.gif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052640"/>
            <a:ext cx="4600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64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В КОПИЛКУ ЗНА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Имя прилагательное стоит в той же падежной форме, числе и роде что и имя существительное, от которого оно зависит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2492280"/>
            <a:ext cx="712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«Труд будит в человеке творческие силы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.Н.Толстой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http://www.artswet.com/book/book/fil.jpg"/>
          <p:cNvPicPr/>
          <p:nvPr/>
        </p:nvPicPr>
        <p:blipFill>
          <a:blip r:embed="rId2"/>
          <a:stretch/>
        </p:blipFill>
        <p:spPr>
          <a:xfrm>
            <a:off x="539640" y="404640"/>
            <a:ext cx="4383360" cy="58057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http://ic.pics.livejournal.com/zinina_galina/36442258/661141/661141_original.jpg"/>
          <p:cNvPicPr/>
          <p:nvPr/>
        </p:nvPicPr>
        <p:blipFill>
          <a:blip r:embed="rId3"/>
          <a:stretch/>
        </p:blipFill>
        <p:spPr>
          <a:xfrm>
            <a:off x="5651640" y="549360"/>
            <a:ext cx="2511360" cy="20764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http://img.labirint.ru/images/comments_pic/1015/04labd26b1271266480.jpg"/>
          <p:cNvPicPr/>
          <p:nvPr/>
        </p:nvPicPr>
        <p:blipFill>
          <a:blip r:embed="rId4"/>
          <a:stretch/>
        </p:blipFill>
        <p:spPr>
          <a:xfrm>
            <a:off x="5148360" y="2781360"/>
            <a:ext cx="32860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3743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Лев Николаевич Толсто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24" name="Содержимое 3" descr="http://i27.tinypic.com/2ep7hqh.jpg"/>
          <p:cNvPicPr/>
          <p:nvPr/>
        </p:nvPicPr>
        <p:blipFill>
          <a:blip r:embed="rId2"/>
          <a:stretch/>
        </p:blipFill>
        <p:spPr>
          <a:xfrm>
            <a:off x="4643280" y="404640"/>
            <a:ext cx="41245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6836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ез своей Ясной Поляны я трудно могу представить себе Россию и моё отношение к н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Л.Н.Толст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Рисунок 3" descr="http://im0-tub-ru.yandex.net/i?id=123863596-52-72&amp;n=21"/>
          <p:cNvPicPr/>
          <p:nvPr/>
        </p:nvPicPr>
        <p:blipFill>
          <a:blip r:embed="rId2"/>
          <a:stretch/>
        </p:blipFill>
        <p:spPr>
          <a:xfrm>
            <a:off x="1116000" y="2421000"/>
            <a:ext cx="3071880" cy="2214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http://im6-tub-ru.yandex.net/i?id=378228818-59-72&amp;n=21"/>
          <p:cNvPicPr/>
          <p:nvPr/>
        </p:nvPicPr>
        <p:blipFill>
          <a:blip r:embed="rId3"/>
          <a:stretch/>
        </p:blipFill>
        <p:spPr>
          <a:xfrm>
            <a:off x="5076720" y="24922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http://im0-tub-ru.yandex.net/i?id=462208253-05-72&amp;n=21"/>
          <p:cNvPicPr/>
          <p:nvPr/>
        </p:nvPicPr>
        <p:blipFill>
          <a:blip r:embed="rId4"/>
          <a:stretch/>
        </p:blipFill>
        <p:spPr>
          <a:xfrm>
            <a:off x="1187280" y="4797360"/>
            <a:ext cx="2821320" cy="18576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http://im7-tub-ru.yandex.net/i?id=141351166-45-72&amp;n=21"/>
          <p:cNvPicPr/>
          <p:nvPr/>
        </p:nvPicPr>
        <p:blipFill>
          <a:blip r:embed="rId5"/>
          <a:stretch/>
        </p:blipFill>
        <p:spPr>
          <a:xfrm>
            <a:off x="5292720" y="4797360"/>
            <a:ext cx="27608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692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ерёзовая                    малень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липовая                       узк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руктовый                   могу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усский                        стар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68360" y="475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ерёзовая                    малень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липовая                       узк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руктовый                   могу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усский                        стар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549360"/>
            <a:ext cx="1101600" cy="1512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156360" y="476280"/>
            <a:ext cx="1063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60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адьба Ясная Поляна находится в Тульской области Щёкинского района. Здесь родился и прожил последние годы жизни  писатель Лев Николаевич Толс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ятно пройтись по берёзовой аллее, полюбоваться красотой фруктового сада. Маленький мостик перекинут через узкое болотце. Хочется постоять в тени под могучим дубом. В липовой аллее старого парка можно найти могилу великого русского пис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9:54:09Z</dcterms:created>
  <dc:creator>Учитель</dc:creator>
  <dc:description/>
  <dc:language>en-US</dc:language>
  <cp:lastModifiedBy>Галина</cp:lastModifiedBy>
  <dcterms:modified xsi:type="dcterms:W3CDTF">2013-04-14T11:12:02Z</dcterms:modified>
  <cp:revision>46</cp:revision>
  <dc:subject/>
  <dc:title>Слайд 1</dc:title>
</cp:coreProperties>
</file>