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4B5-90BD-4CB2-9778-3EC6F54E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2E1-762A-44B3-87EF-CA0CB486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F15-F7DB-44A9-A47A-C8325518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2FD-7A50-4D01-B3BC-20B9FBB9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983F-F51C-4646-BEC9-6B686C1C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4C09-9F20-4349-8132-DE34B457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B56C-9438-444F-A7FE-255BCD5A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704-5C2B-43E0-9449-15238E6D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8793-6016-4BA3-BC26-A5D44110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679B-30E3-4D1B-9F7C-E3558F5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94D1-5AFC-4702-AC5C-377CC06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EAE-B2D1-4C59-BDB8-435080A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4FFD-ED9E-48C6-9907-996862D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755-886A-4367-B251-5D2938E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30D4-7499-497F-93A9-4E5B5C1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295B-798D-431C-AD3C-6FEEC6FC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4A8-F2C7-464E-9FEB-19ADCAB9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37C-C7F1-46E2-A442-A4B1AB93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5B7-A8E0-4FAF-8F0C-35D60AFA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E4D-556D-457C-A018-1E85D19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97B-06C6-40DC-9DCC-D3924B8D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CA4-17E6-4AB5-9AF0-8B8E032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939-DB5A-4EC8-A181-54D4F8CC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E3C-7825-43D3-9CD2-77EA1BF0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D5B-22E9-491E-ACB5-2B47A3BAD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E1A7-56E0-43E2-B6C3-F9F3DC94EF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сультации для родителей по знакомству детей с Санкт-Петербурго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дошкольное образовательное учреждение детский сад № 99 комбинированного вида Фрунзенского райо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анкт-Петербур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шей квалификационной категории  Кудрявцева О. П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31840" y="-1271880"/>
            <a:ext cx="6984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85" name="Organization Chart 11"/>
          <p:cNvGrpSpPr/>
          <p:nvPr/>
        </p:nvGrpSpPr>
        <p:grpSpPr>
          <a:xfrm>
            <a:off x="250920" y="1212840"/>
            <a:ext cx="8540280" cy="1603440"/>
            <a:chOff x="250920" y="1212840"/>
            <a:chExt cx="8540280" cy="1603440"/>
          </a:xfrm>
        </p:grpSpPr>
        <p:cxnSp>
          <p:nvCxnSpPr>
            <p:cNvPr id="86" name="_s1028"/>
            <p:cNvCxnSpPr>
              <a:stCxn id="87" idx="0"/>
              <a:endCxn id="88" idx="2"/>
            </p:cNvCxnSpPr>
            <p:nvPr/>
          </p:nvCxnSpPr>
          <p:spPr>
            <a:xfrm flipV="1" rot="16200000">
              <a:off x="6068520" y="371160"/>
              <a:ext cx="229320" cy="332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9" name="_s1029"/>
            <p:cNvCxnSpPr>
              <a:stCxn id="90" idx="0"/>
              <a:endCxn id="88" idx="2"/>
            </p:cNvCxnSpPr>
            <p:nvPr/>
          </p:nvCxnSpPr>
          <p:spPr>
            <a:xfrm flipV="1" rot="16200000">
              <a:off x="4961520" y="1478160"/>
              <a:ext cx="229320" cy="1106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1030"/>
            <p:cNvCxnSpPr>
              <a:stCxn id="92" idx="0"/>
              <a:endCxn id="88" idx="2"/>
            </p:cNvCxnSpPr>
            <p:nvPr/>
          </p:nvCxnSpPr>
          <p:spPr>
            <a:xfrm flipH="1" flipV="1" rot="5400000">
              <a:off x="3854160" y="1477080"/>
              <a:ext cx="229320" cy="1109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1031"/>
            <p:cNvCxnSpPr>
              <a:stCxn id="94" idx="0"/>
              <a:endCxn id="88" idx="2"/>
            </p:cNvCxnSpPr>
            <p:nvPr/>
          </p:nvCxnSpPr>
          <p:spPr>
            <a:xfrm flipH="1" flipV="1" rot="5400000">
              <a:off x="2747160" y="370080"/>
              <a:ext cx="229320" cy="33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8" name="_s1032"/>
            <p:cNvSpPr/>
            <p:nvPr/>
          </p:nvSpPr>
          <p:spPr>
            <a:xfrm>
              <a:off x="316440" y="1212840"/>
              <a:ext cx="8410680" cy="70488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Цель</a:t>
              </a:r>
              <a:r>
                <a:rPr b="0" lang="en-US" sz="1800" spc="-1" strike="noStrike">
                  <a:solidFill>
                    <a:srgbClr val="b7e7ff"/>
                  </a:solidFill>
                  <a:latin typeface="Arial"/>
                </a:rPr>
                <a:t>:</a:t>
              </a: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 При знакомстве детей с Санкт-Петербургом необходим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b7e7ff"/>
                  </a:solidFill>
                  <a:latin typeface="Arial"/>
                </a:rPr>
                <a:t>постоянно вести педагогический всеобуч и для родителе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250920" y="2146320"/>
              <a:ext cx="189720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консульта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34"/>
            <p:cNvSpPr/>
            <p:nvPr/>
          </p:nvSpPr>
          <p:spPr>
            <a:xfrm>
              <a:off x="2464920" y="2146320"/>
              <a:ext cx="189756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Родительские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собр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035"/>
            <p:cNvSpPr/>
            <p:nvPr/>
          </p:nvSpPr>
          <p:spPr>
            <a:xfrm>
              <a:off x="4679280" y="2146320"/>
              <a:ext cx="189756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беседы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_s1036"/>
            <p:cNvSpPr/>
            <p:nvPr/>
          </p:nvSpPr>
          <p:spPr>
            <a:xfrm>
              <a:off x="6894000" y="2146320"/>
              <a:ext cx="1897200" cy="6699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960" rIns="84960" tIns="42480" bIns="42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анкетировани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Picture 22" descr="tn_10_0_1_9_92824f43c5ce8b8d1cf333a1cd33d32f"/>
          <p:cNvPicPr/>
          <p:nvPr/>
        </p:nvPicPr>
        <p:blipFill>
          <a:blip r:embed="rId1"/>
          <a:stretch/>
        </p:blipFill>
        <p:spPr>
          <a:xfrm>
            <a:off x="2411280" y="3141720"/>
            <a:ext cx="432144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ерспективное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планирование работы с родителями в младшем возрасте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Дом, в котором я живу» (рассматрив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ление фотоальбома «Моя семь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тавка совместных рисунков на тему «Мой д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-прогулки «В магазин», «Улица, на которой я живу», «Салон красоты», «Проспект Славы», «Невский проспект», «Нева и мост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ации о правилах поведения на ули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формление фотоальбома «Я в городе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спективное планирование работы с родителями в старшем возрасте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ительское собрание на тему «Город, как среда воспитания ребенк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я по знакомству с г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и-прогулки «Летний сад осенью», «Петропавловская крепость», «Московский парк Победы», «Пискаревское Мемориальное кладбище», «Стрелка Васильевского остров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пертуар театров го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местный конкурс рисунков «Мы очень любим город сво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сультация для родителей.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Я поведу тебя в музей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В дошкольном возрасте важно давать ребенку не только знания, но и впечатления. Причем лучше делать это ненавязчиво, в иг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Каждому возрасту- своя экспози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осле экскурсии предложить ребенку поделиться впечатлениями (рассказать своим друзьям, нарисовать рисунок,поиграть в игру,связанную с темой выставки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korabl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Рекомендации при посещении музея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экскурсией накормить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казать о правилах поведения в муз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ороге на выставку поиграйте с ребенком в словесные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ругайте ребенка за капризы во время экскур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ходе из музея купите недорогие сувениры на памя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342b5465d56b4"/>
          <p:cNvPicPr/>
          <p:nvPr/>
        </p:nvPicPr>
        <p:blipFill>
          <a:blip r:embed="rId1"/>
          <a:stretch/>
        </p:blipFill>
        <p:spPr>
          <a:xfrm>
            <a:off x="4648320" y="2314440"/>
            <a:ext cx="4194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Анкета для родителей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Любите ли Вы город  в котором живет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Владеете ли Вы знаниями о нашем городе, архитектурных,культурных,исторических памятниках и ансамбля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озникает ли у Вас желание пополнить свои знания об истории и культуре Санкт-Петербург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Интересуется ли Ваш ребенок нашим городо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Беседуете ли Вы с ребенком о город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Можете ли Вы ответить на вопросы ребен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Ищете ли Вы ответы на вопросы ребенка в познавательной литератур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Собираете ли Вы фотографии,открытки,книги о нашем город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Часто ли Вы гуляете с ребенком по городу и знакомите его с достпримечательностя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От чего Вы отталкиваетесь,когда принимаете решение посетить то или иное историческое место города,посетить определенный музе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Есть ли у Вас фотоальбом,где собраны фотографии Ваших экскурсий,прогулок по городу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Рассказывает ли Вам ребенок о том,что нового он узнал в детском саду о Петербург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Нравится ли Вам,что в группе проводится работа по петербурговедени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4. Какие консультации Вы хотели бы получить по данной тем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асибо за сотрудничеств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5445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Желаем успехов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333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пойти с ребенком в выход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куко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л.Камская 8  Часы работы с 10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зей игруш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б.р.Карповки 32  Часы работы с 11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ографический м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л. Инженерная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Часы работы с 10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оологический муз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ре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Университетская наб. 1 Часы работы с 11-00 до 18-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9T07:38:34Z</dcterms:created>
  <dc:creator>Compaq</dc:creator>
  <dc:description/>
  <dc:language>en-US</dc:language>
  <cp:lastModifiedBy>user</cp:lastModifiedBy>
  <dcterms:modified xsi:type="dcterms:W3CDTF">2012-05-04T06:22:20Z</dcterms:modified>
  <cp:revision>13</cp:revision>
  <dc:subject/>
  <dc:title>Знакомство с природным и культурным наследием Санкт-Петербурга в разных видах деятельности.</dc:title>
</cp:coreProperties>
</file>