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9700-A2AC-4A6A-B2EA-C2AAD065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A738-0488-4914-9D97-5CE4F859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DD2D-A0D5-4060-869B-E56622B3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2A9F-97F8-4AFE-82CC-38AFFEDF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FEFF-E0A7-4701-9FB5-6A601CD2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B78D-570E-47F4-8EBD-F4201C5B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C4B5-BE9F-4708-87A0-980334CC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0535-CC48-4FC2-B1B7-476A6C1D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2422-78A0-45F3-A828-B67F7D5B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D979-AABC-46BD-A330-3DF8B009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F4DE-8385-4639-9C4D-1B570E66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2BF-92D3-4147-9007-47E2E0E7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59A9-DD5B-4952-9645-25A4B576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10B1-47DA-4123-9A82-9D36959B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E75A-2165-4008-AECE-67CCA395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498A-801C-41CB-9DC5-25124361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6454-DAFC-4018-AC25-26FA253C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B9C-2A0E-4A77-889C-D46E77CF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CC9-510E-4337-8676-3FCDF4DD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FF49-3CD2-4DA5-8CA5-EB748E30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4B38-470F-4DFA-9243-D0855BA8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7C79-2D45-46EF-9639-4923E813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F1C7-ED98-4813-94E9-9CD6599E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B0B-FE1B-4B43-A94E-4DC6148E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9118-6358-4293-BC95-630229CD47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0CC1-9F2C-41CD-831A-B4BD35627FE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онсультации для родителей по знакомству детей с Санкт-Петербургом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дошкольное образовательное учреждение детский сад № 99 комбинированного вида Фрунзенского райо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нкт-Петербург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даго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шей квалификационной категории  Кудрявцева О. 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1840" y="-1271880"/>
            <a:ext cx="6984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85" name="Organization Chart 11"/>
          <p:cNvGrpSpPr/>
          <p:nvPr/>
        </p:nvGrpSpPr>
        <p:grpSpPr>
          <a:xfrm>
            <a:off x="250920" y="1212840"/>
            <a:ext cx="8540280" cy="1603440"/>
            <a:chOff x="250920" y="1212840"/>
            <a:chExt cx="8540280" cy="1603440"/>
          </a:xfrm>
        </p:grpSpPr>
        <p:cxnSp>
          <p:nvCxnSpPr>
            <p:cNvPr id="86" name="_s1028"/>
            <p:cNvCxnSpPr>
              <a:stCxn id="87" idx="0"/>
              <a:endCxn id="88" idx="2"/>
            </p:cNvCxnSpPr>
            <p:nvPr/>
          </p:nvCxnSpPr>
          <p:spPr>
            <a:xfrm flipV="1" rot="16200000">
              <a:off x="6068520" y="371160"/>
              <a:ext cx="229320" cy="332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1029"/>
            <p:cNvCxnSpPr>
              <a:stCxn id="90" idx="0"/>
              <a:endCxn id="88" idx="2"/>
            </p:cNvCxnSpPr>
            <p:nvPr/>
          </p:nvCxnSpPr>
          <p:spPr>
            <a:xfrm flipV="1" rot="16200000">
              <a:off x="4961520" y="1478160"/>
              <a:ext cx="229320" cy="1106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1030"/>
            <p:cNvCxnSpPr>
              <a:stCxn id="92" idx="0"/>
              <a:endCxn id="88" idx="2"/>
            </p:cNvCxnSpPr>
            <p:nvPr/>
          </p:nvCxnSpPr>
          <p:spPr>
            <a:xfrm flipH="1" flipV="1" rot="5400000">
              <a:off x="3854160" y="1477080"/>
              <a:ext cx="229320" cy="1109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1031"/>
            <p:cNvCxnSpPr>
              <a:stCxn id="94" idx="0"/>
              <a:endCxn id="88" idx="2"/>
            </p:cNvCxnSpPr>
            <p:nvPr/>
          </p:nvCxnSpPr>
          <p:spPr>
            <a:xfrm flipH="1" flipV="1" rot="5400000">
              <a:off x="2747160" y="370080"/>
              <a:ext cx="229320" cy="3323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8" name="_s1032"/>
            <p:cNvSpPr/>
            <p:nvPr/>
          </p:nvSpPr>
          <p:spPr>
            <a:xfrm>
              <a:off x="316440" y="1212840"/>
              <a:ext cx="8410680" cy="70488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b7e7ff"/>
                  </a:solidFill>
                  <a:latin typeface="Arial"/>
                </a:rPr>
                <a:t>Цель</a:t>
              </a:r>
              <a:r>
                <a:rPr b="0" lang="en-US" sz="1800" spc="-1" strike="noStrike">
                  <a:solidFill>
                    <a:srgbClr val="b7e7ff"/>
                  </a:solidFill>
                  <a:latin typeface="Arial"/>
                </a:rPr>
                <a:t>:</a:t>
              </a:r>
              <a:r>
                <a:rPr b="0" lang="ru-RU" sz="1800" spc="-1" strike="noStrike">
                  <a:solidFill>
                    <a:srgbClr val="b7e7ff"/>
                  </a:solidFill>
                  <a:latin typeface="Arial"/>
                </a:rPr>
                <a:t> При знакомстве детей с Санкт-Петербургом необходим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b7e7ff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b7e7ff"/>
                  </a:solidFill>
                  <a:latin typeface="Arial"/>
                </a:rPr>
                <a:t>постоянно вести педагогический всеобуч и для родителе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033"/>
            <p:cNvSpPr/>
            <p:nvPr/>
          </p:nvSpPr>
          <p:spPr>
            <a:xfrm>
              <a:off x="250920" y="2146320"/>
              <a:ext cx="1897200" cy="6699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консультации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1034"/>
            <p:cNvSpPr/>
            <p:nvPr/>
          </p:nvSpPr>
          <p:spPr>
            <a:xfrm>
              <a:off x="2464920" y="2146320"/>
              <a:ext cx="1897560" cy="6699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Родительски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собрания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1035"/>
            <p:cNvSpPr/>
            <p:nvPr/>
          </p:nvSpPr>
          <p:spPr>
            <a:xfrm>
              <a:off x="4679280" y="2146320"/>
              <a:ext cx="1897560" cy="6699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беседы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_s1036"/>
            <p:cNvSpPr/>
            <p:nvPr/>
          </p:nvSpPr>
          <p:spPr>
            <a:xfrm>
              <a:off x="6894000" y="2146320"/>
              <a:ext cx="1897200" cy="6699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анкетирования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5" name="Picture 22" descr="tn_10_0_1_9_92824f43c5ce8b8d1cf333a1cd33d32f"/>
          <p:cNvPicPr/>
          <p:nvPr/>
        </p:nvPicPr>
        <p:blipFill>
          <a:blip r:embed="rId1"/>
          <a:stretch/>
        </p:blipFill>
        <p:spPr>
          <a:xfrm>
            <a:off x="2411280" y="3141720"/>
            <a:ext cx="4321440" cy="29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Перспективное</a:t>
            </a: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планирование работы с родителями в младшем возрасте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Дом, в котором я живу» (рассматривани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формление фотоальбома «Моя семья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тавка совместных рисунков на тему «Мой до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скурсии-прогулки «В магазин», «Улица, на которой я живу», «Салон красоты», «Проспект Славы», «Невский проспект», «Нева и мост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комендации о правилах поведения на улиц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формление фотоальбома «Я в городе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ерспективное планирование работы с родителями в старшем возрасте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дительское собрание на тему «Город, как среда воспитания ребенк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я по знакомству с город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скурсии-прогулки «Летний сад осенью», «Петропавловская крепость», «Московский парк Победы», «Пискаревское Мемориальное кладбище», «Стрелка Васильевского остров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пертуар театров гор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местный конкурс рисунков «Мы очень любим город свой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онсультация для родителей.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Я поведу тебя в музей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В дошкольном возрасте важно давать ребенку не только знания, но и впечатления. Причем лучше делать это ненавязчиво, в иг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Каждому возрасту- своя экспози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осле экскурсии предложить ребенку поделиться впечатлениями (рассказать своим друзьям, нарисовать рисунок,поиграть в игру,связанную с темой выставки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korabl"/>
          <p:cNvPicPr/>
          <p:nvPr/>
        </p:nvPicPr>
        <p:blipFill>
          <a:blip r:embed="rId1"/>
          <a:stretch/>
        </p:blipFill>
        <p:spPr>
          <a:xfrm>
            <a:off x="4648320" y="2314440"/>
            <a:ext cx="4194000" cy="31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Рекомендации при посещении музея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д экскурсией накормить ребе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сказать о правилах поведения в муз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дороге на выставку поиграйте с ребенком в словесные иг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ругайте ребенка за капризы во время экскур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выходе из музея купите недорогие сувениры на памя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7" descr="342b5465d56b4"/>
          <p:cNvPicPr/>
          <p:nvPr/>
        </p:nvPicPr>
        <p:blipFill>
          <a:blip r:embed="rId1"/>
          <a:stretch/>
        </p:blipFill>
        <p:spPr>
          <a:xfrm>
            <a:off x="4648320" y="2314440"/>
            <a:ext cx="4194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Анкета для родителей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Любите ли Вы город  в котором живете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Владеете ли Вы знаниями о нашем городе, архитектурных,культурных,исторических памятниках и ансамблях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Возникает ли у Вас желание пополнить свои знания об истории и культуре Санкт-Петербург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Интересуется ли Ваш ребенок нашим городом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. Беседуете ли Вы с ребенком о городе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. Можете ли Вы ответить на вопросы ребенк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. Ищете ли Вы ответы на вопросы ребенка в познавательной литературе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Собираете ли Вы фотографии,открытки,книги о нашем городе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9. Часто ли Вы гуляете с ребенком по городу и знакомите его с достпримечательностям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0. От чего Вы отталкиваетесь,когда принимаете решение посетить то или иное историческое место города,посетить определенный музей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1. Есть ли у Вас фотоальбом,где собраны фотографии Ваших экскурсий,прогулок по городу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2. Рассказывает ли Вам ребенок о том,что нового он узнал в детском саду о Петербурге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3. Нравится ли Вам,что в группе проводится работа по петербурговедению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4. Какие консультации Вы хотели бы получить по данной теме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асибо за сотрудничество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5445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Желаем успехов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333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да пойти с ребенком в выход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зей куко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ре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л.Камская 8  Часы работы с 10-00 до 18-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зей игруш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ре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б.р.Карповки 32  Часы работы с 11-00 до 18-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нографический муз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ре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л. Инженерная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Часы работы с 10-00 до 18-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оологический муз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ре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ниверситетская наб. 1 Часы работы с 11-00 до 18-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7:38:34Z</dcterms:created>
  <dc:creator>Compaq</dc:creator>
  <dc:description/>
  <dc:language>en-US</dc:language>
  <cp:lastModifiedBy>user</cp:lastModifiedBy>
  <dcterms:modified xsi:type="dcterms:W3CDTF">2012-05-04T06:22:20Z</dcterms:modified>
  <cp:revision>13</cp:revision>
  <dc:subject/>
  <dc:title>Знакомство с природным и культурным наследием Санкт-Петербурга в разных видах деятельности.</dc:title>
</cp:coreProperties>
</file>