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903-208E-431C-9396-863A9615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DB8-3144-4DA8-864B-25927BC8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A30-D503-415D-815D-091CB9EF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029-E50D-4E0B-B5E1-24A0DE7A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B4F9-23BA-49B6-BB69-5E357373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9B7E-6130-4F5B-9AE8-0FD119FA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8730-0AD1-4E78-8F09-CFBA5209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D5C6-A92D-4FFC-A2C5-FFB14597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7B13-0E26-4E8D-9AC9-65789AC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EDF4-BAB7-4B40-B485-19836606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DB94-93A3-4783-8B9C-BE8F543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30D9-E250-4F08-8AFF-27389C47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5BCE-3303-4ACD-8335-437D8D8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2250-41FE-4B74-9F08-A96BE2AA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F317-134C-4BFB-9168-22E89A7C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D7D3-6BB1-4ABF-A51F-9A9E4997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5E9-4681-4315-84D8-A57D19C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9AEED-40EC-4AC4-BA1B-84DA4235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CED5-6177-4684-864B-8B7F7D4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9EFB-843A-4264-AF76-76A551BC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2185-E21B-4FF8-A2A5-1D685FB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A7CC-CC75-4B9F-873B-DD8F1BD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2E6-036A-4FFB-A640-FDBE94C6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E293-82EA-4DD0-B9FC-EFE78C4F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A99A-5BCD-4DAA-8346-560215AF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85F3-9132-4ECD-9FDB-53F050B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8DCC-3C46-4053-B880-C76F847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5B35-B0B7-4DDE-A9D7-E62E80BF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4B6D-D9BD-4F0E-B549-EC40CFAA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2546-8E0F-40EF-8E92-80432F34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64914-99AA-467D-966D-E649AA64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7312-2045-4F57-B2F0-47E32BA5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523CD-A87F-4DB7-907D-6C4581F6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A13-6265-474F-9F70-D4B4A0F5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B3C9B-FA5F-4980-83A7-BC71AA9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5060-E6B9-4230-BF3C-6C43E00B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030D-2E5F-4EB4-A4E2-99D62E7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D45A-C624-4276-B330-75984DE7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8E165-DD17-4C56-8BBF-E33C64B7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AB3B-870E-4385-930F-E8462F9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11C7-2281-4484-A561-905EAD62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639C-DD0F-4052-AD50-A0A96C2C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9A14-FCCE-49E7-8A5E-88CC88B6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27A-331D-4192-9BF3-B11E33F6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662-FC0A-4A8C-85E7-DB97594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21A-2A3E-44BC-8249-6CDB46B9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EE9-D802-4ABC-8DA6-E450D385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CEA-94FE-4327-BDAB-EA723CE4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059-A72E-41D7-9C6A-51FDC0A3119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3F88-96C3-41D3-99EC-4EBC5D1F5F4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FE9-D789-4F12-826B-8CE5846F697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B0D-1F34-4239-896F-2A9C2A947F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255600"/>
            <a:ext cx="8515440" cy="2054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5280" y="249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Тема:«Познавательная речевая деятельность дошкольников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Выполнила:              воспитатель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таршей группы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ДОУ №1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Бабенко Р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3" descr="ch.jpg"/>
          <p:cNvPicPr/>
          <p:nvPr/>
        </p:nvPicPr>
        <p:blipFill>
          <a:blip r:embed="rId2"/>
          <a:stretch/>
        </p:blipFill>
        <p:spPr>
          <a:xfrm>
            <a:off x="1079640" y="3541680"/>
            <a:ext cx="4041720" cy="2828880"/>
          </a:xfrm>
          <a:prstGeom prst="rect">
            <a:avLst/>
          </a:prstGeom>
          <a:ln w="0">
            <a:noFill/>
          </a:ln>
        </p:spPr>
      </p:pic>
      <p:sp>
        <p:nvSpPr>
          <p:cNvPr id="198" name="Подзаголовок 2"/>
          <p:cNvSpPr/>
          <p:nvPr/>
        </p:nvSpPr>
        <p:spPr>
          <a:xfrm>
            <a:off x="324000" y="6165720"/>
            <a:ext cx="83055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анкт-Петербург 201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                                                                          </a:t>
            </a: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Выполнила:              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старшей груп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ГБДОУ №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d9e8"/>
                </a:solidFill>
                <a:latin typeface="Times New Roman"/>
                <a:ea typeface="Times New Roman"/>
              </a:rPr>
              <a:t>Бабенко Р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9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играх «Найди предмет такой же формы», «Подбери по цвету», «Кому что нужно для работы» необходимо сгруппировать предметы по общим признакам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играх «Узнай по описанию», «Чудесный мешочек», «Угадай по голосу» дети определяют по предмет по одному из признак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. В соответствии с требованиями СанПиНов, все занятия, требующие повышенной познавательной активности и умственного напряжения (интегрированные познавательные занятия, занятия познавательно-речевого блока) проводятся в первую половину дня со вторника по четверг дни наиболее высокой работоспособности детей. Для профилактики утомления эти занятия чередуются с музыкальными, физкультурными занятиям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Удовлетворяя свою любознательность в процессе активной познавательной и познавательно-исследовательской деятельности, дети расширяют свои представления о мире, начинают овладевать основополагающими формами познания о себе, предметах быта, социальном окружении, о явлениях общественной жизн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2071800" y="3429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"/>
          <p:cNvSpPr/>
          <p:nvPr/>
        </p:nvSpPr>
        <p:spPr>
          <a:xfrm>
            <a:off x="1643040" y="3214800"/>
            <a:ext cx="5857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027160" y="13302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324000" y="14130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Таким образом, дидактические игры способствуют закреплению и уточнению знаний по познавательно – речевому развитию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6" descr="bn01.jpg"/>
          <p:cNvPicPr/>
          <p:nvPr/>
        </p:nvPicPr>
        <p:blipFill>
          <a:blip r:embed="rId1"/>
          <a:stretch/>
        </p:blipFill>
        <p:spPr>
          <a:xfrm>
            <a:off x="1332000" y="2205000"/>
            <a:ext cx="7056360" cy="4103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1.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Разрезать картинки опасных предметов по пунктирным линиям. Карточки с названиями предметов раздаются поровну детям. Ребёнок должен прочитать и приложить название к нужному предмету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598400"/>
            <a:ext cx="73260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2  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Ведущий описывает какой-либо опасный предмет, а дети должны угадать о каком предмете идёт речь. Тем самым дети не только угадывают названия предметов, но и развивают свою речь задавая вопросы и отвечая на них полными и развёрнутыми ответам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50920" y="1628640"/>
            <a:ext cx="74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в игровой деятельност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73868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ариант 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79280" y="1700280"/>
            <a:ext cx="763272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редлагаем детям разделить предметы, окружающие детей  на опасные и не опасные, на электрические и механические. Заостряем внимание детей на том, как важно знать о возможной опасности предмета, его помощи в деятельности человека, правилах обращения с предме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4" descr="2011-04-18 16.35.33.jpg"/>
          <p:cNvPicPr/>
          <p:nvPr/>
        </p:nvPicPr>
        <p:blipFill>
          <a:blip r:embed="rId1"/>
          <a:stretch/>
        </p:blipFill>
        <p:spPr>
          <a:xfrm>
            <a:off x="5931000" y="328680"/>
            <a:ext cx="2895480" cy="21700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яснительная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запис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413000"/>
            <a:ext cx="8229600" cy="5256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Тема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«Познавательная речевая деятельность дошкольников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Цель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ознавательно-речевого направления является активное использование технологий развивающего обучения в практике нашего дошкольного образовательного  учреждения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обеспечивающее успешность в развитии интеллектуальной сфере дошколь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Основные задачи познавательно-речевое развитие дете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1)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богащать познавательную сферу информацией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 лежащей за пределами непосредственно воспринимаемой деятельности. Передавать информацию через слов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r>
              <a:rPr b="1" i="1" lang="ru-RU" sz="2000" spc="-1" strike="noStrike">
                <a:solidFill>
                  <a:srgbClr val="04617b"/>
                </a:solidFill>
                <a:latin typeface="Constantia"/>
              </a:rPr>
              <a:t>2)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богащать эмоционально-чувственный опыт в процессе непосредственного взаимодействия с объектами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явлениями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с другими людь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 </a:t>
            </a:r>
            <a:r>
              <a:rPr b="1" i="1" lang="ru-RU" sz="1500" spc="-1" strike="noStrike">
                <a:solidFill>
                  <a:srgbClr val="04617b"/>
                </a:solidFill>
                <a:latin typeface="Constantia"/>
              </a:rPr>
              <a:t>3)  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Помогать упорядочивать </a:t>
            </a: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сведения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 о мире</a:t>
            </a:r>
            <a:r>
              <a:rPr b="0" i="1" lang="en-US" sz="19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1900" spc="-1" strike="noStrike">
                <a:solidFill>
                  <a:srgbClr val="04617b"/>
                </a:solidFill>
                <a:latin typeface="Constantia"/>
              </a:rPr>
              <a:t> формировать представление о его целостности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Познавательно-речевое развит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ключает в себя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     •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уточнение и обогащение словарного запаса детей в связи с расширением непосредственных впечатлений об окружающем мире; •умение устанавливать причинно-следственные связи в наблюдаемых природных и общественных явлениях с помощью педагог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•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систематизация знаний и представлений, их обобщение и применение в собственной продуктивной и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     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 этой сфере происходит развитие ребенка как субъекта познания: его любознательности, инициативности, самостоятельности в поиске новых впечатлений, опробовании разных способов действия, ответов на возникающие у него вопросы, решении проблемных ситуаций. Развиваются общие представления ребенка об окружающем мире, о себе, о других людях. На протяжении дошкольного возраста совершенствуется и обогащается речь ребенка, становясь одним из необходимых условий позн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Образование, направленное на познавательное развитие ребенка в дошкольном возрасте, предполагае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опору на природную детскую любознательнос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поощрение познавательной инициативы ребенка – детских вопросов, рассуждений, самостоятельных умозаключений, уважительное к ним отнош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569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пору на такие виды познавательной активности, как наблюдение, экспериментирование, познавательное общение; иг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рганизацию образовательной среды, стимулирующей познавательную активность дете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–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редоставление информации из разных областей культуры (речевой), математики, естественных наук, искусств, общественной жизни человека, здоровья, экологии и пр.) в интегрированном виде посредством вовлечения детей в интересные для них виды деятельност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области естественных наук, экологии, здоровья. Взрослые создают широкие возможности для ознакомления детей с физическими свойствами предметов и явлений, многообразием растительного и животного мира, разнообразными условиями жизни на Земле и т.п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При этом желательно опираться на привлекательные для детей занятия, такие как наблюдение за природными явлениями, жизнью растений и животных; составление гербариев; экспериментирование различными веществами (песком, водой, крупами, тестом), приборами и материалами (лупой, весами, магнитами и т.п.); исследование различных механизмов (часов, заводных игрушек и пр.), опробование свойств материалов и инструментов в процессе ручного труда; дидактическую игр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353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ажно к концу дошкольного возраста заложить у ребенка основы экологической культуры – подвести его к пониманию связи человека с природной средой, познакомить с этически ценными нормами и правилами поведения в природ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развитии речи ведущая роль принадлежит взрослым: воспитателем в детском саду родителям в кругу семьи. От культуры речи взрослых от того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как они говорят с ребенком</a:t>
            </a:r>
            <a:r>
              <a:rPr b="0" i="1" lang="en-US" sz="2000" spc="-1" strike="noStrike">
                <a:solidFill>
                  <a:srgbClr val="04617b"/>
                </a:solidFill>
                <a:latin typeface="Constantia"/>
              </a:rPr>
              <a:t>,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сколько внимания уделяют речевому общению с ним во многом зависит и развитие речи детей. Положительного результата можно добиться только при тесном сотрудничестве с родителями воспитанник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азвитию связной речи детей необходимо уделять большое внимание . Успешность работы зависит от проведения занятий по ознакомлению с окружающим. Занятия с детьми необходимо проводить в форме свободной непринужденной познавательной деятельности взрослого с детьми, где взрослый-партнер учитывает детские интересы и поддерживает инициативу каждого, а ребенок воспринимается как полноправный субъект взаимодейств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915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Речь сопровождает и совершенствует познавательную деятельность детей, делает более целенаправленной и осознанной трудовую активность, обогащает игры, способствует проявлению творчества и фантазии в изобразительной, музыкальной, литературной деятельност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Воспитатель помогает ребенку достичь коммуникативной компетентности к концу дошкольного возраста посредством решения задач по развитию  разных сторон речи во всех возрастных группах: «Развитие связной речи», «Развитие словаря», «Освоение грамматически правильной речи», «Освоение звуковой культуры речи», «Подготовка к обучению грамоте»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Чтобы правильно организовать познавательно-речевое развитие дошкольников необходимо учитывать  следующие составляющие: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речь педагога дошкольного учреждения 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формирование представлений об окружающей жизни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развитие любознательности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сенсорное воспитание</a:t>
            </a:r>
            <a:br>
              <a:rPr sz="1800"/>
            </a:br>
            <a:r>
              <a:rPr b="0" i="1" lang="ru-RU" sz="1800" spc="-1" strike="noStrike">
                <a:solidFill>
                  <a:srgbClr val="04617b"/>
                </a:solidFill>
                <a:latin typeface="Constantia"/>
              </a:rPr>
              <a:t>-иг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8360" y="836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Задача педагога состоит в последовательном увеличении у детей запаса знаний, их упорядочении, системат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ебенок должен получить четкие  </a:t>
            </a:r>
            <a:br>
              <a:rPr sz="2000"/>
            </a:b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 представления об окружающих предметах, их назначении, некоторых качествах (цвет, величина, форма) и свойствах (бьется, ломается, рвется, льется и др.), о материалах, из которых они сделан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н приобретает также знания о некоторых природных явлениях, их взаимосвязях и закономерностях (характерных признаках времен года и взаимосвязи между этими признаками, типичных особенностях некоторых животных и связи их с образом жизни этих животных и т.д.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73864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дним из средств познавательно – речевого развития дошкольников является игра – специфическая детская деятельность, в которой ребенок отражает окружающую действительность, выявляет свои знания, делится ими с товарищам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тдельные виды игр по – разному воздействуют на познавательно – речевое развитие детей: сюжетно – ролевые расширяют представления об окружающем и способствуют развитию речевого общения; игры – драматизации помогают более глубокому пониманию произведений художественной литературы и активизируют речь; строительно – конструктивные развивают конструктивные способности и расширяют знания о геометрических фигурах и пространственных отношен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Игра будет активно воздействовать на познавательно – речевое развитие ребенка, если воспитатель обогащает ее содержание, правильно организует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знавательно-речевое развитие детей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247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Особенно важное место в познавательно – речевом  воспитании занимают дидактические игры, обязательными элементами которых являются познавательное содержание и умственная задача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Многократно участвуя в игре, ребенок прочно усваивает знания, которыми он оперирует (например, названия и внешний вид растений, предметов, необходимых для труда, содержание литературных произведений и т.п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Решая умственную задачу в игре, малыш упражняется в произвольном запоминании и воспроизведении, в классификации предметов или явлении по общим признакам, в выделении свойств и качеств предметов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Constantia"/>
              </a:rPr>
              <a:t>В определении их по отдельным признакам. Например, в играх «Что изменилось?», «Чего не стало?» ребенок должен запомнить ряд предметов или их расположение, а затем восстановить в памяти эту картину и определить, какие изменения произошли</a:t>
            </a:r>
            <a:r>
              <a:rPr b="0" lang="ru-RU" sz="2000" spc="-1" strike="noStrike">
                <a:solidFill>
                  <a:srgbClr val="04617b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6:55:42Z</dcterms:created>
  <dc:creator>Admin</dc:creator>
  <dc:description/>
  <dc:language>en-US</dc:language>
  <cp:lastModifiedBy>Admin</cp:lastModifiedBy>
  <dcterms:modified xsi:type="dcterms:W3CDTF">2013-02-08T11:45:56Z</dcterms:modified>
  <cp:revision>71</cp:revision>
  <dc:subject/>
  <dc:title>Зачётная работа по КПК:</dc:title>
</cp:coreProperties>
</file>