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B88-B86C-479A-93B6-11D8980E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049-8E37-487B-9284-5C2AA720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D7C-2FC0-4E3F-AEFD-FC8F9CBE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47A-CD0A-4A47-8490-86A5D4DA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583E-655D-4483-9A70-4F39AEE3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AA6D-7A85-4C13-8932-0C92961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056-F400-4007-BB0E-945976B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783-C04A-429D-A78B-A4FEDAC6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3D0-4145-445A-90B0-9CE747F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655E-A80C-4CE0-B4B2-DBC04C8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5BF1-5611-4344-9FBF-D57114E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F1F-5B1D-4E6A-AE7F-19D3BBC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ED6-40CD-4293-AD55-9BD93EF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DE14-3AD2-4948-AADF-147B0D3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76F-DD67-4DB6-A201-E956404F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9C02-1351-424F-A1D8-4FA2018D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946F-943A-43DF-9F5E-9C73FFB2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4D44-09B6-457B-BAD8-30664890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B5F4-6E7E-47AA-8C2C-12ED127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A2E7-7372-4EFD-95A2-8C8BB5DB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E3A6-F385-4519-B607-34B5F627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F03D-7EFB-437D-BAA2-DBBD8E6C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96F-F296-44E0-9555-7E42968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4F2A-D15C-46FC-925B-A6828FC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FA24-5C8E-46DF-BDAA-EBF4F04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C1FE-2E3D-4A4B-A705-62CB9282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60F3-776C-42AE-8019-E8D824E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F5DE-AD0A-46D7-BD08-5BE6FD5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663A-33A4-4547-A666-161CC97C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5B4F-048E-4CD3-8F5E-E56F660E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C719-0E8B-43D1-B3FD-28712A26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A4F4-D5CE-4DA6-B163-66C8C03E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B5DC-A5CA-4A2E-83CE-07C3334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F4F-C547-42B1-AB03-4831536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03B0-B045-45FC-90EF-326E7429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27C5-E4D1-4417-BD6A-007F68CD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D810-66C9-4E1E-9B6E-897CFF9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6112-58EB-498B-8F81-94E0205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F212-B7DE-4BEA-9EBD-EEB36EB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9247-752A-4B05-8A4E-CFDE0343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46200-55B5-44A6-8B44-8B57578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823E-2829-43FE-8B17-89D88855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0C5C-0475-4FA0-AE1F-ED2B562D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383-BC34-4B96-AA5D-A83F810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8BE-7DA2-490D-993F-2CF1869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842-B211-47DE-BCBA-A3166B8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C72-352C-4A22-A4D5-9CDCAA3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47C-0D24-46E3-A5B6-B18DEA0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5628-0DCD-40AA-A8B8-AF05863880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0DB8-4162-4D65-A897-BB2F95C04C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4C4-C470-4A20-B973-73767E1538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4AE0-C89E-476E-8530-64788F6F22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8515440" cy="2054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5280" y="249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Тема:«Познавательная речевая деятельность дошкольников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Выполнила:              воспитател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таршей групп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ДОУ №1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Бабенко Р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ch.jpg"/>
          <p:cNvPicPr/>
          <p:nvPr/>
        </p:nvPicPr>
        <p:blipFill>
          <a:blip r:embed="rId2"/>
          <a:stretch/>
        </p:blipFill>
        <p:spPr>
          <a:xfrm>
            <a:off x="1079640" y="3541680"/>
            <a:ext cx="4041720" cy="2828880"/>
          </a:xfrm>
          <a:prstGeom prst="rect">
            <a:avLst/>
          </a:prstGeom>
          <a:ln w="0">
            <a:noFill/>
          </a:ln>
        </p:spPr>
      </p:pic>
      <p:sp>
        <p:nvSpPr>
          <p:cNvPr id="198" name="Подзаголовок 2"/>
          <p:cNvSpPr/>
          <p:nvPr/>
        </p:nvSpPr>
        <p:spPr>
          <a:xfrm>
            <a:off x="324000" y="6165720"/>
            <a:ext cx="83055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анкт-Петербург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Выполнила:             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таршей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ДОУ №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Бабенко Р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играх «Найди предмет такой же формы», «Подбери по цвету», «Кому что нужно для работы» необходимо сгруппировать предметы по общим признакам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играх «Узнай по описанию», «Чудесный мешочек», «Угадай по голосу» дети определяют по предмет по одному из признак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. В соответствии с требованиями СанПиНов, все занятия, требующие повышенной познавательной активности и умственного напряжения (интегрированные познавательные занятия, занятия познавательно-речевого блока) проводятся в первую половину дня со вторника по четверг дни наиболее высокой работоспособности детей. Для профилактики утомления эти занятия чередуются с музыкальными, физкультурными занятиям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Удовлетворяя свою любознательность в процессе активной познавательной и познавательно-исследовательской деятельности, дети расширяют свои представления о мире, начинают овладевать основополагающими формами познания о себе, предметах быта, социальном окружении, о явлениях общественной жизн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071800" y="3429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1643040" y="3214800"/>
            <a:ext cx="5857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027160" y="1330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324000" y="14130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Таким образом, дидактические игры способствуют закреплению и уточнению знаний по познавательно – речевому развитию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bn01.jpg"/>
          <p:cNvPicPr/>
          <p:nvPr/>
        </p:nvPicPr>
        <p:blipFill>
          <a:blip r:embed="rId1"/>
          <a:stretch/>
        </p:blipFill>
        <p:spPr>
          <a:xfrm>
            <a:off x="1332000" y="2205000"/>
            <a:ext cx="7056360" cy="4103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1.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Разрезать картинки опасных предметов по пунктирным линиям. Карточки с названиями предметов раздаются поровну детям. Ребёнок должен прочитать и приложить название к нужному предме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598400"/>
            <a:ext cx="73260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2  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Ведущий описывает какой-либо опасный предмет, а дети должны угадать о каком предмете идёт речь. Тем самым дети не только угадывают названия предметов, но и развивают свою речь задавая вопросы и отвечая на них полными и развёрнутыми ответ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50920" y="1628640"/>
            <a:ext cx="74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7386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79280" y="1700280"/>
            <a:ext cx="763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редлагаем детям разделить предметы, окружающие детей  на опасные и не опасные, на электрические и механические. Заостряем внимание детей на том, как важно знать о возможной опасности предмета, его помощи в деятельности человека, правилах обращения с предм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2011-04-18 16.35.33.jpg"/>
          <p:cNvPicPr/>
          <p:nvPr/>
        </p:nvPicPr>
        <p:blipFill>
          <a:blip r:embed="rId1"/>
          <a:stretch/>
        </p:blipFill>
        <p:spPr>
          <a:xfrm>
            <a:off x="5931000" y="328680"/>
            <a:ext cx="2895480" cy="2170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яснительная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пис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13000"/>
            <a:ext cx="8229600" cy="5256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Тема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«Познавательная речевая деятельность дошкольников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Цель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ознавательно-речевого направления является активное использование технологий развивающего обучения в практике нашего дошкольного образовательного  учреждения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обеспечивающее успешность в развитии интеллектуальной сфере дошколь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Основные задачи познавательно-речевое развитие дете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1)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богащать познавательную сферу информацией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 лежащей за пределами непосредственно воспринимаемой деятельности. Передавать информацию через слов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2)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богащать эмоционально-чувственный опыт в процессе непосредственного взаимодействия с объектами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явлениями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с другими людь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r>
              <a:rPr b="1" i="1" lang="ru-RU" sz="1500" spc="-1" strike="noStrike">
                <a:solidFill>
                  <a:srgbClr val="04617b"/>
                </a:solidFill>
                <a:latin typeface="Constantia"/>
              </a:rPr>
              <a:t>3)  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Помогать упорядочивать </a:t>
            </a: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сведения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 о мире</a:t>
            </a:r>
            <a:r>
              <a:rPr b="0" i="1" lang="en-US" sz="19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 формировать представление о его целост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Познавательно-речевое развит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ключает в себя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     •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уточнение и обогащение словарного запаса детей в связи с расширением непосредственных впечатлений об окружающем мире; •умение устанавливать причинно-следственные связи в наблюдаемых природных и общественных явлениях с помощью педагог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•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систематизация знаний и представлений, их обобщение и применение в собственной продуктивной и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 этой сфере происходит развитие ребенка как субъекта познания: его любознательности, инициативности, самостоятельности в поиске новых впечатлений, опробовании разных способов действия, ответов на возникающие у него вопросы, решении проблемных ситуаций. Развиваются общие представления ребенка об окружающем мире, о себе, о других людях. На протяжении дошкольного возраста совершенствуется и обогащается речь ребенка, становясь одним из необходимых условий позн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Образование, направленное на познавательное развитие ребенка в дошкольном возрасте, предполагае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опору на природную детскую любознательнос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поощрение познавательной инициативы ребенка – детских вопросов, рассуждений, самостоятельных умозаключений, уважительное к ним отнош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569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пору на такие виды познавательной активности, как наблюдение, экспериментирование, познавательное общение; иг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рганизацию образовательной среды, стимулирующей познавательную активность де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редоставление информации из разных областей культуры (речевой), математики, естественных наук, искусств, общественной жизни человека, здоровья, экологии и пр.) в интегрированном виде посредством вовлечения детей в интересные для них виды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области естественных наук, экологии, здоровья. Взрослые создают широкие возможности для ознакомления детей с физическими свойствами предметов и явлений, многообразием растительного и животного мира, разнообразными условиями жизни на Земле и т.п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ри этом желательно опираться на привлекательные для детей занятия, такие как наблюдение за природными явлениями, жизнью растений и животных; составление гербариев; экспериментирование различными веществами (песком, водой, крупами, тестом), приборами и материалами (лупой, весами, магнитами и т.п.); исследование различных механизмов (часов, заводных игрушек и пр.), опробование свойств материалов и инструментов в процессе ручного труда; дидактическую игр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353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ажно к концу дошкольного возраста заложить у ребенка основы экологической культуры – подвести его к пониманию связи человека с природной средой, познакомить с этически ценными нормами и правилами поведения в природ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развитии речи ведущая роль принадлежит взрослым: воспитателем в детском саду родителям в кругу семьи. От культуры речи взрослых от того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как они говорят с ребенком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сколько внимания уделяют речевому общению с ним во многом зависит и развитие речи детей. Положительного результата можно добиться только при тесном сотрудничестве с родителями воспитан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азвитию связной речи детей необходимо уделять большое внимание . Успешность работы зависит от проведения занятий по ознакомлению с окружающим. Занятия с детьми необходимо проводить в форме свободной непринужденной познавательной деятельности взрослого с детьми, где взрослый-партнер учитывает детские интересы и поддерживает инициативу каждого, а ребенок воспринимается как полноправный субъект взаимодейств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Речь сопровождает и совершенствует познавательную деятельность детей, делает более целенаправленной и осознанной трудовую активность, обогащает игры, способствует проявлению творчества и фантазии в изобразительной, музыкальной, литературной деятельност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оспитатель помогает ребенку достичь коммуникативной компетентности к концу дошкольного возраста посредством решения задач по развитию  разных сторон речи во всех возрастных группах: «Развитие связной речи», «Развитие словаря», «Освоение грамматически правильной речи», «Освоение звуковой культуры речи», «Подготовка к обучению грамоте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Чтобы правильно организовать познавательно-речевое развитие дошкольников необходимо учитывать  следующие составляющие: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речь педагога дошкольного учреждения 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формирование представлений об окружающей жизни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развитие любознательности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сенсорное воспитание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иг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Задача педагога состоит в последовательном увеличении у детей запаса знаний, их упорядочении, системат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ебенок должен получить четкие  </a:t>
            </a:r>
            <a:br>
              <a:rPr sz="2000"/>
            </a:b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представления об окружающих предметах, их назначении, некоторых качествах (цвет, величина, форма) и свойствах (бьется, ломается, рвется, льется и др.), о материалах, из которых они сдела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н приобретает также знания о некоторых природных явлениях, их взаимосвязях и закономерностях (характерных признаках времен года и взаимосвязи между этими признаками, типичных особенностях некоторых животных и связи их с образом жизни этих животных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3864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дним из средств познавательно – речевого развития дошкольников является игра – специфическая детская деятельность, в которой ребенок отражает окружающую действительность, выявляет свои знания, делится ими с товарищам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тдельные виды игр по – разному воздействуют на познавательно – речевое развитие детей: сюжетно – ролевые расширяют представления об окружающем и способствуют развитию речевого общения; игры – драматизации помогают более глубокому пониманию произведений художественной литературы и активизируют речь; строительно – конструктивные развивают конструктивные способности и расширяют знания о геометрических фигурах и пространственных отнош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Игра будет активно воздействовать на познавательно – речевое развитие ребенка, если воспитатель обогащает ее содержание, правильно организует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247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собенно важное место в познавательно – речевом  воспитании занимают дидактические игры, обязательными элементами которых являются познавательное содержание и умственная задача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Многократно участвуя в игре, ребенок прочно усваивает знания, которыми он оперирует (например, названия и внешний вид растений, предметов, необходимых для труда, содержание литературных произведений и т.п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ешая умственную задачу в игре, малыш упражняется в произвольном запоминании и воспроизведении, в классификации предметов или явлении по общим признакам, в выделении свойств и качеств предметов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определении их по отдельным признакам. Например, в играх «Что изменилось?», «Чего не стало?» ребенок должен запомнить ряд предметов или их расположение, а затем восстановить в памяти эту картину и определить, какие изменения произошл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6:55:42Z</dcterms:created>
  <dc:creator>Admin</dc:creator>
  <dc:description/>
  <dc:language>en-US</dc:language>
  <cp:lastModifiedBy>Admin</cp:lastModifiedBy>
  <dcterms:modified xsi:type="dcterms:W3CDTF">2013-02-08T11:45:56Z</dcterms:modified>
  <cp:revision>71</cp:revision>
  <dc:subject/>
  <dc:title>Зачётная работа по КПК:</dc:title>
</cp:coreProperties>
</file>