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9.gif" ContentType="image/gif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3F30-2E45-4F77-87B8-A0CC2714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0846-4AB8-4928-853B-F0F188E9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0998E-1A7F-4DAF-99D5-214D9990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DCEB0-A38A-4D3C-A1B8-29C38D63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F2220-6256-4237-A0E6-AB76FBAE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9173D-AACF-4D89-ADB5-1F66EFF8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B73FE-A637-4D46-9EF2-CEE224DD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62E50-F07B-4C55-809C-A2505A82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143F5-3BE8-42D0-858C-B67178C2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75C22-E20B-4B0F-A3D1-6631623C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E4D64-72DD-4591-94D5-AF1AC058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7573A-E4F6-4975-8B08-BB04A2CF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76EF-E6DF-4192-A9C4-E1306285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5D5E6-9513-4E19-A0C1-BA30FD3E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F01A7-E4CD-4ECC-B8F9-C111EE27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5ECB1-D5DB-455B-8133-FD6807D1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6DFF6-C969-468F-A105-E1EF6227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614E2-B844-4C2E-911D-C99953A2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870B9-C01E-4A44-9152-54B1355C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4CFF5-2B71-4A44-BE07-F54C8115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F6868-5217-4598-B796-BFB63288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40417-41DE-4041-81E5-E1E318C0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EBC22-2B22-43FB-AEBC-8AC08DF7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E0C-AED3-4960-8985-CBC146A5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D7677-826A-45B7-A397-74399A41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D24CA-849C-4AEB-86E4-773D7345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689D6-37F3-456E-8099-71A12809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BDDA2-B21C-49D1-8451-A35C4CB4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C8167-AF16-469F-9BAC-8A7E5BB4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ABF21-0FE6-483D-84C3-1C1A079D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32852-7C1B-43B7-939E-F8F7BBAB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6105B-C56E-40FC-B504-9D2B5B87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B2D80-5656-4DFD-A137-1A7A4EDF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60E38-62EB-43E0-8D83-1A60EA1D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B6AD-38B7-4A78-87EE-063F7DCF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EF85D-9E50-453B-A7F6-49F8C468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616F4-444D-4BE1-8F32-DB1D60BB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7B59A-2097-4F3D-B390-1ED2A279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41FF9B-91D7-4E46-8047-B035247D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0721DC-97C0-405C-B440-1CDB7E8B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6562BF-C56F-4658-8678-E68530E3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154B0C-0550-4B4D-86C8-E04A171B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0BDB52-1BCF-44A7-998A-8D517B35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5B9B6F-C39A-4700-9645-956356B6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7B6E35-999A-43DC-B7FF-B6A6D722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F90C-0039-4D72-ACBE-F6632A16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3AB82F-E57E-4D9E-8383-2A36D8DE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1018C7-A0B0-4743-A3B8-6EAAF5CB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60E2FE-4D41-41B7-AFF6-2298299A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F92BE4-0ACB-4C32-B622-C6A785DC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BD5126-12F5-4C5F-9FCE-6227A1AC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7241E-8948-4D8A-BFF0-2EA5DCF6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475CE-93F6-417F-8E54-92FC754E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FC654-388B-45AE-8948-11EE442F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47AB19-B308-457E-B321-062E0E33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21D1B-1007-4FF7-B8D2-4357464F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AEC0-5345-44F7-9F75-D257C896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9653A-824A-4E9C-8D86-1E2C38CD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4A479-11DD-4960-8E35-0C6A0901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DA8C87-3E53-450F-A156-A69AC881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75B268-E7D3-4E63-B717-A6E0CC1B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6B5298-C8C2-460D-9BDF-D768F21A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DDD86-936B-48BF-9F12-7A1445DA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E338D-D94A-4ECC-A485-CCED90E7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0EADFC-79A0-4FDF-B7A1-86F54DD9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4F19A4-0470-412E-B549-C4D35632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444473-C71A-4E77-82A7-3C8D8815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5FC5-7743-4AA4-BFA1-ADF4C332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91CEAE-D789-4E2C-A9D6-B4524C87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52F55A-3B43-447F-98E3-E811AD24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72F645-B1BB-4F75-9FC7-BFCFCF62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FD33C7-6955-4FA9-8552-0863343A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0B8AE0-A90E-4899-9386-0D55C999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915D8C-D210-495E-AFDC-FD13960C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C52468-DD2D-4E84-8A2C-5B951817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01875C-745F-4DDE-A598-34C447A0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1E7207-7E08-4130-BFDD-4B532B57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E71B93-8112-47CA-B959-6778DDD0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8289-17CE-482E-BE37-3C31D7D9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7629B8-AEBA-4B4A-BF9E-A9A5C191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288A2A-342B-481E-8FC0-B5F31787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048F7A-0ED4-4E6D-843D-52473B51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5B0958-8953-4965-ADD9-6BDD26AB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F3513F-C27D-4B02-A290-0F4BF45C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AC42CA-C3C1-4CCF-851F-E1879D1C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64A29E-57E0-4FC0-831A-3CFAA462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720C71-D9D3-4486-8EDF-91567C8D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C7DAFB-A995-4944-8721-758A1B47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1A0190-3FC7-4509-8D2A-B4C2D7FB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4A3D-5455-4829-8F84-21D589B4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F0F5A4-836A-4EC3-ADFA-2EB1593F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AFB83E-DDE9-4912-867F-CC5557B7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3658CD-9348-4BBA-ADAE-5943614C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81744A-00C4-4A73-A1B3-A8F32AFC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526282-473C-4592-8683-4C3E1F5A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1619A9-4B70-4660-A843-A023F7B8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04C312-FBDC-4133-A134-8AF5ACDA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42714D-9ED1-4F12-A726-8A8331EF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FECCA5-AF59-4EBD-B2FE-DAA30670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B3E581-CCC6-4BAC-A651-90FE310F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E3A3-77D5-4B34-8291-CB7E4C4A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E61956-FAF9-46C1-9599-2F50D493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424DD7-055D-40D0-A9DC-40247F82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58366B-C2EE-42E0-8199-9DE9F6CF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974CF1-AD00-4A45-A553-2DDB3AF7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B0F02B-E058-4ECB-B79C-BD3D3708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5AB103-D6D5-487D-B33C-0FD1E9F2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31F658-E0EE-4D48-A79E-19CA5C7B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231F74-2B70-4DB7-A88E-4618073D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B0556F-DE39-49F8-8F46-F2F532D7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B469B3-08BA-447C-88DA-0D86D4C4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C6AB-74EC-4BFE-A20F-9E0530CC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EBD2-8681-49C0-AB12-E5DAD7D1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13D4FA-0B27-41CD-87A1-FB9F4748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A9D62B-3193-4EC4-821F-20C37ECB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E91771-1EC0-4942-9354-A9D171E9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A9C284-D4DE-4C0A-BE5D-6D9129DE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F0D378-D762-4FB2-8D31-6C63BA7F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4E0A80-67E9-4FA4-9B25-74A60229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DED0B3-1F89-4E26-84CF-ABEEFCA7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9EA30A-A884-4240-9BF3-DDE71AFB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CD851F-9F61-48D1-8616-E22E6043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38A331-BE9E-481A-8BDD-2EFC632C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9E88-6E9E-4CD1-AA06-B498DEEC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CD4E79-C365-4C8A-85F9-F8747909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642678-7701-47A1-A6F0-7A70F330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E71756-C620-4C0D-A0D0-0972334F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6333E3-4441-4220-8153-5661E375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1F58FE-1398-4220-BCE6-6FD2D24C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C5170D-D8DF-4453-BF65-02071091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B608B3-39D9-4B9E-BCFE-91EA48BA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FD6A25-ADD0-4776-B7CF-5D7B913E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5B3012-5AD7-4A02-9341-BDC8B5A7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640CED-8885-4CFF-B50B-6163A305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40A3-11F7-45B8-B60C-CE5696FB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F954F2-BF58-470B-85D5-134D1483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CCBD2D-2BC8-45E6-9F8A-03E0B42E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C15B36-89DB-42A5-9E38-717A2AA3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5AD415-D55E-46C3-90F5-88C7422A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6981FB-A1FF-4653-8BCE-0B6E725F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670CB0-A82F-42FE-9DA0-96C76247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DEC707-941D-4A03-BE0D-AA515E0D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9622F4-2F9A-4C3D-925F-F5F07320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62EB52-0C06-41E9-9815-A40816C7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05FDAE-7A58-4373-AC91-B095DC75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64FD-63BE-4292-BA04-C6072088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0553BB-8074-49D6-B31A-ED0103DC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90317B-5B35-4B0E-913E-528110C0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80E4A0-56BA-4C9E-95B8-BD6B4CF0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E12AEB-4A19-445B-AA9F-009891B1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2A6B54-C638-4E05-8094-743E32D5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AB4B5D-E438-447E-9EEF-646A0DF0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3F3267-6F44-4F03-9555-9B060F7A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3AAD3F-6FCB-4150-9E87-04BF354B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D472EA-067D-42CF-98CF-978BE3BF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6EE313-8711-447D-B028-692187F5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E5F0-013A-4825-A8AF-379A9B4B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46DFB4-9AC0-4BF4-BF33-7C71FD26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49C51A-835B-4238-B101-14722F65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933853-6A8B-4E1C-B127-2157B134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232C6B-322F-4CB9-A4A7-384E317A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BF5F72-AC21-4E35-8D6B-8674C8A1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CB886A-CC43-4B64-9A0F-DA8C50B0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AD4A8B-D3F5-473F-A52B-BF626344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F616B4-E792-4D89-B45B-0BF95499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7E494D-97C6-45A5-9EDA-9312B7DE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17580D-2832-4B76-A7F5-C9C9A278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89B2D-60B5-42AF-87B4-9E749AE0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1D1272-5F2A-4CC4-88E4-CF2D623C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48EBCD-789B-4524-8B52-BD2AC721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C302D4-7C1A-496A-9FDB-1CAC2DB4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D00D80-7C05-4CC7-82E2-53B5FC63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C47BAE-3B45-4B6E-B2A5-D23E37AA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C82926-97D2-4B5E-BADB-3CF6023E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296CBF-9ECE-4316-8907-837D30A7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FA000B-C726-46CA-9C78-10885C69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0FDAFE-C802-4088-AF8B-5E3019E8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530987-4C2F-4404-B986-DCBE2C9A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7D213-7C27-4B9E-B1C0-6B083086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EF7F32-9FF2-4D7B-99C2-E4A5230C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66E17E-97F3-460E-8C3D-C20E59D4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AC5431-6071-41C3-A2E6-7E0324EB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116E8A-BFB6-4F99-B107-163719DE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F47755-717B-4410-8183-D94FEE80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EDD8E8-C33E-438E-BA04-2A894850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FD4823-7482-464E-AFD4-68567217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2DD2B9-922A-42B1-98D9-5BF8136D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EC91AE-2668-4BB5-92A2-89EAF30E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B8D8BC-E79B-41BE-BF9C-71348410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8DB4F-9FAE-405B-9095-015F1E18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312F39-65F8-4454-BFF3-BE18BB03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EBEB7E-3346-4F83-B343-1799E196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1D626D-1087-4FD5-A7C9-0066AC81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2B40B4-D51D-45C1-8BC3-043CFCB8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3F1383-D89C-4FA0-BF81-5E8EA968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7C0B01-2EDF-4054-BE47-D64F6758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F662FA-2A6C-4C9F-B26A-31529A16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EA711-0D8D-48E5-8DC3-657F2252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33904-1D90-4FF3-8ED2-D461E606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2746-D07F-408E-AECC-1B7B87DD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7BFAF-A2D8-401B-8BA2-F48DCCDE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65EBA-C91D-4A17-83B8-6F024D16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89E50-5F25-400E-BE81-58A84EC5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8C4F6-2B42-45CA-8622-392239FD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88B86-B970-47E9-9245-89755D08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6787B-EF54-4996-A27C-90F611CE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8DF4C-1B2C-4814-ABBC-AC432EDE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C5D7E-CA8D-44C1-B055-AEEC687C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C8183-8A18-4604-9EAF-E7A8DE6F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7B1E6-7877-4DF7-9ED6-AA0BCD97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512-4278-4D8C-8B4C-6FB2455E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505E3-7FBC-4167-8021-1EBE1F06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97333-FD21-4B06-94A3-C129EBC4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4B8A6-7740-4CB8-B444-E042A379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1DD3E-0F30-450A-B3D1-F0D986A0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CA44C-F277-4041-A177-6A5146D2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8D5F1-8B8E-4C73-833A-1985CA2A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CC5EF-0328-4FC5-BF18-54A631EC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1529A-2025-40FC-AD70-2C0CB6FB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BE68B-B591-4A38-B9E0-A34B64EF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1B523-DB35-44F5-83D5-8C098B17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A1BF-EE23-48BF-8BA2-15229F99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55CFC-AC43-413C-B51F-51A772F0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138CB-CD54-4D84-8C3F-57AF3831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268F7-5E52-45E0-A2CD-EE358D52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37806-33B6-4497-8569-FB50A5BC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68F47-2966-4D17-B623-E94E298D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1CFFC-23F8-497B-A303-AED24A53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EBC53-22DA-45BE-9257-AB4D261F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29AD4-F4FF-4BBF-B29A-F5181AAB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57AEF-97BB-4C8A-B4CD-CBBEE380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49D22-752B-4F92-BDCB-89D97C15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C88C-BE5B-4619-BC7C-950470F8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EBAA5-1C65-4C0B-9BF9-8AF49A89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2FBFD-DA01-46C7-BA1D-9B4CCA4F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05870-492B-4046-9178-3B9DA76B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90E8D-BC96-428D-A7FE-EE2BC10D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929F9-DC21-4368-A969-9E25A1F6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AF6FA-0C13-4C2F-98BF-2F735466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E0835-52A0-4E46-83F0-BDF13CB9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A2E94-E936-4073-A620-877F782F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713F0-8D13-4ABD-A411-4B22DE3B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33C04-DE8B-460A-9919-B003E98B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AB3A-9765-45D3-BE4E-55E31DF0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54C62-9279-4429-958C-83A7BB96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568DC-B8E1-48A5-B067-D1D7B6EC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0D4B2-2BB2-4956-9D82-3F554EBA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264A4-5726-4944-BB3B-9434B9D2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D2EE5-AD98-4E11-B4E4-F9C6C053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4DDB5-B978-498F-965E-F8CC06FD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4F4B7-9F77-437F-94A8-94542663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46FE4-97B8-44CA-8E8E-74962F17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6E8D6-D88D-489E-A719-8CC3711E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42325-B820-4C8E-A086-138393D5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790E-A66A-44D4-98D6-E07C28D3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2EDAD-269B-4012-9DCA-872A5FDC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F4FAC-605F-4253-825C-8EA9520D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B0FA7-3FF4-43C5-B5E5-FF540A18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54AD9-7963-4632-AA56-9590DACB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61AAA-C81F-44D2-9649-3B08CF4F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01C17-1249-46B6-9113-CFF979C2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30104-62A4-4CFE-B874-6CD9FA57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D6A62-7AF7-4157-82FE-DAF66675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8FA4B-6D4A-4F31-ABAB-544727B7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C2747-3E20-436F-ACCF-7BF39FBC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580-FBC8-4AF5-AFA1-982DAB9C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F8933-7C1A-47B2-943B-2D121336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C3DBD-9C97-4200-8065-022F2478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33003-C9B2-4F9C-9606-0652F851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9566C-D7BE-4351-B98D-F7DA005F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D4B31-A885-4F61-B2F2-6DDF93E4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4D420-5462-483C-B5E3-53407DD9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9DD04-5C77-4809-98BA-19B63FE3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FD227-2D02-4E6A-BDAD-BF0FFF4C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AC590-55EC-4B9D-825F-70DF6137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AB2BE-3939-4B55-8ED0-BFDABCB1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2C90-C990-4718-8B79-2F10E9B9E19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21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2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23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35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54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1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72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8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A6F1-26A5-45F3-8EF5-BBE355A37E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26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6C53-5C01-4077-8C5F-CC1053EEAF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B0F3-8137-42D6-AE62-D2CCEC8DA3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716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>
                <a:gd name="textAreaLeft" fmla="*/ 0 w 13452480"/>
                <a:gd name="textAreaRight" fmla="*/ 13452840 w 13452480"/>
                <a:gd name="textAreaTop" fmla="*/ 0 h 10794960"/>
                <a:gd name="textAreaBottom" fmla="*/ 10795320 h 1079496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38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B2E9-5574-4791-9047-7F2BB7FE7E8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760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dt" idx="4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4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sldNum" idx="4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EF8A-D8D4-41D5-AC0F-678A8B7B1B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04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4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4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4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4049-E743-4787-9BC7-AFB4A450D53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48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dt" idx="4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ftr" idx="4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sldNum" idx="4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84A4-1AE5-481A-A414-23D92F66CBD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2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4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5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5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9E84-2FB7-4A39-84E8-478C3CAFB20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936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5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5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5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21A8-734A-43A8-84C4-E8181EBB8B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980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5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5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5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7676-C672-4564-9540-E8498DAED2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3B40-9FD2-4E21-AEB0-6334C05BA5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024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5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5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6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EAAB-8327-42D4-85D3-050723DE98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068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6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6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6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2FCE-4C82-40FA-AE9F-CCCBA053DB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1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017D-0987-478E-AC88-EB935FB9E1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7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17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79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118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3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184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976F-181B-4F3D-B4D1-C65E7B3565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7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8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BD10-2BA0-49B7-AC96-928F5C0455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950C-AE00-45D5-9AB9-EBDA6DFCD0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2411-E22F-4C06-9025-F11AC0C4DE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1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6695-1975-4AC1-ABB3-2A16F641E5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72B7-3B72-4745-90A3-A4653C9E69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E48F-E4A9-45CA-B8E1-284E277F88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4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4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7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54DF-3FC0-4781-8E84-9838494F762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очему эти растения объединяют в одну группу?</a:t>
            </a:r>
            <a:endParaRPr b="0" lang="en-US" sz="2800" spc="-1" strike="noStrike">
              <a:solidFill>
                <a:srgbClr val="ffffb7"/>
              </a:solidFill>
              <a:latin typeface="Tahoma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5977080" cy="56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Вид – это основная систематическая единица!</a:t>
            </a: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273" name="Содержимое 2"/>
          <p:cNvSpPr/>
          <p:nvPr/>
        </p:nvSpPr>
        <p:spPr>
          <a:xfrm>
            <a:off x="395280" y="1773360"/>
            <a:ext cx="46195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7030a0"/>
                </a:solidFill>
                <a:uFillTx/>
                <a:latin typeface="Tahoma"/>
              </a:rPr>
              <a:t>Видовые названия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c00000"/>
                </a:solidFill>
                <a:latin typeface="Tahoma"/>
              </a:rPr>
              <a:t>герань лесная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c00000"/>
                </a:solidFill>
                <a:latin typeface="Tahoma"/>
              </a:rPr>
              <a:t>радиола розовая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c00000"/>
                </a:solidFill>
                <a:latin typeface="Tahoma"/>
              </a:rPr>
              <a:t>фиалка собачья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c00000"/>
                </a:solidFill>
                <a:latin typeface="Tahoma"/>
              </a:rPr>
              <a:t>лапчатка прямостоячая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Прямоугольник 3"/>
          <p:cNvSpPr/>
          <p:nvPr/>
        </p:nvSpPr>
        <p:spPr>
          <a:xfrm>
            <a:off x="539640" y="4365720"/>
            <a:ext cx="7777440" cy="2492280"/>
          </a:xfrm>
          <a:prstGeom prst="rect">
            <a:avLst/>
          </a:prstGeom>
          <a:solidFill>
            <a:srgbClr val="dde6dd"/>
          </a:solidFill>
          <a:ln w="255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Видовое название состоит из двух сл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4b4"/>
                </a:solidFill>
                <a:latin typeface="Tahoma"/>
              </a:rPr>
              <a:t>1– существительное -</a:t>
            </a: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i="1" lang="ru-RU" sz="3200" spc="-1" strike="noStrike" u="sng">
                <a:solidFill>
                  <a:srgbClr val="3333ff"/>
                </a:solidFill>
                <a:uFillTx/>
                <a:latin typeface="Tahoma"/>
              </a:rPr>
              <a:t>родовое</a:t>
            </a:r>
            <a:r>
              <a:rPr b="1" lang="ru-RU" sz="32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84b4"/>
                </a:solidFill>
                <a:latin typeface="Tahoma"/>
              </a:rPr>
              <a:t>название</a:t>
            </a:r>
            <a:r>
              <a:rPr b="0" lang="ru-RU" sz="3200" spc="-1" strike="noStrike">
                <a:solidFill>
                  <a:srgbClr val="0084b4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4b4"/>
                </a:solidFill>
                <a:latin typeface="Tahoma"/>
              </a:rPr>
              <a:t>2 – прилагательное -</a:t>
            </a:r>
            <a:r>
              <a:rPr b="1" lang="ru-RU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i="1" lang="ru-RU" sz="3200" spc="-1" strike="noStrike" u="sng">
                <a:solidFill>
                  <a:srgbClr val="3333ff"/>
                </a:solidFill>
                <a:uFillTx/>
                <a:latin typeface="Tahoma"/>
              </a:rPr>
              <a:t>видовое</a:t>
            </a:r>
            <a:r>
              <a:rPr b="1" lang="ru-RU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84b4"/>
                </a:solidFill>
                <a:latin typeface="Tahoma"/>
              </a:rPr>
              <a:t>наз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Прямоугольник 4"/>
          <p:cNvSpPr/>
          <p:nvPr/>
        </p:nvSpPr>
        <p:spPr>
          <a:xfrm>
            <a:off x="2590920" y="3141720"/>
            <a:ext cx="6553080" cy="792000"/>
          </a:xfrm>
          <a:prstGeom prst="rect">
            <a:avLst/>
          </a:prstGeom>
          <a:solidFill>
            <a:srgbClr val="dde6dd"/>
          </a:solidFill>
          <a:ln w="255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entury Schoolbook"/>
              </a:rPr>
              <a:t>Такая форма названий –                              бинарная или двой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1000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1000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000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Не стоит путать!!!</a:t>
            </a: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Ви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Вид – формируется в природе в процессе развития и приспособления к определенным условия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ор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Сорт – это группа растений одного вида, созданных человеком и обладающих определенными хозяйственными признаками и свойств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Прямоугольник 1"/>
          <p:cNvSpPr/>
          <p:nvPr/>
        </p:nvSpPr>
        <p:spPr>
          <a:xfrm>
            <a:off x="971640" y="18900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ahoma"/>
              </a:rPr>
              <a:t>Видовые названи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2" name="Содержимое 4" descr="лютик едкий.jpg"/>
          <p:cNvPicPr/>
          <p:nvPr/>
        </p:nvPicPr>
        <p:blipFill>
          <a:blip r:embed="rId1"/>
          <a:stretch/>
        </p:blipFill>
        <p:spPr>
          <a:xfrm>
            <a:off x="250920" y="260280"/>
            <a:ext cx="2376360" cy="3303720"/>
          </a:xfrm>
          <a:prstGeom prst="rect">
            <a:avLst/>
          </a:prstGeom>
          <a:ln w="0">
            <a:noFill/>
          </a:ln>
        </p:spPr>
      </p:pic>
      <p:sp>
        <p:nvSpPr>
          <p:cNvPr id="1283" name="Прямоугольник 3"/>
          <p:cNvSpPr/>
          <p:nvPr/>
        </p:nvSpPr>
        <p:spPr>
          <a:xfrm>
            <a:off x="574560" y="314172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ютик ед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4" name="Рисунок 4" descr="ranunculus_cassubicus1.jpg"/>
          <p:cNvPicPr/>
          <p:nvPr/>
        </p:nvPicPr>
        <p:blipFill>
          <a:blip r:embed="rId2"/>
          <a:stretch/>
        </p:blipFill>
        <p:spPr>
          <a:xfrm>
            <a:off x="250920" y="3645000"/>
            <a:ext cx="4066920" cy="2836800"/>
          </a:xfrm>
          <a:prstGeom prst="rect">
            <a:avLst/>
          </a:prstGeom>
          <a:ln w="0">
            <a:noFill/>
          </a:ln>
        </p:spPr>
      </p:pic>
      <p:pic>
        <p:nvPicPr>
          <p:cNvPr id="1285" name="Рисунок 5" descr="лютик ядовитый).jpg"/>
          <p:cNvPicPr/>
          <p:nvPr/>
        </p:nvPicPr>
        <p:blipFill>
          <a:blip r:embed="rId3"/>
          <a:stretch/>
        </p:blipFill>
        <p:spPr>
          <a:xfrm>
            <a:off x="3203640" y="692280"/>
            <a:ext cx="3097080" cy="2808000"/>
          </a:xfrm>
          <a:prstGeom prst="rect">
            <a:avLst/>
          </a:prstGeom>
          <a:ln w="0">
            <a:noFill/>
          </a:ln>
        </p:spPr>
      </p:pic>
      <p:pic>
        <p:nvPicPr>
          <p:cNvPr id="1286" name="Рисунок 6" descr="лютик золотистый.jpg"/>
          <p:cNvPicPr/>
          <p:nvPr/>
        </p:nvPicPr>
        <p:blipFill>
          <a:blip r:embed="rId4"/>
          <a:stretch/>
        </p:blipFill>
        <p:spPr>
          <a:xfrm>
            <a:off x="6732720" y="189000"/>
            <a:ext cx="2232000" cy="3351240"/>
          </a:xfrm>
          <a:prstGeom prst="rect">
            <a:avLst/>
          </a:prstGeom>
          <a:ln w="0">
            <a:noFill/>
          </a:ln>
        </p:spPr>
      </p:pic>
      <p:pic>
        <p:nvPicPr>
          <p:cNvPr id="1287" name="Рисунок 7" descr="лютик ползучий.jpg"/>
          <p:cNvPicPr/>
          <p:nvPr/>
        </p:nvPicPr>
        <p:blipFill>
          <a:blip r:embed="rId5"/>
          <a:stretch/>
        </p:blipFill>
        <p:spPr>
          <a:xfrm>
            <a:off x="5148360" y="3645000"/>
            <a:ext cx="3849480" cy="2952720"/>
          </a:xfrm>
          <a:prstGeom prst="rect">
            <a:avLst/>
          </a:prstGeom>
          <a:ln w="0">
            <a:noFill/>
          </a:ln>
        </p:spPr>
      </p:pic>
      <p:sp>
        <p:nvSpPr>
          <p:cNvPr id="1288" name="Прямоугольник 8"/>
          <p:cNvSpPr/>
          <p:nvPr/>
        </p:nvSpPr>
        <p:spPr>
          <a:xfrm>
            <a:off x="250920" y="6093000"/>
            <a:ext cx="2160360" cy="642600"/>
          </a:xfrm>
          <a:prstGeom prst="rect">
            <a:avLst/>
          </a:prstGeom>
          <a:solidFill>
            <a:srgbClr val="002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ютик кашуб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Прямоугольник 9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solidFill>
            <a:srgbClr val="002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ютик ползуч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Прямоугольник 10"/>
          <p:cNvSpPr/>
          <p:nvPr/>
        </p:nvSpPr>
        <p:spPr>
          <a:xfrm>
            <a:off x="4067280" y="306864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ютик ядовит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Прямоугольник 11"/>
          <p:cNvSpPr/>
          <p:nvPr/>
        </p:nvSpPr>
        <p:spPr>
          <a:xfrm>
            <a:off x="6816600" y="314172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ютик золотист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Заголовок 1"/>
          <p:cNvSpPr/>
          <p:nvPr/>
        </p:nvSpPr>
        <p:spPr>
          <a:xfrm>
            <a:off x="539640" y="0"/>
            <a:ext cx="820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Таксономическое описание ви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Содержимое 2"/>
          <p:cNvSpPr/>
          <p:nvPr/>
        </p:nvSpPr>
        <p:spPr>
          <a:xfrm>
            <a:off x="0" y="692280"/>
            <a:ext cx="392436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Verdana"/>
              </a:rPr>
              <a:t>Царство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Отде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лас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Поряд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Семей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Р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Verdana"/>
              </a:rPr>
              <a:t>Ви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Содержимое 3"/>
          <p:cNvSpPr/>
          <p:nvPr/>
        </p:nvSpPr>
        <p:spPr>
          <a:xfrm>
            <a:off x="4140360" y="907920"/>
            <a:ext cx="50036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 u="sng">
                <a:solidFill>
                  <a:srgbClr val="c00000"/>
                </a:solidFill>
                <a:uFillTx/>
                <a:latin typeface="Verdana"/>
              </a:rPr>
              <a:t>Растения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c00000"/>
                </a:solidFill>
                <a:latin typeface="Verdana"/>
              </a:rPr>
              <a:t>Покрытосеменные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c00000"/>
                </a:solidFill>
                <a:latin typeface="Verdana"/>
              </a:rPr>
              <a:t>Двудольные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c00000"/>
                </a:solidFill>
                <a:latin typeface="Verdana"/>
              </a:rPr>
              <a:t>Магнолиевидные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c00000"/>
                </a:solidFill>
                <a:latin typeface="Verdana"/>
              </a:rPr>
              <a:t>Лютиковые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c00000"/>
                </a:solidFill>
                <a:latin typeface="Verdana"/>
              </a:rPr>
              <a:t>Лютик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 u="sng">
                <a:solidFill>
                  <a:srgbClr val="c00000"/>
                </a:solidFill>
                <a:uFillTx/>
                <a:latin typeface="Verdana"/>
              </a:rPr>
              <a:t>Лютик едкий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800"/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то такое систематика и классификация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6" name="Содержимое 2"/>
          <p:cNvSpPr/>
          <p:nvPr/>
        </p:nvSpPr>
        <p:spPr>
          <a:xfrm>
            <a:off x="250920" y="1600200"/>
            <a:ext cx="80661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Систематика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-  это наука о классификаци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Содержимое 3"/>
          <p:cNvSpPr/>
          <p:nvPr/>
        </p:nvSpPr>
        <p:spPr>
          <a:xfrm>
            <a:off x="503280" y="3357720"/>
            <a:ext cx="8640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лассификация </a:t>
            </a:r>
            <a:r>
              <a:rPr b="1" i="1" lang="ru-RU" sz="4100" spc="-1" strike="noStrike">
                <a:solidFill>
                  <a:srgbClr val="7030a0"/>
                </a:solidFill>
                <a:latin typeface="Arial"/>
              </a:rPr>
              <a:t>–            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это разделение всей общности на отдельные группы по какому-либо признаку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66"/>
                </a:solidFill>
                <a:latin typeface="Arial"/>
              </a:rPr>
              <a:t>Расположите систематические категории в порядке возрастания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9" name="Скругленный прямоугольник 3"/>
          <p:cNvSpPr/>
          <p:nvPr/>
        </p:nvSpPr>
        <p:spPr>
          <a:xfrm>
            <a:off x="2987640" y="1628640"/>
            <a:ext cx="3024360" cy="7207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Скругленный прямоугольник 4"/>
          <p:cNvSpPr/>
          <p:nvPr/>
        </p:nvSpPr>
        <p:spPr>
          <a:xfrm>
            <a:off x="539640" y="2852640"/>
            <a:ext cx="3024360" cy="7207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тде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Скругленный прямоугольник 5"/>
          <p:cNvSpPr/>
          <p:nvPr/>
        </p:nvSpPr>
        <p:spPr>
          <a:xfrm>
            <a:off x="539640" y="4005360"/>
            <a:ext cx="3024360" cy="7189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Скругленный прямоугольник 6"/>
          <p:cNvSpPr/>
          <p:nvPr/>
        </p:nvSpPr>
        <p:spPr>
          <a:xfrm>
            <a:off x="468360" y="5157720"/>
            <a:ext cx="3024000" cy="7192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ряд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Скругленный прямоугольник 7"/>
          <p:cNvSpPr/>
          <p:nvPr/>
        </p:nvSpPr>
        <p:spPr>
          <a:xfrm>
            <a:off x="5796000" y="3141720"/>
            <a:ext cx="3024000" cy="7189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и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Скругленный прямоугольник 8"/>
          <p:cNvSpPr/>
          <p:nvPr/>
        </p:nvSpPr>
        <p:spPr>
          <a:xfrm>
            <a:off x="5796000" y="4149720"/>
            <a:ext cx="3024000" cy="7192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емейст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Скругленный прямоугольник 9"/>
          <p:cNvSpPr/>
          <p:nvPr/>
        </p:nvSpPr>
        <p:spPr>
          <a:xfrm>
            <a:off x="5867280" y="5157720"/>
            <a:ext cx="3025800" cy="7192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Царст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2.01665E-006 C 0.00799 0.08279 0.00799 0.16605 0.00799 0.19935 E">
                                      <p:cBhvr>
                                        <p:cTn id="369" dur="2000" fill="hold"/>
                                        <p:tgtEl>
                                          <p:spTgt spid="1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5 -0.01434 C 0.21007 -0.04325 0.25468 -0.07193 0.27309 -0.08395 E">
                                      <p:cBhvr>
                                        <p:cTn id="371" dur="2000" fill="hold"/>
                                        <p:tgtEl>
                                          <p:spTgt spid="1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5 0.00024 L 0.27569 0.17854 E">
                                      <p:cBhvr>
                                        <p:cTn id="373" dur="2000" fill="hold"/>
                                        <p:tgtEl>
                                          <p:spTgt spid="1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5 -0.03145 C 0.21441 -0.10592 0.26372 -0.18015 0.28351 -0.20976 E">
                                      <p:cBhvr>
                                        <p:cTn id="375" dur="2000" fill="hold"/>
                                        <p:tgtEl>
                                          <p:spTgt spid="1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84 0.00047 C -0.22309 0.16999 -0.27743 0.34043 -0.29913 0.40912 E">
                                      <p:cBhvr>
                                        <p:cTn id="379" dur="2000" fill="hold"/>
                                        <p:tgtEl>
                                          <p:spTgt spid="1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684 7.40056E-007 C -0.22205 0.0222 -0.27708 0.0444 -0.29913 0.05319 E">
                                      <p:cBhvr>
                                        <p:cTn id="381" dur="2000" fill="hold"/>
                                        <p:tgtEl>
                                          <p:spTgt spid="1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764 0.0525 C -0.22031 -0.18478 -0.28264 -0.42045 -0.30712 -0.51388 E">
                                      <p:cBhvr>
                                        <p:cTn id="383" dur="2000" fill="hold"/>
                                        <p:tgtEl>
                                          <p:spTgt spid="1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Домашнее задание.</a:t>
            </a: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pic>
        <p:nvPicPr>
          <p:cNvPr id="1307" name="Рисунок 3" descr="Рисунок5.gif"/>
          <p:cNvPicPr/>
          <p:nvPr/>
        </p:nvPicPr>
        <p:blipFill>
          <a:blip r:embed="rId1"/>
          <a:stretch/>
        </p:blipFill>
        <p:spPr>
          <a:xfrm>
            <a:off x="468360" y="2852640"/>
            <a:ext cx="2647800" cy="3702240"/>
          </a:xfrm>
          <a:prstGeom prst="rect">
            <a:avLst/>
          </a:prstGeom>
          <a:ln w="0">
            <a:noFill/>
          </a:ln>
        </p:spPr>
      </p:pic>
      <p:pic>
        <p:nvPicPr>
          <p:cNvPr id="1308" name="Рисунок 4" descr="book008.gif"/>
          <p:cNvPicPr/>
          <p:nvPr/>
        </p:nvPicPr>
        <p:blipFill>
          <a:blip r:embed="rId2"/>
          <a:stretch/>
        </p:blipFill>
        <p:spPr>
          <a:xfrm>
            <a:off x="7380360" y="260280"/>
            <a:ext cx="1533600" cy="1409760"/>
          </a:xfrm>
          <a:prstGeom prst="rect">
            <a:avLst/>
          </a:prstGeom>
          <a:ln w="0">
            <a:noFill/>
          </a:ln>
        </p:spPr>
      </p:pic>
      <p:sp>
        <p:nvSpPr>
          <p:cNvPr id="1309" name="TextBox 5"/>
          <p:cNvSpPr/>
          <p:nvPr/>
        </p:nvSpPr>
        <p:spPr>
          <a:xfrm>
            <a:off x="3708360" y="2133720"/>
            <a:ext cx="525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Параграф 4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Рабочая тетрадь №16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Учить термины записанные в тетрад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Подготовится к тесту по рабочей тетради с 7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Почему эти растения объединяют в одну группу? </a:t>
            </a:r>
            <a:endParaRPr b="0" lang="en-US" sz="4000" spc="-1" strike="noStrike">
              <a:solidFill>
                <a:srgbClr val="ffffb7"/>
              </a:solidFill>
              <a:latin typeface="Tahoma"/>
            </a:endParaRPr>
          </a:p>
        </p:txBody>
      </p:sp>
      <p:pic>
        <p:nvPicPr>
          <p:cNvPr id="1235" name="Picture 4" descr=""/>
          <p:cNvPicPr/>
          <p:nvPr/>
        </p:nvPicPr>
        <p:blipFill>
          <a:blip r:embed="rId1"/>
          <a:stretch/>
        </p:blipFill>
        <p:spPr>
          <a:xfrm>
            <a:off x="1187280" y="1641600"/>
            <a:ext cx="691380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Почему эти растения объединяют в одну группу?</a:t>
            </a:r>
            <a:endParaRPr b="0" lang="en-US" sz="4000" spc="-1" strike="noStrike">
              <a:solidFill>
                <a:srgbClr val="ffffb7"/>
              </a:solidFill>
              <a:latin typeface="Tahoma"/>
            </a:endParaRPr>
          </a:p>
        </p:txBody>
      </p:sp>
      <p:pic>
        <p:nvPicPr>
          <p:cNvPr id="1237" name="Picture 4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3743280" cy="4032360"/>
          </a:xfrm>
          <a:prstGeom prst="rect">
            <a:avLst/>
          </a:prstGeom>
          <a:ln w="0">
            <a:noFill/>
          </a:ln>
        </p:spPr>
      </p:pic>
      <p:pic>
        <p:nvPicPr>
          <p:cNvPr id="1238" name="Picture 5" descr=""/>
          <p:cNvPicPr/>
          <p:nvPr/>
        </p:nvPicPr>
        <p:blipFill>
          <a:blip r:embed="rId2"/>
          <a:stretch/>
        </p:blipFill>
        <p:spPr>
          <a:xfrm>
            <a:off x="3780000" y="1846440"/>
            <a:ext cx="525600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Рисунок 1" descr="flw15.jpg"/>
          <p:cNvPicPr/>
          <p:nvPr/>
        </p:nvPicPr>
        <p:blipFill>
          <a:blip r:embed="rId1"/>
          <a:stretch/>
        </p:blipFill>
        <p:spPr>
          <a:xfrm>
            <a:off x="0" y="0"/>
            <a:ext cx="4859280" cy="3645000"/>
          </a:xfrm>
          <a:prstGeom prst="rect">
            <a:avLst/>
          </a:prstGeom>
          <a:ln w="0">
            <a:noFill/>
          </a:ln>
        </p:spPr>
      </p:pic>
      <p:pic>
        <p:nvPicPr>
          <p:cNvPr id="1240" name="Содержимое 4" descr="flw08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41" name="Рисунок 3" descr="flw125.jpg"/>
          <p:cNvPicPr/>
          <p:nvPr/>
        </p:nvPicPr>
        <p:blipFill>
          <a:blip r:embed="rId3"/>
          <a:stretch/>
        </p:blipFill>
        <p:spPr>
          <a:xfrm>
            <a:off x="0" y="335772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1242" name="Содержимое 5" descr="flw01.jpg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243" name="Прямоугольник 5"/>
          <p:cNvSpPr/>
          <p:nvPr/>
        </p:nvSpPr>
        <p:spPr>
          <a:xfrm>
            <a:off x="611280" y="1773360"/>
            <a:ext cx="784836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Многообразие растений удивительно велико. Уже известно более 350 тысяч разных растений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914400" y="90756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c000"/>
                </a:solidFill>
                <a:latin typeface="Tahoma"/>
              </a:rPr>
              <a:t>Тема урока:</a:t>
            </a:r>
            <a:br>
              <a:rPr sz="8000"/>
            </a:b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Основы систематики растений.</a:t>
            </a: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Многообразие растительного мира</a:t>
            </a:r>
            <a:endParaRPr b="0" lang="en-US" sz="4400" spc="-1" strike="noStrike">
              <a:solidFill>
                <a:srgbClr val="ffffb7"/>
              </a:solidFill>
              <a:latin typeface="Tahoma"/>
            </a:endParaRPr>
          </a:p>
        </p:txBody>
      </p:sp>
      <p:pic>
        <p:nvPicPr>
          <p:cNvPr id="1246" name="Содержимое 4" descr="micrast.jpg"/>
          <p:cNvPicPr/>
          <p:nvPr/>
        </p:nvPicPr>
        <p:blipFill>
          <a:blip r:embed="rId1"/>
          <a:stretch/>
        </p:blipFill>
        <p:spPr>
          <a:xfrm>
            <a:off x="395280" y="1413000"/>
            <a:ext cx="3124080" cy="3657600"/>
          </a:xfrm>
          <a:prstGeom prst="rect">
            <a:avLst/>
          </a:prstGeom>
          <a:ln w="0">
            <a:noFill/>
          </a:ln>
        </p:spPr>
      </p:pic>
      <p:pic>
        <p:nvPicPr>
          <p:cNvPr id="1247" name="Рисунок 4" descr="spir.jpg"/>
          <p:cNvPicPr/>
          <p:nvPr/>
        </p:nvPicPr>
        <p:blipFill>
          <a:blip r:embed="rId2"/>
          <a:stretch/>
        </p:blipFill>
        <p:spPr>
          <a:xfrm>
            <a:off x="0" y="2752560"/>
            <a:ext cx="1123920" cy="4105440"/>
          </a:xfrm>
          <a:prstGeom prst="rect">
            <a:avLst/>
          </a:prstGeom>
          <a:ln w="0">
            <a:noFill/>
          </a:ln>
        </p:spPr>
      </p:pic>
      <p:pic>
        <p:nvPicPr>
          <p:cNvPr id="1248" name="Содержимое 5" descr="klost.jpg"/>
          <p:cNvPicPr/>
          <p:nvPr/>
        </p:nvPicPr>
        <p:blipFill>
          <a:blip r:embed="rId3"/>
          <a:stretch/>
        </p:blipFill>
        <p:spPr>
          <a:xfrm>
            <a:off x="900000" y="2852640"/>
            <a:ext cx="3705480" cy="3649680"/>
          </a:xfrm>
          <a:prstGeom prst="rect">
            <a:avLst/>
          </a:prstGeom>
          <a:ln w="0">
            <a:noFill/>
          </a:ln>
        </p:spPr>
      </p:pic>
      <p:pic>
        <p:nvPicPr>
          <p:cNvPr id="1249" name="Рисунок 6" descr="DSC02329.jpg"/>
          <p:cNvPicPr/>
          <p:nvPr/>
        </p:nvPicPr>
        <p:blipFill>
          <a:blip r:embed="rId4"/>
          <a:stretch/>
        </p:blipFill>
        <p:spPr>
          <a:xfrm>
            <a:off x="4643280" y="1628640"/>
            <a:ext cx="4500720" cy="5229360"/>
          </a:xfrm>
          <a:prstGeom prst="rect">
            <a:avLst/>
          </a:prstGeom>
          <a:ln w="0">
            <a:noFill/>
          </a:ln>
        </p:spPr>
      </p:pic>
      <p:pic>
        <p:nvPicPr>
          <p:cNvPr id="1250" name="Рисунок 7" descr="pine.jpg"/>
          <p:cNvPicPr/>
          <p:nvPr/>
        </p:nvPicPr>
        <p:blipFill>
          <a:blip r:embed="rId5"/>
          <a:stretch/>
        </p:blipFill>
        <p:spPr>
          <a:xfrm>
            <a:off x="5148360" y="2997360"/>
            <a:ext cx="3744720" cy="3860640"/>
          </a:xfrm>
          <a:prstGeom prst="rect">
            <a:avLst/>
          </a:prstGeom>
          <a:ln w="0">
            <a:noFill/>
          </a:ln>
        </p:spPr>
      </p:pic>
      <p:pic>
        <p:nvPicPr>
          <p:cNvPr id="1251" name="Рисунок 8" descr="1693_cvetushhaja_vishnja.jpg"/>
          <p:cNvPicPr/>
          <p:nvPr/>
        </p:nvPicPr>
        <p:blipFill>
          <a:blip r:embed="rId6"/>
          <a:stretch/>
        </p:blipFill>
        <p:spPr>
          <a:xfrm>
            <a:off x="1835280" y="1989000"/>
            <a:ext cx="540072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6602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000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Times New Roman"/>
              </a:rPr>
              <a:t>Царства живой природы</a:t>
            </a:r>
            <a:endParaRPr b="0" lang="en-US" sz="36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253" name="Line 11"/>
          <p:cNvSpPr/>
          <p:nvPr/>
        </p:nvSpPr>
        <p:spPr>
          <a:xfrm flipH="1">
            <a:off x="1403280" y="1303200"/>
            <a:ext cx="936720" cy="505080"/>
          </a:xfrm>
          <a:prstGeom prst="line">
            <a:avLst/>
          </a:prstGeom>
          <a:ln w="9360">
            <a:solidFill>
              <a:srgbClr val="1616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Line 13"/>
          <p:cNvSpPr/>
          <p:nvPr/>
        </p:nvSpPr>
        <p:spPr>
          <a:xfrm flipH="1">
            <a:off x="3492000" y="1376280"/>
            <a:ext cx="574920" cy="432000"/>
          </a:xfrm>
          <a:prstGeom prst="line">
            <a:avLst/>
          </a:prstGeom>
          <a:ln w="9360">
            <a:solidFill>
              <a:srgbClr val="1616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Line 14"/>
          <p:cNvSpPr/>
          <p:nvPr/>
        </p:nvSpPr>
        <p:spPr>
          <a:xfrm>
            <a:off x="4716360" y="1376280"/>
            <a:ext cx="647640" cy="503280"/>
          </a:xfrm>
          <a:prstGeom prst="line">
            <a:avLst/>
          </a:prstGeom>
          <a:ln w="9360">
            <a:solidFill>
              <a:srgbClr val="1616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Line 12"/>
          <p:cNvSpPr/>
          <p:nvPr/>
        </p:nvSpPr>
        <p:spPr>
          <a:xfrm>
            <a:off x="6732720" y="1376280"/>
            <a:ext cx="792000" cy="432000"/>
          </a:xfrm>
          <a:prstGeom prst="line">
            <a:avLst/>
          </a:prstGeom>
          <a:ln w="9360">
            <a:solidFill>
              <a:srgbClr val="1616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26160" y="1685880"/>
            <a:ext cx="15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Бакте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Rectangle 8"/>
          <p:cNvSpPr/>
          <p:nvPr/>
        </p:nvSpPr>
        <p:spPr>
          <a:xfrm>
            <a:off x="2845080" y="1685880"/>
            <a:ext cx="11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Гри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Rectangle 9"/>
          <p:cNvSpPr/>
          <p:nvPr/>
        </p:nvSpPr>
        <p:spPr>
          <a:xfrm>
            <a:off x="4502880" y="1685880"/>
            <a:ext cx="15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Раст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Rectangle 10"/>
          <p:cNvSpPr/>
          <p:nvPr/>
        </p:nvSpPr>
        <p:spPr>
          <a:xfrm>
            <a:off x="6950520" y="168588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Живот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TextBox 11"/>
          <p:cNvSpPr/>
          <p:nvPr/>
        </p:nvSpPr>
        <p:spPr>
          <a:xfrm>
            <a:off x="2843280" y="3141720"/>
            <a:ext cx="6002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ак же разобраться во вс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многообразии растени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роизрастающих на Земл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2" name="Рисунок 12" descr="Рисунок4.gif"/>
          <p:cNvPicPr/>
          <p:nvPr/>
        </p:nvPicPr>
        <p:blipFill>
          <a:blip r:embed="rId1"/>
          <a:stretch/>
        </p:blipFill>
        <p:spPr>
          <a:xfrm>
            <a:off x="324000" y="3573360"/>
            <a:ext cx="26478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16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Чтобы легче было разобраться в многообразии растений, их разделили на группы</a:t>
            </a: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и систематизировали. </a:t>
            </a:r>
            <a:endParaRPr b="0" lang="en-US" sz="28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264" name="Заголовок 1"/>
          <p:cNvSpPr/>
          <p:nvPr/>
        </p:nvSpPr>
        <p:spPr>
          <a:xfrm>
            <a:off x="324000" y="333360"/>
            <a:ext cx="82296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70c0"/>
                </a:solidFill>
                <a:uFillTx/>
                <a:latin typeface="Tahoma"/>
                <a:hlinkClick r:id="rId1" action="ppaction://hlinksldjump"/>
              </a:rPr>
              <a:t>Основоположник  систематики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5" name="Picture 2" descr="E:\ДИСК курсы 2011 апрель\Таблицы к курсу биология\Дрофа\Ученые\Linnei.jpg"/>
          <p:cNvPicPr/>
          <p:nvPr/>
        </p:nvPicPr>
        <p:blipFill>
          <a:blip r:embed="rId2"/>
          <a:stretch/>
        </p:blipFill>
        <p:spPr>
          <a:xfrm>
            <a:off x="5219640" y="1700280"/>
            <a:ext cx="3718080" cy="4856040"/>
          </a:xfrm>
          <a:prstGeom prst="rect">
            <a:avLst/>
          </a:prstGeom>
          <a:ln w="0">
            <a:noFill/>
          </a:ln>
        </p:spPr>
      </p:pic>
      <p:sp>
        <p:nvSpPr>
          <p:cNvPr id="1266" name="Содержимое 2"/>
          <p:cNvSpPr/>
          <p:nvPr/>
        </p:nvSpPr>
        <p:spPr>
          <a:xfrm>
            <a:off x="468360" y="1773360"/>
            <a:ext cx="4330800" cy="4525920"/>
          </a:xfrm>
          <a:prstGeom prst="rect">
            <a:avLst/>
          </a:prstGeom>
          <a:solidFill>
            <a:srgbClr val="c9f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ahoma"/>
              </a:rPr>
              <a:t>основоположник система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ahoma"/>
              </a:rPr>
              <a:t>ввел бинарну ю номенклату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ahoma"/>
              </a:rPr>
              <a:t>ввел названия растений на латинском язы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Содержимое 2"/>
          <p:cNvSpPr/>
          <p:nvPr/>
        </p:nvSpPr>
        <p:spPr>
          <a:xfrm>
            <a:off x="539640" y="1916280"/>
            <a:ext cx="4038840" cy="4525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8000"/>
                </a:solidFill>
                <a:latin typeface="Tahoma"/>
              </a:rPr>
              <a:t>Шведский ученый-натуралист </a:t>
            </a:r>
            <a:r>
              <a:rPr b="0" i="1" lang="en-US" sz="3000" spc="-1" strike="noStrike">
                <a:solidFill>
                  <a:srgbClr val="008000"/>
                </a:solidFill>
                <a:latin typeface="Tahoma"/>
              </a:rPr>
              <a:t>XVIII </a:t>
            </a:r>
            <a:r>
              <a:rPr b="0" i="1" lang="ru-RU" sz="3000" spc="-1" strike="noStrike">
                <a:solidFill>
                  <a:srgbClr val="008000"/>
                </a:solidFill>
                <a:latin typeface="Tahoma"/>
              </a:rPr>
              <a:t>в.  Написал книгу </a:t>
            </a:r>
            <a:r>
              <a:rPr b="1" i="1" lang="ru-RU" sz="3000" spc="-1" strike="noStrike">
                <a:solidFill>
                  <a:srgbClr val="008000"/>
                </a:solidFill>
                <a:latin typeface="Tahoma"/>
              </a:rPr>
              <a:t>«Система природы»,  </a:t>
            </a:r>
            <a:r>
              <a:rPr b="0" i="1" lang="ru-RU" sz="3000" spc="-1" strike="noStrike">
                <a:solidFill>
                  <a:srgbClr val="008000"/>
                </a:solidFill>
                <a:latin typeface="Tahoma"/>
              </a:rPr>
              <a:t>где дал классификацию растений, животных и даже минерало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70c0"/>
                </a:solidFill>
                <a:uFillTx/>
                <a:latin typeface="Tahoma"/>
                <a:hlinkClick r:id="rId1" action="ppaction://hlinksldjump"/>
              </a:rPr>
              <a:t>Основные систематические категории растений.</a:t>
            </a:r>
            <a:endParaRPr b="0" lang="en-US" sz="4000" spc="-1" strike="noStrike">
              <a:solidFill>
                <a:srgbClr val="ffffb7"/>
              </a:solidFill>
              <a:latin typeface="Tahoma"/>
            </a:endParaRPr>
          </a:p>
        </p:txBody>
      </p:sp>
      <p:sp>
        <p:nvSpPr>
          <p:cNvPr id="1269" name="Содержимое 2"/>
          <p:cNvSpPr/>
          <p:nvPr/>
        </p:nvSpPr>
        <p:spPr>
          <a:xfrm>
            <a:off x="250920" y="1628640"/>
            <a:ext cx="403848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8000"/>
                </a:solidFill>
                <a:uFillTx/>
                <a:latin typeface="Tahoma"/>
              </a:rPr>
              <a:t>Царство</a:t>
            </a:r>
            <a:r>
              <a:rPr b="1" lang="ru-RU" sz="36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ahoma"/>
              </a:rPr>
              <a:t>Отде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ahoma"/>
              </a:rPr>
              <a:t>Кла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ahoma"/>
              </a:rPr>
              <a:t>Поряд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ahoma"/>
              </a:rPr>
              <a:t>Семей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ahoma"/>
              </a:rPr>
              <a:t>Р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8000"/>
                </a:solidFill>
                <a:uFillTx/>
                <a:latin typeface="Tahoma"/>
              </a:rPr>
              <a:t>Ви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0" name="Picture 11" descr="res9F7B830F-0A01-022A-0050-84C6BDB4E254"/>
          <p:cNvPicPr/>
          <p:nvPr/>
        </p:nvPicPr>
        <p:blipFill>
          <a:blip r:embed="rId2"/>
          <a:stretch/>
        </p:blipFill>
        <p:spPr>
          <a:xfrm>
            <a:off x="2943360" y="1628640"/>
            <a:ext cx="6200640" cy="450864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1271" name="Скругленный прямоугольник 5"/>
          <p:cNvSpPr/>
          <p:nvPr/>
        </p:nvSpPr>
        <p:spPr>
          <a:xfrm>
            <a:off x="900000" y="404640"/>
            <a:ext cx="7559640" cy="8636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вайте заполним в рабочей тетради №16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08:44:40Z</dcterms:created>
  <dc:creator>DOMPK</dc:creator>
  <dc:description/>
  <dc:language>en-US</dc:language>
  <cp:lastModifiedBy>DOMPK</cp:lastModifiedBy>
  <dcterms:modified xsi:type="dcterms:W3CDTF">2013-04-04T09:09:10Z</dcterms:modified>
  <cp:revision>3</cp:revision>
  <dc:subject/>
  <dc:title>Почему эти растения объединяют в одну группу?</dc:title>
</cp:coreProperties>
</file>