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9.gif" ContentType="image/gif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B50-3A3A-446B-91E3-F10E4D14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39C-2E46-4004-A506-CDDDBFA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7CF19-A0F0-429E-9545-2629503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CB31-F8F0-4932-BD40-879D7195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C48E-EA84-4172-863E-D09D0D47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71C38-275B-430C-AC77-193EE0E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26893-03D2-47D4-8017-B19E4FF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79FCF-5A3F-4EEC-A3E4-267A23E3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40A7F-66A8-4A3C-998C-4819989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03734-DFBB-4952-81A5-93781C3A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32CEB-0A7B-4A7D-9D11-23C1503D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003BF-2502-4A69-9743-991C7AB2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089-87B4-46CC-A107-65B4602E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7AFC8-F658-44D2-A9F4-20339BC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B1EBF-48C9-490B-AE0E-DB92302A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0CCDC-C146-4B66-AE26-EF317AC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4163E-34DE-48C7-AD80-8F5159AA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74654-38D5-4F61-ADAE-07E7ECC9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9A15F-B189-450A-B505-51726D4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C6EAA-BFEC-4DBE-92C9-45ABADBF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325C8-65F9-4193-91BD-B5D9689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5E2C6-2D68-4719-ACDC-8BF11BEF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B1DA-C181-4722-AC9B-EA4D10C1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1AA-E3C8-4C00-BCE5-B0F84B5F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D2948-5CC6-4CC0-ACE3-74E37D4F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2B78C-F736-4A11-B44F-775E2B13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DBE3E-9CE9-44CC-AB9F-2C9281F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782F2-4139-4382-BED2-54890A7D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A9CD9-71A0-4108-B441-EE8711A1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D1194-A5D7-498D-A109-E703C5E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6C5F4-6022-4EAF-8979-BD9FFFC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CC60-7936-4F91-8CDF-A11C521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A327A-13B5-4B35-AEAD-EBDAA05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86060-2D67-48B3-89F2-40A9F52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A1A-93B0-46C5-A506-7BBC9A61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90B61-515A-4C7B-AAD9-25ED557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A1147-3528-4876-99C1-9E1323D8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7DFC1-76EF-4B83-96B1-9AD1D3F3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8D5E47-7D66-47D4-8605-D9DFE705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E5F690-6FE1-48CE-92A4-C011D39C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23936E-FF07-41B8-828E-A1F5FD46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42786D-1339-46B2-837A-5DDC417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36655B-D8FA-460F-812D-A420CC30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F8AA27-9AC6-4322-A595-7D105B4D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A0195F-45E1-410D-87B1-029E2DD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8EBA-2150-4504-85B9-5EB29B4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D7EECD-21F9-4A6B-846E-150D1799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71F867-6589-4157-9A75-E1FAA66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9DB2A8-1E9B-4261-8661-F0916DCD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1EB90C-F472-4128-AA94-EE732172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7FF85B-B82F-4EED-88BA-04D653C6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3E960-0A55-4123-AF5F-388B58E9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7C0AE-F633-4B83-A2DF-C7A5677B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5A293-4172-4EC8-94E0-745625E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60525-ADB2-4D7C-A100-F602F90D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B5A39-2C73-4496-9CBE-C4D89024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C772-F3E4-4702-884A-0DBEB97B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9F920-5150-4E75-ABB2-1C514AE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A0524-4745-441F-A4BB-E746FEC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8AE7C-0082-4640-9673-BC475C9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DB4F9-3F5D-499F-8BA7-E44EBEA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56A22-D224-4204-8E9F-3B1516C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099BE-5D8F-489B-A4C2-A5B2332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26EB9-B55D-4151-A83D-BE23C8DD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4AB06-C3BA-4A56-8524-AD4403A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2B77D-953B-4992-853A-C053C2EC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A1943-56F3-41CC-B9ED-2DAABBE1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D69C-A3D0-4B7D-90A3-B143341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86B73-EF2B-4882-82B2-54534344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7DE63-5B81-4B68-8DF7-179E8C04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022A0-562C-4F78-8858-9DBE6F8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B7D17-F862-461E-8F42-5376B4F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396F0-B500-449F-BECF-A5A1325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F42EF-BC25-42AC-A269-5D78684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1D608-4D78-4AF8-B0C6-037BA60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D2148-008F-4B9F-9B0D-014D599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FF9FC-6956-4698-A798-F602F559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ECE26-B11F-4C0A-AD7D-11B24864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8587-991C-44F4-91AD-2A9DED3A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CDDA9-7FE6-4800-B964-08DDBAB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32FAE7-1125-44C7-BE4C-771096B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97836-0A29-4787-B1D5-640B2628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6E3D4-B5C8-40FB-8228-8CFE923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631A4-085E-4D07-AB25-C31D28AB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F70A5-971A-4214-90E7-6913E01A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3318C3-D0BA-4B41-A3F1-E92252E3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FEA39-5A79-412F-818A-48167B7E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8DF4A-9E30-469E-81FC-F2BF9AFB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B01EC-52F3-4229-A1F8-92ABEC3C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5BB-84B3-40E1-BA09-23B5790E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BD30F-026F-465A-9473-AD9AE858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1B687-63FA-4D15-99FD-A7D15989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C85E4-65D3-4C5A-9081-D3E3494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0C46C-A987-4DBE-98C6-7985A57C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FC36A7-885C-4240-880E-EA35909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E3A8D-D301-4B09-A1AF-2DA4C44D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EC933-3767-4686-A5BC-C4BE6C7A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70584-0C5F-446F-8B8E-1600F7E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9C4BE-7E8F-4B95-97F5-DCCEA8D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875B2-68FF-4F38-9C8A-2F6B243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2736-F116-4ECD-B52D-256973C3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15053-BAC2-46D6-9A62-27498039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A8FB4-CE52-4A0F-B385-BEA38B27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1332E-842B-4F05-987C-DDA7C8CC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2137E-1FA0-485D-9373-2953B7F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51E3E-AC81-4642-BED5-46660AC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9CA42-EFB2-4CCA-945D-225930D5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CE0F8-7720-4036-9B72-EBE29CE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B4B60-E892-4532-B61E-D3DAED04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0891E-05BD-4FA6-B4E4-6D61FCB1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926023-F5C6-468E-8111-CB561AE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788-4A31-4249-B353-9122EE4F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A059-F385-4DD0-A3CF-96C7044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FB50F-7037-4C97-AFBC-FC33857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1FA2A-7873-49D9-8C5A-48471226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C476B-88DE-4614-A9F0-492570A7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4EAD3-A1EB-4BE8-9DB5-929F6DB7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B94E0-77FE-4253-8114-88CD039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F8851-B3D8-43EE-8479-177EF585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D76702-68E1-492A-97E8-9A30CA7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FA82A-F167-468A-A0AA-F82DEA90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8E23C-021C-4975-8397-479E1C0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449DBD-FA9A-4D01-BCB9-21B86FBF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CAD-5D47-4C7B-8D87-CF2B6AF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5CA21-2557-44E2-BD5A-4C0C4FBA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AFB54-C510-495B-9C1F-FC37201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0F6D7-29CF-4BC8-B92D-B17CEAC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3B467-A9E1-4419-891B-F127B4E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1990C-B05A-452C-AE66-5AEAFC9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7C9B5-D0C4-4547-93FF-6FCB3987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EF1E9-F8A4-463A-9AAE-9218816D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A1228-BD12-4C44-BCEB-BBEE20D5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E4C0C-4DD8-4248-880A-DC80A9A5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16E4B-7A0C-4945-B46F-48180AD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A9AC-259A-4429-B74B-66135E1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9FCAF-FC7F-41C4-8F41-BD1A11EF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B3265-B34C-4E3B-AED1-0BA7A83F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C346D-7A44-42F6-9D6B-AF053F30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04550-E071-44E6-9138-9BF3C22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B7751-3CB8-444A-A99D-4904913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5E4B5-0CD3-4E52-9EB4-4FDD8AC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9CB9B-CD85-42F6-ADC4-14F1D390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86A14-FEB3-4F06-AD09-AF1D7EFE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C1779-2BCB-45E2-895B-F201B2A0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3EE23-224A-4370-93B2-E74B1507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BA3D-6CA2-4C1C-B320-4A548669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24C53-3166-4E03-A205-27E092AC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2177E-07D8-4048-B7E8-406441A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A455BC-1A51-4007-A2B8-F15C2BBC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307AE3-B489-4171-8858-CE3B3D9F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9CB8B-DF3B-43CF-B13B-07FF1AB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9DCB13-F48C-429F-9A18-6CBF656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B74EC-E30C-4079-B775-AEFC6ED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560AE-11AE-4653-9CB6-3D93CD6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B8AB7-D8BC-4620-8D4D-84E74399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C0DD1-CE70-4E8B-B5A5-3718CD79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85AF-D4BD-4DF5-AC0C-039F8D4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470E4-F209-4183-B574-385F2341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DB0E1B-14D2-4328-AE56-04F37F34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79BEFE-7776-4049-8D1A-DE0D951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ABA4E-FB47-4B83-B20B-50CD383F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1CF4D-5359-48B4-868E-BE7F3F7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5ABA7-12D0-4F95-BC68-BDCABAAE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17713-8ACF-4973-8E98-F8D398C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834AE-139A-4993-8C2E-8F6D87D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52498-9B0B-40AA-A337-95311D4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78A94-596C-48BB-8C1C-5E43B1F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C69E-AD58-4F78-8AFC-80722CAA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E242B-6A55-4BBB-982A-D39B4FC6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609225-BEDB-4E8A-8322-6C3A97C6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1F16B5-8CE8-4DC6-9F72-DDE692AC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7FAA5-F9CD-46EE-8665-2A19BA02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43E2A2-4050-4DF4-B1D3-314622D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C5D1B-1AEB-4A73-BC02-62B507C8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11D28-063D-4677-A226-266BDC52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A8171-6B6F-49B2-B140-72AF6C68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D8A8A-00EE-4AA3-AB71-F79BB2CE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43A8D8-E8ED-4612-9E61-5DC3776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7D42-FF86-465B-A3EE-F14D1B5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F03929-FFC7-46F1-B952-FBC1232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222907-80DB-4B32-AB6D-9F100C55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29A432-DCCE-47ED-9187-467C1DA8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51830A-6769-4C7B-AB83-AE31182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3FAFA-D4B7-4096-A9D1-BB848214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206BE9-A3F5-4EE8-9611-8C0E3696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1D3A0-0B01-4AFE-97CD-8125C07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A25C36-1794-4D97-BE0A-236A6131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8A1B0E-E194-4F38-A336-5364CABE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E360E-0EBD-4A00-ABBC-696D24D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E2C6-DC50-4D5E-8D6E-F7ED91F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37CC0-0530-41B9-919A-14568E31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DB2D0E-D462-4503-AFDA-4402E20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DF1B8-E6BC-4F04-B510-A5EECBE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1040D-9903-468E-9FEE-9434257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D9DDA-2108-4E6B-84F0-271DAE8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1CFEBE-0D5C-428E-9333-A8AC1F1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E5281F-FC5B-4A4D-8DAC-43F117C3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CCD7-CA60-4B14-9B07-BB500CB4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3CF8-EBE0-4C2B-9BAF-010A6A6A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633-660D-4D91-A63E-2BDDD693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0EAD-E73C-4530-A418-7E15DFA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2DD4-48ED-49B9-8A6F-E286A97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9A27-A9DB-472C-952C-F053F90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5C47-4488-4222-BA31-7AF1CBD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2ECA-A387-4553-A5C2-AA0479A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223DF-A968-4268-9D22-44627727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D000-BC2A-492B-ACBC-A99B21B7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111E-2271-4C24-9200-7250E4FF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CC1E-410B-40F9-8A35-19438DE3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4808-F1C7-4080-B3AD-E3E899A7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988-9891-4C57-93B2-87D9BADA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DF85-9216-4385-A7D0-D4A8A0EF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AE1F-B554-440A-ACAE-B525C06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0523-E53F-4C44-9C49-795ECED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D5A2-CC72-480E-8503-5F4EAA62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8305-0F35-4FFF-8146-AB527BF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FF47-803D-4C74-82C4-5190335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65DC-5EE2-4D7B-8B7D-5C0D9FEA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27A5-103E-4D6E-8F22-5440C281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5506-02D8-4752-B10B-CA769A3B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41EF-DB23-471D-A650-AD0BFD4A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AD1-0826-4819-90E8-FF0B5CB4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698D4-B6BF-418B-B91A-EA4B1AC0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2FF5-46A4-41CA-A7D1-5EA7A00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90B0-86D9-4B77-BDF5-24AC66B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CED8-E572-4BA6-8109-65D458AD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18EB-13E5-4833-AD28-67F3443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BA262-DF6F-454B-AC45-4CBC3B18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C19A-107A-49F4-9AC3-8CE5CD3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3C1D-4BD2-4E5B-B4A0-73A70C2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B931-1D6A-43E2-B933-086E3A9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0CBB7-61BD-464B-9C8C-7D3E2B47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EE4-A5E2-46D6-B63F-7BBAAA33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9A7C-5D62-4A79-81AB-BAEEB487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B026-D083-4400-9CC4-F4D49472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AD5F-0291-4694-89F8-58A2886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0969-D811-483F-AB7A-C62FA96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7C168-282C-49A6-87E2-13BAE0FE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3FBA3-AD24-440D-8C83-ADA45619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0F5B-DD27-4FC3-9A52-DB5F3CA2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CC90E-11C9-4D26-9B0E-36CDFD8A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57367-F524-4030-AD18-BBFB0F9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BC02-B121-4B13-8D02-97F3340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399-6231-45BE-8172-CF6959B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80A4-174F-4669-8037-B54FD464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0F35-A76C-4118-A631-92AF6BEF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AB036-C76D-4BD3-9A11-4E4152AF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FC242-CCF4-47D3-BB4F-2C47F9A8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F36D-A42A-4FF3-8F5B-B6E7F20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884F-B2A7-42DC-B838-900EEB1D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697AD-57C0-45C3-B4C2-84180EF3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78E26-3D61-4B1E-A882-436E81ED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68D9-AA3D-4936-B0F1-A85E98F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BD7C9-0E02-40BA-B5EB-ADEAC1DC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758-0900-4368-9501-923D664F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CB2B-ECF1-468E-9BE6-B44CFFD9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6202-BA45-485E-A485-FBEA83D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A6B7-DE13-4E6C-963F-05D2B09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A4970-3D46-4A9F-952C-7A82E980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A7094-18B6-4C27-B015-6C91E278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4C1D9-EDDF-4D06-8004-7335C36E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E59DA-DB11-40C0-93E2-8D493F7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447BB-7560-4CCF-AFAA-BFC91E1D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C18A-DCFE-4432-B081-42A7E3F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E89C-FC7D-4043-AE3A-9492B42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68B-FA9C-4A4B-B2D3-40D582E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B824A-7770-4B79-A6F9-674AA38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971E1-D734-4ED6-BE8F-3ECB86D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C391A-0C30-45D6-BED6-484C45A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3021D-A6B3-45D8-8DD4-B8196FD8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24A7-2290-4544-B972-26C30C3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A7C37-1EFA-4A45-9DFE-7C961A3A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153A-E370-44BE-8D6F-98274052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8D11-B4D6-4BC8-B68C-42A89F69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2EC6D-865D-48E6-93C5-516FF241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D5DE3-CD52-4631-9E23-EBDBAA18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F526-DCC4-4B98-ABD0-6F882F07848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AA0-4944-41A7-9428-CEB3FF3B6E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3611-2F98-4DA6-B191-DD2B01AC1D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6BF-B3E2-4410-8AB0-E1B76E2C41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1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47D-F6E2-4947-AF0B-4A16422A6E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76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D844-F5D4-427A-951F-7EBD8DA3F9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0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A322-0C46-4A4F-8D66-9DFF9CC71D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4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F2C-92A8-4DF3-A39D-D0E847099A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EB81-EBC9-462B-9033-6A5B18154E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5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5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5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3F3-9C89-44CC-81B5-FD8D33A373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5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BB74-A0B8-4FD9-A3E5-84B1D1C1F5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B6CD-4F90-4165-912B-41321DA5F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374D-9505-46C6-9CE8-335EF60925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C37-9563-4A42-937F-3F1AF45F31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1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474C-55A2-4A03-9470-6C3FFA5202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79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18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3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184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CAB-7F3C-4FFA-9A7C-BCEA89314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99E-FD69-4E32-918C-9AB381DC3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C7D-3704-496E-8DD3-5BC24963C8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FEDE-A213-4D24-A63E-05AD32B38F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82F5-0E14-447C-B9E7-98AE9220FF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E47-07C0-41F5-B284-D8174DA901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55A-E8FC-404D-864D-2D12A3DD3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4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68F-D6CF-4ED4-9E82-9170A7ACFFE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чему эти растения объединяют в одну группу?</a:t>
            </a:r>
            <a:endParaRPr b="0" lang="en-US" sz="28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597708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ид – это основная систематическая единица!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73" name="Содержимое 2"/>
          <p:cNvSpPr/>
          <p:nvPr/>
        </p:nvSpPr>
        <p:spPr>
          <a:xfrm>
            <a:off x="395280" y="1773360"/>
            <a:ext cx="46195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Tahoma"/>
              </a:rPr>
              <a:t>Видовые названи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герань лес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радиола розов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фиалка собачь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лапчатка прямостояч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Прямоугольник 3"/>
          <p:cNvSpPr/>
          <p:nvPr/>
        </p:nvSpPr>
        <p:spPr>
          <a:xfrm>
            <a:off x="539640" y="4365720"/>
            <a:ext cx="7777440" cy="2492280"/>
          </a:xfrm>
          <a:prstGeom prst="rect">
            <a:avLst/>
          </a:prstGeom>
          <a:solidFill>
            <a:srgbClr val="dde6dd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идовое название состоит из двух с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1– существительное -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3333ff"/>
                </a:solidFill>
                <a:uFillTx/>
                <a:latin typeface="Tahoma"/>
              </a:rPr>
              <a:t>родовое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название</a:t>
            </a:r>
            <a:r>
              <a:rPr b="0" lang="ru-RU" sz="3200" spc="-1" strike="noStrike">
                <a:solidFill>
                  <a:srgbClr val="0084b4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2 – прилагательное -</a:t>
            </a: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3333ff"/>
                </a:solidFill>
                <a:uFillTx/>
                <a:latin typeface="Tahoma"/>
              </a:rPr>
              <a:t>видовое</a:t>
            </a: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наз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Прямоугольник 4"/>
          <p:cNvSpPr/>
          <p:nvPr/>
        </p:nvSpPr>
        <p:spPr>
          <a:xfrm>
            <a:off x="2590920" y="3141720"/>
            <a:ext cx="6553080" cy="792000"/>
          </a:xfrm>
          <a:prstGeom prst="rect">
            <a:avLst/>
          </a:prstGeom>
          <a:solidFill>
            <a:srgbClr val="dde6dd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Такая форма названий –                              бинарная или двой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Не стоит путать!!!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и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Вид – формируется в природе в процессе развития и приспособления к определенным услови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Сорт – это группа растений одного вида, созданных человеком и обладающих определенными хозяйственными признаками и свой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Прямоугольник 1"/>
          <p:cNvSpPr/>
          <p:nvPr/>
        </p:nvSpPr>
        <p:spPr>
          <a:xfrm>
            <a:off x="971640" y="189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ahoma"/>
              </a:rPr>
              <a:t>Видовые наз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Содержимое 4" descr="лютик едкий.jpg"/>
          <p:cNvPicPr/>
          <p:nvPr/>
        </p:nvPicPr>
        <p:blipFill>
          <a:blip r:embed="rId1"/>
          <a:stretch/>
        </p:blipFill>
        <p:spPr>
          <a:xfrm>
            <a:off x="250920" y="260280"/>
            <a:ext cx="2376360" cy="3303720"/>
          </a:xfrm>
          <a:prstGeom prst="rect">
            <a:avLst/>
          </a:prstGeom>
          <a:ln w="0">
            <a:noFill/>
          </a:ln>
        </p:spPr>
      </p:pic>
      <p:sp>
        <p:nvSpPr>
          <p:cNvPr id="1283" name="Прямоугольник 3"/>
          <p:cNvSpPr/>
          <p:nvPr/>
        </p:nvSpPr>
        <p:spPr>
          <a:xfrm>
            <a:off x="574560" y="31417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ед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4" name="Рисунок 4" descr="ranunculus_cassubicus1.jpg"/>
          <p:cNvPicPr/>
          <p:nvPr/>
        </p:nvPicPr>
        <p:blipFill>
          <a:blip r:embed="rId2"/>
          <a:stretch/>
        </p:blipFill>
        <p:spPr>
          <a:xfrm>
            <a:off x="250920" y="3645000"/>
            <a:ext cx="4066920" cy="2836800"/>
          </a:xfrm>
          <a:prstGeom prst="rect">
            <a:avLst/>
          </a:prstGeom>
          <a:ln w="0">
            <a:noFill/>
          </a:ln>
        </p:spPr>
      </p:pic>
      <p:pic>
        <p:nvPicPr>
          <p:cNvPr id="1285" name="Рисунок 5" descr="лютик ядовитый).jpg"/>
          <p:cNvPicPr/>
          <p:nvPr/>
        </p:nvPicPr>
        <p:blipFill>
          <a:blip r:embed="rId3"/>
          <a:stretch/>
        </p:blipFill>
        <p:spPr>
          <a:xfrm>
            <a:off x="3203640" y="692280"/>
            <a:ext cx="3097080" cy="2808000"/>
          </a:xfrm>
          <a:prstGeom prst="rect">
            <a:avLst/>
          </a:prstGeom>
          <a:ln w="0">
            <a:noFill/>
          </a:ln>
        </p:spPr>
      </p:pic>
      <p:pic>
        <p:nvPicPr>
          <p:cNvPr id="1286" name="Рисунок 6" descr="лютик золотистый.jpg"/>
          <p:cNvPicPr/>
          <p:nvPr/>
        </p:nvPicPr>
        <p:blipFill>
          <a:blip r:embed="rId4"/>
          <a:stretch/>
        </p:blipFill>
        <p:spPr>
          <a:xfrm>
            <a:off x="6732720" y="189000"/>
            <a:ext cx="2232000" cy="3351240"/>
          </a:xfrm>
          <a:prstGeom prst="rect">
            <a:avLst/>
          </a:prstGeom>
          <a:ln w="0">
            <a:noFill/>
          </a:ln>
        </p:spPr>
      </p:pic>
      <p:pic>
        <p:nvPicPr>
          <p:cNvPr id="1287" name="Рисунок 7" descr="лютик ползучий.jpg"/>
          <p:cNvPicPr/>
          <p:nvPr/>
        </p:nvPicPr>
        <p:blipFill>
          <a:blip r:embed="rId5"/>
          <a:stretch/>
        </p:blipFill>
        <p:spPr>
          <a:xfrm>
            <a:off x="5148360" y="3645000"/>
            <a:ext cx="3849480" cy="2952720"/>
          </a:xfrm>
          <a:prstGeom prst="rect">
            <a:avLst/>
          </a:prstGeom>
          <a:ln w="0">
            <a:noFill/>
          </a:ln>
        </p:spPr>
      </p:pic>
      <p:sp>
        <p:nvSpPr>
          <p:cNvPr id="1288" name="Прямоугольник 8"/>
          <p:cNvSpPr/>
          <p:nvPr/>
        </p:nvSpPr>
        <p:spPr>
          <a:xfrm>
            <a:off x="250920" y="6093000"/>
            <a:ext cx="2160360" cy="642600"/>
          </a:xfrm>
          <a:prstGeom prst="rect">
            <a:avLst/>
          </a:prstGeom>
          <a:solidFill>
            <a:srgbClr val="002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кашуб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Прямоугольник 9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solidFill>
            <a:srgbClr val="002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ползуч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Прямоугольник 10"/>
          <p:cNvSpPr/>
          <p:nvPr/>
        </p:nvSpPr>
        <p:spPr>
          <a:xfrm>
            <a:off x="4067280" y="306864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ядови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Прямоугольник 11"/>
          <p:cNvSpPr/>
          <p:nvPr/>
        </p:nvSpPr>
        <p:spPr>
          <a:xfrm>
            <a:off x="6816600" y="314172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золотис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Заголовок 1"/>
          <p:cNvSpPr/>
          <p:nvPr/>
        </p:nvSpPr>
        <p:spPr>
          <a:xfrm>
            <a:off x="539640" y="0"/>
            <a:ext cx="820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Таксономическое описание ви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Содержимое 2"/>
          <p:cNvSpPr/>
          <p:nvPr/>
        </p:nvSpPr>
        <p:spPr>
          <a:xfrm>
            <a:off x="0" y="692280"/>
            <a:ext cx="392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Verdana"/>
              </a:rPr>
              <a:t>Царство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Отде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ряд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емей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Verdana"/>
              </a:rPr>
              <a:t>В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Содержимое 3"/>
          <p:cNvSpPr/>
          <p:nvPr/>
        </p:nvSpPr>
        <p:spPr>
          <a:xfrm>
            <a:off x="4140360" y="907920"/>
            <a:ext cx="5003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 u="sng">
                <a:solidFill>
                  <a:srgbClr val="c00000"/>
                </a:solidFill>
                <a:uFillTx/>
                <a:latin typeface="Verdana"/>
              </a:rPr>
              <a:t>Растения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Покрытосеменн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Двудольн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Магнолиевидн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Лютиков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Лютик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 u="sng">
                <a:solidFill>
                  <a:srgbClr val="c00000"/>
                </a:solidFill>
                <a:uFillTx/>
                <a:latin typeface="Verdana"/>
              </a:rPr>
              <a:t>Лютик едкий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систематика и классификация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Содержимое 2"/>
          <p:cNvSpPr/>
          <p:nvPr/>
        </p:nvSpPr>
        <p:spPr>
          <a:xfrm>
            <a:off x="250920" y="1600200"/>
            <a:ext cx="80661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истематик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-  это наука о классификаци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Содержимое 3"/>
          <p:cNvSpPr/>
          <p:nvPr/>
        </p:nvSpPr>
        <p:spPr>
          <a:xfrm>
            <a:off x="503280" y="3357720"/>
            <a:ext cx="8640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лассификация </a:t>
            </a:r>
            <a:r>
              <a:rPr b="1" i="1" lang="ru-RU" sz="4100" spc="-1" strike="noStrike">
                <a:solidFill>
                  <a:srgbClr val="7030a0"/>
                </a:solidFill>
                <a:latin typeface="Arial"/>
              </a:rPr>
              <a:t>–         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это разделение всей общности на отдельные группы по какому-либо призна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66"/>
                </a:solidFill>
                <a:latin typeface="Arial"/>
              </a:rPr>
              <a:t>Расположите систематические категории в порядке возраста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9" name="Скругленный прямоугольник 3"/>
          <p:cNvSpPr/>
          <p:nvPr/>
        </p:nvSpPr>
        <p:spPr>
          <a:xfrm>
            <a:off x="2987640" y="1628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Скругленный прямоугольник 4"/>
          <p:cNvSpPr/>
          <p:nvPr/>
        </p:nvSpPr>
        <p:spPr>
          <a:xfrm>
            <a:off x="539640" y="2852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д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Скругленный прямоугольник 5"/>
          <p:cNvSpPr/>
          <p:nvPr/>
        </p:nvSpPr>
        <p:spPr>
          <a:xfrm>
            <a:off x="539640" y="4005360"/>
            <a:ext cx="3024360" cy="7189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Скругленный прямоугольник 6"/>
          <p:cNvSpPr/>
          <p:nvPr/>
        </p:nvSpPr>
        <p:spPr>
          <a:xfrm>
            <a:off x="468360" y="5157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ряд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Скругленный прямоугольник 7"/>
          <p:cNvSpPr/>
          <p:nvPr/>
        </p:nvSpPr>
        <p:spPr>
          <a:xfrm>
            <a:off x="5796000" y="3141720"/>
            <a:ext cx="3024000" cy="7189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Скругленный прямоугольник 8"/>
          <p:cNvSpPr/>
          <p:nvPr/>
        </p:nvSpPr>
        <p:spPr>
          <a:xfrm>
            <a:off x="5796000" y="4149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мей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Скругленный прямоугольник 9"/>
          <p:cNvSpPr/>
          <p:nvPr/>
        </p:nvSpPr>
        <p:spPr>
          <a:xfrm>
            <a:off x="5867280" y="5157720"/>
            <a:ext cx="30258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ар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2.01665E-006 C 0.00799 0.08279 0.00799 0.16605 0.00799 0.19935 E">
                                      <p:cBhvr>
                                        <p:cTn id="369" dur="2000" fill="hold"/>
                                        <p:tgtEl>
                                          <p:spTgt spid="1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1434 C 0.21007 -0.04325 0.25468 -0.07193 0.27309 -0.08395 E">
                                      <p:cBhvr>
                                        <p:cTn id="371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0.00024 L 0.27569 0.17854 E">
                                      <p:cBhvr>
                                        <p:cTn id="373" dur="2000" fill="hold"/>
                                        <p:tgtEl>
                                          <p:spTgt spid="1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3145 C 0.21441 -0.10592 0.26372 -0.18015 0.28351 -0.20976 E">
                                      <p:cBhvr>
                                        <p:cTn id="375" dur="2000" fill="hold"/>
                                        <p:tgtEl>
                                          <p:spTgt spid="1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4 0.00047 C -0.22309 0.16999 -0.27743 0.34043 -0.29913 0.40912 E">
                                      <p:cBhvr>
                                        <p:cTn id="379" dur="2000" fill="hold"/>
                                        <p:tgtEl>
                                          <p:spTgt spid="1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7.40056E-007 C -0.22205 0.0222 -0.27708 0.0444 -0.29913 0.05319 E">
                                      <p:cBhvr>
                                        <p:cTn id="381" dur="2000" fill="hold"/>
                                        <p:tgtEl>
                                          <p:spTgt spid="1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64 0.0525 C -0.22031 -0.18478 -0.28264 -0.42045 -0.30712 -0.51388 E">
                                      <p:cBhvr>
                                        <p:cTn id="383" dur="2000" fill="hold"/>
                                        <p:tgtEl>
                                          <p:spTgt spid="1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307" name="Рисунок 3" descr="Рисунок5.gif"/>
          <p:cNvPicPr/>
          <p:nvPr/>
        </p:nvPicPr>
        <p:blipFill>
          <a:blip r:embed="rId1"/>
          <a:stretch/>
        </p:blipFill>
        <p:spPr>
          <a:xfrm>
            <a:off x="468360" y="2852640"/>
            <a:ext cx="2647800" cy="3702240"/>
          </a:xfrm>
          <a:prstGeom prst="rect">
            <a:avLst/>
          </a:prstGeom>
          <a:ln w="0">
            <a:noFill/>
          </a:ln>
        </p:spPr>
      </p:pic>
      <p:pic>
        <p:nvPicPr>
          <p:cNvPr id="1308" name="Рисунок 4" descr="book008.gif"/>
          <p:cNvPicPr/>
          <p:nvPr/>
        </p:nvPicPr>
        <p:blipFill>
          <a:blip r:embed="rId2"/>
          <a:stretch/>
        </p:blipFill>
        <p:spPr>
          <a:xfrm>
            <a:off x="7380360" y="26028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5"/>
          <p:cNvSpPr/>
          <p:nvPr/>
        </p:nvSpPr>
        <p:spPr>
          <a:xfrm>
            <a:off x="3708360" y="213372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араграф 4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Рабочая тетрадь №1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Учить термины записанные в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дготовится к тесту по рабочей тетради с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очему эти растения объединяют в одну группу? </a:t>
            </a:r>
            <a:endParaRPr b="0" lang="en-US" sz="40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35" name="Picture 4" descr=""/>
          <p:cNvPicPr/>
          <p:nvPr/>
        </p:nvPicPr>
        <p:blipFill>
          <a:blip r:embed="rId1"/>
          <a:stretch/>
        </p:blipFill>
        <p:spPr>
          <a:xfrm>
            <a:off x="1187280" y="1641600"/>
            <a:ext cx="69138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очему эти растения объединяют в одну группу?</a:t>
            </a:r>
            <a:endParaRPr b="0" lang="en-US" sz="40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37" name="Picture 4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3743280" cy="40323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5" descr=""/>
          <p:cNvPicPr/>
          <p:nvPr/>
        </p:nvPicPr>
        <p:blipFill>
          <a:blip r:embed="rId2"/>
          <a:stretch/>
        </p:blipFill>
        <p:spPr>
          <a:xfrm>
            <a:off x="3780000" y="1846440"/>
            <a:ext cx="5256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Рисунок 1" descr="flw15.jpg"/>
          <p:cNvPicPr/>
          <p:nvPr/>
        </p:nvPicPr>
        <p:blipFill>
          <a:blip r:embed="rId1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240" name="Содержимое 4" descr="flw08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1" name="Рисунок 3" descr="flw125.jpg"/>
          <p:cNvPicPr/>
          <p:nvPr/>
        </p:nvPicPr>
        <p:blipFill>
          <a:blip r:embed="rId3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242" name="Содержимое 5" descr="flw01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43" name="Прямоугольник 5"/>
          <p:cNvSpPr/>
          <p:nvPr/>
        </p:nvSpPr>
        <p:spPr>
          <a:xfrm>
            <a:off x="611280" y="1773360"/>
            <a:ext cx="7848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Многообразие растений удивительно велико. Уже известно более 350 тысяч разных растени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ahoma"/>
              </a:rPr>
              <a:t>Тема урока:</a:t>
            </a:r>
            <a:br>
              <a:rPr sz="80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сновы систематики растений.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ногообразие растительного мира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46" name="Содержимое 4" descr="micrast.jpg"/>
          <p:cNvPicPr/>
          <p:nvPr/>
        </p:nvPicPr>
        <p:blipFill>
          <a:blip r:embed="rId1"/>
          <a:stretch/>
        </p:blipFill>
        <p:spPr>
          <a:xfrm>
            <a:off x="395280" y="14130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1247" name="Рисунок 4" descr="spir.jpg"/>
          <p:cNvPicPr/>
          <p:nvPr/>
        </p:nvPicPr>
        <p:blipFill>
          <a:blip r:embed="rId2"/>
          <a:stretch/>
        </p:blipFill>
        <p:spPr>
          <a:xfrm>
            <a:off x="0" y="2752560"/>
            <a:ext cx="1123920" cy="4105440"/>
          </a:xfrm>
          <a:prstGeom prst="rect">
            <a:avLst/>
          </a:prstGeom>
          <a:ln w="0">
            <a:noFill/>
          </a:ln>
        </p:spPr>
      </p:pic>
      <p:pic>
        <p:nvPicPr>
          <p:cNvPr id="1248" name="Содержимое 5" descr="klost.jpg"/>
          <p:cNvPicPr/>
          <p:nvPr/>
        </p:nvPicPr>
        <p:blipFill>
          <a:blip r:embed="rId3"/>
          <a:stretch/>
        </p:blipFill>
        <p:spPr>
          <a:xfrm>
            <a:off x="900000" y="2852640"/>
            <a:ext cx="3705480" cy="3649680"/>
          </a:xfrm>
          <a:prstGeom prst="rect">
            <a:avLst/>
          </a:prstGeom>
          <a:ln w="0">
            <a:noFill/>
          </a:ln>
        </p:spPr>
      </p:pic>
      <p:pic>
        <p:nvPicPr>
          <p:cNvPr id="1249" name="Рисунок 6" descr="DSC02329.jpg"/>
          <p:cNvPicPr/>
          <p:nvPr/>
        </p:nvPicPr>
        <p:blipFill>
          <a:blip r:embed="rId4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250" name="Рисунок 7" descr="pine.jpg"/>
          <p:cNvPicPr/>
          <p:nvPr/>
        </p:nvPicPr>
        <p:blipFill>
          <a:blip r:embed="rId5"/>
          <a:stretch/>
        </p:blipFill>
        <p:spPr>
          <a:xfrm>
            <a:off x="5148360" y="2997360"/>
            <a:ext cx="3744720" cy="3860640"/>
          </a:xfrm>
          <a:prstGeom prst="rect">
            <a:avLst/>
          </a:prstGeom>
          <a:ln w="0">
            <a:noFill/>
          </a:ln>
        </p:spPr>
      </p:pic>
      <p:pic>
        <p:nvPicPr>
          <p:cNvPr id="1251" name="Рисунок 8" descr="1693_cvetushhaja_vishnja.jpg"/>
          <p:cNvPicPr/>
          <p:nvPr/>
        </p:nvPicPr>
        <p:blipFill>
          <a:blip r:embed="rId6"/>
          <a:stretch/>
        </p:blipFill>
        <p:spPr>
          <a:xfrm>
            <a:off x="1835280" y="1989000"/>
            <a:ext cx="5400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6602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Царства живой природы</a:t>
            </a:r>
            <a:endParaRPr b="0" lang="en-US" sz="36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53" name="Line 11"/>
          <p:cNvSpPr/>
          <p:nvPr/>
        </p:nvSpPr>
        <p:spPr>
          <a:xfrm flipH="1">
            <a:off x="1403280" y="1303200"/>
            <a:ext cx="936720" cy="50508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Line 13"/>
          <p:cNvSpPr/>
          <p:nvPr/>
        </p:nvSpPr>
        <p:spPr>
          <a:xfrm flipH="1">
            <a:off x="3492000" y="1376280"/>
            <a:ext cx="574920" cy="43200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4"/>
          <p:cNvSpPr/>
          <p:nvPr/>
        </p:nvSpPr>
        <p:spPr>
          <a:xfrm>
            <a:off x="4716360" y="1376280"/>
            <a:ext cx="647640" cy="50328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2"/>
          <p:cNvSpPr/>
          <p:nvPr/>
        </p:nvSpPr>
        <p:spPr>
          <a:xfrm>
            <a:off x="6732720" y="1376280"/>
            <a:ext cx="792000" cy="43200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26160" y="16858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Бак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8"/>
          <p:cNvSpPr/>
          <p:nvPr/>
        </p:nvSpPr>
        <p:spPr>
          <a:xfrm>
            <a:off x="2845080" y="168588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9"/>
          <p:cNvSpPr/>
          <p:nvPr/>
        </p:nvSpPr>
        <p:spPr>
          <a:xfrm>
            <a:off x="4502880" y="16858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10"/>
          <p:cNvSpPr/>
          <p:nvPr/>
        </p:nvSpPr>
        <p:spPr>
          <a:xfrm>
            <a:off x="6950520" y="16858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Box 11"/>
          <p:cNvSpPr/>
          <p:nvPr/>
        </p:nvSpPr>
        <p:spPr>
          <a:xfrm>
            <a:off x="2843280" y="3141720"/>
            <a:ext cx="600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к же разобраться во вс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ногообразии раст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израстающих на Зем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Рисунок 12" descr="Рисунок4.gif"/>
          <p:cNvPicPr/>
          <p:nvPr/>
        </p:nvPicPr>
        <p:blipFill>
          <a:blip r:embed="rId1"/>
          <a:stretch/>
        </p:blipFill>
        <p:spPr>
          <a:xfrm>
            <a:off x="324000" y="3573360"/>
            <a:ext cx="26478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Чтобы легче было разобраться в многообразии растений, их разделили на группы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и систематизировали. </a:t>
            </a:r>
            <a:endParaRPr b="0" lang="en-US" sz="28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64" name="Заголовок 1"/>
          <p:cNvSpPr/>
          <p:nvPr/>
        </p:nvSpPr>
        <p:spPr>
          <a:xfrm>
            <a:off x="324000" y="333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Tahoma"/>
                <a:hlinkClick r:id="rId1" action="ppaction://hlinksldjump"/>
              </a:rPr>
              <a:t>Основоположник  систематик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Picture 2" descr="E:\ДИСК курсы 2011 апрель\Таблицы к курсу биология\Дрофа\Ученые\Linnei.jpg"/>
          <p:cNvPicPr/>
          <p:nvPr/>
        </p:nvPicPr>
        <p:blipFill>
          <a:blip r:embed="rId2"/>
          <a:stretch/>
        </p:blipFill>
        <p:spPr>
          <a:xfrm>
            <a:off x="5219640" y="1700280"/>
            <a:ext cx="3718080" cy="4856040"/>
          </a:xfrm>
          <a:prstGeom prst="rect">
            <a:avLst/>
          </a:prstGeom>
          <a:ln w="0">
            <a:noFill/>
          </a:ln>
        </p:spPr>
      </p:pic>
      <p:sp>
        <p:nvSpPr>
          <p:cNvPr id="1266" name="Содержимое 2"/>
          <p:cNvSpPr/>
          <p:nvPr/>
        </p:nvSpPr>
        <p:spPr>
          <a:xfrm>
            <a:off x="468360" y="1773360"/>
            <a:ext cx="4330800" cy="4525920"/>
          </a:xfrm>
          <a:prstGeom prst="rect">
            <a:avLst/>
          </a:prstGeom>
          <a:solidFill>
            <a:srgbClr val="c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ahoma"/>
              </a:rPr>
              <a:t>основоположник систе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ahoma"/>
              </a:rPr>
              <a:t>ввел бинарну ю номенклату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ahoma"/>
              </a:rPr>
              <a:t>ввел названия растений на латинском я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Содержимое 2"/>
          <p:cNvSpPr/>
          <p:nvPr/>
        </p:nvSpPr>
        <p:spPr>
          <a:xfrm>
            <a:off x="539640" y="1916280"/>
            <a:ext cx="403884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8000"/>
                </a:solidFill>
                <a:latin typeface="Tahoma"/>
              </a:rPr>
              <a:t>Шведский ученый-натуралист </a:t>
            </a:r>
            <a:r>
              <a:rPr b="0" i="1" lang="en-US" sz="3000" spc="-1" strike="noStrike">
                <a:solidFill>
                  <a:srgbClr val="008000"/>
                </a:solidFill>
                <a:latin typeface="Tahoma"/>
              </a:rPr>
              <a:t>XVIII </a:t>
            </a:r>
            <a:r>
              <a:rPr b="0" i="1" lang="ru-RU" sz="3000" spc="-1" strike="noStrike">
                <a:solidFill>
                  <a:srgbClr val="008000"/>
                </a:solidFill>
                <a:latin typeface="Tahoma"/>
              </a:rPr>
              <a:t>в.  Написал книгу </a:t>
            </a:r>
            <a:r>
              <a:rPr b="1" i="1" lang="ru-RU" sz="3000" spc="-1" strike="noStrike">
                <a:solidFill>
                  <a:srgbClr val="008000"/>
                </a:solidFill>
                <a:latin typeface="Tahoma"/>
              </a:rPr>
              <a:t>«Система природы»,  </a:t>
            </a:r>
            <a:r>
              <a:rPr b="0" i="1" lang="ru-RU" sz="3000" spc="-1" strike="noStrike">
                <a:solidFill>
                  <a:srgbClr val="008000"/>
                </a:solidFill>
                <a:latin typeface="Tahoma"/>
              </a:rPr>
              <a:t>где дал классификацию растений, животных и даже минера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Tahoma"/>
                <a:hlinkClick r:id="rId1" action="ppaction://hlinksldjump"/>
              </a:rPr>
              <a:t>Основные систематические категории растений.</a:t>
            </a:r>
            <a:endParaRPr b="0" lang="en-US" sz="40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69" name="Содержимое 2"/>
          <p:cNvSpPr/>
          <p:nvPr/>
        </p:nvSpPr>
        <p:spPr>
          <a:xfrm>
            <a:off x="250920" y="1628640"/>
            <a:ext cx="403848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Tahoma"/>
              </a:rPr>
              <a:t>Царство</a:t>
            </a: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От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Поря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Семей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Tahoma"/>
              </a:rPr>
              <a:t>В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0" name="Picture 11" descr="res9F7B830F-0A01-022A-0050-84C6BDB4E254"/>
          <p:cNvPicPr/>
          <p:nvPr/>
        </p:nvPicPr>
        <p:blipFill>
          <a:blip r:embed="rId2"/>
          <a:stretch/>
        </p:blipFill>
        <p:spPr>
          <a:xfrm>
            <a:off x="2943360" y="1628640"/>
            <a:ext cx="6200640" cy="4508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271" name="Скругленный прямоугольник 5"/>
          <p:cNvSpPr/>
          <p:nvPr/>
        </p:nvSpPr>
        <p:spPr>
          <a:xfrm>
            <a:off x="900000" y="404640"/>
            <a:ext cx="7559640" cy="863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заполним в рабочей тетради №1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8:44:40Z</dcterms:created>
  <dc:creator>DOMPK</dc:creator>
  <dc:description/>
  <dc:language>en-US</dc:language>
  <cp:lastModifiedBy>DOMPK</cp:lastModifiedBy>
  <dcterms:modified xsi:type="dcterms:W3CDTF">2013-04-04T09:09:10Z</dcterms:modified>
  <cp:revision>3</cp:revision>
  <dc:subject/>
  <dc:title>Почему эти растения объединяют в одну группу?</dc:title>
</cp:coreProperties>
</file>