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jpeg" ContentType="image/jpeg"/>
  <Override PartName="/ppt/media/image3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3D9B-3A2B-4B73-92EE-CBAC1424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4FDD-5A9F-4B82-8CEC-249BDA2D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5C5A-6F91-4C2E-8F06-6FE959C6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E1C7-4EB0-421F-8BDB-EF0CDA42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B56F-9003-49E9-A1EE-E9CE0730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3945-7F17-4402-BD97-D553272C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858F-8D04-424E-8FA6-5F8E1168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B3B6-EC3C-4357-838D-C1166C33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E3DB-CD94-4425-8322-56D8358B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EE36-F569-4B2A-8649-57EA5A9E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B075-3140-4FF5-8BA8-6533E1D5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7E96-794D-4DD2-8A01-EA2BE7EE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71B3-5A41-4B98-9282-2083AF9D6B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539640" y="1628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бочая тетрадь с 72 те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помним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611280" y="260280"/>
            <a:ext cx="822960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сположите систематические категории в порядке возраст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4"/>
          <p:cNvSpPr/>
          <p:nvPr/>
        </p:nvSpPr>
        <p:spPr>
          <a:xfrm>
            <a:off x="2987640" y="1628640"/>
            <a:ext cx="302436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5"/>
          <p:cNvSpPr/>
          <p:nvPr/>
        </p:nvSpPr>
        <p:spPr>
          <a:xfrm>
            <a:off x="539640" y="2852640"/>
            <a:ext cx="302436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тд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6"/>
          <p:cNvSpPr/>
          <p:nvPr/>
        </p:nvSpPr>
        <p:spPr>
          <a:xfrm>
            <a:off x="539640" y="4005360"/>
            <a:ext cx="302436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7"/>
          <p:cNvSpPr/>
          <p:nvPr/>
        </p:nvSpPr>
        <p:spPr>
          <a:xfrm>
            <a:off x="468360" y="5157720"/>
            <a:ext cx="302400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ряд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8"/>
          <p:cNvSpPr/>
          <p:nvPr/>
        </p:nvSpPr>
        <p:spPr>
          <a:xfrm>
            <a:off x="5796000" y="3141720"/>
            <a:ext cx="302400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и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9"/>
          <p:cNvSpPr/>
          <p:nvPr/>
        </p:nvSpPr>
        <p:spPr>
          <a:xfrm>
            <a:off x="5796000" y="4149720"/>
            <a:ext cx="302400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емей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10"/>
          <p:cNvSpPr/>
          <p:nvPr/>
        </p:nvSpPr>
        <p:spPr>
          <a:xfrm>
            <a:off x="5867280" y="5157720"/>
            <a:ext cx="302580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Цар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2.01665E-006 C 0.00799 0.08279 0.00799 0.16605 0.00799 0.19935 E">
                                      <p:cBhvr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45 -0.01434 C 0.21007 -0.04325 0.25468 -0.07193 0.27309 -0.08395 E">
                                      <p:cBhvr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45 0.00024 L 0.27569 0.17854 E">
                                      <p:cBhvr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45 -0.03145 C 0.21441 -0.10592 0.26372 -0.18015 0.28351 -0.20976 E">
                                      <p:cBhvr>
                                        <p:cTn id="31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84 0.00047 C -0.22309 0.16999 -0.27743 0.34043 -0.29913 0.40912 E">
                                      <p:cBhvr>
                                        <p:cTn id="35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684 7.40056E-007 C -0.22205 0.0222 -0.27708 0.0444 -0.29913 0.05319 E">
                                      <p:cBhvr>
                                        <p:cTn id="37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764 0.0525 C -0.22031 -0.18478 -0.28264 -0.42045 -0.30712 -0.51388 E">
                                      <p:cBhvr>
                                        <p:cTn id="39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Скругленный прямоугольник 2"/>
          <p:cNvSpPr/>
          <p:nvPr/>
        </p:nvSpPr>
        <p:spPr>
          <a:xfrm>
            <a:off x="1476360" y="189000"/>
            <a:ext cx="5759640" cy="122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вторим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30200" y="333360"/>
            <a:ext cx="8713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колько семядолей имеют семена фасо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 называются растения, семена которых имеют 2 семядо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колько семядолей имеют семена пшениц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 называются растения, семена которых имеют одну семядол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Какие типы корневых систем вы знает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- Какие типы жилкования листьев вы знает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ление покрытосеменных растений на классы и семейст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Цветок"/>
          <p:cNvPicPr/>
          <p:nvPr/>
        </p:nvPicPr>
        <p:blipFill>
          <a:blip r:embed="rId1"/>
          <a:stretch/>
        </p:blipFill>
        <p:spPr>
          <a:xfrm>
            <a:off x="5952960" y="4292640"/>
            <a:ext cx="29386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крытосеменные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кла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Прямая со стрелкой 3"/>
          <p:cNvCxnSpPr>
            <a:stCxn id="56" idx="2"/>
          </p:cNvCxnSpPr>
          <p:nvPr/>
        </p:nvCxnSpPr>
        <p:spPr>
          <a:xfrm flipH="1">
            <a:off x="3419280" y="1417320"/>
            <a:ext cx="1152720" cy="49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Прямая со стрелкой 5"/>
          <p:cNvCxnSpPr>
            <a:stCxn id="56" idx="2"/>
          </p:cNvCxnSpPr>
          <p:nvPr/>
        </p:nvCxnSpPr>
        <p:spPr>
          <a:xfrm>
            <a:off x="4571640" y="1417320"/>
            <a:ext cx="1369080" cy="49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Содержимое 2"/>
          <p:cNvSpPr/>
          <p:nvPr/>
        </p:nvSpPr>
        <p:spPr>
          <a:xfrm>
            <a:off x="324000" y="1557360"/>
            <a:ext cx="8218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500" spc="-1" strike="noStrike">
                <a:solidFill>
                  <a:srgbClr val="000000"/>
                </a:solidFill>
                <a:latin typeface="Arial"/>
              </a:rPr>
              <a:t>Двудольные       Однодольны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право 8"/>
          <p:cNvSpPr/>
          <p:nvPr/>
        </p:nvSpPr>
        <p:spPr>
          <a:xfrm rot="5400000">
            <a:off x="1726920" y="3031920"/>
            <a:ext cx="1152360" cy="505080"/>
          </a:xfrm>
          <a:prstGeom prst="rightArrow">
            <a:avLst>
              <a:gd name="adj1" fmla="val 54704"/>
              <a:gd name="adj2" fmla="val 4990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845280" y="4292640"/>
            <a:ext cx="339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рестоцве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ак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рыжовник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вовые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право 10"/>
          <p:cNvSpPr/>
          <p:nvPr/>
        </p:nvSpPr>
        <p:spPr>
          <a:xfrm rot="5400000">
            <a:off x="6048360" y="3031920"/>
            <a:ext cx="1152360" cy="504720"/>
          </a:xfrm>
          <a:prstGeom prst="rightArrow">
            <a:avLst>
              <a:gd name="adj1" fmla="val 54704"/>
              <a:gd name="adj2" fmla="val 4994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5219640" y="4149720"/>
            <a:ext cx="302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л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илей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рхи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соковые и д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042920" y="1266840"/>
            <a:ext cx="7309080" cy="55911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йства объединяют в порядки, а порядки в классы однодольных и двудольных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0" y="4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00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изнаки растений класса однодольных и класса двудоль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0"/>
          <a:ext cx="9144000" cy="69883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4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007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007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ласс двудольные рас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007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ласс однодольные раст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0007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Количество семядолей в зародыш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8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0007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Тип корневой сист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0007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Жилкование ли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8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0007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Цве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0007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Расположение проводящих пуч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8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0007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Наличие камб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0007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Дифференциация коры и древес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0007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Прим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68" name="Скругленный прямоугольник 5"/>
          <p:cNvSpPr/>
          <p:nvPr/>
        </p:nvSpPr>
        <p:spPr>
          <a:xfrm>
            <a:off x="3132000" y="1557360"/>
            <a:ext cx="288000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емяд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6"/>
          <p:cNvSpPr/>
          <p:nvPr/>
        </p:nvSpPr>
        <p:spPr>
          <a:xfrm>
            <a:off x="6227640" y="1557360"/>
            <a:ext cx="291636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5000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емяд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7"/>
          <p:cNvSpPr/>
          <p:nvPr/>
        </p:nvSpPr>
        <p:spPr>
          <a:xfrm>
            <a:off x="3132000" y="2205000"/>
            <a:ext cx="2808360" cy="647640"/>
          </a:xfrm>
          <a:prstGeom prst="roundRect">
            <a:avLst>
              <a:gd name="adj" fmla="val 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ржнев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8"/>
          <p:cNvSpPr/>
          <p:nvPr/>
        </p:nvSpPr>
        <p:spPr>
          <a:xfrm>
            <a:off x="6372360" y="2205000"/>
            <a:ext cx="2771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чковат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10"/>
          <p:cNvSpPr/>
          <p:nvPr/>
        </p:nvSpPr>
        <p:spPr>
          <a:xfrm>
            <a:off x="3059280" y="2924280"/>
            <a:ext cx="316836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тчатое или перист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11"/>
          <p:cNvSpPr/>
          <p:nvPr/>
        </p:nvSpPr>
        <p:spPr>
          <a:xfrm>
            <a:off x="6012000" y="2924280"/>
            <a:ext cx="3132000" cy="64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ллельное или дуг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83" descr="Мини роза"/>
          <p:cNvPicPr/>
          <p:nvPr/>
        </p:nvPicPr>
        <p:blipFill>
          <a:blip r:embed="rId1"/>
          <a:stretch/>
        </p:blipFill>
        <p:spPr>
          <a:xfrm rot="1225800">
            <a:off x="1533240" y="3623760"/>
            <a:ext cx="792000" cy="474840"/>
          </a:xfrm>
          <a:prstGeom prst="rect">
            <a:avLst/>
          </a:prstGeom>
          <a:ln w="0">
            <a:noFill/>
          </a:ln>
        </p:spPr>
      </p:pic>
      <p:sp>
        <p:nvSpPr>
          <p:cNvPr id="75" name="Скругленный прямоугольник 13"/>
          <p:cNvSpPr/>
          <p:nvPr/>
        </p:nvSpPr>
        <p:spPr>
          <a:xfrm>
            <a:off x="2987640" y="3573360"/>
            <a:ext cx="3097080" cy="122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5000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ехчленный цветок или пятичленный цветок с двойным околоцвет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14"/>
          <p:cNvSpPr/>
          <p:nvPr/>
        </p:nvSpPr>
        <p:spPr>
          <a:xfrm>
            <a:off x="6156360" y="3573360"/>
            <a:ext cx="2987640" cy="122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5000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членный цветок, реже четырехчленный с простым околоцвет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15"/>
          <p:cNvSpPr/>
          <p:nvPr/>
        </p:nvSpPr>
        <p:spPr>
          <a:xfrm>
            <a:off x="3059280" y="4221000"/>
            <a:ext cx="309708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00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нтре или имеют вид коль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16"/>
          <p:cNvSpPr/>
          <p:nvPr/>
        </p:nvSpPr>
        <p:spPr>
          <a:xfrm>
            <a:off x="6156360" y="4221000"/>
            <a:ext cx="298764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5000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ящие пучки разбросаны  по всему стеб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17"/>
          <p:cNvSpPr/>
          <p:nvPr/>
        </p:nvSpPr>
        <p:spPr>
          <a:xfrm>
            <a:off x="2987640" y="5013360"/>
            <a:ext cx="295272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00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 камб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18"/>
          <p:cNvSpPr/>
          <p:nvPr/>
        </p:nvSpPr>
        <p:spPr>
          <a:xfrm>
            <a:off x="6084720" y="4941720"/>
            <a:ext cx="305928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00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кам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19"/>
          <p:cNvSpPr/>
          <p:nvPr/>
        </p:nvSpPr>
        <p:spPr>
          <a:xfrm>
            <a:off x="3132000" y="5661000"/>
            <a:ext cx="280836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00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дифференцир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20"/>
          <p:cNvSpPr/>
          <p:nvPr/>
        </p:nvSpPr>
        <p:spPr>
          <a:xfrm>
            <a:off x="6048360" y="5661000"/>
            <a:ext cx="3095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000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ясная дифференц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1"/>
          <p:cNvSpPr/>
          <p:nvPr/>
        </p:nvSpPr>
        <p:spPr>
          <a:xfrm>
            <a:off x="3276720" y="63961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о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2"/>
          <p:cNvSpPr/>
          <p:nvPr/>
        </p:nvSpPr>
        <p:spPr>
          <a:xfrm>
            <a:off x="6227640" y="63961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шен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79280" y="-27000"/>
            <a:ext cx="8785440" cy="63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. Главными признаками, по  которым растение относят к тому или иному семейству – это 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. Одно семейство может включать ……………… ро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3. Растение, имеющее две семядоли, сетчатое жилкование листьев, стержневую корневую систему, относят к классу …….. раст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4. На какие два класса делится отдел покрытосеменных растени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5. Назовите признаки растений класса двудоль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6. Назовите признаки растений класса однодоль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7. Горох относится к растениям класса двудольных растений. Назовите количество семядолей, тип корневой системы, тип жилкования листье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8.У пшеницы мочковатая корневая система, параллельное жилкование листьев. Сколько семядолей имеет зерновка пшеницы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4920" y="2276640"/>
            <a:ext cx="7993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 46 выучить признаки классов покрытосеменн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ести альбом 12 лис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ервой страницы альбома составить классификацию и сделать рисунок любое растения населяющее территорию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1" descr="Рисунок5"/>
          <p:cNvPicPr/>
          <p:nvPr/>
        </p:nvPicPr>
        <p:blipFill>
          <a:blip r:embed="rId1"/>
          <a:stretch/>
        </p:blipFill>
        <p:spPr>
          <a:xfrm>
            <a:off x="7020000" y="189000"/>
            <a:ext cx="1844640" cy="20365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book008.gif"/>
          <p:cNvPicPr/>
          <p:nvPr/>
        </p:nvPicPr>
        <p:blipFill>
          <a:blip r:embed="rId2"/>
          <a:stretch/>
        </p:blipFill>
        <p:spPr>
          <a:xfrm>
            <a:off x="7308720" y="4941720"/>
            <a:ext cx="15336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08:41:22Z</dcterms:created>
  <dc:creator>DOMPK</dc:creator>
  <dc:description/>
  <dc:language>en-US</dc:language>
  <cp:lastModifiedBy>DOMPK</cp:lastModifiedBy>
  <dcterms:modified xsi:type="dcterms:W3CDTF">2013-04-05T09:55:48Z</dcterms:modified>
  <cp:revision>1</cp:revision>
  <dc:subject/>
  <dc:title>Проверка домашнего задания.</dc:title>
</cp:coreProperties>
</file>