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jpeg" ContentType="image/jpeg"/>
  <Override PartName="/ppt/media/image3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31F-F41E-4090-AA10-961A904E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FEA-BF62-4C77-A64F-4EB3F587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7C3-54BB-4874-8B9C-C5508C10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CBB-9DED-4AEE-8A13-4D7D8D72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151-AF4A-4097-AE47-1F821D9D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8C7-A5CF-467F-AD9E-6C10F12E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90A-605D-4203-880A-CE71B257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A67-9319-4072-A2C3-3F3E6D60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8D5-1746-42B4-958F-469F3C9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991-5EC0-4E0B-BB9E-F1CD3947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AF7-A92A-4F26-83AC-147B2C7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347-E4CE-42AA-A6A7-ADB0932F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6001-19B6-4467-94D8-205728BB7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39640" y="162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чая тетрадь с 72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помни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611280" y="260280"/>
            <a:ext cx="82296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оложите систематические категории в порядке возраст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2987640" y="1628640"/>
            <a:ext cx="302436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/>
          <p:cNvSpPr/>
          <p:nvPr/>
        </p:nvSpPr>
        <p:spPr>
          <a:xfrm>
            <a:off x="539640" y="2852640"/>
            <a:ext cx="302436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д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6"/>
          <p:cNvSpPr/>
          <p:nvPr/>
        </p:nvSpPr>
        <p:spPr>
          <a:xfrm>
            <a:off x="539640" y="4005360"/>
            <a:ext cx="3024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468360" y="5157720"/>
            <a:ext cx="3024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ря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8"/>
          <p:cNvSpPr/>
          <p:nvPr/>
        </p:nvSpPr>
        <p:spPr>
          <a:xfrm>
            <a:off x="5796000" y="3141720"/>
            <a:ext cx="302400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9"/>
          <p:cNvSpPr/>
          <p:nvPr/>
        </p:nvSpPr>
        <p:spPr>
          <a:xfrm>
            <a:off x="5796000" y="4149720"/>
            <a:ext cx="3024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еме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0"/>
          <p:cNvSpPr/>
          <p:nvPr/>
        </p:nvSpPr>
        <p:spPr>
          <a:xfrm>
            <a:off x="5867280" y="5157720"/>
            <a:ext cx="30258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а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2.01665E-006 C 0.00799 0.08279 0.00799 0.16605 0.00799 0.19935 E"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1434 C 0.21007 -0.04325 0.25468 -0.07193 0.27309 -0.08395 E"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0.00024 L 0.27569 0.17854 E">
                                      <p:cBhvr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3145 C 0.21441 -0.10592 0.26372 -0.18015 0.28351 -0.20976 E">
                                      <p:cBhvr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4 0.00047 C -0.22309 0.16999 -0.27743 0.34043 -0.29913 0.40912 E">
                                      <p:cBhvr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84 7.40056E-007 C -0.22205 0.0222 -0.27708 0.0444 -0.29913 0.05319 E"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64 0.0525 C -0.22031 -0.18478 -0.28264 -0.42045 -0.30712 -0.51388 E">
                                      <p:cBhvr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ый прямоугольник 2"/>
          <p:cNvSpPr/>
          <p:nvPr/>
        </p:nvSpPr>
        <p:spPr>
          <a:xfrm>
            <a:off x="1476360" y="189000"/>
            <a:ext cx="575964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вторим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30200" y="33336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ко семядолей имеют семена фасо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называются растения, семена которых имеют 2 семядо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ко семядолей имеют семена пшени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называются растения, семена которых имеют одну семядол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Какие типы корневых систем вы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Какие типы жилкования листьев вы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ение покрытосеменных растений на классы и семей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Цветок"/>
          <p:cNvPicPr/>
          <p:nvPr/>
        </p:nvPicPr>
        <p:blipFill>
          <a:blip r:embed="rId1"/>
          <a:stretch/>
        </p:blipFill>
        <p:spPr>
          <a:xfrm>
            <a:off x="5952960" y="4292640"/>
            <a:ext cx="29386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рытосеменны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 стрелкой 3"/>
          <p:cNvCxnSpPr>
            <a:stCxn id="56" idx="2"/>
          </p:cNvCxnSpPr>
          <p:nvPr/>
        </p:nvCxnSpPr>
        <p:spPr>
          <a:xfrm flipH="1">
            <a:off x="3419280" y="1417320"/>
            <a:ext cx="115272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Прямая со стрелкой 5"/>
          <p:cNvCxnSpPr>
            <a:stCxn id="56" idx="2"/>
          </p:cNvCxnSpPr>
          <p:nvPr/>
        </p:nvCxnSpPr>
        <p:spPr>
          <a:xfrm>
            <a:off x="4571640" y="1417320"/>
            <a:ext cx="13690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Содержимое 2"/>
          <p:cNvSpPr/>
          <p:nvPr/>
        </p:nvSpPr>
        <p:spPr>
          <a:xfrm>
            <a:off x="324000" y="1557360"/>
            <a:ext cx="8218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500" spc="-1" strike="noStrike">
                <a:solidFill>
                  <a:srgbClr val="000000"/>
                </a:solidFill>
                <a:latin typeface="Arial"/>
              </a:rPr>
              <a:t>Двудольные       Однодольны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8"/>
          <p:cNvSpPr/>
          <p:nvPr/>
        </p:nvSpPr>
        <p:spPr>
          <a:xfrm rot="5400000">
            <a:off x="1726920" y="3031920"/>
            <a:ext cx="1152360" cy="505080"/>
          </a:xfrm>
          <a:prstGeom prst="rightArrow">
            <a:avLst>
              <a:gd name="adj1" fmla="val 54704"/>
              <a:gd name="adj2" fmla="val 499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845280" y="4292640"/>
            <a:ext cx="33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естоцв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а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ыжовни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овые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10"/>
          <p:cNvSpPr/>
          <p:nvPr/>
        </p:nvSpPr>
        <p:spPr>
          <a:xfrm rot="5400000">
            <a:off x="6048360" y="3031920"/>
            <a:ext cx="1152360" cy="504720"/>
          </a:xfrm>
          <a:prstGeom prst="rightArrow">
            <a:avLst>
              <a:gd name="adj1" fmla="val 54704"/>
              <a:gd name="adj2" fmla="val 4994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219640" y="4149720"/>
            <a:ext cx="30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л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иле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хи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оковые и д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42920" y="1266840"/>
            <a:ext cx="7309080" cy="5591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ства объединяют в порядки, а порядки в классы однодольных и двудоль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знаки растений класса однодольных и класса двудо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0"/>
          <a:ext cx="9144000" cy="6988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ласс двудольны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ласс однодольны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личество семядолей в зароды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ип корневой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Жилкование л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Цве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Расположение проводящих пуч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Наличие камб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ифференциация коры и древес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8" name="Скругленный прямоугольник 5"/>
          <p:cNvSpPr/>
          <p:nvPr/>
        </p:nvSpPr>
        <p:spPr>
          <a:xfrm>
            <a:off x="3132000" y="1557360"/>
            <a:ext cx="2880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6"/>
          <p:cNvSpPr/>
          <p:nvPr/>
        </p:nvSpPr>
        <p:spPr>
          <a:xfrm>
            <a:off x="6227640" y="1557360"/>
            <a:ext cx="2916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7"/>
          <p:cNvSpPr/>
          <p:nvPr/>
        </p:nvSpPr>
        <p:spPr>
          <a:xfrm>
            <a:off x="3132000" y="2205000"/>
            <a:ext cx="2808360" cy="647640"/>
          </a:xfrm>
          <a:prstGeom prst="roundRect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ржн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8"/>
          <p:cNvSpPr/>
          <p:nvPr/>
        </p:nvSpPr>
        <p:spPr>
          <a:xfrm>
            <a:off x="6372360" y="2205000"/>
            <a:ext cx="2771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чковат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0"/>
          <p:cNvSpPr/>
          <p:nvPr/>
        </p:nvSpPr>
        <p:spPr>
          <a:xfrm>
            <a:off x="3059280" y="2924280"/>
            <a:ext cx="316836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чатое или перист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1"/>
          <p:cNvSpPr/>
          <p:nvPr/>
        </p:nvSpPr>
        <p:spPr>
          <a:xfrm>
            <a:off x="6012000" y="2924280"/>
            <a:ext cx="3132000" cy="64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ьное или дуг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3" descr="Мини роза"/>
          <p:cNvPicPr/>
          <p:nvPr/>
        </p:nvPicPr>
        <p:blipFill>
          <a:blip r:embed="rId1"/>
          <a:stretch/>
        </p:blipFill>
        <p:spPr>
          <a:xfrm rot="1225800">
            <a:off x="1533240" y="3623760"/>
            <a:ext cx="792000" cy="47484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13"/>
          <p:cNvSpPr/>
          <p:nvPr/>
        </p:nvSpPr>
        <p:spPr>
          <a:xfrm>
            <a:off x="2987640" y="3573360"/>
            <a:ext cx="309708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членный цветок или пятичленный цветок с двойным околоцвет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4"/>
          <p:cNvSpPr/>
          <p:nvPr/>
        </p:nvSpPr>
        <p:spPr>
          <a:xfrm>
            <a:off x="6156360" y="3573360"/>
            <a:ext cx="298764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членный цветок, реже четырехчленный с простым околоцвет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5"/>
          <p:cNvSpPr/>
          <p:nvPr/>
        </p:nvSpPr>
        <p:spPr>
          <a:xfrm>
            <a:off x="3059280" y="4221000"/>
            <a:ext cx="309708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или имеют вид ко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6"/>
          <p:cNvSpPr/>
          <p:nvPr/>
        </p:nvSpPr>
        <p:spPr>
          <a:xfrm>
            <a:off x="6156360" y="4221000"/>
            <a:ext cx="298764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щие пучки разбросаны  по всему стеб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7"/>
          <p:cNvSpPr/>
          <p:nvPr/>
        </p:nvSpPr>
        <p:spPr>
          <a:xfrm>
            <a:off x="2987640" y="5013360"/>
            <a:ext cx="2952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камб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8"/>
          <p:cNvSpPr/>
          <p:nvPr/>
        </p:nvSpPr>
        <p:spPr>
          <a:xfrm>
            <a:off x="6084720" y="4941720"/>
            <a:ext cx="305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кам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9"/>
          <p:cNvSpPr/>
          <p:nvPr/>
        </p:nvSpPr>
        <p:spPr>
          <a:xfrm>
            <a:off x="3132000" y="5661000"/>
            <a:ext cx="2808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дифференцир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0"/>
          <p:cNvSpPr/>
          <p:nvPr/>
        </p:nvSpPr>
        <p:spPr>
          <a:xfrm>
            <a:off x="6048360" y="5661000"/>
            <a:ext cx="3095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сная дифферен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3276720" y="6396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6227640" y="63961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ш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79280" y="-27000"/>
            <a:ext cx="87854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Главными признаками, по  которым растение относят к тому или иному семейству – это 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Одно семейство может включать ……………… р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Растение, имеющее две семядоли, сетчатое жилкование листьев, стержневую корневую систему, относят к классу …….. раст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На какие два класса делится отдел покрытосеменных растени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Назовите признаки растений класса двудо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. Назовите признаки растений класса однодо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. Горох относится к растениям класса двудольных растений. Назовите количество семядолей, тип корневой системы, тип жилкования листь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8.У пшеницы мочковатая корневая система, параллельное жилкование листьев. Сколько семядолей имеет зерновка пшениц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227664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46 выучить признаки классов покрытосеме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ести альбом 12 л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ервой страницы альбома составить классификацию и сделать рисунок любое растения населяющее территорию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" descr="Рисунок5"/>
          <p:cNvPicPr/>
          <p:nvPr/>
        </p:nvPicPr>
        <p:blipFill>
          <a:blip r:embed="rId1"/>
          <a:stretch/>
        </p:blipFill>
        <p:spPr>
          <a:xfrm>
            <a:off x="7020000" y="189000"/>
            <a:ext cx="1844640" cy="20365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book008.gif"/>
          <p:cNvPicPr/>
          <p:nvPr/>
        </p:nvPicPr>
        <p:blipFill>
          <a:blip r:embed="rId2"/>
          <a:stretch/>
        </p:blipFill>
        <p:spPr>
          <a:xfrm>
            <a:off x="7308720" y="494172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8:41:22Z</dcterms:created>
  <dc:creator>DOMPK</dc:creator>
  <dc:description/>
  <dc:language>en-US</dc:language>
  <cp:lastModifiedBy>DOMPK</cp:lastModifiedBy>
  <dcterms:modified xsi:type="dcterms:W3CDTF">2013-04-05T09:55:48Z</dcterms:modified>
  <cp:revision>1</cp:revision>
  <dc:subject/>
  <dc:title>Проверка домашнего задания.</dc:title>
</cp:coreProperties>
</file>