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FEC-1652-417E-9574-DC8D041A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1A8-6E06-47D9-8AA9-D6A3892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5F2-D009-4A70-9F19-CF9B3507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64B-7D4F-40EB-A183-30F42B7D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DC13-A0AA-485E-8E60-072A8D7B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87A5-E0A4-452D-BB3C-B63CFAD2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E42-BE0D-474A-8FBC-A1E22B6B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DF5F-3E39-4189-A527-AF727D7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E24F-CA6C-42C0-BF03-F15F951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334-280E-413B-8737-4DB4529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CF4A-5C1D-49FB-A857-99E1AE4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AEE-549E-4489-8FBE-20E129E0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1711-54C5-4B1A-A356-C18980D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1E0B-BD8D-4C69-A8EB-02E28668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DA37-3EB8-4390-8842-36E4D49B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B6C-200A-4A51-A8E5-B77907C2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E8EE-9EA1-450B-AF4F-DA1EEB0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EA9-3EB1-4734-A407-0679B24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D75-CDF3-481D-8694-CF0B3DF7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D3F-580B-4C4C-834F-A034473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F62-7C3B-43E3-A0D1-FB324F8E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F6A-AEAF-4799-91BE-127B1FB3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8C7-2461-4491-8D9D-6823AD4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EBC-A99B-4BCB-88B6-6365C08A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3f9a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382-7C5C-4FB1-AC77-E467B34D7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e7e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3f9a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e7e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EE9D-C49F-4E4D-82D2-4267E3BEE1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356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дно из крупных семейств цветковых растений, включающее окол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0 родов и 3000 в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356000" y="1844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чти во всех областях земного шара, где могут расти цветковые растения, но основная их часть сконцентрирована в умеренной и субтропической зонах северного полуша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40464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йство объединя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ревья, кустарники и трав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324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 одним из важнейших для нас семейств расте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Users\Sanya\Desktop\1948655.jpg"/>
          <p:cNvPicPr/>
          <p:nvPr/>
        </p:nvPicPr>
        <p:blipFill>
          <a:blip r:embed="rId1"/>
          <a:stretch/>
        </p:blipFill>
        <p:spPr>
          <a:xfrm>
            <a:off x="250920" y="1773360"/>
            <a:ext cx="3492360" cy="301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Sanya\Desktop\i.jpg"/>
          <p:cNvPicPr/>
          <p:nvPr/>
        </p:nvPicPr>
        <p:blipFill>
          <a:blip r:embed="rId2"/>
          <a:stretch/>
        </p:blipFill>
        <p:spPr>
          <a:xfrm>
            <a:off x="6657840" y="4508640"/>
            <a:ext cx="248616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Sanya\Desktop\1184849.jpg"/>
          <p:cNvPicPr/>
          <p:nvPr/>
        </p:nvPicPr>
        <p:blipFill>
          <a:blip r:embed="rId3"/>
          <a:stretch/>
        </p:blipFill>
        <p:spPr>
          <a:xfrm>
            <a:off x="4140360" y="4538520"/>
            <a:ext cx="22557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2. Значение растений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9600" y="1500120"/>
            <a:ext cx="510876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Плодово- яг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9200" y="2500200"/>
            <a:ext cx="420552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Декоратив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3789360"/>
            <a:ext cx="464328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Лекарствен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Users\Sanya\Desktop\i.jpg"/>
          <p:cNvPicPr/>
          <p:nvPr/>
        </p:nvPicPr>
        <p:blipFill>
          <a:blip r:embed="rId1"/>
          <a:stretch/>
        </p:blipFill>
        <p:spPr>
          <a:xfrm>
            <a:off x="6516720" y="1557360"/>
            <a:ext cx="2303280" cy="27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Sanya\Desktop\ayva1.jpg"/>
          <p:cNvPicPr/>
          <p:nvPr/>
        </p:nvPicPr>
        <p:blipFill>
          <a:blip r:embed="rId2"/>
          <a:stretch/>
        </p:blipFill>
        <p:spPr>
          <a:xfrm>
            <a:off x="6203880" y="4570560"/>
            <a:ext cx="2760840" cy="181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3"/>
          <a:stretch/>
        </p:blipFill>
        <p:spPr>
          <a:xfrm>
            <a:off x="3708360" y="4425840"/>
            <a:ext cx="2268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Sanya\Desktop\0007-007-Vstavte-propuschennye-slova.jpg"/>
          <p:cNvPicPr/>
          <p:nvPr/>
        </p:nvPicPr>
        <p:blipFill>
          <a:blip r:embed="rId1"/>
          <a:stretch/>
        </p:blipFill>
        <p:spPr>
          <a:xfrm>
            <a:off x="27000" y="549360"/>
            <a:ext cx="89629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Sanya\Desktop\0008-008-Pravilnyj-otv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4e7ed"/>
                </a:solidFill>
                <a:latin typeface="Arial Black"/>
              </a:rPr>
              <a:t>Класс двудольные растения</a:t>
            </a:r>
            <a:endParaRPr b="1" lang="en-US" sz="5400" spc="-1" strike="noStrike">
              <a:solidFill>
                <a:srgbClr val="f4e7e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457200" y="272880"/>
            <a:ext cx="8218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Описание ви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Текст 3"/>
          <p:cNvSpPr/>
          <p:nvPr/>
        </p:nvSpPr>
        <p:spPr>
          <a:xfrm>
            <a:off x="324000" y="1197000"/>
            <a:ext cx="3456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для вашего рису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3708360" y="1052640"/>
            <a:ext cx="5435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: Розовые или Розоцве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й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енны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ая сис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лк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ст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Соцве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Формула цветка, диаграм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Пл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Значение раст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6. Жизненные формы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249800" cy="318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305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2317680" y="4005360"/>
            <a:ext cx="4630680" cy="2852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7"/>
          <p:cNvSpPr/>
          <p:nvPr/>
        </p:nvSpPr>
        <p:spPr>
          <a:xfrm>
            <a:off x="539640" y="2997360"/>
            <a:ext cx="3024360" cy="7920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ревь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Скругленный прямоугольник 8"/>
          <p:cNvSpPr/>
          <p:nvPr/>
        </p:nvSpPr>
        <p:spPr>
          <a:xfrm>
            <a:off x="5724360" y="3068640"/>
            <a:ext cx="2592720" cy="936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стар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3492360" y="5732640"/>
            <a:ext cx="2087640" cy="1125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7. Корневая система.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31164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4"/>
          <p:cNvSpPr/>
          <p:nvPr/>
        </p:nvSpPr>
        <p:spPr>
          <a:xfrm>
            <a:off x="5003640" y="2708280"/>
            <a:ext cx="3745080" cy="151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ржне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8. Жилкование листьев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21" name="Picture 3" descr="C:\Users\Sanya\Desktop\89a.jpg"/>
          <p:cNvPicPr/>
          <p:nvPr/>
        </p:nvPicPr>
        <p:blipFill>
          <a:blip r:embed="rId1"/>
          <a:stretch/>
        </p:blipFill>
        <p:spPr>
          <a:xfrm>
            <a:off x="5219640" y="14842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324000" y="177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ст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зоцветных очередные, простые или сложные (перистые, пальчатые, тройчатые), обычно снабжены свободными или сросшимися и приросшими к черешку прилист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9. Соцветие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24" name="Содержимое 12" descr="sвишtzont.jpg"/>
          <p:cNvPicPr/>
          <p:nvPr/>
        </p:nvPicPr>
        <p:blipFill>
          <a:blip r:embed="rId1"/>
          <a:stretch/>
        </p:blipFill>
        <p:spPr>
          <a:xfrm>
            <a:off x="0" y="1374840"/>
            <a:ext cx="5435640" cy="2917800"/>
          </a:xfrm>
          <a:prstGeom prst="rect">
            <a:avLst/>
          </a:prstGeom>
          <a:ln w="0">
            <a:noFill/>
          </a:ln>
        </p:spPr>
      </p:pic>
      <p:sp>
        <p:nvSpPr>
          <p:cNvPr id="125" name="Текст 5"/>
          <p:cNvSpPr/>
          <p:nvPr/>
        </p:nvSpPr>
        <p:spPr>
          <a:xfrm>
            <a:off x="0" y="4292640"/>
            <a:ext cx="3021120" cy="86508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цветие Простой зонти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Текст 7"/>
          <p:cNvSpPr/>
          <p:nvPr/>
        </p:nvSpPr>
        <p:spPr>
          <a:xfrm>
            <a:off x="3059280" y="4365720"/>
            <a:ext cx="2233440" cy="79200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Ви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6" descr="кисть.jpg"/>
          <p:cNvPicPr/>
          <p:nvPr/>
        </p:nvPicPr>
        <p:blipFill>
          <a:blip r:embed="rId2"/>
          <a:stretch/>
        </p:blipFill>
        <p:spPr>
          <a:xfrm>
            <a:off x="5435640" y="0"/>
            <a:ext cx="2736720" cy="30988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7" descr="черемуха.jpg"/>
          <p:cNvPicPr/>
          <p:nvPr/>
        </p:nvPicPr>
        <p:blipFill>
          <a:blip r:embed="rId3"/>
          <a:stretch/>
        </p:blipFill>
        <p:spPr>
          <a:xfrm>
            <a:off x="5398920" y="2997360"/>
            <a:ext cx="3745080" cy="233964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 2"/>
          <p:cNvSpPr/>
          <p:nvPr/>
        </p:nvSpPr>
        <p:spPr>
          <a:xfrm>
            <a:off x="6191280" y="2421000"/>
            <a:ext cx="2952720" cy="50328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 Ки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Текст 3"/>
          <p:cNvSpPr/>
          <p:nvPr/>
        </p:nvSpPr>
        <p:spPr>
          <a:xfrm>
            <a:off x="6397560" y="5300640"/>
            <a:ext cx="2746440" cy="44784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0. Формула цветка и диаграмма 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32" name="Picture 4" descr="C:\Users\Sanya\Desktop\diagramm_rose.jpg"/>
          <p:cNvPicPr/>
          <p:nvPr/>
        </p:nvPicPr>
        <p:blipFill>
          <a:blip r:embed="rId1"/>
          <a:stretch/>
        </p:blipFill>
        <p:spPr>
          <a:xfrm>
            <a:off x="250920" y="1773360"/>
            <a:ext cx="4163760" cy="4857480"/>
          </a:xfrm>
          <a:prstGeom prst="rect">
            <a:avLst/>
          </a:prstGeom>
          <a:ln w="0">
            <a:noFill/>
          </a:ln>
        </p:spPr>
      </p:pic>
      <p:sp>
        <p:nvSpPr>
          <p:cNvPr id="133" name="Овал 4"/>
          <p:cNvSpPr/>
          <p:nvPr/>
        </p:nvSpPr>
        <p:spPr>
          <a:xfrm>
            <a:off x="2124000" y="1628640"/>
            <a:ext cx="432000" cy="28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авая фигурная скобка 5"/>
          <p:cNvSpPr/>
          <p:nvPr/>
        </p:nvSpPr>
        <p:spPr>
          <a:xfrm rot="5400000">
            <a:off x="2159640" y="4328280"/>
            <a:ext cx="431640" cy="223344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2233440"/>
              <a:gd name="textAreaBottom" fmla="*/ 22222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8"/>
                </a:cubicBezTo>
                <a:lnTo>
                  <a:pt x="10800" y="10452"/>
                </a:lnTo>
                <a:cubicBezTo>
                  <a:pt x="10800" y="10626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8"/>
                </a:cubicBezTo>
                <a:lnTo>
                  <a:pt x="10800" y="21252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solidFill>
            <a:srgbClr val="b13f9a"/>
          </a:solidFill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Скругленный прямоугольник 6"/>
          <p:cNvSpPr/>
          <p:nvPr/>
        </p:nvSpPr>
        <p:spPr>
          <a:xfrm>
            <a:off x="4932360" y="1700280"/>
            <a:ext cx="4032360" cy="295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ки имеют двойной околоцвет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пестков 5 иногда (4-6) лепестков. Чашечка двурядная с подчашием. Тычинок много, а число пестиков может быть различ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8000" y="479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Ч5П5Т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Ч5+5Л5Т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1. Плоды.  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28464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3521160" cy="144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3324240" cy="159552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5"/>
          <p:cNvSpPr/>
          <p:nvPr/>
        </p:nvSpPr>
        <p:spPr>
          <a:xfrm>
            <a:off x="4500720" y="191628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костя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4500720" y="3500280"/>
            <a:ext cx="3958920" cy="1368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4572000" y="5373720"/>
            <a:ext cx="4103640" cy="10796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я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4356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зоцветных сухие или сочные, листовки, коробочки, орешки, костянки, ябло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9:03:53Z</dcterms:created>
  <dc:creator>DOMPK</dc:creator>
  <dc:description/>
  <dc:language>en-US</dc:language>
  <cp:lastModifiedBy>DOMPK</cp:lastModifiedBy>
  <dcterms:modified xsi:type="dcterms:W3CDTF">2013-04-12T10:19:40Z</dcterms:modified>
  <cp:revision>1</cp:revision>
  <dc:subject/>
  <dc:title>Слайд 1</dc:title>
</cp:coreProperties>
</file>