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D3F-745D-4AFA-90C5-E8DABAC1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D3B-CE4F-4F1E-96E7-667A297C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0734E-D7B5-4D28-8795-A2077CB3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704BF-AD3F-4643-98CF-765DC4C9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1A05A-DEDA-4747-B4F5-A988A0D6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C817C-6162-4F1A-9D24-1E856005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55FC9-E6FB-4144-AEBC-E4547540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5688B-783B-4736-B513-17026169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7C6C5-85CA-4BCA-A061-B6348094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032C8-B759-442C-8B29-85A3CBFD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12E3A-42A8-4DE5-8706-1FC47D5A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8BBB4-4F93-4D4C-97BB-B00BE283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B2B-2F78-4F22-AB7C-03F622B1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708F9-D7AD-41E5-A0E9-F516D130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659DB-EF1B-4484-A500-38004C0B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6B35B-B752-456B-A673-18C5E4A0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E4364-3287-4E4D-930C-5069BC81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8DDFA-9E97-402A-B392-E4DEA153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E785F-B579-4E35-B2CA-8904ED9B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55040-184A-4C01-9474-DF7F1889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72037-520E-40DE-BAA0-AAF2BC9A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61898-6A97-44F5-815A-90AE2C9E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278F7-F737-4FD4-89A3-A9C54F27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7B6-AF6C-4FF0-A545-DA92A0A3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2346A-ACBA-4855-AA4B-C540C463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D05B2-F8C6-4297-B701-6488F653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5643F-1136-4027-9B50-BF09F284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515F1-D563-47C0-B898-EC5E1CF0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98378-90F3-4958-BB45-DF6E16FD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B5622-6B6A-4B9A-B64B-96E711A8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7723E-8696-48A6-8EF4-4F083B9E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12398-30F8-4BBE-9C25-A0C77263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1AF2F-8804-4DFB-A19C-4D9133FB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B6C2E-4CE3-40AB-8C68-3A2D5936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141E-2770-4A4F-84E8-5E108B5D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A53AF-BB13-4FEA-A926-6D65E8CC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BB885-303B-4E2E-A24E-FDE21DE5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C0831-EE43-4E96-95AF-D4F8E475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81F7A0-0C7F-4317-B1B2-8EA7338D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585021-E58A-4CC3-B3F9-554C1658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539BD4-5B3D-40F1-8EB7-D2424098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7C5864-9DD1-4A99-882B-FFFB9203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E472AD-3D4C-41F3-8EB5-AD37FF0E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5405E4-5731-4131-9253-C73F413A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68E8BD-AE43-4390-B801-9D3103D8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EC08-7E9D-441C-814D-A72EFC6F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2CB4C6-DC16-4492-B847-C078EBBB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AD893D-BB36-435F-9A8B-D0A73506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D710DF-362B-494A-A32A-1E26F2B0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B9E11D-3B5B-483C-837E-0C04A07E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5F1944-079B-42B2-BAD0-FFE05362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78947-B3BA-4CA6-A911-D647587E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F36B5-6B61-4375-8F31-3DD61DAF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AEB31-C3D3-48D5-ADB2-835BF589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EBAAE-09F5-4C04-A539-89F7BCDB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665C7-3E0B-44D0-9543-924484DC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062E-5931-4AA0-BD59-3751DB76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76FE4-2E25-421C-8753-AAEE5C0A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85BAA-BA7A-40FE-B96A-CC9C2ACA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298A8-8CF9-42A6-A1DC-6895421B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947BA-66BC-4F64-B03F-99637BCA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24BFD-418D-4DCD-8C2E-0493CB48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25604-4BC9-46F9-A26F-273A6874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CCF6E-7E13-4479-8822-B2DA64C8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69DEF-2CB5-4625-878C-86DBD58C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5B50A-8714-48A2-BE7B-E5C48BCE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6365A-82B4-42E7-B712-200FB193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49CA-7C39-4396-915B-3853444F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ED0CF-6D68-4DFF-A506-805E86F7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188EB-E534-42E8-BCB5-7CF93938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5412DF-1C80-4609-86C4-8B2CCAA1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72DDC-AD4B-4CE0-BC56-0167BC8E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B64AF-3E57-46EE-8172-F921A94F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F926E-7F9E-424E-8A0E-4DA452DE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AE251-46CB-4F53-BAF8-2E5752F9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3A741-4834-4112-A53F-2DB50133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884AE-345E-4659-841C-511A9151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3912F4-829A-4B44-B283-D2C2E44B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9730-4CAB-4056-9D1C-D3A32B29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6EE1A-261C-4E0B-A1B8-C076462B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EBDBDF-637B-48EA-A650-B0B84A94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85742-DCCB-44CC-ADFE-CABB9B06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BC2B7-3F95-4F4D-8EC4-C8A80DC5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B29235-4C85-4CC8-83E0-C9F997C1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2F4379-3EC1-4683-8A63-5FBDC649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105868-4020-484A-AB34-D4F16618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EE4D33-B051-4758-97CB-533939E3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B17477-C5E4-4410-B21C-BD999A26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24956-931E-43AF-87D6-C3888228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E154-06CE-41EA-ABDD-4DD144E3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361BF-317C-4959-8C91-77187150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1462E-4CAC-4B31-9DF8-5EB458AB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621CDA-73D4-419C-A720-8FC4112F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12A3E1-E572-4FF9-AD00-C1204964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9DEF8-4B79-4C1B-9A81-80BB1EE6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764F3-5901-47DB-94E8-9AD798D7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57A471-4618-4DEE-9F78-6CC48228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9F767-76AB-410F-9052-F9DE5A21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598140-4578-41B4-AC62-BC7AD04B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41E4AF-1751-42C6-9189-53616D6F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AC62-BE34-4230-8E09-B7A70BB8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04BA6-F678-4FC0-94E0-A355151A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9344E4-229A-4521-BD3A-B93122B4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79C36B-9BE2-4D6B-A268-0EEF2802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22EF9B-DD9F-4977-BA63-F4D3338A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9772A6-8DD4-46EA-9E79-4C8E80DB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8B422E-EE89-4522-81DE-2495B556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468886-8B42-48BD-A7BC-11E5B96C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BF5124-338D-49C3-AAC3-408AF96D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CDE7A3-570C-45BD-8E32-185F369F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4D2E8-715D-45D7-BAB3-97A13BA0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438-9914-49CC-8572-97698611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8431-2C0F-468E-9601-C0C019E7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9DD085-995A-46DD-AA5E-B7F4C15A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22BB73-7826-42CA-9090-4458C8D3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49F54B-AC02-4F5C-9983-E9E140CE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A35941-FD97-4649-ACAB-8460623D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E45B0A-1D59-4978-A3FF-FDD8FEB0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C975ED-318A-4CE6-96F2-7A4A019F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ED9FAA-50B1-4708-A925-13ABB2A9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70FFAB-95DA-4645-9C1A-293F0BA2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62FB92-F136-4BC6-ACB9-A993BDEE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77EC4-0DD2-4EC4-AF58-51C98626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9B1B-47F7-4856-BABD-FE628DAD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48848B-4965-4DD4-BD04-83D53EC8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C5C6A6-D7F6-48F0-BBF1-B45D7349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81F47B-7829-45A6-9CB3-5F7E31D2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FB6812-DCF2-49B1-B822-CCFFDFDF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C2600-C3D7-4A1B-8B89-EBFAC3C0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BF51A1-6B76-48EF-9A3C-0AEDBCD0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BEB75-6190-4C6A-BA47-3D928695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B9E024-F2C8-4EB2-9A34-B9E0CEE8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28A9F-754F-485C-91CC-E152BCB0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44856A-9279-47F7-83DB-2758E67B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346E-8A76-4122-AFC7-D67FFE20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74AB93-87BE-433C-8B3E-2C82FB66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ED9549-3412-4560-91C1-CD0DA04A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3E8E69-6F20-4EFB-A607-CC0D0F17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107D44-94A1-4CE3-B32C-CE36F936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E4AD6F-4BED-4937-9779-57790727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91BC1C-D9DB-4C12-9744-D46B8872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8E7B72-B6A4-47DF-94A9-3514FA54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877459-1FD7-4733-AA46-A8FC3146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8CBE34-C4DA-4CD9-97D5-03F2B7E7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346F5C-A1F8-4FC4-8DB2-2583ED61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C329-DCE5-4226-B25F-E3C48293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0753F1-9D6D-4BCB-8986-B2B1E311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6CF675-BB9F-4764-9AF0-AACDA8A5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259A48-AFD7-429F-B98C-6F0F09E0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F1871E-CD01-439E-832A-E8D373D8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A8A94D-00A7-465A-B6FA-67C02B64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A4D162-CAC5-479F-A8C5-A5653114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CD0ECD-734A-4934-9A74-81A3D978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CB45E7-749E-47FD-945F-D5558CA4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633ABD-F158-4047-AE7E-3FC6EB40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4CB33B-194B-43BA-B08A-E5E82247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C696-1441-40BD-8BCF-F77BD822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0006E7-9E73-49EE-8190-861C2324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C3A312-F5D6-4762-AA70-467CCA72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0C28E5-E168-40FD-BC4A-46248D81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F9B6C9-A9F5-4888-B7F5-537E8E59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E4077F-347E-4B33-A3C5-10EBAEED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94B9F3-C755-456F-990B-C346B505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184B7F-E864-4085-A4DD-5BFA6D7F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54C598-1C6B-4936-B270-5213739C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406D26-7A3C-4445-910E-924BE4DA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D3EC0A-93B1-44BC-9154-7CCC522C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8D32-9C33-48CA-8867-34920562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BB1349-77A7-474A-8E9B-FADD76C6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FDA535-3AAA-43EC-98B2-ED6F46C9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84FD6C-52A6-4611-B365-62843147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BFF05F-4DAA-4567-8150-623DF22D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BFF2E1-149F-4B35-A2CF-3B890157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69D8DD-6195-47B7-AFCE-B5727222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11F101-19B5-4BD8-A9D5-C40E860B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9BF112-D1C3-47B2-91E0-E2CFF3D6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565450-19B8-48E9-A22E-023992D1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58EEAC-5174-441E-B85D-179F62A2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DBB7-960F-4CDC-A6ED-FD7E5137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859662-65E1-4675-95D9-DEA14B54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273836-825D-437C-A4D8-322F0447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7E9998-EDF5-46E2-ABFB-8884D382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EDDD6C-C64D-4B8C-98BD-5B7CA01D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D4AAA4-7D80-4804-A4E0-B8106A5A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0C8035-A6F3-46DD-B2CC-E81C8C1F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9D7BAD-1C77-49CD-94F4-F479BD8B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12F12F-F1BF-4F5F-8FA0-7923D2DA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91CA5C-4F27-4CB0-92A5-C739161A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CF11F6-F18D-493B-AE1F-F73A7A89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E873A-8A94-4DD2-AF32-ABC7266C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C441CA-A030-4188-8098-9196D593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723CF3-1D79-40B9-B336-E1FF185D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CA8208-E3DF-439A-ABB2-0067BB31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76B25A-AF97-4D9D-8C31-9F219D3F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3A1088-F4B3-4F2F-89F7-89EB7027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C7459A-6D2D-4FA3-A2ED-7908A873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57D36B-EBE8-426A-8AFD-C9E2D806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6A2E9-2A55-481C-BF9A-8DA1F10E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F30A6-217F-4482-BAA2-31FC355F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50F-D51A-407B-B2F0-0DFE0C2F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EAAE-4A57-4172-8664-3787E49C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D525F-8580-45C8-A34D-4AA8A738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A8F6-73F9-403D-A260-308ACF36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47C6-F48E-4259-8883-A1A62412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C28EF-9762-4670-8D5E-D716782A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79500-27CD-4E33-AE53-2B234287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B529-2406-4F63-A178-21FF6ED5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7788D-2E4F-4294-8CA2-EC0E6D16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82C01-9CD1-41EE-BEEB-2D74C8F7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E2C6D-B0CD-4DE4-B858-FED3D78C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94D-6493-4D67-BDF8-A99069A4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C3992-7E7B-43B8-96B7-27503010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40B9D-350B-4BC4-B452-B2FAEF31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B984F-ADA5-4B09-B72D-55C0297F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52F68-2BD8-4806-96B4-DA95FBA3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1E2E6-59D7-462E-AF53-3BA0EB61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33012-C45E-4871-8B80-722E45A8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24A1D-11CA-477F-9C01-CA9B6A48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C102D-0B3B-4E51-98BC-ADAA21F7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9B07D-69B6-457B-BE85-B35504BA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095FF-7FAF-4C63-AC7C-7E29290C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61F-C97B-4D20-81D3-B4C7D440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E21EC-3982-41B1-8CC1-13DA3353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C7B9B-12B5-4887-B714-6B7C0F10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D03F0-E3EF-4BD5-8DB5-BA691241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B617B-9639-47B1-83EF-A6C22727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F24D8-6BE7-4F7D-B950-2F9968DB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709F7-D0C7-4881-8701-88C9CE85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59FA3-0F3A-4516-BA3C-56C11DE0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E2AAB-EE68-492D-A506-8F0B4610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639DA-4781-424D-85CC-D57C100D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8CA1C-0770-44EE-8BF4-14353851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3E9-8664-4B14-81A7-401CF66F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638A2-9292-4E97-B857-12293C0C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5BC6B-393F-4127-A41B-0C3270BE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8D192-8A8D-4B68-9598-3B4DC6D3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47AFF-EBAC-4123-9B48-283C3DA7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6EB8F-59DC-4C60-8149-9789E6DC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151B8-1C26-4091-9A2E-BCECF469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02873-B043-44EB-966D-FD650CDC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8F98E-D894-4A5D-9E96-5072951A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79554-5AE9-4211-BB74-15C2E111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BDA42-577C-4D58-BCB8-739A3652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D29-605C-4D63-98D9-A01F5E2E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A811F-6D5E-407A-9D45-A0D28D9A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22993-265E-4CBF-BA64-E1DCFFA5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64D08-E8FA-4894-9E7C-360A7DDD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3956B-3870-4B9F-BD95-038B93B4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DD82D-E7BB-475B-9D2A-9C9D42B8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D6BBF-6061-476A-A3A4-EF44D6CA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F8C12-553A-40F4-94D0-94DA20DA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B5671-2F0E-4F75-8ADB-A3680B5E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AB49F-EE4E-4901-BA7B-5580590A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9E632-1610-4100-890B-E0E03D11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F7C-BC07-4786-94BB-9755B996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021F7-5038-42B6-8719-349B1957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4492E-4208-410A-A341-E08D80A4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FFD8D-D82C-48A8-B3F4-DA3103F6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74734-4A56-4416-8BBD-E2FC1997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E83B8-4E12-4933-AC36-809D23EC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F5B12-493B-4F41-852F-110D62B9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CACDC-6A77-443D-BDE7-87BE6A16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060D9-2141-4165-8BB2-EA0E520C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BBB2C-AA59-4EDA-991E-C172A6C4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9B15B-B005-46A9-8814-E3ACE4D6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E32-BAC0-48C7-AD98-4574CCFC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A4CB1-92DB-499C-909C-D24EBA4F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5C33C-372D-4987-A0DC-37CE87EE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B3AD6-2420-4465-837F-22C25711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48232-1FB0-4675-A9C7-A7DAEA39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DD516-CB28-471E-99BC-8032421E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80B8F-C5BF-4806-A3B3-5D088DCD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D3043-4947-4778-9C04-0F1B2546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A0911-6B0C-4571-96C2-4B9A80B9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CE63F-31A0-4F78-92E2-B9DE39BC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EF664-E9B6-4612-BB72-CEFDCC9A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4E4F-29DF-4B89-A072-29A84EE9E7A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2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2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2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3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3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5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5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7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7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57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8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8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8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8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6206-BDF3-4AC6-8C20-2437CF29CB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2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8A4C-4DB9-4840-BDCE-5D602EC45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7804-1B28-48E0-9776-BE40FDFFE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16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7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BDFE-0D1D-4DFC-9A7B-9A411911DE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760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1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4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4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4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C7E9-4ED5-469C-BA97-F032215F7BE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0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4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4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4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9E1D-8925-4591-A117-B66E6158AE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48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9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4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4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4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3CFC-C0F4-43A4-A698-5E6E8F8AA2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3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4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5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3B54-03B3-4F03-ABF4-D0A1F5ED73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3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5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5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5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A693-2680-4B73-B99A-1944BB46E2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80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1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5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5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5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DD6D-9DDB-4C7F-823C-B187BC24B0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8D31-40F3-4408-A0D6-651E600B2E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024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5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5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5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2EF2-8EC1-4783-ACB4-E74230FDC4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068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9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6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6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6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EBB2-C848-4A57-BDA9-72722F3704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1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9BE3-42C0-4304-B95F-247C1A8372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6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7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7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7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17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18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8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18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8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CC79-2D8E-4460-940B-64E0A76F8A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3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7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7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8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8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9A2E-625A-4189-9941-21F0640A35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3834-B570-46BA-8FFE-91C1E4B3B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2BE7-5A8A-4C30-9939-A86D8BE2A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1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CA22-6EDF-4D57-B817-0A00D0DAC2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362E-9F22-49BC-ADA7-97C914D109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E212-9FF5-4EC5-917D-BD4CB417B6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4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4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4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6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7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7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4AEA-61B9-4707-930D-43C80894D2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f1f4"/>
                </a:solidFill>
                <a:latin typeface="Arial"/>
              </a:rPr>
              <a:t>http://video.yandex.ru/#search?id=49803621-05-12&amp;where=all&amp;text=%D1%81%D0%B5%D0%BC%D0%B5%D0%B9%D1%81%D1%82%D0%B2%D0%BE%20%D0%BF%D0%B0%D1%81%D0%BB%D0%B5%D0%BD%D0%BE%D0%B2%D1%8B%D0%B5%20%D0%BF%D1%80%D0%B5%D0%B7%D0%B5%D0%BD%D1%82%D0%B0%D1%86%D0%B8%D1%8F</a:t>
            </a:r>
            <a:br>
              <a:rPr sz="1600"/>
            </a:br>
            <a:endParaRPr b="1" lang="en-US" sz="16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457200" y="-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Ядовитые растения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0" name="Picture 4" descr="28393"/>
          <p:cNvPicPr/>
          <p:nvPr/>
        </p:nvPicPr>
        <p:blipFill>
          <a:blip r:embed="rId1"/>
          <a:stretch/>
        </p:blipFill>
        <p:spPr>
          <a:xfrm>
            <a:off x="685800" y="1179360"/>
            <a:ext cx="2971800" cy="2249640"/>
          </a:xfrm>
          <a:prstGeom prst="rect">
            <a:avLst/>
          </a:prstGeom>
          <a:ln w="0">
            <a:noFill/>
          </a:ln>
        </p:spPr>
      </p:pic>
      <p:pic>
        <p:nvPicPr>
          <p:cNvPr id="1281" name="Picture 6" descr="БЕЛЕНА ЧЕРНАЯ"/>
          <p:cNvPicPr/>
          <p:nvPr/>
        </p:nvPicPr>
        <p:blipFill>
          <a:blip r:embed="rId2"/>
          <a:stretch/>
        </p:blipFill>
        <p:spPr>
          <a:xfrm>
            <a:off x="4952880" y="1219320"/>
            <a:ext cx="3048120" cy="2208240"/>
          </a:xfrm>
          <a:prstGeom prst="rect">
            <a:avLst/>
          </a:prstGeom>
          <a:ln w="0">
            <a:noFill/>
          </a:ln>
        </p:spPr>
      </p:pic>
      <p:pic>
        <p:nvPicPr>
          <p:cNvPr id="1282" name="Picture 5" descr="ДУРМАН"/>
          <p:cNvPicPr/>
          <p:nvPr/>
        </p:nvPicPr>
        <p:blipFill>
          <a:blip r:embed="rId3"/>
          <a:stretch/>
        </p:blipFill>
        <p:spPr>
          <a:xfrm>
            <a:off x="2895480" y="3962520"/>
            <a:ext cx="2971800" cy="220824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7"/>
          <p:cNvSpPr/>
          <p:nvPr/>
        </p:nvSpPr>
        <p:spPr>
          <a:xfrm>
            <a:off x="609480" y="3505320"/>
            <a:ext cx="25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2023"/>
                </a:solidFill>
                <a:latin typeface="Verdana"/>
              </a:rPr>
              <a:t>Красавка белладон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4" name="Rectangle 8"/>
          <p:cNvSpPr/>
          <p:nvPr/>
        </p:nvSpPr>
        <p:spPr>
          <a:xfrm>
            <a:off x="4876920" y="3505320"/>
            <a:ext cx="24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2023"/>
                </a:solidFill>
                <a:latin typeface="Verdana"/>
              </a:rPr>
              <a:t>Белена чёрн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5" name="Rectangle 9"/>
          <p:cNvSpPr/>
          <p:nvPr/>
        </p:nvSpPr>
        <p:spPr>
          <a:xfrm>
            <a:off x="2971800" y="6324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2023"/>
                </a:solidFill>
                <a:latin typeface="Verdana"/>
              </a:rPr>
              <a:t>Дурман обыкновенны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писание вид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-360" y="1196640"/>
            <a:ext cx="370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то для вашего рису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3708360" y="907560"/>
            <a:ext cx="5205600" cy="66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Клас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Порядок: Пасленоцве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Семейств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Р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Ви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Жизненные формы: травянистые растения, кустарники и дере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Корневая систе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8.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Жилкование</a:t>
            </a: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листье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9.Соцвет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10.Формула цветка, диаграм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11.Плод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12.Значение растен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TextBox 3"/>
          <p:cNvSpPr/>
          <p:nvPr/>
        </p:nvSpPr>
        <p:spPr>
          <a:xfrm>
            <a:off x="4284720" y="260280"/>
            <a:ext cx="4859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b20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2023"/>
                </a:solidFill>
                <a:latin typeface="Verdana"/>
              </a:rPr>
              <a:t>Класс Двудольные раст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b20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2023"/>
                </a:solidFill>
                <a:latin typeface="Verdana"/>
              </a:rPr>
              <a:t>Порядок: Пасленоцвет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b20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2023"/>
                </a:solidFill>
                <a:latin typeface="Verdana"/>
              </a:rPr>
              <a:t>Семейство: Пасленов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b20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2023"/>
                </a:solidFill>
                <a:latin typeface="Verdana"/>
              </a:rPr>
              <a:t>Род: Картофе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b20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2023"/>
                </a:solidFill>
                <a:latin typeface="Verdana"/>
              </a:rPr>
              <a:t>Вид: Картофель посев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b20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2023"/>
                </a:solidFill>
                <a:latin typeface="Verdana"/>
              </a:rPr>
              <a:t>Жизненные формы: травянистые раст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b20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2023"/>
                </a:solidFill>
                <a:latin typeface="Verdana"/>
              </a:rPr>
              <a:t>Корневая система: Стержневая образование клубн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0b20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2023"/>
                </a:solidFill>
                <a:latin typeface="Verdana"/>
              </a:rPr>
              <a:t>Жилкование: Сетчато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0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259080" cy="275148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4" descr="КАРТОФЕЛЬ"/>
          <p:cNvPicPr/>
          <p:nvPr/>
        </p:nvPicPr>
        <p:blipFill>
          <a:blip r:embed="rId2"/>
          <a:srcRect l="1786" t="0" r="1786" b="0"/>
          <a:stretch/>
        </p:blipFill>
        <p:spPr>
          <a:xfrm>
            <a:off x="179280" y="3357720"/>
            <a:ext cx="39672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2" name="Picture 7" descr="res5B78751D-B3AD-4EAE-A549-C39FA431F3D3"/>
          <p:cNvPicPr/>
          <p:nvPr/>
        </p:nvPicPr>
        <p:blipFill>
          <a:blip r:embed="rId1"/>
          <a:stretch/>
        </p:blipFill>
        <p:spPr>
          <a:xfrm>
            <a:off x="250920" y="333360"/>
            <a:ext cx="2049480" cy="381780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3598560" y="-360"/>
            <a:ext cx="5545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2023"/>
                </a:solidFill>
                <a:latin typeface="Constantia"/>
              </a:rPr>
              <a:t>9. Соцветие: </a:t>
            </a:r>
            <a:r>
              <a:rPr b="1" lang="ru-RU" sz="3200" spc="-1" strike="noStrike">
                <a:solidFill>
                  <a:srgbClr val="990000"/>
                </a:solidFill>
                <a:latin typeface="Constantia"/>
              </a:rPr>
              <a:t>ки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2023"/>
                </a:solidFill>
                <a:latin typeface="Constantia"/>
              </a:rPr>
              <a:t>10.Формула цветка: </a:t>
            </a:r>
            <a:r>
              <a:rPr b="0" lang="ru-RU" sz="3200" spc="-1" strike="noStrike">
                <a:solidFill>
                  <a:srgbClr val="8aba8d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Constantia"/>
              </a:rPr>
              <a:t>Ч</a:t>
            </a:r>
            <a:r>
              <a:rPr b="0" lang="ru-RU" sz="17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0" lang="ru-RU" sz="1700" spc="-1" strike="noStrike">
                <a:solidFill>
                  <a:srgbClr val="990000"/>
                </a:solidFill>
                <a:latin typeface="Constantia"/>
              </a:rPr>
              <a:t>5</a:t>
            </a:r>
            <a:r>
              <a:rPr b="0" lang="ru-RU" sz="17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990000"/>
                </a:solidFill>
                <a:latin typeface="Constantia"/>
              </a:rPr>
              <a:t>Л</a:t>
            </a:r>
            <a:r>
              <a:rPr b="0" lang="ru-RU" sz="17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0" lang="ru-RU" sz="1700" spc="-1" strike="noStrike">
                <a:solidFill>
                  <a:srgbClr val="990000"/>
                </a:solidFill>
                <a:latin typeface="Constantia"/>
              </a:rPr>
              <a:t>5</a:t>
            </a:r>
            <a:r>
              <a:rPr b="0" lang="ru-RU" sz="17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990000"/>
                </a:solidFill>
                <a:latin typeface="Constantia"/>
              </a:rPr>
              <a:t>Т</a:t>
            </a:r>
            <a:r>
              <a:rPr b="0" lang="ru-RU" sz="17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990000"/>
                </a:solidFill>
                <a:latin typeface="Constantia"/>
              </a:rPr>
              <a:t>П</a:t>
            </a:r>
            <a:r>
              <a:rPr b="0" lang="ru-RU" sz="17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990000"/>
                </a:solidFill>
                <a:latin typeface="Constanti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2023"/>
                </a:solidFill>
                <a:latin typeface="Times New Roman"/>
              </a:rPr>
              <a:t>Диаграмма цве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4" name="Picture 5" descr="msotw9_temp0"/>
          <p:cNvPicPr/>
          <p:nvPr/>
        </p:nvPicPr>
        <p:blipFill>
          <a:blip r:embed="rId2">
            <a:lum contrast="72000"/>
          </a:blip>
          <a:stretch/>
        </p:blipFill>
        <p:spPr>
          <a:xfrm>
            <a:off x="3635280" y="2997360"/>
            <a:ext cx="3022560" cy="2928600"/>
          </a:xfrm>
          <a:prstGeom prst="rect">
            <a:avLst/>
          </a:prstGeom>
          <a:ln w="0">
            <a:noFill/>
          </a:ln>
        </p:spPr>
      </p:pic>
      <p:sp>
        <p:nvSpPr>
          <p:cNvPr id="1295" name="Правая фигурная скобка 6"/>
          <p:cNvSpPr/>
          <p:nvPr/>
        </p:nvSpPr>
        <p:spPr>
          <a:xfrm rot="5400000">
            <a:off x="4788360" y="5373000"/>
            <a:ext cx="647640" cy="1655640"/>
          </a:xfrm>
          <a:custGeom>
            <a:avLst/>
            <a:gdLst>
              <a:gd name="textAreaLeft" fmla="*/ 0 w 647640"/>
              <a:gd name="textAreaRight" fmla="*/ 234000 w 647640"/>
              <a:gd name="textAreaTop" fmla="*/ 50400 h 1655640"/>
              <a:gd name="textAreaBottom" fmla="*/ 160524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57"/>
                  <a:pt x="10800" y="2113"/>
                </a:cubicBezTo>
                <a:lnTo>
                  <a:pt x="10800" y="8687"/>
                </a:lnTo>
                <a:cubicBezTo>
                  <a:pt x="10800" y="9744"/>
                  <a:pt x="16200" y="10800"/>
                  <a:pt x="21600" y="10800"/>
                </a:cubicBezTo>
                <a:cubicBezTo>
                  <a:pt x="16200" y="10800"/>
                  <a:pt x="10800" y="11857"/>
                  <a:pt x="10800" y="12913"/>
                </a:cubicBezTo>
                <a:lnTo>
                  <a:pt x="10800" y="19487"/>
                </a:lnTo>
                <a:cubicBezTo>
                  <a:pt x="10800" y="20544"/>
                  <a:pt x="5400" y="21600"/>
                  <a:pt x="0" y="21600"/>
                </a:cubicBezTo>
              </a:path>
            </a:pathLst>
          </a:custGeom>
          <a:solidFill>
            <a:srgbClr val="0b2023"/>
          </a:solidFill>
          <a:ln w="9360">
            <a:solidFill>
              <a:srgbClr val="2b7d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Прямоугольник 3"/>
          <p:cNvSpPr/>
          <p:nvPr/>
        </p:nvSpPr>
        <p:spPr>
          <a:xfrm>
            <a:off x="3924360" y="620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735d"/>
                </a:solidFill>
                <a:latin typeface="Constantia"/>
              </a:rPr>
              <a:t>11. Плод: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 – </a:t>
            </a:r>
            <a:r>
              <a:rPr b="1" lang="ru-RU" sz="2400" spc="-1" strike="noStrike">
                <a:solidFill>
                  <a:srgbClr val="99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ягода (паслён чёрный, томат, картофель), коробочка (табак, петуния гибридная, белена чёрная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2023"/>
                </a:solidFill>
                <a:latin typeface="Times New Roman"/>
              </a:rPr>
              <a:t>12.  Значение: Овощные растения используют  в пищ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7" name="Picture 16" descr="Томат"/>
          <p:cNvPicPr/>
          <p:nvPr/>
        </p:nvPicPr>
        <p:blipFill>
          <a:blip r:embed="rId1"/>
          <a:stretch/>
        </p:blipFill>
        <p:spPr>
          <a:xfrm>
            <a:off x="250920" y="333360"/>
            <a:ext cx="3678120" cy="35830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Картофель (Solanum tuberosum L.)"/>
          <p:cNvPicPr/>
          <p:nvPr/>
        </p:nvPicPr>
        <p:blipFill>
          <a:blip r:embed="rId2"/>
          <a:stretch/>
        </p:blipFill>
        <p:spPr>
          <a:xfrm>
            <a:off x="0" y="3781440"/>
            <a:ext cx="2879640" cy="307656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i"/>
          <p:cNvPicPr/>
          <p:nvPr/>
        </p:nvPicPr>
        <p:blipFill>
          <a:blip r:embed="rId3"/>
          <a:stretch/>
        </p:blipFill>
        <p:spPr>
          <a:xfrm>
            <a:off x="3419640" y="3284640"/>
            <a:ext cx="29826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ласс двудольные растения</a:t>
            </a:r>
            <a:endParaRPr b="1" lang="en-US" sz="5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133200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емейство пасленовы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6" name="Picture 12" descr="33_01"/>
          <p:cNvPicPr/>
          <p:nvPr/>
        </p:nvPicPr>
        <p:blipFill>
          <a:blip r:embed="rId1"/>
          <a:stretch/>
        </p:blipFill>
        <p:spPr>
          <a:xfrm>
            <a:off x="1835280" y="2781360"/>
            <a:ext cx="5367240" cy="3860640"/>
          </a:xfrm>
          <a:prstGeom prst="rect">
            <a:avLst/>
          </a:prstGeom>
          <a:ln w="0">
            <a:noFill/>
          </a:ln>
        </p:spPr>
      </p:pic>
      <p:sp>
        <p:nvSpPr>
          <p:cNvPr id="1237" name="Rectangle 11"/>
          <p:cNvSpPr/>
          <p:nvPr/>
        </p:nvSpPr>
        <p:spPr>
          <a:xfrm>
            <a:off x="-396720" y="2708280"/>
            <a:ext cx="3200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1521 го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16"/>
                </a:solidFill>
                <a:latin typeface="Arial"/>
              </a:rPr>
              <a:t>Картофель - родом из Южной Америки. </a:t>
            </a:r>
            <a:endParaRPr b="1" lang="en-US" sz="4000" spc="-1" strike="noStrike">
              <a:solidFill>
                <a:srgbClr val="dcf1f4"/>
              </a:solidFill>
              <a:latin typeface="Arial"/>
            </a:endParaRPr>
          </a:p>
        </p:txBody>
      </p:sp>
      <p:pic>
        <p:nvPicPr>
          <p:cNvPr id="1240" name="Picture 4" descr="800px-Physical_World_Map_2004-04-01"/>
          <p:cNvPicPr/>
          <p:nvPr/>
        </p:nvPicPr>
        <p:blipFill>
          <a:blip r:embed="rId1"/>
          <a:stretch/>
        </p:blipFill>
        <p:spPr>
          <a:xfrm>
            <a:off x="1332000" y="1630440"/>
            <a:ext cx="647676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Picture 4" descr="250px-Peter_der-Grosse_1838"/>
          <p:cNvPicPr/>
          <p:nvPr/>
        </p:nvPicPr>
        <p:blipFill>
          <a:blip r:embed="rId1"/>
          <a:srcRect l="0" t="10715" r="0" b="10715"/>
          <a:stretch/>
        </p:blipFill>
        <p:spPr>
          <a:xfrm>
            <a:off x="228600" y="228600"/>
            <a:ext cx="4876920" cy="5638680"/>
          </a:xfrm>
          <a:prstGeom prst="rect">
            <a:avLst/>
          </a:prstGeom>
          <a:ln w="0">
            <a:noFill/>
          </a:ln>
        </p:spPr>
      </p:pic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63640" y="692280"/>
            <a:ext cx="3094200" cy="2813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В 17 веке Петр 1 привез из Голландии мешок клубней и повелел заняться выращиванием сей диковины.</a:t>
            </a:r>
            <a:endParaRPr b="1" lang="en-US" sz="2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43" name="Заголовок 1"/>
          <p:cNvSpPr/>
          <p:nvPr/>
        </p:nvSpPr>
        <p:spPr>
          <a:xfrm>
            <a:off x="250920" y="5867280"/>
            <a:ext cx="382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cf1f4"/>
                </a:solidFill>
                <a:latin typeface="Verdana"/>
              </a:rPr>
              <a:t>Петр 1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3"/>
          <p:cNvSpPr/>
          <p:nvPr/>
        </p:nvSpPr>
        <p:spPr>
          <a:xfrm>
            <a:off x="0" y="260280"/>
            <a:ext cx="82296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         </a:t>
            </a: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В семействе пасленовые            насчитывается около 3000 видов растений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1. Овощные раст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2. Лекарственные раст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3. Технические раст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4. Декоративные раст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5. Ядовитые раст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5" name="Picture 7" descr="38"/>
          <p:cNvPicPr/>
          <p:nvPr/>
        </p:nvPicPr>
        <p:blipFill>
          <a:blip r:embed="rId1"/>
          <a:stretch/>
        </p:blipFill>
        <p:spPr>
          <a:xfrm>
            <a:off x="6948360" y="3357720"/>
            <a:ext cx="1905120" cy="317484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4" descr="ДУРМАН"/>
          <p:cNvPicPr/>
          <p:nvPr/>
        </p:nvPicPr>
        <p:blipFill>
          <a:blip r:embed="rId2"/>
          <a:srcRect l="8221" t="0" r="8221" b="0"/>
          <a:stretch/>
        </p:blipFill>
        <p:spPr>
          <a:xfrm>
            <a:off x="250920" y="4869000"/>
            <a:ext cx="22413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4"/>
          <p:cNvSpPr/>
          <p:nvPr/>
        </p:nvSpPr>
        <p:spPr>
          <a:xfrm>
            <a:off x="395280" y="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Овощные растен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8" name="Picture 8" descr="КАРТОФЕЛЬ"/>
          <p:cNvPicPr/>
          <p:nvPr/>
        </p:nvPicPr>
        <p:blipFill>
          <a:blip r:embed="rId1"/>
          <a:stretch/>
        </p:blipFill>
        <p:spPr>
          <a:xfrm>
            <a:off x="685800" y="990720"/>
            <a:ext cx="3352680" cy="242244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7" descr="ТОМАТ"/>
          <p:cNvPicPr/>
          <p:nvPr/>
        </p:nvPicPr>
        <p:blipFill>
          <a:blip r:embed="rId2"/>
          <a:stretch/>
        </p:blipFill>
        <p:spPr>
          <a:xfrm>
            <a:off x="5105520" y="990720"/>
            <a:ext cx="3200400" cy="238896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6" descr="ПЕРЕЦ"/>
          <p:cNvPicPr/>
          <p:nvPr/>
        </p:nvPicPr>
        <p:blipFill>
          <a:blip r:embed="rId3"/>
          <a:stretch/>
        </p:blipFill>
        <p:spPr>
          <a:xfrm>
            <a:off x="762120" y="3886200"/>
            <a:ext cx="3276360" cy="23623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5" descr="ФИЗАЛИС"/>
          <p:cNvPicPr/>
          <p:nvPr/>
        </p:nvPicPr>
        <p:blipFill>
          <a:blip r:embed="rId4"/>
          <a:stretch/>
        </p:blipFill>
        <p:spPr>
          <a:xfrm>
            <a:off x="5181480" y="3962520"/>
            <a:ext cx="3200400" cy="2158920"/>
          </a:xfrm>
          <a:prstGeom prst="rect">
            <a:avLst/>
          </a:prstGeom>
          <a:ln w="0">
            <a:noFill/>
          </a:ln>
        </p:spPr>
      </p:pic>
      <p:sp>
        <p:nvSpPr>
          <p:cNvPr id="1252" name="Rectangle 11"/>
          <p:cNvSpPr/>
          <p:nvPr/>
        </p:nvSpPr>
        <p:spPr>
          <a:xfrm>
            <a:off x="1330200" y="3353760"/>
            <a:ext cx="801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Verdana"/>
                <a:ea typeface="Times New Roman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61616"/>
                </a:solidFill>
                <a:latin typeface="Verdana"/>
                <a:ea typeface="Times New Roman"/>
              </a:rPr>
              <a:t>Картофель                                                    Томаты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3" name="Rectangle 15"/>
          <p:cNvSpPr/>
          <p:nvPr/>
        </p:nvSpPr>
        <p:spPr>
          <a:xfrm>
            <a:off x="91440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ец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4" name="Rectangle 13"/>
          <p:cNvSpPr/>
          <p:nvPr/>
        </p:nvSpPr>
        <p:spPr>
          <a:xfrm>
            <a:off x="5791320" y="6172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Физали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Технические растения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7" name="Picture 4" descr="09"/>
          <p:cNvPicPr/>
          <p:nvPr/>
        </p:nvPicPr>
        <p:blipFill>
          <a:blip r:embed="rId1"/>
          <a:stretch/>
        </p:blipFill>
        <p:spPr>
          <a:xfrm>
            <a:off x="324000" y="134136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6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3318120" cy="373392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971640" y="5229360"/>
            <a:ext cx="327168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Таб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7"/>
          <p:cNvSpPr/>
          <p:nvPr/>
        </p:nvSpPr>
        <p:spPr>
          <a:xfrm>
            <a:off x="5580000" y="510048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Verdana"/>
              </a:rPr>
              <a:t>Махор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4" descr="28393"/>
          <p:cNvPicPr/>
          <p:nvPr/>
        </p:nvPicPr>
        <p:blipFill>
          <a:blip r:embed="rId1"/>
          <a:stretch/>
        </p:blipFill>
        <p:spPr>
          <a:xfrm>
            <a:off x="324000" y="1628640"/>
            <a:ext cx="3276360" cy="213372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8" descr="БЕЛЕНА ЧЕРНАЯ"/>
          <p:cNvPicPr/>
          <p:nvPr/>
        </p:nvPicPr>
        <p:blipFill>
          <a:blip r:embed="rId2"/>
          <a:stretch/>
        </p:blipFill>
        <p:spPr>
          <a:xfrm>
            <a:off x="4788000" y="1700280"/>
            <a:ext cx="3504960" cy="220968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2"/>
          <p:cNvSpPr/>
          <p:nvPr/>
        </p:nvSpPr>
        <p:spPr>
          <a:xfrm>
            <a:off x="611280" y="0"/>
            <a:ext cx="77724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Лекарственные растения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4" name="Picture 10" descr="ДУРМАН"/>
          <p:cNvPicPr/>
          <p:nvPr/>
        </p:nvPicPr>
        <p:blipFill>
          <a:blip r:embed="rId3"/>
          <a:stretch/>
        </p:blipFill>
        <p:spPr>
          <a:xfrm>
            <a:off x="395280" y="422100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12" descr="ПЕРЕЦ КУСТАРНИКОВЫЙ"/>
          <p:cNvPicPr/>
          <p:nvPr/>
        </p:nvPicPr>
        <p:blipFill>
          <a:blip r:embed="rId4"/>
          <a:stretch/>
        </p:blipFill>
        <p:spPr>
          <a:xfrm>
            <a:off x="4859280" y="429264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-11890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Красавка белладон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Rectangle 11"/>
          <p:cNvSpPr/>
          <p:nvPr/>
        </p:nvSpPr>
        <p:spPr>
          <a:xfrm>
            <a:off x="755640" y="62445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Verdana"/>
              </a:rPr>
              <a:t>Дурман обыкновенны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8" name="Rectangle 9"/>
          <p:cNvSpPr/>
          <p:nvPr/>
        </p:nvSpPr>
        <p:spPr>
          <a:xfrm>
            <a:off x="5550120" y="386136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Verdana"/>
              </a:rPr>
              <a:t>Белена чёрн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9" name="Rectangle 13"/>
          <p:cNvSpPr/>
          <p:nvPr/>
        </p:nvSpPr>
        <p:spPr>
          <a:xfrm>
            <a:off x="4716360" y="652032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16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161616"/>
                </a:solidFill>
                <a:latin typeface="Verdana"/>
              </a:rPr>
              <a:t>Перец кустарниковы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dcf1f4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Rectangle 4"/>
          <p:cNvSpPr/>
          <p:nvPr/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Декоративные растения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3" name="Picture 5" descr="i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335268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7" descr="i1"/>
          <p:cNvPicPr/>
          <p:nvPr/>
        </p:nvPicPr>
        <p:blipFill>
          <a:blip r:embed="rId2"/>
          <a:stretch/>
        </p:blipFill>
        <p:spPr>
          <a:xfrm>
            <a:off x="4343400" y="1371600"/>
            <a:ext cx="3962520" cy="3657600"/>
          </a:xfrm>
          <a:prstGeom prst="rect">
            <a:avLst/>
          </a:prstGeom>
          <a:ln w="0">
            <a:noFill/>
          </a:ln>
        </p:spPr>
      </p:pic>
      <p:sp>
        <p:nvSpPr>
          <p:cNvPr id="1275" name="Rectangle 6"/>
          <p:cNvSpPr/>
          <p:nvPr/>
        </p:nvSpPr>
        <p:spPr>
          <a:xfrm>
            <a:off x="903600" y="4831920"/>
            <a:ext cx="31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2023"/>
                </a:solidFill>
                <a:latin typeface="Verdana"/>
              </a:rPr>
              <a:t>Петуния гибридна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Rectangle 8"/>
          <p:cNvSpPr/>
          <p:nvPr/>
        </p:nvSpPr>
        <p:spPr>
          <a:xfrm>
            <a:off x="4932360" y="5158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b2023"/>
                </a:solidFill>
                <a:latin typeface="Verdana"/>
              </a:rPr>
              <a:t>Табак душист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8:49:04Z</dcterms:created>
  <dc:creator>DOMPK</dc:creator>
  <dc:description/>
  <dc:language>en-US</dc:language>
  <cp:lastModifiedBy>DOMPK</cp:lastModifiedBy>
  <dcterms:modified xsi:type="dcterms:W3CDTF">2013-04-15T09:46:03Z</dcterms:modified>
  <cp:revision>1</cp:revision>
  <dc:subject/>
  <dc:title>http://video.yandex.ru/#search?id=49803621-05-12&amp;where=all&amp;text=%D1%81%D0%B5%D0%BC%D0%B5%D0%B9%D1%81%D1%82%D0%B2%D0%BE%20%D0%BF%D0%B0%D1%81%D0%BB%D0%B5%D0%BD%D0%BE%D0%B2%D1%8B%D0%B5%20%D0%BF%D1%80%D0%B5%D0%B7%D0%B5%D0%BD%D1%82%D0%B0%D1%86%D0%B8%D1%8F </dc:title>
</cp:coreProperties>
</file>