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B42-3EEE-4752-9BE0-C1FDE220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B9C-FE56-45DA-B5BE-9A5E79E0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FB407-1B3C-44EA-B992-38CC3296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47D89-34A5-43D9-B617-1BBFABFC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76177-3B55-4047-97F6-A7C055C2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FC446-94BA-42BD-9722-644E68B8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80A00-DA52-46A0-8CF4-AFBA08CF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5DB42-9DC5-4FC8-BA36-F319DD5A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1111F-2054-423B-8BDB-E529498F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E5DE9-C5E0-4BD8-B0FC-F5C11CE9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74824-F756-45BC-B3CE-C6D772AC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08001-BC3F-42EC-9912-FB1C5574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123-2E04-4A14-954F-D1881606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46384-6CFD-428C-8DE2-7E4D6DFC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3BBEC-725E-4812-A7D1-A816FCA0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ED7DC-D905-4D83-8D1F-0AF78B52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51893-F2A8-4262-B670-4750507A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28F3A-892E-405D-AD4A-DB4C6207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99ABA-3266-4E2C-B5ED-2868DFBF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9D276-5F65-4E48-B75D-96BD3506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D9D3D-D378-42EB-8062-9099A995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865C2-70D2-4EEE-B740-B39C062D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C9EC0-397A-44D1-8250-B1191940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3EE-C255-4886-B808-60068E38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CECAC-4E56-4F1D-9A78-CD0EC750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4ACCF-4A8E-469B-8A8B-3B0507B2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E556C-1905-4AA2-8B68-58A6AAF1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85B64-E194-42BD-BAC5-357EEB61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4CC97-1641-4D2B-AB23-CDEE7979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5A511-73D3-4A59-AA51-1D9FD778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D6BD0-BB51-40E8-AEBE-C44CD142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8F389-491C-4556-A9CB-B245104F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81451-FEA4-4296-8831-72C49B26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2CCAA-95B9-4CD1-8154-D72E7C39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43B6-3C04-4537-8C29-363F90F4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DD7DF-16D3-4BF9-8959-04136057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1190D-BB7C-467F-BD07-1447F5C2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2E75E-F72E-46AF-AA61-FED9EEB8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F9D58A-9A14-4621-9D11-966DD77A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0C1156-F895-4E9C-BE3D-6FE76B02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F74D0D-01FB-4637-B57D-CED2A0ED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412C55-A05A-4800-AD22-405A1BEB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2D1E94-9627-48EC-B4F7-10D5275A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D91587-2AAA-49DC-956F-7C4A434E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F69193-9D6C-4E1D-BDF3-356BEB3C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A5B2-C4B6-4CA0-94A8-842F03B0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C4176F-7A5D-4BE3-B627-F32E7C43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09A165-C116-4E39-99FD-0C6FACA0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ADCD8F-6E8D-4F35-8A95-F229FE3F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7ABCE4-6FF9-4F58-9030-3A2CCAB0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9F85C7-C1B2-42FC-B10C-610C78CC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5A1C9-9E5F-49F9-9186-D192DEE7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29FE9-AA71-4F61-AD3D-80210859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771E7-E994-46BA-85DC-FEC52A99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1F1DE-75B8-4C32-B2AE-E7A98886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EA6DD-9AF4-443C-A496-67CDC8E1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7C33-46BA-4044-BC90-988D287D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67C7D6-73F7-4706-A9B1-93F746CC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0EED2-38C9-4DCC-AD6F-88EA8D41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416A4-C512-440E-BE8C-C131F2AF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53A12-E35A-4EDF-8EF7-643EB4D6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F19E4-143A-4C63-B5E7-D954A460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C8F45-D716-4FE1-9E0C-D9A709A1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00E25-89B5-453D-A3DA-EDE205F9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28BD1-CE3D-4E94-A286-250677F9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35565-97BC-4E6E-A177-5BF14EA6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EECC6-E755-406F-BA00-64BC515F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337A-63D7-49AC-8FD2-5CCB5FD5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2E3F7-1EEC-4796-915D-8C034EDE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6AD569-66DD-4FD4-BBE1-1717C573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E9F229-858B-41AF-B6D9-B32FFAA4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0FEEC-B8BD-4A57-BBC1-F2DDC5BA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258E55-4A74-4BF9-8B9D-1365AE63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E854AB-2509-436E-A2E4-2223DCE3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578D53-E1FF-4E32-B3E7-B3878044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FE004-ECA8-40D7-8F99-6E16D8D3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333C3-17E0-4000-B52D-15C78F8D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40603-4F23-468C-B8C0-286DB8E2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ABBC-F648-47E6-8870-BA5E635E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EC0C6-1C2A-45C5-A9D9-BADCFBEA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6AD389-AFF7-4F1B-9863-BD63D664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F678BE-0B90-49DD-847A-8075528A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0F43E3-6BC8-4C79-A19F-F686C7D6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2DA266-0619-42EC-950E-F235C8D1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24F9A-D78A-43F4-9C2B-C1A7FE30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A9944C-A7CA-4C3E-A47A-F945BB56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30897-59AD-4EC1-83AE-DB3DE72B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943E29-DE21-4AFE-93DB-49C7BE5A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E837B7-F284-429C-B4A5-5BEAD877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8BB9-73E9-4031-8303-F15F5C73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ED22CE-C38E-42DF-B94F-5C572499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FD84D3-CD97-46C7-9F60-42B0AFC4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CC0007-4A01-4F1D-A6B8-0F070EE6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D2573-D6A1-4989-87F8-42F38231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149D81-A7D8-4271-940D-B6A9E0AD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28F31A-7341-4272-A02F-0711D88D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BEF37-9673-4289-B1CE-3375F921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47F3C7-996F-4BBD-AB23-2AEC4B63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DDAE0F-A2CD-4429-97EE-FB424DFA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90E23E-B25F-4439-A640-9E0E40CA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5171-89E6-4399-8CAC-E8140436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15AB9D-F76A-4EF9-91F0-E17FADBE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5D4B34-678F-4BCB-A092-3BAB6199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73CC81-FE54-4A87-88DA-B0C2F6F5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45361A-0D64-4643-8B07-1DE9AB0D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2F3197-EE2D-4CE4-B263-726EF859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270995-3CF1-4117-A734-F8A0CA64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D3EABE-66B0-4A53-8A70-C7C12607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63515E-13CB-4B5F-ACC4-350CA57E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EFFD09-5BE2-446A-BDE5-FA142AE4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FB2225-B4C4-473D-8FAA-A2E3D27D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E4E-34B5-413E-8212-A0447DF4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C1B5-60D5-4B1F-A4EE-6DA0521F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0D2B5A-8AB0-41BF-9477-242E5121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22F42B-1FCC-4510-B75F-45F0B1EF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ED0359-6140-493B-BFE5-16061837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F8ED7-4CC9-4465-8F69-A9F7DE3F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D31E93-5C36-4365-9411-B1439C5E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518E2-85B0-4901-A7AA-DA177BEC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A7C65D-BDCF-4D97-B904-9C0AE82C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B304B7-2CF8-4A68-BBF7-E5472E78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C5DDF9-8B48-4A2F-80BA-6E1B5FD1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40542F-931F-41E7-95CC-7D77E25E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20AB-1B48-44D5-A614-1D4644A8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3C0AC6-21F6-441A-9377-167857BF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D28000-706E-4EFB-AB8A-261DF7C6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33E285-AD12-40A6-9489-F1469730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43F51B-CF65-4B2F-928F-764CA712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FB6642-3477-4158-B493-FA9E0A21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35812-A164-48CA-8ED1-8EFB1341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01C802-9684-45E1-8A79-46078EBE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79AEC7-F2E1-46D5-A676-A4010E22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2F711C-8768-474B-A0B6-4866DE3F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C76A73-C83F-46C4-A79D-BB0AC252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C8C3-F80D-430D-BC8B-F5334A0F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D19E3E-480D-49F5-89A9-9A07CEF7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73B824-4E78-40A6-AD5D-186735D3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722F34-E14E-49F7-9A74-297D859E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676E14-398D-4D00-ACEC-6D25AB73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D30E83-79D4-41C2-9EDE-36060DC9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9394AD-F19B-4526-9B51-C3A57D42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B82835-F6F6-46B7-8704-9CC8DC07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E18D97-6EB8-4480-B3C2-B33C9829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4100E-6888-4D56-B0FA-8792AB91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13B19B-2581-421C-82B7-A174D2A4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AB8C-FD48-4656-AC51-28B18455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D4F684-B558-462A-B103-389D4635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4C7964-A951-462A-BC96-8E856035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4C58F-FAE4-4493-95B6-C289B6AE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788E79-8E4A-4B80-8D7F-A42034AA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2A9330-700E-485C-932E-661B325B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125A6A-636C-408E-B6FD-C77E5A95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C3F3BF-B872-41ED-BAFD-6192B619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5001AF-D082-48CA-A3FE-10B9EA0D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143DAC-EC58-4714-A5CB-274370C2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36953E-28EA-43EC-B470-386DED5A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4704-7CF9-4057-AB99-AFD5EC98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821DA8-CA4F-41D3-8794-9DF020B2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070115-50D6-4E27-B37A-401D416E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2C91A4-161B-4967-92DD-92B0B3DF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B23403-14B4-49EE-A708-FD7F0168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42B7D3-059C-4CCE-9E6C-94BA7261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746E36-577E-479A-8C5E-D9B6CE0C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096E44-A552-477B-A212-2810F54B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C8583C-C198-45A0-9936-89E8E936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2CBC61-21CB-4AAB-A11B-DAE08906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7849D1-88DC-4B95-B015-5B715D2F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A0E7-CBF0-41F7-81A1-877E53D3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14B51D-21E9-4C03-8369-830C7A36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7DE300-C031-42EA-BAE2-9CD4F133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F5D525-AA6E-4C1D-8427-188FDB15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159931-BE11-47BD-A6A2-D9943F25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00BA95-A64F-4BD5-BB2E-B79358BC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C70EBB-494E-43D3-A954-3DAAA019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045A2D-9EBA-4E27-A862-F0A4B706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C6A66E-91D8-4B80-9F31-19C22DD2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3C4148-EE31-4C31-8BA4-0DA6C6C1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E8A8F5-F874-47C7-9C2D-36B89F00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1969-8579-4558-98AA-6806A945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8E09B4-CEF0-4C53-B2F9-16BDC322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B9B4F2-B0C0-4501-AC59-A0EBAA49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4361A5-01E3-44E8-86D8-AEFEC349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2F13B3-91F9-4CDD-B0C8-46AD5632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34542D-FCA6-4A9A-BC4E-C59AAA8E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78BB20-6FAF-47DC-9BDA-968B6B5E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68A666-709A-4B73-B1E2-CF5B68B3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33C912-7AEA-42C0-917F-CE52630D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7AA942-9FF0-45A9-83CC-80342F88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D32119-4DC5-41B6-B766-9ED85FF3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5636-048A-410D-9D40-15D14AE2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8D1260-3C47-4543-B1B0-0DBA2C39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F4AD1E-4AFC-4823-9278-12FDAF43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F00520-D1FE-48D9-83F8-7AA1FEE3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4BF9ED-348E-473A-917D-11C16AB8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E17A48-FB38-4342-9F7A-3AA4D3B5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3BE416-41D0-476E-8BB1-BFC64550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5ECE3D-C74A-4AFE-878D-B671B264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E9AE-B7E1-4216-BBFC-C61C7413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53B84-06C8-4846-B15B-CF4DC13C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293-7BCC-4C2B-AF6B-FD0DD46B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A8232-A133-47AA-BC47-07A96345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E542D-A22F-49E5-B702-326C05B9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5407E-A9BB-452F-9C98-127C2E2E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DEFF6-F545-4A2D-8A5F-5C16B780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DC6A2-C6C4-47FF-A43B-0FDCCBE8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09640-6CB0-424E-B500-673AA580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48475-7B09-40FA-AF3A-C081E503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B7443-95FB-495D-8298-E452C8EF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96185-AA0A-4987-91C2-B5179E56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B6D95-EDDA-4FB6-AF25-7FCCAA26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909-C8B7-496E-AD79-4B4CE465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393D7-7D78-42AB-95CF-CFDCBD00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D3A6C-EF63-4670-838B-A0D72EEA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D0BFA-67E6-438A-94EC-0BAAEEA8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96B0E-8AFB-4602-9A98-40F05527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C76C1-C956-404E-8970-C0F3BFCE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392BF-5F06-49A6-9D0E-0612DBE7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DAD46-A94F-4F30-9DD4-FC66636A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3118F-463A-422A-92CD-4C5404BE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2FB68-9819-4E5B-9406-2B2B0387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D29B-6BF2-4A9F-8B2E-D244E563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1BA-9A25-48D3-AC18-87F233F9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4F7CF-FEE0-42F2-B0C3-C5BE7F3B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03CAD-AA09-4848-AFD3-376F3DE5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3CC19-D635-4D1B-B445-8962306F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B2624-2C95-46A0-8F31-62C485E4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2404A-5BFE-44BF-9014-48496F0C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A413D-0165-4EC0-A43E-A81A09DD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2738C-5C4F-4B79-B3D6-71E18B3D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08212-D025-417E-8909-D9A2DF8D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EC28C-DE88-47D8-92AB-BDCF704E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2D3BE-A288-46D0-9B90-39490E6C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2FF-4DED-44A0-A977-29DA3108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B08EA-E5BA-4F65-BFE8-C918E2C2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E6C9F-785A-4772-9691-3FB2B488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C6E83-3F98-40F3-AF03-D6FAC61E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06455-4601-468F-82D3-58CC9397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064AC-6FB1-44E5-8A4D-30AC2A5D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146A8-97AE-4FA4-A2B0-6DB52B3A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B0C00-792F-4D4B-9415-94B50F50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BBF63-F407-4EBD-90DA-3860FDB7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1AC9F-DDFB-4BF6-880D-F1A3A786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A7261-7C88-47E3-B3C3-9F2CF372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C21-9BF9-4F0D-A2A1-1926E4FA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EAAC3-DD9D-43E7-A579-351DB8D0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A74CD-7D41-4B80-A3C6-BB80292C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342A7-90F5-41E4-9069-75648DB2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D562C-5CF8-46D8-A878-D4D0CEF7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CFBE1-8556-469A-ACEE-BF5B9BC2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F86C9-A35C-47CD-BB00-F3B08885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C6051-9B71-4D6C-AC48-DD479072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F7231-4057-4D97-9454-7B4CBB64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B59BD-3D31-4799-B346-1281FDE5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E506A-CE55-4E56-AFE1-058C205B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BE0-70C6-43A3-846C-AD326240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095B1-F854-40CA-9B6A-F4D101A7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AC3BC-0575-448F-A86D-19441E49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2CA24-D109-45AC-9E92-C063F646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CB10C-AE9E-4949-B95A-22958F3E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45A98-CBB1-47FF-A632-C7029BA3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D502C-AA23-42AF-A350-EA39A15F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29638-CC7A-489B-967B-6BCFB21A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D34F2-878A-4462-8C38-832E303D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D28E8-5F0E-4ECF-9E3C-924E33B7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98726-42F5-4165-9E36-B8F2687E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6B4-D0B1-4A5B-AE9F-72E945A7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2242A-78E1-41C5-A0A9-B35FB949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F26D1-0952-4848-864F-636E606F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A3458-60EB-4944-9F96-90AA235A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ADFBF-DEAE-4B48-B7A3-C3F507A0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CDB6B-0914-4FFA-87E1-E1578235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60315-DDCD-44FB-AC54-298CABB8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7FFEA-9B9D-4094-9722-5E16034C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261BA-0823-47C3-AB5D-C7447DBE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EA1ED-0508-4C73-BC6B-23427C60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DB0FA-3055-4CBE-9481-7DC856BB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6374-987E-4384-940E-5E78E5F905F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2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2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2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3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3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5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5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7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7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57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8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8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8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8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DD44-90AA-441A-ACDC-A0DD21B52E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2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B339-9E73-4013-9C91-01CCE4F293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C05C-32DE-4A7C-B1B0-851401CD68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16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7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2201-F5D2-48E8-ABEC-83E41914D3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760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1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4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4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4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97A0-A6D7-4E1F-8D06-EF1270DB8D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0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4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4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4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31D4-DBD9-4E60-B719-CE3A891645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48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9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4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4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4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660A-64C3-4587-A6D3-4D48D0265F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3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4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5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2F15-B7F5-4257-8AC5-FE0530BB04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3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5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5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5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D29F-4030-46D5-91F3-4EA1644E16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80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1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5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5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5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3B5D-A989-4A5B-9D23-42F2D85CE8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084A-1E20-4B21-B818-809B6D88C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02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5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5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0668-A69A-4FA3-BFE5-F06E5A09D1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068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9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6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6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6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B5AA-8AD3-4F0A-8E42-4FB058CB9B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1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98DC-7A74-42A3-A047-A09940D5C2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6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7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7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7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17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18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8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18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8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3FA6-2447-4944-916A-0670396DB2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7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7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8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22DB-17EC-4845-86E3-697396345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D24B-B2F4-4A0E-AF26-6005E1E475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B1A0-3916-48DB-93FE-C26EDA7AD1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1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9D2E-C6B5-4B48-86D8-D70C58F9EC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21B2-FD88-4222-A440-B2631BCF41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8886-4C26-42AD-ACC2-9FC88D7AB6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4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4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4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6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7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7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3B9C-D5CF-46FD-A0F7-2E2CEF34326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f1f4"/>
                </a:solidFill>
                <a:latin typeface="Arial"/>
              </a:rPr>
              <a:t>http://video.yandex.ru/#search?id=49803621-05-12&amp;where=all&amp;text=%D1%81%D0%B5%D0%BC%D0%B5%D0%B9%D1%81%D1%82%D0%B2%D0%BE%20%D0%BF%D0%B0%D1%81%D0%BB%D0%B5%D0%BD%D0%BE%D0%B2%D1%8B%D0%B5%20%D0%BF%D1%80%D0%B5%D0%B7%D0%B5%D0%BD%D1%82%D0%B0%D1%86%D0%B8%D1%8F</a:t>
            </a:r>
            <a:br>
              <a:rPr sz="1600"/>
            </a:br>
            <a:endParaRPr b="1" lang="en-US" sz="16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457200" y="-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Ядовитые растения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0" name="Picture 4" descr="28393"/>
          <p:cNvPicPr/>
          <p:nvPr/>
        </p:nvPicPr>
        <p:blipFill>
          <a:blip r:embed="rId1"/>
          <a:stretch/>
        </p:blipFill>
        <p:spPr>
          <a:xfrm>
            <a:off x="685800" y="1179360"/>
            <a:ext cx="2971800" cy="2249640"/>
          </a:xfrm>
          <a:prstGeom prst="rect">
            <a:avLst/>
          </a:prstGeom>
          <a:ln w="0">
            <a:noFill/>
          </a:ln>
        </p:spPr>
      </p:pic>
      <p:pic>
        <p:nvPicPr>
          <p:cNvPr id="1281" name="Picture 6" descr="БЕЛЕНА ЧЕРНАЯ"/>
          <p:cNvPicPr/>
          <p:nvPr/>
        </p:nvPicPr>
        <p:blipFill>
          <a:blip r:embed="rId2"/>
          <a:stretch/>
        </p:blipFill>
        <p:spPr>
          <a:xfrm>
            <a:off x="4952880" y="1219320"/>
            <a:ext cx="3048120" cy="2208240"/>
          </a:xfrm>
          <a:prstGeom prst="rect">
            <a:avLst/>
          </a:prstGeom>
          <a:ln w="0">
            <a:noFill/>
          </a:ln>
        </p:spPr>
      </p:pic>
      <p:pic>
        <p:nvPicPr>
          <p:cNvPr id="1282" name="Picture 5" descr="ДУРМАН"/>
          <p:cNvPicPr/>
          <p:nvPr/>
        </p:nvPicPr>
        <p:blipFill>
          <a:blip r:embed="rId3"/>
          <a:stretch/>
        </p:blipFill>
        <p:spPr>
          <a:xfrm>
            <a:off x="2895480" y="3962520"/>
            <a:ext cx="2971800" cy="22082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7"/>
          <p:cNvSpPr/>
          <p:nvPr/>
        </p:nvSpPr>
        <p:spPr>
          <a:xfrm>
            <a:off x="609480" y="3505320"/>
            <a:ext cx="25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2023"/>
                </a:solidFill>
                <a:latin typeface="Verdana"/>
              </a:rPr>
              <a:t>Красавка белладон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4" name="Rectangle 8"/>
          <p:cNvSpPr/>
          <p:nvPr/>
        </p:nvSpPr>
        <p:spPr>
          <a:xfrm>
            <a:off x="4876920" y="3505320"/>
            <a:ext cx="24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2023"/>
                </a:solidFill>
                <a:latin typeface="Verdana"/>
              </a:rPr>
              <a:t>Белена чёрн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5" name="Rectangle 9"/>
          <p:cNvSpPr/>
          <p:nvPr/>
        </p:nvSpPr>
        <p:spPr>
          <a:xfrm>
            <a:off x="2971800" y="6324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2023"/>
                </a:solidFill>
                <a:latin typeface="Verdana"/>
              </a:rPr>
              <a:t>Дурман обыкновенны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писание вид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-360" y="1196640"/>
            <a:ext cx="370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то для вашего рису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3708360" y="907560"/>
            <a:ext cx="5205600" cy="66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Клас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Порядок: Пасленоцве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Семейств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Р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Ви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Жизненные формы: травянистые растения, кустарники и дере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Корневая систе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8.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Жилкование</a:t>
            </a: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листье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9.Соцвет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10.Формула цветка, диаграм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11.Плод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12.Значение растен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TextBox 3"/>
          <p:cNvSpPr/>
          <p:nvPr/>
        </p:nvSpPr>
        <p:spPr>
          <a:xfrm>
            <a:off x="4284720" y="260280"/>
            <a:ext cx="4859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b20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2023"/>
                </a:solidFill>
                <a:latin typeface="Verdana"/>
              </a:rPr>
              <a:t>Класс Двудольные раст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b20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2023"/>
                </a:solidFill>
                <a:latin typeface="Verdana"/>
              </a:rPr>
              <a:t>Порядок: Пасленоцвет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b20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2023"/>
                </a:solidFill>
                <a:latin typeface="Verdana"/>
              </a:rPr>
              <a:t>Семейство: Пасленов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b20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2023"/>
                </a:solidFill>
                <a:latin typeface="Verdana"/>
              </a:rPr>
              <a:t>Род: Картофе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b20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2023"/>
                </a:solidFill>
                <a:latin typeface="Verdana"/>
              </a:rPr>
              <a:t>Вид: Картофель посев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b20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2023"/>
                </a:solidFill>
                <a:latin typeface="Verdana"/>
              </a:rPr>
              <a:t>Жизненные формы: травянистые раст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b20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2023"/>
                </a:solidFill>
                <a:latin typeface="Verdana"/>
              </a:rPr>
              <a:t>Корневая система: Стержневая образование клубн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b20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2023"/>
                </a:solidFill>
                <a:latin typeface="Verdana"/>
              </a:rPr>
              <a:t>Жилкование: Сетчат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0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259080" cy="275148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4" descr="КАРТОФЕЛЬ"/>
          <p:cNvPicPr/>
          <p:nvPr/>
        </p:nvPicPr>
        <p:blipFill>
          <a:blip r:embed="rId2"/>
          <a:srcRect l="1786" t="0" r="1786" b="0"/>
          <a:stretch/>
        </p:blipFill>
        <p:spPr>
          <a:xfrm>
            <a:off x="179280" y="3357720"/>
            <a:ext cx="39672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2" name="Picture 7" descr="res5B78751D-B3AD-4EAE-A549-C39FA431F3D3"/>
          <p:cNvPicPr/>
          <p:nvPr/>
        </p:nvPicPr>
        <p:blipFill>
          <a:blip r:embed="rId1"/>
          <a:stretch/>
        </p:blipFill>
        <p:spPr>
          <a:xfrm>
            <a:off x="250920" y="333360"/>
            <a:ext cx="2049480" cy="381780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3598560" y="-360"/>
            <a:ext cx="5545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2023"/>
                </a:solidFill>
                <a:latin typeface="Constantia"/>
              </a:rPr>
              <a:t>9. Соцветие: </a:t>
            </a:r>
            <a:r>
              <a:rPr b="1" lang="ru-RU" sz="3200" spc="-1" strike="noStrike">
                <a:solidFill>
                  <a:srgbClr val="990000"/>
                </a:solidFill>
                <a:latin typeface="Constantia"/>
              </a:rPr>
              <a:t>ки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2023"/>
                </a:solidFill>
                <a:latin typeface="Constantia"/>
              </a:rPr>
              <a:t>10.Формула цветка: </a:t>
            </a:r>
            <a:r>
              <a:rPr b="0" lang="ru-RU" sz="3200" spc="-1" strike="noStrike">
                <a:solidFill>
                  <a:srgbClr val="8aba8d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Constantia"/>
              </a:rPr>
              <a:t>Ч</a:t>
            </a:r>
            <a:r>
              <a:rPr b="0" lang="ru-RU" sz="17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0" lang="ru-RU" sz="1700" spc="-1" strike="noStrike">
                <a:solidFill>
                  <a:srgbClr val="990000"/>
                </a:solidFill>
                <a:latin typeface="Constantia"/>
              </a:rPr>
              <a:t>5</a:t>
            </a:r>
            <a:r>
              <a:rPr b="0" lang="ru-RU" sz="17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990000"/>
                </a:solidFill>
                <a:latin typeface="Constantia"/>
              </a:rPr>
              <a:t>Л</a:t>
            </a:r>
            <a:r>
              <a:rPr b="0" lang="ru-RU" sz="17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0" lang="ru-RU" sz="1700" spc="-1" strike="noStrike">
                <a:solidFill>
                  <a:srgbClr val="990000"/>
                </a:solidFill>
                <a:latin typeface="Constantia"/>
              </a:rPr>
              <a:t>5</a:t>
            </a:r>
            <a:r>
              <a:rPr b="0" lang="ru-RU" sz="17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990000"/>
                </a:solidFill>
                <a:latin typeface="Constantia"/>
              </a:rPr>
              <a:t>Т</a:t>
            </a:r>
            <a:r>
              <a:rPr b="0" lang="ru-RU" sz="17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990000"/>
                </a:solidFill>
                <a:latin typeface="Constantia"/>
              </a:rPr>
              <a:t>П</a:t>
            </a:r>
            <a:r>
              <a:rPr b="0" lang="ru-RU" sz="17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990000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2023"/>
                </a:solidFill>
                <a:latin typeface="Times New Roman"/>
              </a:rPr>
              <a:t>Диаграмма цве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4" name="Picture 5" descr="msotw9_temp0"/>
          <p:cNvPicPr/>
          <p:nvPr/>
        </p:nvPicPr>
        <p:blipFill>
          <a:blip r:embed="rId2">
            <a:lum contrast="72000"/>
          </a:blip>
          <a:stretch/>
        </p:blipFill>
        <p:spPr>
          <a:xfrm>
            <a:off x="3635280" y="2997360"/>
            <a:ext cx="3022560" cy="2928600"/>
          </a:xfrm>
          <a:prstGeom prst="rect">
            <a:avLst/>
          </a:prstGeom>
          <a:ln w="0">
            <a:noFill/>
          </a:ln>
        </p:spPr>
      </p:pic>
      <p:sp>
        <p:nvSpPr>
          <p:cNvPr id="1295" name="Правая фигурная скобка 6"/>
          <p:cNvSpPr/>
          <p:nvPr/>
        </p:nvSpPr>
        <p:spPr>
          <a:xfrm rot="5400000">
            <a:off x="4788360" y="5373000"/>
            <a:ext cx="647640" cy="1655640"/>
          </a:xfrm>
          <a:custGeom>
            <a:avLst/>
            <a:gdLst>
              <a:gd name="textAreaLeft" fmla="*/ 0 w 647640"/>
              <a:gd name="textAreaRight" fmla="*/ 234000 w 647640"/>
              <a:gd name="textAreaTop" fmla="*/ 50400 h 1655640"/>
              <a:gd name="textAreaBottom" fmla="*/ 160524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57"/>
                  <a:pt x="10800" y="2113"/>
                </a:cubicBezTo>
                <a:lnTo>
                  <a:pt x="10800" y="8687"/>
                </a:lnTo>
                <a:cubicBezTo>
                  <a:pt x="10800" y="9744"/>
                  <a:pt x="16200" y="10800"/>
                  <a:pt x="21600" y="10800"/>
                </a:cubicBezTo>
                <a:cubicBezTo>
                  <a:pt x="16200" y="10800"/>
                  <a:pt x="10800" y="11857"/>
                  <a:pt x="10800" y="12913"/>
                </a:cubicBezTo>
                <a:lnTo>
                  <a:pt x="10800" y="19487"/>
                </a:lnTo>
                <a:cubicBezTo>
                  <a:pt x="10800" y="20544"/>
                  <a:pt x="5400" y="21600"/>
                  <a:pt x="0" y="21600"/>
                </a:cubicBezTo>
              </a:path>
            </a:pathLst>
          </a:custGeom>
          <a:solidFill>
            <a:srgbClr val="0b2023"/>
          </a:solidFill>
          <a:ln w="9360">
            <a:solidFill>
              <a:srgbClr val="2b7d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Прямоугольник 3"/>
          <p:cNvSpPr/>
          <p:nvPr/>
        </p:nvSpPr>
        <p:spPr>
          <a:xfrm>
            <a:off x="3924360" y="620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735d"/>
                </a:solidFill>
                <a:latin typeface="Constantia"/>
              </a:rPr>
              <a:t>11. Плод: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 – </a:t>
            </a:r>
            <a:r>
              <a:rPr b="1" lang="ru-RU" sz="2400" spc="-1" strike="noStrike">
                <a:solidFill>
                  <a:srgbClr val="99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ягода (паслён чёрный, томат, картофель), коробочка (табак, петуния гибридная, белена чёрная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2023"/>
                </a:solidFill>
                <a:latin typeface="Times New Roman"/>
              </a:rPr>
              <a:t>12.  Значение: Овощные растения используют  в пищ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7" name="Picture 16" descr="Томат"/>
          <p:cNvPicPr/>
          <p:nvPr/>
        </p:nvPicPr>
        <p:blipFill>
          <a:blip r:embed="rId1"/>
          <a:stretch/>
        </p:blipFill>
        <p:spPr>
          <a:xfrm>
            <a:off x="250920" y="333360"/>
            <a:ext cx="3678120" cy="35830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Картофель (Solanum tuberosum L.)"/>
          <p:cNvPicPr/>
          <p:nvPr/>
        </p:nvPicPr>
        <p:blipFill>
          <a:blip r:embed="rId2"/>
          <a:stretch/>
        </p:blipFill>
        <p:spPr>
          <a:xfrm>
            <a:off x="0" y="3781440"/>
            <a:ext cx="2879640" cy="307656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i"/>
          <p:cNvPicPr/>
          <p:nvPr/>
        </p:nvPicPr>
        <p:blipFill>
          <a:blip r:embed="rId3"/>
          <a:stretch/>
        </p:blipFill>
        <p:spPr>
          <a:xfrm>
            <a:off x="3419640" y="3284640"/>
            <a:ext cx="29826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ласс двудольные растения</a:t>
            </a:r>
            <a:endParaRPr b="1" lang="en-US" sz="5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133200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емейство пасленовы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6" name="Picture 12" descr="33_01"/>
          <p:cNvPicPr/>
          <p:nvPr/>
        </p:nvPicPr>
        <p:blipFill>
          <a:blip r:embed="rId1"/>
          <a:stretch/>
        </p:blipFill>
        <p:spPr>
          <a:xfrm>
            <a:off x="1835280" y="2781360"/>
            <a:ext cx="5367240" cy="3860640"/>
          </a:xfrm>
          <a:prstGeom prst="rect">
            <a:avLst/>
          </a:prstGeom>
          <a:ln w="0">
            <a:noFill/>
          </a:ln>
        </p:spPr>
      </p:pic>
      <p:sp>
        <p:nvSpPr>
          <p:cNvPr id="1237" name="Rectangle 11"/>
          <p:cNvSpPr/>
          <p:nvPr/>
        </p:nvSpPr>
        <p:spPr>
          <a:xfrm>
            <a:off x="-396720" y="2708280"/>
            <a:ext cx="3200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1521 го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Arial"/>
              </a:rPr>
              <a:t>Картофель - родом из Южной Америки. </a:t>
            </a:r>
            <a:endParaRPr b="1" lang="en-US" sz="4000" spc="-1" strike="noStrike">
              <a:solidFill>
                <a:srgbClr val="dcf1f4"/>
              </a:solidFill>
              <a:latin typeface="Arial"/>
            </a:endParaRPr>
          </a:p>
        </p:txBody>
      </p:sp>
      <p:pic>
        <p:nvPicPr>
          <p:cNvPr id="1240" name="Picture 4" descr="800px-Physical_World_Map_2004-04-01"/>
          <p:cNvPicPr/>
          <p:nvPr/>
        </p:nvPicPr>
        <p:blipFill>
          <a:blip r:embed="rId1"/>
          <a:stretch/>
        </p:blipFill>
        <p:spPr>
          <a:xfrm>
            <a:off x="1332000" y="1630440"/>
            <a:ext cx="647676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Picture 4" descr="250px-Peter_der-Grosse_1838"/>
          <p:cNvPicPr/>
          <p:nvPr/>
        </p:nvPicPr>
        <p:blipFill>
          <a:blip r:embed="rId1"/>
          <a:srcRect l="0" t="10715" r="0" b="10715"/>
          <a:stretch/>
        </p:blipFill>
        <p:spPr>
          <a:xfrm>
            <a:off x="228600" y="228600"/>
            <a:ext cx="4876920" cy="5638680"/>
          </a:xfrm>
          <a:prstGeom prst="rect">
            <a:avLst/>
          </a:prstGeom>
          <a:ln w="0">
            <a:noFill/>
          </a:ln>
        </p:spPr>
      </p:pic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63640" y="692280"/>
            <a:ext cx="3094200" cy="2813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В 17 веке Петр 1 привез из Голландии мешок клубней и повелел заняться выращиванием сей диковины.</a:t>
            </a:r>
            <a:endParaRPr b="1" lang="en-US" sz="2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43" name="Заголовок 1"/>
          <p:cNvSpPr/>
          <p:nvPr/>
        </p:nvSpPr>
        <p:spPr>
          <a:xfrm>
            <a:off x="250920" y="5867280"/>
            <a:ext cx="382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cf1f4"/>
                </a:solidFill>
                <a:latin typeface="Verdana"/>
              </a:rPr>
              <a:t>Петр 1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3"/>
          <p:cNvSpPr/>
          <p:nvPr/>
        </p:nvSpPr>
        <p:spPr>
          <a:xfrm>
            <a:off x="0" y="260280"/>
            <a:ext cx="82296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         </a:t>
            </a: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В семействе пасленовые            насчитывается около 3000 видов растений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1. Овощные раст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2. Лекарственные раст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3. Технические раст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4. Декоративные раст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5. Ядовитые раст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5" name="Picture 7" descr="38"/>
          <p:cNvPicPr/>
          <p:nvPr/>
        </p:nvPicPr>
        <p:blipFill>
          <a:blip r:embed="rId1"/>
          <a:stretch/>
        </p:blipFill>
        <p:spPr>
          <a:xfrm>
            <a:off x="6948360" y="3357720"/>
            <a:ext cx="1905120" cy="317484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4" descr="ДУРМАН"/>
          <p:cNvPicPr/>
          <p:nvPr/>
        </p:nvPicPr>
        <p:blipFill>
          <a:blip r:embed="rId2"/>
          <a:srcRect l="8221" t="0" r="8221" b="0"/>
          <a:stretch/>
        </p:blipFill>
        <p:spPr>
          <a:xfrm>
            <a:off x="250920" y="4869000"/>
            <a:ext cx="22413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4"/>
          <p:cNvSpPr/>
          <p:nvPr/>
        </p:nvSpPr>
        <p:spPr>
          <a:xfrm>
            <a:off x="395280" y="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Овощные растен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8" name="Picture 8" descr="КАРТОФЕЛЬ"/>
          <p:cNvPicPr/>
          <p:nvPr/>
        </p:nvPicPr>
        <p:blipFill>
          <a:blip r:embed="rId1"/>
          <a:stretch/>
        </p:blipFill>
        <p:spPr>
          <a:xfrm>
            <a:off x="685800" y="990720"/>
            <a:ext cx="3352680" cy="242244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7" descr="ТОМАТ"/>
          <p:cNvPicPr/>
          <p:nvPr/>
        </p:nvPicPr>
        <p:blipFill>
          <a:blip r:embed="rId2"/>
          <a:stretch/>
        </p:blipFill>
        <p:spPr>
          <a:xfrm>
            <a:off x="5105520" y="990720"/>
            <a:ext cx="3200400" cy="238896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6" descr="ПЕРЕЦ"/>
          <p:cNvPicPr/>
          <p:nvPr/>
        </p:nvPicPr>
        <p:blipFill>
          <a:blip r:embed="rId3"/>
          <a:stretch/>
        </p:blipFill>
        <p:spPr>
          <a:xfrm>
            <a:off x="762120" y="3886200"/>
            <a:ext cx="3276360" cy="23623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5" descr="ФИЗАЛИС"/>
          <p:cNvPicPr/>
          <p:nvPr/>
        </p:nvPicPr>
        <p:blipFill>
          <a:blip r:embed="rId4"/>
          <a:stretch/>
        </p:blipFill>
        <p:spPr>
          <a:xfrm>
            <a:off x="5181480" y="3962520"/>
            <a:ext cx="3200400" cy="2158920"/>
          </a:xfrm>
          <a:prstGeom prst="rect">
            <a:avLst/>
          </a:prstGeom>
          <a:ln w="0">
            <a:noFill/>
          </a:ln>
        </p:spPr>
      </p:pic>
      <p:sp>
        <p:nvSpPr>
          <p:cNvPr id="1252" name="Rectangle 11"/>
          <p:cNvSpPr/>
          <p:nvPr/>
        </p:nvSpPr>
        <p:spPr>
          <a:xfrm>
            <a:off x="1330200" y="3353760"/>
            <a:ext cx="801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61616"/>
                </a:solidFill>
                <a:latin typeface="Verdana"/>
                <a:ea typeface="Times New Roman"/>
              </a:rPr>
              <a:t>Картофель                                                    Томаты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3" name="Rectangle 15"/>
          <p:cNvSpPr/>
          <p:nvPr/>
        </p:nvSpPr>
        <p:spPr>
          <a:xfrm>
            <a:off x="91440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ец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4" name="Rectangle 13"/>
          <p:cNvSpPr/>
          <p:nvPr/>
        </p:nvSpPr>
        <p:spPr>
          <a:xfrm>
            <a:off x="5791320" y="6172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Физали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Технические растения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7" name="Picture 4" descr="09"/>
          <p:cNvPicPr/>
          <p:nvPr/>
        </p:nvPicPr>
        <p:blipFill>
          <a:blip r:embed="rId1"/>
          <a:stretch/>
        </p:blipFill>
        <p:spPr>
          <a:xfrm>
            <a:off x="324000" y="134136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6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3318120" cy="373392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971640" y="5229360"/>
            <a:ext cx="327168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Таб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7"/>
          <p:cNvSpPr/>
          <p:nvPr/>
        </p:nvSpPr>
        <p:spPr>
          <a:xfrm>
            <a:off x="5580000" y="510048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Verdana"/>
              </a:rPr>
              <a:t>Махор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4" descr="28393"/>
          <p:cNvPicPr/>
          <p:nvPr/>
        </p:nvPicPr>
        <p:blipFill>
          <a:blip r:embed="rId1"/>
          <a:stretch/>
        </p:blipFill>
        <p:spPr>
          <a:xfrm>
            <a:off x="324000" y="1628640"/>
            <a:ext cx="3276360" cy="213372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8" descr="БЕЛЕНА ЧЕРНАЯ"/>
          <p:cNvPicPr/>
          <p:nvPr/>
        </p:nvPicPr>
        <p:blipFill>
          <a:blip r:embed="rId2"/>
          <a:stretch/>
        </p:blipFill>
        <p:spPr>
          <a:xfrm>
            <a:off x="4788000" y="1700280"/>
            <a:ext cx="3504960" cy="220968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2"/>
          <p:cNvSpPr/>
          <p:nvPr/>
        </p:nvSpPr>
        <p:spPr>
          <a:xfrm>
            <a:off x="611280" y="0"/>
            <a:ext cx="77724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Лекарственные растения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4" name="Picture 10" descr="ДУРМАН"/>
          <p:cNvPicPr/>
          <p:nvPr/>
        </p:nvPicPr>
        <p:blipFill>
          <a:blip r:embed="rId3"/>
          <a:stretch/>
        </p:blipFill>
        <p:spPr>
          <a:xfrm>
            <a:off x="395280" y="422100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12" descr="ПЕРЕЦ КУСТАРНИКОВЫЙ"/>
          <p:cNvPicPr/>
          <p:nvPr/>
        </p:nvPicPr>
        <p:blipFill>
          <a:blip r:embed="rId4"/>
          <a:stretch/>
        </p:blipFill>
        <p:spPr>
          <a:xfrm>
            <a:off x="4859280" y="429264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-11890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Красавка белладон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Rectangle 11"/>
          <p:cNvSpPr/>
          <p:nvPr/>
        </p:nvSpPr>
        <p:spPr>
          <a:xfrm>
            <a:off x="755640" y="62445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Verdana"/>
              </a:rPr>
              <a:t>Дурман обыкновенны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8" name="Rectangle 9"/>
          <p:cNvSpPr/>
          <p:nvPr/>
        </p:nvSpPr>
        <p:spPr>
          <a:xfrm>
            <a:off x="5550120" y="386136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Verdana"/>
              </a:rPr>
              <a:t>Белена чёрн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9" name="Rectangle 13"/>
          <p:cNvSpPr/>
          <p:nvPr/>
        </p:nvSpPr>
        <p:spPr>
          <a:xfrm>
            <a:off x="4716360" y="652032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161616"/>
                </a:solidFill>
                <a:latin typeface="Verdana"/>
              </a:rPr>
              <a:t>Перец кустарниковы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Rectangle 4"/>
          <p:cNvSpPr/>
          <p:nvPr/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Декоративные растения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3" name="Picture 5" descr="i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335268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7" descr="i1"/>
          <p:cNvPicPr/>
          <p:nvPr/>
        </p:nvPicPr>
        <p:blipFill>
          <a:blip r:embed="rId2"/>
          <a:stretch/>
        </p:blipFill>
        <p:spPr>
          <a:xfrm>
            <a:off x="4343400" y="1371600"/>
            <a:ext cx="3962520" cy="3657600"/>
          </a:xfrm>
          <a:prstGeom prst="rect">
            <a:avLst/>
          </a:prstGeom>
          <a:ln w="0">
            <a:noFill/>
          </a:ln>
        </p:spPr>
      </p:pic>
      <p:sp>
        <p:nvSpPr>
          <p:cNvPr id="1275" name="Rectangle 6"/>
          <p:cNvSpPr/>
          <p:nvPr/>
        </p:nvSpPr>
        <p:spPr>
          <a:xfrm>
            <a:off x="903600" y="4831920"/>
            <a:ext cx="31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2023"/>
                </a:solidFill>
                <a:latin typeface="Verdana"/>
              </a:rPr>
              <a:t>Петуния гибридна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Rectangle 8"/>
          <p:cNvSpPr/>
          <p:nvPr/>
        </p:nvSpPr>
        <p:spPr>
          <a:xfrm>
            <a:off x="4932360" y="5158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2023"/>
                </a:solidFill>
                <a:latin typeface="Verdana"/>
              </a:rPr>
              <a:t>Табак душист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8:49:04Z</dcterms:created>
  <dc:creator>DOMPK</dc:creator>
  <dc:description/>
  <dc:language>en-US</dc:language>
  <cp:lastModifiedBy>DOMPK</cp:lastModifiedBy>
  <dcterms:modified xsi:type="dcterms:W3CDTF">2013-04-15T09:46:03Z</dcterms:modified>
  <cp:revision>1</cp:revision>
  <dc:subject/>
  <dc:title>http://video.yandex.ru/#search?id=49803621-05-12&amp;where=all&amp;text=%D1%81%D0%B5%D0%BC%D0%B5%D0%B9%D1%81%D1%82%D0%B2%D0%BE%20%D0%BF%D0%B0%D1%81%D0%BB%D0%B5%D0%BD%D0%BE%D0%B2%D1%8B%D0%B5%20%D0%BF%D1%80%D0%B5%D0%B7%D0%B5%D0%BD%D1%82%D0%B0%D1%86%D0%B8%D1%8F </dc:title>
</cp:coreProperties>
</file>