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F16-814C-4D57-AB3E-BA079DB6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D7B-AAF9-4461-80CA-227BCAE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737-8618-408B-AE38-7FB4F35C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008-8BC8-48CD-A05B-B725D85A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EDD-0307-4403-83F6-3B082777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A70-572E-42CD-AFAE-A20F99B3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EFA-5579-463A-9432-B845C6CC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A4B-305B-4A24-93E7-1EB7FEA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E55-B6DB-4399-A5A7-C64E318A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56E-A7F4-4DC8-AFC4-709102A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587-DB39-4B5B-B3B1-59ED8E14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5E0-8ACA-4F0B-81C6-B841BCA1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D5A1-0BF5-4E19-BF62-DA2AD89DF2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Геворкян С.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 rot="508800">
            <a:off x="1186920" y="2060280"/>
            <a:ext cx="67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3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тный счёт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3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берёз? А сколько всего деревьев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img022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5025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7308720" y="3141720"/>
            <a:ext cx="84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моркови съел зайчик? 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было морков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img020"/>
          <p:cNvPicPr/>
          <p:nvPr/>
        </p:nvPicPr>
        <p:blipFill>
          <a:blip r:embed="rId1"/>
          <a:stretch/>
        </p:blipFill>
        <p:spPr>
          <a:xfrm>
            <a:off x="857160" y="1571760"/>
            <a:ext cx="7286760" cy="50958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7164360" y="3213000"/>
            <a:ext cx="142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6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было яблок? 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остало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img019"/>
          <p:cNvPicPr/>
          <p:nvPr/>
        </p:nvPicPr>
        <p:blipFill>
          <a:blip r:embed="rId1"/>
          <a:stretch/>
        </p:blipFill>
        <p:spPr>
          <a:xfrm>
            <a:off x="928800" y="1571760"/>
            <a:ext cx="7429320" cy="500040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5651640" y="2492280"/>
            <a:ext cx="12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7215120" y="2071800"/>
            <a:ext cx="1500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3902040" y="3213000"/>
            <a:ext cx="1346400" cy="511200"/>
          </a:xfrm>
          <a:prstGeom prst="rect">
            <a:avLst/>
          </a:prstGeom>
          <a:ln w="0">
            <a:noFill/>
          </a:ln>
        </p:spPr>
      </p:pic>
      <p:grpSp>
        <p:nvGrpSpPr>
          <p:cNvPr id="79" name="Пятно 1 3"/>
          <p:cNvGrpSpPr/>
          <p:nvPr/>
        </p:nvGrpSpPr>
        <p:grpSpPr>
          <a:xfrm>
            <a:off x="60480" y="-6480"/>
            <a:ext cx="8119800" cy="6480360"/>
            <a:chOff x="60480" y="-6480"/>
            <a:chExt cx="8119800" cy="6480360"/>
          </a:xfrm>
        </p:grpSpPr>
        <p:pic>
          <p:nvPicPr>
            <p:cNvPr id="80" name="Пятно 1 3" descr=""/>
            <p:cNvPicPr/>
            <p:nvPr/>
          </p:nvPicPr>
          <p:blipFill>
            <a:blip r:embed="rId2"/>
            <a:stretch/>
          </p:blipFill>
          <p:spPr>
            <a:xfrm>
              <a:off x="60480" y="-6480"/>
              <a:ext cx="8119800" cy="648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 rot="20509200">
              <a:off x="2193480" y="2158560"/>
              <a:ext cx="4032360" cy="19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Calibri"/>
                </a:rPr>
                <a:t>МОЛОДЦЫ  !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Calibri"/>
              </a:rPr>
              <a:t>Сколько цветочков нужно облететь пчёл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img065"/>
          <p:cNvPicPr/>
          <p:nvPr/>
        </p:nvPicPr>
        <p:blipFill>
          <a:blip r:embed="rId1"/>
          <a:stretch/>
        </p:blipFill>
        <p:spPr>
          <a:xfrm>
            <a:off x="928800" y="1571760"/>
            <a:ext cx="7358040" cy="5025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7453800" y="40053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яблок на ветках висит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на траве лежи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img066"/>
          <p:cNvPicPr/>
          <p:nvPr/>
        </p:nvPicPr>
        <p:blipFill>
          <a:blip r:embed="rId1"/>
          <a:stretch/>
        </p:blipFill>
        <p:spPr>
          <a:xfrm>
            <a:off x="928800" y="1428840"/>
            <a:ext cx="7286400" cy="5168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451640" y="1844640"/>
            <a:ext cx="91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зайцев в корзине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Почему ты так реши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img069"/>
          <p:cNvPicPr/>
          <p:nvPr/>
        </p:nvPicPr>
        <p:blipFill>
          <a:blip r:embed="rId1"/>
          <a:stretch/>
        </p:blipFill>
        <p:spPr>
          <a:xfrm>
            <a:off x="928800" y="1500120"/>
            <a:ext cx="750096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7740720" y="3429000"/>
            <a:ext cx="455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грибов растёт под высокой ёлкой, а сколько – под низ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img073"/>
          <p:cNvPicPr/>
          <p:nvPr/>
        </p:nvPicPr>
        <p:blipFill>
          <a:blip r:embed="rId1"/>
          <a:stretch/>
        </p:blipFill>
        <p:spPr>
          <a:xfrm>
            <a:off x="971640" y="1844640"/>
            <a:ext cx="7429320" cy="4680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676440" y="4869000"/>
            <a:ext cx="74059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3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5                             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яблок съели дети?</a:t>
            </a:r>
            <a:br>
              <a:rPr sz="4000"/>
            </a:b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 А сколько ещё осталос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img067"/>
          <p:cNvPicPr/>
          <p:nvPr/>
        </p:nvPicPr>
        <p:blipFill>
          <a:blip r:embed="rId1"/>
          <a:stretch/>
        </p:blipFill>
        <p:spPr>
          <a:xfrm>
            <a:off x="1000080" y="1571760"/>
            <a:ext cx="7286760" cy="5025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7524720" y="3141720"/>
            <a:ext cx="63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Calibri"/>
              </a:rPr>
              <a:t>Сколько утят плывут с мамой -утк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img071"/>
          <p:cNvPicPr/>
          <p:nvPr/>
        </p:nvPicPr>
        <p:blipFill>
          <a:blip r:embed="rId1"/>
          <a:stretch/>
        </p:blipFill>
        <p:spPr>
          <a:xfrm>
            <a:off x="1000080" y="1143000"/>
            <a:ext cx="7286760" cy="5381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7669440" y="3733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Calibri"/>
              </a:rPr>
              <a:t>Сколько рыбок плывёт налево, а сколько направо? В какую сторону их плывёт больш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g068"/>
          <p:cNvPicPr/>
          <p:nvPr/>
        </p:nvPicPr>
        <p:blipFill>
          <a:blip r:embed="rId1"/>
          <a:stretch/>
        </p:blipFill>
        <p:spPr>
          <a:xfrm>
            <a:off x="857160" y="1357200"/>
            <a:ext cx="7500960" cy="5240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109520" y="2924280"/>
            <a:ext cx="64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3                                   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Сколько ёлочек было?</a:t>
            </a:r>
            <a:br>
              <a:rPr sz="3600"/>
            </a:b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 Сколько спили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img021"/>
          <p:cNvPicPr/>
          <p:nvPr/>
        </p:nvPicPr>
        <p:blipFill>
          <a:blip r:embed="rId1"/>
          <a:stretch/>
        </p:blipFill>
        <p:spPr>
          <a:xfrm>
            <a:off x="1000080" y="1571760"/>
            <a:ext cx="721512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7362720" y="2997360"/>
            <a:ext cx="178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2:42:36Z</dcterms:created>
  <dc:creator>Polzovatel</dc:creator>
  <dc:description/>
  <dc:language>en-US</dc:language>
  <cp:lastModifiedBy>Дмитрий Каленюк</cp:lastModifiedBy>
  <dcterms:modified xsi:type="dcterms:W3CDTF">2013-04-20T22:28:50Z</dcterms:modified>
  <cp:revision>9</cp:revision>
  <dc:subject/>
  <dc:title>Муниципальное общеобразовательное учреждение Михайловская средняя школа №1  с.Михайловское Михайловского района Алтайского края</dc:title>
</cp:coreProperties>
</file>