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1492-81DA-430F-BDCC-5BFC53006C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735F-1414-4399-96CC-B080900A71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2D14-F298-46E9-94FE-EEE85789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EC95-7C22-4BB7-AFB9-F03689CD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D71B-E055-4B17-8C5F-3EF62981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7EDC-F4DE-431B-B3AD-F2F9300B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48EC-2482-4EAF-A0E9-0813586F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627D-13E7-4497-B6BA-EF3A8897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0BA9-D2BD-4AC3-A12E-6B27D4E8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7E5A-F435-416E-A626-0ACC34AF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96DA-0DB4-469A-85F6-3B74775D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AAD6-8181-4361-8BC4-C24FC2F9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A22-38D1-4D71-92F8-8F5AC86D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2272-D815-4088-99EA-3FEB3535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8EDF-D37F-4545-88E3-8763215F178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777F-57B2-4039-A4A4-F83C53B744A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Блок-схема: альтернативный процесс 6" descr=""/>
          <p:cNvPicPr/>
          <p:nvPr/>
        </p:nvPicPr>
        <p:blipFill>
          <a:blip r:embed="rId3"/>
          <a:stretch/>
        </p:blipFill>
        <p:spPr>
          <a:xfrm>
            <a:off x="2779560" y="4925880"/>
            <a:ext cx="3949920" cy="1017720"/>
          </a:xfrm>
          <a:prstGeom prst="rect">
            <a:avLst/>
          </a:prstGeom>
          <a:ln w="0">
            <a:noFill/>
          </a:ln>
        </p:spPr>
      </p:pic>
      <p:sp>
        <p:nvSpPr>
          <p:cNvPr id="42" name="Улыбающееся лицо 7"/>
          <p:cNvSpPr/>
          <p:nvPr/>
        </p:nvSpPr>
        <p:spPr>
          <a:xfrm>
            <a:off x="3286080" y="2500200"/>
            <a:ext cx="2857680" cy="270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5840">
            <a:solidFill>
              <a:srgbClr val="ba6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hyperlink" Target="http://2.bp.blogspot.com/-2s5nW4goVtM/UHmoW2PrW4I/AAAAAAAAFII/SqDDBWblY0A/s1600/SAM_2173.JP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hyperlink" Target="http://3.bp.blogspot.com/-bxFCOEE_oOg/UHmo-gCzB1I/AAAAAAAAFIQ/_mBbjsVigaI/s1600/SAM_2203.JP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DD1F-084C-445A-9459-D48583922EA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428400"/>
            <a:ext cx="7585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ОСОБЕННОСТИ 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ПСИХОЛОГИЧЕСКОГО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СОПРОВОЖДЕНИЯ ДЕТЕЙ </a:t>
            </a: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С ОГРАНИЧЕННЫМИ ВОЗМОЖНОСТЯМИ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ЗДОРОВЬЯ В УСЛОВИЯХ </a:t>
            </a: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ДОШКОЛЬНОГО ОБРАЗОВАТЕЛЬНОГО 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УЧРЕЖДЕНИЯ»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866920" y="3500280"/>
            <a:ext cx="3025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Педагог – психолог</a:t>
            </a:r>
            <a:r>
              <a:rPr b="1" i="1" lang="en-US" sz="2000" spc="-1" strike="noStrike">
                <a:solidFill>
                  <a:srgbClr val="0b07b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b07b9"/>
                </a:solidFill>
                <a:latin typeface="Arial"/>
              </a:rPr>
              <a:t>высше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МБДО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комбинированного вида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детский сад № 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«Росинка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г.Бел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Georgia"/>
              </a:rPr>
              <a:t>Стецюк Еле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наш знак"/>
          <p:cNvPicPr/>
          <p:nvPr/>
        </p:nvPicPr>
        <p:blipFill>
          <a:blip r:embed="rId2"/>
          <a:stretch/>
        </p:blipFill>
        <p:spPr>
          <a:xfrm>
            <a:off x="979560" y="404640"/>
            <a:ext cx="504720" cy="792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:\Users\1\Desktop\People_Children_Girl_in_Grass_034672_29.jpg"/>
          <p:cNvPicPr/>
          <p:nvPr/>
        </p:nvPicPr>
        <p:blipFill>
          <a:blip r:embed="rId3"/>
          <a:stretch/>
        </p:blipFill>
        <p:spPr>
          <a:xfrm>
            <a:off x="971640" y="2708280"/>
            <a:ext cx="4752720" cy="39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F055-A501-4087-A1FD-5D0F65DF0102}" type="slidenum">
              <a:t>1</a:t>
            </a:fld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667E-A724-4173-B9C1-D362C107537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845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 algn="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Консультативно просветительское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и профилактическое   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направление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71280" y="1699920"/>
            <a:ext cx="8172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Работа по данному направлению обеспечивает оказание педагогам и родителям помощи в воспитании и обучении ребёнка с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ВЗ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.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 Психолог разрабатывает рекомендации в соответствии с возрастными и индивидуально-типичес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особенностями детей,</a:t>
            </a:r>
            <a:r>
              <a:rPr b="0" lang="ru-RU" sz="24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провод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мероприятия, способству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повышению профессион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компетенции педагог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ключению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роди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 решение коррекцион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оспитательны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schastlivyi-rebenok-invalid"/>
          <p:cNvPicPr/>
          <p:nvPr/>
        </p:nvPicPr>
        <p:blipFill>
          <a:blip r:embed="rId2"/>
          <a:stretch/>
        </p:blipFill>
        <p:spPr>
          <a:xfrm>
            <a:off x="5724360" y="3068640"/>
            <a:ext cx="3168720" cy="338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C:\Users\1\Desktop\695_big.jpeg"/>
          <p:cNvPicPr/>
          <p:nvPr/>
        </p:nvPicPr>
        <p:blipFill>
          <a:blip r:embed="rId3"/>
          <a:stretch/>
        </p:blipFill>
        <p:spPr>
          <a:xfrm>
            <a:off x="1417680" y="743040"/>
            <a:ext cx="2506680" cy="95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48F6-9487-4BE4-BE01-4A228E14E4FC}" type="slidenum">
              <a:t>10</a:t>
            </a:fld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3B3D-297B-467F-8CAF-7DA604612B9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31640" y="1335240"/>
            <a:ext cx="764388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Данное направление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Georgia"/>
              </a:rPr>
              <a:t>педагога - психолога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 включает подготовку материалов к консилиумам, методическим объединениям, педагогическим советам, участие в указанных мероприятиях, а также оформление докумен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071720" y="4046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Организационно – методическое направ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C:\Users\1\Desktop\ОБОИ\baner_1.jpg"/>
          <p:cNvPicPr/>
          <p:nvPr/>
        </p:nvPicPr>
        <p:blipFill>
          <a:blip r:embed="rId2"/>
          <a:stretch/>
        </p:blipFill>
        <p:spPr>
          <a:xfrm rot="20663400">
            <a:off x="1329840" y="4641480"/>
            <a:ext cx="1757520" cy="1760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Users\1\Desktop\ОБОИ\frg.jpg"/>
          <p:cNvPicPr/>
          <p:nvPr/>
        </p:nvPicPr>
        <p:blipFill>
          <a:blip r:embed="rId3"/>
          <a:stretch/>
        </p:blipFill>
        <p:spPr>
          <a:xfrm rot="756000">
            <a:off x="6695640" y="4656240"/>
            <a:ext cx="1852560" cy="1849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Users\1\Desktop\ОБОИ\pedagogika.png"/>
          <p:cNvPicPr/>
          <p:nvPr/>
        </p:nvPicPr>
        <p:blipFill>
          <a:blip r:embed="rId4"/>
          <a:stretch/>
        </p:blipFill>
        <p:spPr>
          <a:xfrm>
            <a:off x="971640" y="395280"/>
            <a:ext cx="1079280" cy="1521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C:\Users\1\Desktop\menu-page4.png"/>
          <p:cNvPicPr/>
          <p:nvPr/>
        </p:nvPicPr>
        <p:blipFill>
          <a:blip r:embed="rId5"/>
          <a:stretch/>
        </p:blipFill>
        <p:spPr>
          <a:xfrm>
            <a:off x="3708360" y="4653000"/>
            <a:ext cx="266400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9A1F-FAAE-4C30-BADA-2D4A17C06D34}" type="slidenum">
              <a:t>11</a:t>
            </a:fld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CF8D-85AC-4CBA-AFFB-AAA0BC6357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6920" y="-603360"/>
            <a:ext cx="7488360" cy="705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Georgia"/>
              </a:rPr>
              <a:t>Мир «особого» ребёнка интересен и пуглив.                                                                                                                     Мир «особого» ребёнка безобразен и красив. 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Неуклюж, порою странен, добродушен и открыт.</a:t>
            </a:r>
            <a:br>
              <a:rPr sz="1800"/>
            </a:b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Мир «особого» ребёнка. Иногда он нас страшит.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Georgia"/>
              </a:rPr>
              <a:t>Почему он агрессивен? Почему он так закрыт?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Georgia"/>
              </a:rPr>
              <a:t>Почему он так испуган? Почему не говорит?</a:t>
            </a:r>
            <a:br>
              <a:rPr sz="1800"/>
            </a:b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Мир «особого» ребёнка –он закрыт от глаз чужих.</a:t>
            </a:r>
            <a:br>
              <a:rPr sz="1800"/>
            </a:b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Мир «особого» ребёнка -допускает лишь своих!</a:t>
            </a:r>
            <a:br>
              <a:rPr sz="18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C:\Users\1\Desktop\пе.jpg"/>
          <p:cNvPicPr/>
          <p:nvPr/>
        </p:nvPicPr>
        <p:blipFill>
          <a:blip r:embed="rId2"/>
          <a:stretch/>
        </p:blipFill>
        <p:spPr>
          <a:xfrm>
            <a:off x="4067280" y="4865760"/>
            <a:ext cx="2160360" cy="1655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Users\1\Desktop\cropped-doshkolnik2.jpg"/>
          <p:cNvPicPr/>
          <p:nvPr/>
        </p:nvPicPr>
        <p:blipFill>
          <a:blip r:embed="rId3"/>
          <a:stretch/>
        </p:blipFill>
        <p:spPr>
          <a:xfrm>
            <a:off x="1332000" y="260280"/>
            <a:ext cx="7127640" cy="2089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C:\Users\1\Desktop\_MG_5557 okjc.jpg"/>
          <p:cNvPicPr/>
          <p:nvPr/>
        </p:nvPicPr>
        <p:blipFill>
          <a:blip r:embed="rId4"/>
          <a:stretch/>
        </p:blipFill>
        <p:spPr>
          <a:xfrm rot="20790600">
            <a:off x="6797520" y="4651200"/>
            <a:ext cx="2097360" cy="1940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C:\Users\1\Desktop\36a48b21f0d8d21947129d0743415182.jpg"/>
          <p:cNvPicPr/>
          <p:nvPr/>
        </p:nvPicPr>
        <p:blipFill>
          <a:blip r:embed="rId5"/>
          <a:stretch/>
        </p:blipFill>
        <p:spPr>
          <a:xfrm rot="637200">
            <a:off x="1171080" y="4722840"/>
            <a:ext cx="2151360" cy="194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06F-D395-4808-BDB3-1E98AF1DC5C7}" type="slidenum">
              <a:t>12</a:t>
            </a:fld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B7AE-2829-4D2F-BB0F-35F924D0BAD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042560" y="40428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«Каждый 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ребёнок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 имеет 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возмож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быть 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психологически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 готовым 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школьному 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обучению 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на  своём 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уров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соответственно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 своим 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личностным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особенностям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:\Users\1\Desktop\Рисунок1.jpg"/>
          <p:cNvPicPr/>
          <p:nvPr/>
        </p:nvPicPr>
        <p:blipFill>
          <a:blip r:embed="rId2"/>
          <a:stretch/>
        </p:blipFill>
        <p:spPr>
          <a:xfrm>
            <a:off x="1332000" y="2421000"/>
            <a:ext cx="734364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47F5-D46F-44A5-80DD-1E0BEB0FF8AD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2E78-5A3B-47B5-9621-D44CBD65B1A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74760" y="333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Georgia"/>
              </a:rPr>
              <a:t>Специальные  </a:t>
            </a:r>
            <a:r>
              <a:rPr b="1" i="1" lang="en-US" sz="3200" spc="-1" strike="noStrike" u="sng">
                <a:solidFill>
                  <a:srgbClr val="0000ff"/>
                </a:solidFill>
                <a:uFillTx/>
                <a:latin typeface="Georgi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3280" y="1125360"/>
            <a:ext cx="777708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           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Georgia"/>
              </a:rPr>
              <a:t>Федеральные государственные образовательные  стандарты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для детей с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ОВЗ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[1] рассматриваются как неотъемлемая часть федеральных государственных стандартов общего образования. Такой подход согласуется с Декларацией ООН о правах ребенка и Конститу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РФ, гарантирующей всем детям право на обязательное  и бесплатное среднее образ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Специальный образовате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стандарт должен стать базо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инструментом реал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конституционных прав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образование граждан с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ОВЗ. 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:\Users\1\Desktop\81227_html_m72b9a6c3.png"/>
          <p:cNvPicPr/>
          <p:nvPr/>
        </p:nvPicPr>
        <p:blipFill>
          <a:blip r:embed="rId2"/>
          <a:stretch/>
        </p:blipFill>
        <p:spPr>
          <a:xfrm>
            <a:off x="6084720" y="4292640"/>
            <a:ext cx="2519640" cy="208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1\Desktop\1089136.jpg"/>
          <p:cNvPicPr/>
          <p:nvPr/>
        </p:nvPicPr>
        <p:blipFill>
          <a:blip r:embed="rId3"/>
          <a:stretch/>
        </p:blipFill>
        <p:spPr>
          <a:xfrm rot="1170000">
            <a:off x="7812000" y="190440"/>
            <a:ext cx="1040040" cy="1365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C:\Users\1\Desktop\1917114.jpg"/>
          <p:cNvPicPr/>
          <p:nvPr/>
        </p:nvPicPr>
        <p:blipFill>
          <a:blip r:embed="rId4"/>
          <a:stretch/>
        </p:blipFill>
        <p:spPr>
          <a:xfrm rot="20499000">
            <a:off x="922320" y="178920"/>
            <a:ext cx="1001880" cy="133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6611-CD26-42E4-B580-6C2474A43B07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1D17-F693-43F5-8186-678FEFD733C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85016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Georgia"/>
              </a:rPr>
              <a:t>Дети с ОВЗ</a:t>
            </a:r>
            <a:r>
              <a:rPr b="0" lang="ru-RU" sz="2400" spc="-1" strike="noStrike">
                <a:solidFill>
                  <a:srgbClr val="ff0066"/>
                </a:solidFill>
                <a:latin typeface="Georgia"/>
              </a:rPr>
              <a:t> -</a:t>
            </a:r>
            <a:r>
              <a:rPr b="1" lang="ru-RU" sz="2400" spc="-1" strike="noStrike">
                <a:solidFill>
                  <a:srgbClr val="ff0066"/>
                </a:solidFill>
                <a:latin typeface="Georgia"/>
              </a:rPr>
              <a:t> это дети с ограниченными 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Georgia"/>
              </a:rPr>
              <a:t>                   возможностями здоровья.</a:t>
            </a:r>
            <a:r>
              <a:rPr b="1" lang="ru-RU" sz="2400" spc="-1" strike="noStrike">
                <a:solidFill>
                  <a:srgbClr val="800080"/>
                </a:solidFill>
                <a:latin typeface="Georgia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Дети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, состояние здоровья которых препятствует освоению образовательных программ вне  специальных условий обучения и воспитания, то есть это дети-инвалиды  либо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другие дети в возрасте до 18 лет,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е признанные в установленном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 порядке детьми-инвалидами,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о имеющие временные 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или постоянные отклонения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 физическом и (или)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психическом развитии и 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уждающиеся в создании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специальных условий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обучения и 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Рисунок6"/>
          <p:cNvPicPr/>
          <p:nvPr/>
        </p:nvPicPr>
        <p:blipFill>
          <a:blip r:embed="rId2"/>
          <a:stretch/>
        </p:blipFill>
        <p:spPr>
          <a:xfrm rot="1035600">
            <a:off x="6049440" y="3065040"/>
            <a:ext cx="2735280" cy="352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0F80-8CBD-444F-8BA9-F3157525C908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B674-848D-44D0-95D1-27A53B65E50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8066160" cy="70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Группа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дошкольников с 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ОВЗ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не однородна,  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  в неё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 входят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дети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с разными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нарушениями 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 развития,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выраженность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которых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может 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 быть 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различна:</a:t>
            </a:r>
            <a:br>
              <a:rPr sz="2400"/>
            </a:b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*</a:t>
            </a:r>
            <a:r>
              <a:rPr b="1" lang="en-US" sz="2000" spc="-1" strike="noStrike">
                <a:solidFill>
                  <a:srgbClr val="0000ff"/>
                </a:solidFill>
                <a:latin typeface="Georgia"/>
              </a:rPr>
              <a:t>дети с нарушениями опорно-двигательного аппарата</a:t>
            </a:r>
            <a:r>
              <a:rPr b="1" lang="en-US" sz="2000" spc="-1" strike="noStrike">
                <a:solidFill>
                  <a:srgbClr val="0b07b9"/>
                </a:solidFill>
                <a:latin typeface="Georgia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*</a:t>
            </a:r>
            <a:r>
              <a:rPr b="1" lang="en-US" sz="2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Georgia"/>
              </a:rPr>
              <a:t>дети с нарушениями интеллектуального развития;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*</a:t>
            </a: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Georgia"/>
              </a:rPr>
              <a:t>дети с нарушениями эмоционально-волевой сферы;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Georgia"/>
              </a:rPr>
              <a:t>дети с комплексными </a:t>
            </a:r>
            <a:br>
              <a:rPr sz="2000"/>
            </a:br>
            <a:r>
              <a:rPr b="1" lang="en-US" sz="2000" spc="-1" strike="noStrike">
                <a:solidFill>
                  <a:srgbClr val="00cc00"/>
                </a:solidFill>
                <a:latin typeface="Georgia"/>
              </a:rPr>
              <a:t>     (сложными)</a:t>
            </a:r>
            <a:br>
              <a:rPr sz="2000"/>
            </a:br>
            <a:r>
              <a:rPr b="1" lang="en-US" sz="2000" spc="-1" strike="noStrike">
                <a:solidFill>
                  <a:srgbClr val="00cc00"/>
                </a:solidFill>
                <a:latin typeface="Georgia"/>
              </a:rPr>
              <a:t>     нарушениями развития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*</a:t>
            </a:r>
            <a:r>
              <a:rPr b="1" lang="en-US" sz="2000" spc="-1" strike="noStrike">
                <a:solidFill>
                  <a:srgbClr val="0000ff"/>
                </a:solidFill>
                <a:latin typeface="Georgia"/>
              </a:rPr>
              <a:t>дети с нарушениями слуха;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en-US" sz="2000" spc="-1" strike="noStrike">
                <a:solidFill>
                  <a:srgbClr val="00cc00"/>
                </a:solidFill>
                <a:latin typeface="Georgia"/>
              </a:rPr>
              <a:t>дети с нарушениями зрения;  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en-US" sz="2000" spc="-1" strike="noStrike">
                <a:solidFill>
                  <a:srgbClr val="0000ff"/>
                </a:solidFill>
                <a:latin typeface="Georgia"/>
              </a:rPr>
              <a:t>дети с тяжелыми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Georgia"/>
              </a:rPr>
              <a:t>     нарушениями  речи</a:t>
            </a:r>
            <a:r>
              <a:rPr b="0" lang="en-US" sz="2000" spc="-1" strike="noStrike">
                <a:solidFill>
                  <a:srgbClr val="0000ff"/>
                </a:solidFill>
                <a:latin typeface="Georgi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C:\Users\1\Desktop\92818790_3646178_imagedeti.png"/>
          <p:cNvPicPr/>
          <p:nvPr/>
        </p:nvPicPr>
        <p:blipFill>
          <a:blip r:embed="rId2"/>
          <a:stretch/>
        </p:blipFill>
        <p:spPr>
          <a:xfrm>
            <a:off x="5219640" y="3500280"/>
            <a:ext cx="3600360" cy="28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AF3B-0731-42DD-AC1A-B12CC3833E86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8DA9-F9C0-4BD7-8089-B4EC63C534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760392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Ключевыми  направлениями работы психолога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ДОУ с детьми с ОВЗ является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диагностическая, коррекционная и развивающая работа; профилактическая и консультативная работа с педагогами и родителями, воспитывающими детей данной катег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71280" y="2997000"/>
            <a:ext cx="7529400" cy="33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Georgia"/>
              </a:rPr>
              <a:t>Содержание программы коррекционной работы определяют следующие принци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Georgia"/>
              </a:rPr>
              <a:t>соблюдение интересов ребё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1800" spc="-1" strike="noStrike">
                <a:solidFill>
                  <a:srgbClr val="008000"/>
                </a:solidFill>
                <a:latin typeface="Georgia"/>
              </a:rPr>
              <a:t>системность и доступность;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Georgia"/>
              </a:rPr>
              <a:t>непреры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Georgia"/>
              </a:rPr>
              <a:t>вариат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Georgia"/>
              </a:rPr>
              <a:t>принцип создания ситуации успех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Georgia"/>
              </a:rPr>
              <a:t>принцип психолог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Georgia"/>
              </a:rPr>
              <a:t>комфортности;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Georgia"/>
              </a:rPr>
              <a:t>гуманность и реалист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C:\Users\1\Desktop\68482414.jpg"/>
          <p:cNvPicPr/>
          <p:nvPr/>
        </p:nvPicPr>
        <p:blipFill>
          <a:blip r:embed="rId2"/>
          <a:stretch/>
        </p:blipFill>
        <p:spPr>
          <a:xfrm>
            <a:off x="1116000" y="3716280"/>
            <a:ext cx="3095640" cy="28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E1E-B0FB-4CA5-84CD-FF369EC8B4F2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6056-5B89-4588-AF4E-58A13706C40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Diagram 16"/>
          <p:cNvGrpSpPr/>
          <p:nvPr/>
        </p:nvGrpSpPr>
        <p:grpSpPr>
          <a:xfrm>
            <a:off x="1856520" y="3007800"/>
            <a:ext cx="6222960" cy="3694680"/>
            <a:chOff x="1856520" y="3007800"/>
            <a:chExt cx="6222960" cy="3694680"/>
          </a:xfrm>
        </p:grpSpPr>
        <p:sp>
          <p:nvSpPr>
            <p:cNvPr id="115" name="_s1028"/>
            <p:cNvSpPr/>
            <p:nvPr/>
          </p:nvSpPr>
          <p:spPr>
            <a:xfrm>
              <a:off x="4182840" y="3533400"/>
              <a:ext cx="1570680" cy="1502640"/>
            </a:xfrm>
            <a:prstGeom prst="ellipse">
              <a:avLst/>
            </a:prstGeom>
            <a:solidFill>
              <a:srgbClr val="c0504d">
                <a:alpha val="50000"/>
              </a:srgbClr>
            </a:solidFill>
            <a:ln w="4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29"/>
            <p:cNvSpPr/>
            <p:nvPr/>
          </p:nvSpPr>
          <p:spPr>
            <a:xfrm>
              <a:off x="4182840" y="3007800"/>
              <a:ext cx="157068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0"/>
            <p:cNvSpPr/>
            <p:nvPr/>
          </p:nvSpPr>
          <p:spPr>
            <a:xfrm>
              <a:off x="4780440" y="4104360"/>
              <a:ext cx="1570680" cy="150264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1"/>
            <p:cNvSpPr/>
            <p:nvPr/>
          </p:nvSpPr>
          <p:spPr>
            <a:xfrm>
              <a:off x="6508800" y="4668840"/>
              <a:ext cx="15706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Georgia"/>
                </a:rPr>
                <a:t>Коррекционн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Georgia"/>
                </a:rPr>
                <a:t>развивающе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Georgia"/>
                </a:rPr>
                <a:t>направ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2"/>
            <p:cNvSpPr/>
            <p:nvPr/>
          </p:nvSpPr>
          <p:spPr>
            <a:xfrm>
              <a:off x="4182840" y="4676040"/>
              <a:ext cx="1570680" cy="150264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3"/>
            <p:cNvSpPr/>
            <p:nvPr/>
          </p:nvSpPr>
          <p:spPr>
            <a:xfrm>
              <a:off x="4182840" y="6328080"/>
              <a:ext cx="157068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Georgia"/>
                </a:rPr>
                <a:t>Организационно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Georgia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Georgia"/>
                </a:rPr>
                <a:t>методическ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Georgia"/>
                </a:rPr>
                <a:t>направление</a:t>
              </a:r>
              <a:r>
                <a:rPr b="1" lang="en-US" sz="1500" spc="-1" strike="noStrike">
                  <a:solidFill>
                    <a:srgbClr val="0000ff"/>
                  </a:solidFill>
                  <a:latin typeface="Georgia"/>
                </a:rPr>
                <a:t>.</a:t>
              </a:r>
              <a:br>
                <a:rPr sz="1500"/>
              </a:br>
              <a:br>
                <a:rPr sz="1500"/>
              </a:b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34"/>
            <p:cNvSpPr/>
            <p:nvPr/>
          </p:nvSpPr>
          <p:spPr>
            <a:xfrm>
              <a:off x="3585240" y="4104360"/>
              <a:ext cx="1570680" cy="1502640"/>
            </a:xfrm>
            <a:prstGeom prst="ellipse">
              <a:avLst/>
            </a:prstGeom>
            <a:solidFill>
              <a:srgbClr val="eeece1">
                <a:alpha val="50000"/>
              </a:srgbClr>
            </a:solidFill>
            <a:ln w="46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5"/>
            <p:cNvSpPr/>
            <p:nvPr/>
          </p:nvSpPr>
          <p:spPr>
            <a:xfrm>
              <a:off x="1856520" y="4668840"/>
              <a:ext cx="15706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Georgia"/>
                </a:rPr>
                <a:t>Консультативно –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Georgia"/>
                </a:rPr>
                <a:t>просветительск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Georgia"/>
                </a:rPr>
                <a:t>и профилактическое 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Georgia"/>
                </a:rPr>
                <a:t>направление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9"/>
          <p:cNvSpPr/>
          <p:nvPr/>
        </p:nvSpPr>
        <p:spPr>
          <a:xfrm>
            <a:off x="1116000" y="47628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eorgia"/>
              </a:rPr>
              <a:t>Программа коррекционной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eorgia"/>
              </a:rPr>
              <a:t>на дошкольной сту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Georgia"/>
              </a:rPr>
              <a:t>образования включ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eorgia"/>
              </a:rPr>
              <a:t>в себя взаимосвязанные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Данные напр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отражают её основное содержание: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 flipV="1" rot="10800000">
            <a:off x="3127320" y="2764800"/>
            <a:ext cx="376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Georgia"/>
              </a:rPr>
              <a:t>Диагностическое напра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DDE-44A0-43B9-84A9-7D5795823BC3}" type="slidenum">
              <a:t>7</a:t>
            </a:fld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C056-34BF-4CBC-A52A-2CC5F7398A0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Диагностическое направление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00000" y="1125000"/>
            <a:ext cx="806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Для успешности восп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и обучения  детей с </a:t>
            </a:r>
            <a:r>
              <a:rPr b="1" i="1" lang="ru-RU" sz="2000" spc="-1" strike="noStrike">
                <a:solidFill>
                  <a:srgbClr val="ff0000"/>
                </a:solidFill>
                <a:latin typeface="Georgia"/>
              </a:rPr>
              <a:t>ОВЗ</a:t>
            </a:r>
            <a:r>
              <a:rPr b="1" i="1" lang="ru-RU" sz="20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необходима правильна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оценка их возможносте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выявление особых   образов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тельных  потре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В связи с этим особая ро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отводится психолого-медик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педагогической диагност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C:\Users\1\Desktop\in-filleprim.jpg"/>
          <p:cNvPicPr/>
          <p:nvPr/>
        </p:nvPicPr>
        <p:blipFill>
          <a:blip r:embed="rId2"/>
          <a:stretch/>
        </p:blipFill>
        <p:spPr>
          <a:xfrm>
            <a:off x="1116000" y="981000"/>
            <a:ext cx="3024360" cy="5543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http://2.bp.blogspot.com/-2s5nW4goVtM/UHmoW2PrW4I/AAAAAAAAFII/SqDDBWblY0A/s320/SAM_217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4437000"/>
            <a:ext cx="3960720" cy="207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FDB-CFBF-4FAD-8D3E-28B6CD3B304B}" type="slidenum">
              <a:t>8</a:t>
            </a:fld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3943-55BD-482F-968A-0E11823A9AE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28760"/>
            <a:ext cx="762948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-57168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Коррекционно-развивающее напр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971640" y="1412640"/>
            <a:ext cx="79214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Основными направл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коррекционно -развивающ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работы психолога с детьми с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ВЗ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аходящимися в усло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образовательной интеграции,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развитие эмоционально-личностной сферы и коррекция ее    недостат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развитие познавательной деятельности и целенаправленное форм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высших психических фун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формирование произвольной регуляции деятельности и по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формирование и развитие социа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навыков и социализации</a:t>
            </a:r>
            <a:r>
              <a:rPr b="1" lang="ru-RU" sz="2000" spc="-1" strike="noStrike">
                <a:solidFill>
                  <a:srgbClr val="ff33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:\Users\1\Desktop\head1.jpg"/>
          <p:cNvPicPr/>
          <p:nvPr/>
        </p:nvPicPr>
        <p:blipFill>
          <a:blip r:embed="rId2"/>
          <a:stretch/>
        </p:blipFill>
        <p:spPr>
          <a:xfrm>
            <a:off x="6156360" y="1052640"/>
            <a:ext cx="2663640" cy="2232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http://3.bp.blogspot.com/-bxFCOEE_oOg/UHmo-gCzB1I/AAAAAAAAFIQ/_mBbjsVigaI/s320/SAM_220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4292640"/>
            <a:ext cx="180036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D131-26AA-4900-97E7-46A2C5956787}" type="slidenum">
              <a:t>9</a:t>
            </a:fld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5:31:12Z</dcterms:created>
  <dc:creator>administrator</dc:creator>
  <dc:description/>
  <dc:language>en-US</dc:language>
  <cp:lastModifiedBy>*</cp:lastModifiedBy>
  <dcterms:modified xsi:type="dcterms:W3CDTF">2013-04-12T18:54:57Z</dcterms:modified>
  <cp:revision>99</cp:revision>
  <dc:subject/>
  <dc:title>Обучение и воспитание успехом</dc:title>
</cp:coreProperties>
</file>