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CE1A-F02C-43A5-9D82-5A36767F5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A2F-9607-44F6-9EBC-5536677BB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9F0-1952-4CC9-89A8-DA41D7AB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4DF-13FE-4A18-8115-561E58A8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D52F-06A2-4E2C-873D-8F9267E6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079-2A30-4D84-BF42-BC98CAB7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EAD0-49B6-4E4B-AC56-864FF5A7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30B-B5C3-4DEB-A2DE-8DA8AB2F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80E-21C8-4E81-B4B6-66F6BEBC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48E-ED8D-4686-9A48-D60CEB64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D13-259E-4AE8-8972-224D31A9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5B4-B316-429C-BD17-6EDEF90C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69F-5CBF-4C18-9EE9-DA6C526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E0F-4893-49D7-A1E7-5EBA556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70C2-4AC8-4E5E-B670-E57C8EFEEA5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3038-1441-447E-A78A-FA39FC9FEC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Блок-схема: альтернативный процесс 6" descr=""/>
          <p:cNvPicPr/>
          <p:nvPr/>
        </p:nvPicPr>
        <p:blipFill>
          <a:blip r:embed="rId3"/>
          <a:stretch/>
        </p:blipFill>
        <p:spPr>
          <a:xfrm>
            <a:off x="2779560" y="4925880"/>
            <a:ext cx="3949920" cy="1017720"/>
          </a:xfrm>
          <a:prstGeom prst="rect">
            <a:avLst/>
          </a:prstGeom>
          <a:ln w="0">
            <a:noFill/>
          </a:ln>
        </p:spPr>
      </p:pic>
      <p:sp>
        <p:nvSpPr>
          <p:cNvPr id="42" name="Улыбающееся лицо 7"/>
          <p:cNvSpPr/>
          <p:nvPr/>
        </p:nvSpPr>
        <p:spPr>
          <a:xfrm>
            <a:off x="3286080" y="2500200"/>
            <a:ext cx="2857680" cy="270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15840">
            <a:solidFill>
              <a:srgbClr val="ba6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hyperlink" Target="http://2.bp.blogspot.com/-2s5nW4goVtM/UHmoW2PrW4I/AAAAAAAAFII/SqDDBWblY0A/s1600/SAM_2173.JP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hyperlink" Target="http://3.bp.blogspot.com/-bxFCOEE_oOg/UHmo-gCzB1I/AAAAAAAAFIQ/_mBbjsVigaI/s1600/SAM_2203.J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47C1-3D7A-47E7-AAB1-DE07191412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7280" y="428400"/>
            <a:ext cx="7585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ОСОБЕННОСТИ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ПСИХОЛОГИЧЕСКОГО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СОПРОВОЖДЕНИЯ ДЕТЕЙ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 ОГРАНИЧЕННЫМИ ВОЗМОЖНОСТЯМИ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ЗДОРОВЬЯ В УСЛОВИЯХ </a:t>
            </a:r>
            <a:br>
              <a:rPr sz="2400"/>
            </a:b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ДОШКОЛЬНОГО ОБРАЗОВАТЕЛЬНОГО 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УЧРЕЖДЕНИЯ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866920" y="3500280"/>
            <a:ext cx="3025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Педагог – психолог</a:t>
            </a:r>
            <a:r>
              <a:rPr b="1" i="1" lang="en-US" sz="2000" spc="-1" strike="noStrike">
                <a:solidFill>
                  <a:srgbClr val="0b07b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b07b9"/>
                </a:solidFill>
                <a:latin typeface="Arial"/>
              </a:rPr>
              <a:t>высше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МБДОУ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комбинированного вида</a:t>
            </a: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детский сад № 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«Росинка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b07b9"/>
                </a:solidFill>
                <a:latin typeface="Georgia"/>
              </a:rPr>
              <a:t>г.Бел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Georgia"/>
              </a:rPr>
              <a:t>Стецюк Еле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наш знак"/>
          <p:cNvPicPr/>
          <p:nvPr/>
        </p:nvPicPr>
        <p:blipFill>
          <a:blip r:embed="rId2"/>
          <a:stretch/>
        </p:blipFill>
        <p:spPr>
          <a:xfrm>
            <a:off x="979560" y="404640"/>
            <a:ext cx="504720" cy="792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1\Desktop\People_Children_Girl_in_Grass_034672_29.jpg"/>
          <p:cNvPicPr/>
          <p:nvPr/>
        </p:nvPicPr>
        <p:blipFill>
          <a:blip r:embed="rId3"/>
          <a:stretch/>
        </p:blipFill>
        <p:spPr>
          <a:xfrm>
            <a:off x="971640" y="2708280"/>
            <a:ext cx="4752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41D-D2E3-4526-A3B1-4A866BD96547}" type="slidenum">
              <a:t>1</a:t>
            </a:fld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3203-30DA-403B-A696-A065E15CB1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45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Консультативно просветительское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и профилактическое   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направление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71280" y="1699920"/>
            <a:ext cx="817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а по данному направлению обеспечивает оказание педагогам и родителям помощи в воспитании и обучении ребёнка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.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сихолог разрабатывает рекомендации в соответствии с возрастными и индивидуально-тип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обенностями детей,</a:t>
            </a: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рово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мероприятия, способству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овышению професс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мпетенции педагог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ключению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 решение коррекцион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оспитатель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schastlivyi-rebenok-invalid"/>
          <p:cNvPicPr/>
          <p:nvPr/>
        </p:nvPicPr>
        <p:blipFill>
          <a:blip r:embed="rId2"/>
          <a:stretch/>
        </p:blipFill>
        <p:spPr>
          <a:xfrm>
            <a:off x="5724360" y="3068640"/>
            <a:ext cx="316872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C:\Users\1\Desktop\695_big.jpeg"/>
          <p:cNvPicPr/>
          <p:nvPr/>
        </p:nvPicPr>
        <p:blipFill>
          <a:blip r:embed="rId3"/>
          <a:stretch/>
        </p:blipFill>
        <p:spPr>
          <a:xfrm>
            <a:off x="1417680" y="743040"/>
            <a:ext cx="2506680" cy="95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5E0-D94E-46EC-A8D4-336144F858D4}" type="slidenum">
              <a:t>10</a:t>
            </a:fld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A918-6949-4253-B9F6-4892CC0292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31640" y="1335240"/>
            <a:ext cx="7643880" cy="52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Данное направление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педагога - психолога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включает подготовку материалов к консилиумам, методическим объединениям, педагогическим советам, участие в указанных мероприятиях, а также оформление докумен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071720" y="4046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Организационно – методическое направл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Users\1\Desktop\ОБОИ\baner_1.jpg"/>
          <p:cNvPicPr/>
          <p:nvPr/>
        </p:nvPicPr>
        <p:blipFill>
          <a:blip r:embed="rId2"/>
          <a:stretch/>
        </p:blipFill>
        <p:spPr>
          <a:xfrm rot="20663400">
            <a:off x="1329840" y="4641480"/>
            <a:ext cx="1757520" cy="1760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C:\Users\1\Desktop\ОБОИ\frg.jpg"/>
          <p:cNvPicPr/>
          <p:nvPr/>
        </p:nvPicPr>
        <p:blipFill>
          <a:blip r:embed="rId3"/>
          <a:stretch/>
        </p:blipFill>
        <p:spPr>
          <a:xfrm rot="756000">
            <a:off x="6695640" y="4656240"/>
            <a:ext cx="1852560" cy="1849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1\Desktop\ОБОИ\pedagogika.png"/>
          <p:cNvPicPr/>
          <p:nvPr/>
        </p:nvPicPr>
        <p:blipFill>
          <a:blip r:embed="rId4"/>
          <a:stretch/>
        </p:blipFill>
        <p:spPr>
          <a:xfrm>
            <a:off x="971640" y="395280"/>
            <a:ext cx="1079280" cy="1521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C:\Users\1\Desktop\menu-page4.png"/>
          <p:cNvPicPr/>
          <p:nvPr/>
        </p:nvPicPr>
        <p:blipFill>
          <a:blip r:embed="rId5"/>
          <a:stretch/>
        </p:blipFill>
        <p:spPr>
          <a:xfrm>
            <a:off x="3708360" y="4653000"/>
            <a:ext cx="266400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97B-F7A3-4A37-ABAC-5610926274F1}" type="slidenum">
              <a:t>11</a:t>
            </a:fld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A42C-20A2-429E-B0B4-1F4C7A78DE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-603360"/>
            <a:ext cx="7488360" cy="70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Мир «особого» ребёнка интересен и пуглив.                                                                                                                     Мир «особого» ребёнка безобразен и красив.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Неуклюж, порою странен, добродушен и открыт.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. Иногда он нас страшит.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Почему он агрессивен? Почему он так закрыт?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Почему он так испуган? Почему не говорит?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 –он закрыт от глаз чужих.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Мир «особого» ребёнка -допускает лишь своих!</a:t>
            </a:r>
            <a:br>
              <a:rPr sz="18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Users\1\Desktop\пе.jpg"/>
          <p:cNvPicPr/>
          <p:nvPr/>
        </p:nvPicPr>
        <p:blipFill>
          <a:blip r:embed="rId2"/>
          <a:stretch/>
        </p:blipFill>
        <p:spPr>
          <a:xfrm>
            <a:off x="4067280" y="4865760"/>
            <a:ext cx="2160360" cy="1655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1\Desktop\cropped-doshkolnik2.jpg"/>
          <p:cNvPicPr/>
          <p:nvPr/>
        </p:nvPicPr>
        <p:blipFill>
          <a:blip r:embed="rId3"/>
          <a:stretch/>
        </p:blipFill>
        <p:spPr>
          <a:xfrm>
            <a:off x="1332000" y="260280"/>
            <a:ext cx="7127640" cy="2089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:\Users\1\Desktop\_MG_5557 okjc.jpg"/>
          <p:cNvPicPr/>
          <p:nvPr/>
        </p:nvPicPr>
        <p:blipFill>
          <a:blip r:embed="rId4"/>
          <a:stretch/>
        </p:blipFill>
        <p:spPr>
          <a:xfrm rot="20790600">
            <a:off x="6797520" y="4651200"/>
            <a:ext cx="2097360" cy="1940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:\Users\1\Desktop\36a48b21f0d8d21947129d0743415182.jpg"/>
          <p:cNvPicPr/>
          <p:nvPr/>
        </p:nvPicPr>
        <p:blipFill>
          <a:blip r:embed="rId5"/>
          <a:stretch/>
        </p:blipFill>
        <p:spPr>
          <a:xfrm rot="637200">
            <a:off x="1171080" y="4722840"/>
            <a:ext cx="2151360" cy="194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F5B-C8C1-4842-9B96-A167B6D84673}" type="slidenum">
              <a:t>12</a:t>
            </a:fld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194C-99C7-4F7D-9C01-3D18B6F607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42560" y="40428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«Каждый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ребёнок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имеет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возм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быть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психологически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готовым 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школьному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обучению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на  своём  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уровн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соответственно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своим 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личностным</a:t>
            </a: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особенностя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1\Desktop\Рисунок1.jpg"/>
          <p:cNvPicPr/>
          <p:nvPr/>
        </p:nvPicPr>
        <p:blipFill>
          <a:blip r:embed="rId2"/>
          <a:stretch/>
        </p:blipFill>
        <p:spPr>
          <a:xfrm>
            <a:off x="1332000" y="2421000"/>
            <a:ext cx="734364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76D-2EF8-4C44-8E33-03E3AF3F181C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3D9E-F9EF-491B-B809-5558F3DB61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Специальные 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Georgi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3280" y="1125360"/>
            <a:ext cx="77770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            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Georgia"/>
              </a:rPr>
              <a:t>Федеральные государственные образовательные  стандарты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для детей с 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ВЗ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[1] рассматриваются как неотъемлемая часть федеральных государственных стандартов общего образования. Такой подход согласуется с Декларацией ООН о правах ребенка и Конститу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РФ, гарантирующей всем детям право на обязательное  и бесплатное среднее образ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Специальный образов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стандарт должен стать базо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инструментом ре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конституционных пра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образование граждан с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ОВЗ. 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:\Users\1\Desktop\81227_html_m72b9a6c3.png"/>
          <p:cNvPicPr/>
          <p:nvPr/>
        </p:nvPicPr>
        <p:blipFill>
          <a:blip r:embed="rId2"/>
          <a:stretch/>
        </p:blipFill>
        <p:spPr>
          <a:xfrm>
            <a:off x="6084720" y="4292640"/>
            <a:ext cx="2519640" cy="208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1\Desktop\1089136.jpg"/>
          <p:cNvPicPr/>
          <p:nvPr/>
        </p:nvPicPr>
        <p:blipFill>
          <a:blip r:embed="rId3"/>
          <a:stretch/>
        </p:blipFill>
        <p:spPr>
          <a:xfrm rot="1170000">
            <a:off x="7812000" y="190440"/>
            <a:ext cx="1040040" cy="1365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1\Desktop\1917114.jpg"/>
          <p:cNvPicPr/>
          <p:nvPr/>
        </p:nvPicPr>
        <p:blipFill>
          <a:blip r:embed="rId4"/>
          <a:stretch/>
        </p:blipFill>
        <p:spPr>
          <a:xfrm rot="20499000">
            <a:off x="922320" y="178920"/>
            <a:ext cx="1001880" cy="133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756C-6941-44BC-A6D0-FC18A7C42B8B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F5EA-093D-4ACF-9DE6-E00FD85FEB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85016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Дети с ОВЗ</a:t>
            </a:r>
            <a:r>
              <a:rPr b="0" lang="ru-RU" sz="2400" spc="-1" strike="noStrike">
                <a:solidFill>
                  <a:srgbClr val="ff0066"/>
                </a:solidFill>
                <a:latin typeface="Georgia"/>
              </a:rPr>
              <a:t> -</a:t>
            </a: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 это дети с ограниченными </a:t>
            </a:r>
            <a:br>
              <a:rPr sz="2400"/>
            </a:b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                   возможностями здоровья.</a:t>
            </a:r>
            <a:r>
              <a:rPr b="1" lang="ru-RU" sz="2400" spc="-1" strike="noStrike">
                <a:solidFill>
                  <a:srgbClr val="800080"/>
                </a:solidFill>
                <a:latin typeface="Georgia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Дети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, состояние здоровья которых препятствует освоению образовательных программ вне  специальных условий обучения и воспитания, то есть это дети-инвалиды  либо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другие дети в возрасте до 18 лет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е признанные в установленном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порядке детьми-инвалидами,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о имеющие временные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или постоянные отклонения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в физическом и (или)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психическом развитии и 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уждающиеся в создании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специальных условий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учения и 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Рисунок6"/>
          <p:cNvPicPr/>
          <p:nvPr/>
        </p:nvPicPr>
        <p:blipFill>
          <a:blip r:embed="rId2"/>
          <a:stretch/>
        </p:blipFill>
        <p:spPr>
          <a:xfrm rot="1035600">
            <a:off x="6049440" y="3065040"/>
            <a:ext cx="2735280" cy="35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88D-E068-4FB8-8C52-5DB78A339471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35B5-EDB2-42D9-99FC-822B2F51A7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70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Группа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дошкольников с </a:t>
            </a: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ВЗ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не однородна,  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 в неё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 входят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дети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с разными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нарушениями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развития,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выраженность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которых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может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быть  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различна:</a:t>
            </a:r>
            <a:br>
              <a:rPr sz="24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опорно-двигательного аппарата</a:t>
            </a:r>
            <a:r>
              <a:rPr b="1" lang="en-US" sz="2000" spc="-1" strike="noStrike">
                <a:solidFill>
                  <a:srgbClr val="0b07b9"/>
                </a:solidFill>
                <a:latin typeface="Georgia"/>
              </a:rPr>
              <a:t>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нарушениями интеллектуального развития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эмоционально-волевой сферы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комплексными 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     (сложными)</a:t>
            </a:r>
            <a:br>
              <a:rPr sz="2000"/>
            </a:b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     нарушениями развития;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нарушениями слуха;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cc00"/>
                </a:solidFill>
                <a:latin typeface="Georgia"/>
              </a:rPr>
              <a:t>дети с нарушениями зрения; 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дети с тяжелыми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Georgia"/>
              </a:rPr>
              <a:t>     нарушениями  речи</a:t>
            </a:r>
            <a:r>
              <a:rPr b="0" lang="en-US" sz="2000" spc="-1" strike="noStrike">
                <a:solidFill>
                  <a:srgbClr val="0000ff"/>
                </a:solidFill>
                <a:latin typeface="Georgi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C:\Users\1\Desktop\92818790_3646178_imagedeti.png"/>
          <p:cNvPicPr/>
          <p:nvPr/>
        </p:nvPicPr>
        <p:blipFill>
          <a:blip r:embed="rId2"/>
          <a:stretch/>
        </p:blipFill>
        <p:spPr>
          <a:xfrm>
            <a:off x="5219640" y="3500280"/>
            <a:ext cx="3600360" cy="28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270-404F-4F38-AFC5-66AF7A1238D2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795A-EB89-45CC-BAE0-A3B2034E78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760392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Ключевыми  направлениями работы психолога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ДОУ с детьми с ОВЗ является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диагностическая, коррекционная и развивающая работа; профилактическая и консультативная работа с педагогами и родителями, воспитывающими детей данной катег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71280" y="2997000"/>
            <a:ext cx="7529400" cy="33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Georgia"/>
              </a:rPr>
              <a:t>Содержание программы коррекционной работы определяют следующие принци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соблюдение интересов ребё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1800" spc="-1" strike="noStrike">
                <a:solidFill>
                  <a:srgbClr val="008000"/>
                </a:solidFill>
                <a:latin typeface="Georgia"/>
              </a:rPr>
              <a:t>системность и доступность;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непреры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вариа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8000"/>
                </a:solidFill>
                <a:latin typeface="Georgia"/>
              </a:rPr>
              <a:t>принцип создания ситуации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принцип психолог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Georgia"/>
              </a:rPr>
              <a:t>комфортности;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Georgia"/>
              </a:rPr>
              <a:t>гуманность и реалист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C:\Users\1\Desktop\68482414.jpg"/>
          <p:cNvPicPr/>
          <p:nvPr/>
        </p:nvPicPr>
        <p:blipFill>
          <a:blip r:embed="rId2"/>
          <a:stretch/>
        </p:blipFill>
        <p:spPr>
          <a:xfrm>
            <a:off x="1116000" y="3716280"/>
            <a:ext cx="3095640" cy="28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EFD-0B24-4E48-BB08-0F4960177AB2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125B-D054-4C5C-800F-E52FD549B3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Diagram 16"/>
          <p:cNvGrpSpPr/>
          <p:nvPr/>
        </p:nvGrpSpPr>
        <p:grpSpPr>
          <a:xfrm>
            <a:off x="1856520" y="3007800"/>
            <a:ext cx="6222960" cy="3694680"/>
            <a:chOff x="1856520" y="3007800"/>
            <a:chExt cx="6222960" cy="3694680"/>
          </a:xfrm>
        </p:grpSpPr>
        <p:sp>
          <p:nvSpPr>
            <p:cNvPr id="115" name="_s1028"/>
            <p:cNvSpPr/>
            <p:nvPr/>
          </p:nvSpPr>
          <p:spPr>
            <a:xfrm>
              <a:off x="4182840" y="3533400"/>
              <a:ext cx="1570680" cy="1502640"/>
            </a:xfrm>
            <a:prstGeom prst="ellipse">
              <a:avLst/>
            </a:prstGeom>
            <a:solidFill>
              <a:srgbClr val="c0504d">
                <a:alpha val="50000"/>
              </a:srgbClr>
            </a:solidFill>
            <a:ln w="46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29"/>
            <p:cNvSpPr/>
            <p:nvPr/>
          </p:nvSpPr>
          <p:spPr>
            <a:xfrm>
              <a:off x="4182840" y="300780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0"/>
            <p:cNvSpPr/>
            <p:nvPr/>
          </p:nvSpPr>
          <p:spPr>
            <a:xfrm>
              <a:off x="4780440" y="4104360"/>
              <a:ext cx="1570680" cy="1502640"/>
            </a:xfrm>
            <a:prstGeom prst="ellipse">
              <a:avLst/>
            </a:prstGeom>
            <a:solidFill>
              <a:srgbClr val="0000ff">
                <a:alpha val="50000"/>
              </a:srgbClr>
            </a:solidFill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650880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Коррекционн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развивающе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Georgia"/>
                </a:rPr>
                <a:t>направ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182840" y="4676040"/>
              <a:ext cx="1570680" cy="15026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4182840" y="6328080"/>
              <a:ext cx="15706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Организационно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методиче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Georgia"/>
                </a:rPr>
                <a:t>направление</a:t>
              </a:r>
              <a:r>
                <a:rPr b="1" lang="en-US" sz="1500" spc="-1" strike="noStrike">
                  <a:solidFill>
                    <a:srgbClr val="0000ff"/>
                  </a:solidFill>
                  <a:latin typeface="Georgia"/>
                </a:rPr>
                <a:t>.</a:t>
              </a:r>
              <a:br>
                <a:rPr sz="1500"/>
              </a:br>
              <a:br>
                <a:rPr sz="1500"/>
              </a:b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4"/>
            <p:cNvSpPr/>
            <p:nvPr/>
          </p:nvSpPr>
          <p:spPr>
            <a:xfrm>
              <a:off x="3585240" y="4104360"/>
              <a:ext cx="1570680" cy="1502640"/>
            </a:xfrm>
            <a:prstGeom prst="ellipse">
              <a:avLst/>
            </a:prstGeom>
            <a:solidFill>
              <a:srgbClr val="eeece1">
                <a:alpha val="50000"/>
              </a:srgbClr>
            </a:solidFill>
            <a:ln w="468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5"/>
            <p:cNvSpPr/>
            <p:nvPr/>
          </p:nvSpPr>
          <p:spPr>
            <a:xfrm>
              <a:off x="1856520" y="4668840"/>
              <a:ext cx="15706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Консультативно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просветительско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и профилактическое 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Georgia"/>
                </a:rPr>
                <a:t>направление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9"/>
          <p:cNvSpPr/>
          <p:nvPr/>
        </p:nvSpPr>
        <p:spPr>
          <a:xfrm>
            <a:off x="1116000" y="47628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Программа коррек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на дошкольной сту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образования включ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Georgia"/>
              </a:rPr>
              <a:t>в себя взаимосвязанные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Данные на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Georgia"/>
              </a:rPr>
              <a:t>отражают её основное содержание:</a:t>
            </a:r>
            <a:r>
              <a:rPr b="1" lang="en-US" sz="24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 flipV="1" rot="10800000">
            <a:off x="3127320" y="2764800"/>
            <a:ext cx="376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Georgia"/>
              </a:rPr>
              <a:t>Диагностическое напра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396-4C5E-40B4-904A-97348A19BDE8}" type="slidenum">
              <a:t>7</a:t>
            </a:fld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6485-01FA-4A7E-A95F-500318A637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Диагностическое направление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80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Для успешности вос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и обучения  детей с </a:t>
            </a:r>
            <a:r>
              <a:rPr b="1" i="1" lang="ru-RU" sz="20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i="1" lang="ru-RU" sz="2000" spc="-1" strike="noStrike">
                <a:solidFill>
                  <a:srgbClr val="0000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необходима правильн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ценка их возможносте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ыявление особых   образов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тельных  потре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 связи с этим особая ро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отводится психолого-медик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едагогической диагнос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:\Users\1\Desktop\in-filleprim.jpg"/>
          <p:cNvPicPr/>
          <p:nvPr/>
        </p:nvPicPr>
        <p:blipFill>
          <a:blip r:embed="rId2"/>
          <a:stretch/>
        </p:blipFill>
        <p:spPr>
          <a:xfrm>
            <a:off x="1116000" y="981000"/>
            <a:ext cx="3024360" cy="5543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http://2.bp.blogspot.com/-2s5nW4goVtM/UHmoW2PrW4I/AAAAAAAAFII/SqDDBWblY0A/s320/SAM_217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4437000"/>
            <a:ext cx="3960720" cy="207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AE3-20EE-428A-8732-61A7FF94FB6D}" type="slidenum">
              <a:t>8</a:t>
            </a:fld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1174-A98A-4658-AB46-CBAE2422F9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28760"/>
            <a:ext cx="76294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71680" indent="-571680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Коррекционно-развивающее на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971640" y="1412640"/>
            <a:ext cx="792144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сновными направлени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коррекционно -развивающ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работы психолога с детьми с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ВЗ</a:t>
            </a: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находящимися в услов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Georgia"/>
              </a:rPr>
              <a:t>образовательной интеграции,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эмоционально-личностной сферы и коррекция ее    недостат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развитие познавательной деятельности и целенаправленное форм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высших психических фун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произвольной регуляции деятельности и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формирование и развитие социа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навыков и социализации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Users\1\Desktop\head1.jpg"/>
          <p:cNvPicPr/>
          <p:nvPr/>
        </p:nvPicPr>
        <p:blipFill>
          <a:blip r:embed="rId2"/>
          <a:stretch/>
        </p:blipFill>
        <p:spPr>
          <a:xfrm>
            <a:off x="6156360" y="1052640"/>
            <a:ext cx="266364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http://3.bp.blogspot.com/-bxFCOEE_oOg/UHmo-gCzB1I/AAAAAAAAFIQ/_mBbjsVigaI/s320/SAM_220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4292640"/>
            <a:ext cx="180036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541-E423-4600-85B4-0EAA5FE78CF8}" type="slidenum">
              <a:t>9</a:t>
            </a:fld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5:31:12Z</dcterms:created>
  <dc:creator>administrator</dc:creator>
  <dc:description/>
  <dc:language>en-US</dc:language>
  <cp:lastModifiedBy>*</cp:lastModifiedBy>
  <dcterms:modified xsi:type="dcterms:W3CDTF">2013-04-12T18:54:57Z</dcterms:modified>
  <cp:revision>99</cp:revision>
  <dc:subject/>
  <dc:title>Обучение и воспитание успехом</dc:title>
</cp:coreProperties>
</file>