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jpeg" ContentType="image/jpeg"/>
  <Override PartName="/ppt/media/image8.gif" ContentType="image/gif"/>
  <Override PartName="/ppt/media/image9.gif" ContentType="image/gif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108-0B54-41F2-91CA-DDC12819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CF7-A303-426D-A77A-24D6EF04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BE4-108B-435F-B832-5941DA00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188-EADE-418A-AD29-40861FD9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D75F-8E93-4F47-BF66-C527646D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4939-76EF-4D98-B228-AB845F16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53A4-37BE-4907-BB32-6CDB0502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1E42-F9AF-4716-B5B3-07F51A55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066F-5985-46DE-9C01-8C34F6CB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508D-50CE-4E0B-B02F-29329BBE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B777-FB85-4EC7-AB5A-F248DDF0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52E-4D4B-49AA-A672-F7B7C233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A7E7-D4B6-4546-8433-428BA8CF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FA95-57E1-4F79-9322-B0BA8778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4C38-6AC1-4E71-8506-0070F8CC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60AB-1D5D-473C-9A4A-9BF5FCBA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85E2-944C-440F-82A0-1DE7BDA4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803AB-428D-4986-A102-709B592D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52F32-C5AE-485A-AA65-9B77E269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B453-079D-4C73-8743-5BE73DF0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7040D-E9AA-44A6-9573-5E714A6B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D3C79-BEED-4FC4-9928-D02BA8C2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817-1946-40A6-AD64-745DBC73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881D6-1CF6-4B2D-877D-0F7084CC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4B6C8-0AEA-4E46-B9F0-2A60B110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BE630-56C1-4EFC-AAA8-8BD95EA9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34873-8AEA-4042-87AD-7810CC1D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3D749-6E45-43CB-A105-47CB838A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ADA62-D072-49B9-991F-CD57EEFB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56040-BD4E-41F9-8DA3-283440DA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512-A553-4674-873E-DFC947CF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128-B6B2-4A76-91E3-5C1A065C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EE4-F7BE-4783-8E52-8C410CA7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754-CB9B-466E-B9FB-C04634DF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31E-1478-44E7-B719-1356E255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2336-599F-4C49-A362-D84217A9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0636-5DCA-46AF-955F-EC8BEBFCA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D0C5-0E13-4693-8CC3-F6BD01777C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508A-17C4-42BA-80B9-8F25A57D3A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5756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6033960"/>
            <a:ext cx="95756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Пишем </a:t>
            </a:r>
            <a:r>
              <a:rPr b="1" lang="en-US" sz="4800" spc="-1" strike="noStrike">
                <a:solidFill>
                  <a:srgbClr val="ff0000"/>
                </a:solidFill>
                <a:latin typeface="Arial Black"/>
              </a:rPr>
              <a:t>сочин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 rot="1099200">
            <a:off x="5802120" y="12600"/>
            <a:ext cx="302544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autami"/>
              </a:rPr>
              <a:t>Часть "с"</a:t>
            </a:r>
            <a:endParaRPr b="0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autami"/>
              <a:ea typeface="Gautami"/>
            </a:endParaRPr>
          </a:p>
        </p:txBody>
      </p:sp>
      <p:sp>
        <p:nvSpPr>
          <p:cNvPr id="125" name=""/>
          <p:cNvSpPr/>
          <p:nvPr/>
        </p:nvSpPr>
        <p:spPr>
          <a:xfrm>
            <a:off x="4581360" y="443700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учителя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Пацера Е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79280" y="189000"/>
          <a:ext cx="9145800" cy="6500880"/>
        </p:xfrm>
        <a:graphic>
          <a:graphicData uri="http://schemas.openxmlformats.org/drawingml/2006/table">
            <a:tbl>
              <a:tblPr/>
              <a:tblGrid>
                <a:gridCol w="792360"/>
                <a:gridCol w="6869160"/>
                <a:gridCol w="148428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Точность и выразительность речи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экзаменуемого характеризуется точностью выражения мысли, разнообразием грамматических форм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экзаменуемого характеризуется точностью выражения мысли, разнообразием грамматических форм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экзаменуемого характеризуется точностью выражения мысл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леживается однообразие грамматического строя речи.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рамот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е орфографических нор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фографических ошибок нет (или 1 негрубая ошибк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а 1 ошибк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более 1 ошибки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24000" y="31680"/>
          <a:ext cx="8362800" cy="6835680"/>
        </p:xfrm>
        <a:graphic>
          <a:graphicData uri="http://schemas.openxmlformats.org/drawingml/2006/table">
            <a:tbl>
              <a:tblPr/>
              <a:tblGrid>
                <a:gridCol w="566640"/>
                <a:gridCol w="6442200"/>
                <a:gridCol w="1353960"/>
              </a:tblGrid>
              <a:tr h="1031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е пунктуационных нор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нктуационных ошибок нет (или 1 негрубая ошиб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ы 1 – 2 ошиб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более 2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е языковых нор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мматических ошибок 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ы 1 – 2 ошиб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более 2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900000" y="4365720"/>
            <a:ext cx="77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324000" y="0"/>
          <a:ext cx="8362800" cy="6835680"/>
        </p:xfrm>
        <a:graphic>
          <a:graphicData uri="http://schemas.openxmlformats.org/drawingml/2006/table">
            <a:tbl>
              <a:tblPr/>
              <a:tblGrid>
                <a:gridCol w="814320"/>
                <a:gridCol w="6367320"/>
                <a:gridCol w="11811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е языковых нор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мматических ошибок 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ы 1 – 2 ошиб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более 2 ошиб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е этических нор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ческие ошибки в работе отсутствую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ы этические ошибки (1 и боле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е фактологической точности в фоновом материал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е ошибки в фоновом материале отсутствую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ы фактические ошибки (1 и более) в фоновом материа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ое количество баллов за всю письменную работу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1 – К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оценке грамотности (К7 – К10) следует учитывать объём сочинения.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Указанные в таблице нормативы оценки разработаны для сочинения объёмом в 150 – 300 слов.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Если в сочинении менее 70 слов, то такая работа не засчитывается (оценивается нулём баллов), задание считается невыполненным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и оценке сочинения объёмом от 70 до 150 слов число допустимых ошибок четырёх видов (К7 – К10) уменьшается. 1 балл по этим критериям ставится в следующих случаях: К7 – орфографических ошибок нет (или допущена 1 негрубая ошибка); К8 – пунктуационных ошибок нет (или 1 негрубая ошибка); К9 – грамматических ошибок нет; К10 – допущено не более 1 речевой ошибки.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Высший балл по критериям К7 – К12 за работу объёмом от 70 до 150 слов не ставитс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Если сочинение представляет собой пересказанный или полностью переписанный исходный текст без каких бы то ни было комментариев, то такая работа по всем аспектам проверки (К1 − К12) оценивается нулём баллов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Если сочинение содержит частично или полностью переписанный исходный текст без каких бы то ни было комментариев, то такая работа по всем аспектам проверки (К1 − К12) оценивается нулём бал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КОМПОЗИЦИЯ СОЧИ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я из вышесказанного, композиция вашего будущего сочинения должна быть примерно следующ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ступ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Формулировка в той или иной форме одной из проблем исходного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мментарий к сформулированной проблеме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Формулировка позиции автора по прокомментированной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ргументация собственного мнения по пробле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.Т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Арг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ервый аргу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торой аргу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Вы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ратите внимание на то, что согласно этому плану у вас как    минимум должно быть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ять,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а если вы выделите отдельным абзацем пункты аргументации собственного мнения, то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 больше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абзацев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Если в тексте нарушено абзацное членение текста,  снижается оценка по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критерию К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tebulb"/>
          <p:cNvSpPr/>
          <p:nvPr/>
        </p:nvSpPr>
        <p:spPr>
          <a:xfrm>
            <a:off x="0" y="5373720"/>
            <a:ext cx="647640" cy="1152360"/>
          </a:xfrm>
          <a:prstGeom prst="pie">
            <a:avLst/>
          </a:prstGeom>
          <a:solidFill>
            <a:srgbClr val="ff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596360" y="2924280"/>
            <a:ext cx="101268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Чтобы в дальнейшем легче было готовиться к написанию сочинения, составим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небольшой словарь терминов, используемых в критериях оценивания ответа на задание части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692280"/>
            <a:ext cx="8064360" cy="5976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Аргумен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довод, основание, суждение (или их совокупность), приводимые в доказательст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казанной мыс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Аргументироват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т.е. приводить доказательства, аргумент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Исходный текст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текст, предложенный экзаменуемому для анализ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Идея авторск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главная мысль текста, отражающая отношение автора к изображаем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Комментарий проблем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толкование, изъяснение основного вопроса исходного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Коммуникативный замысе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пытка экзаменуемого изложить свою точку зрения на информаци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уюся в исходном тексте (коммуникативная компетенция — способность к речевому взаим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ю в различных сферах обще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Мн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собственное суждение по предложенной проблеме; взгляд, точка зрения. изуч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Проблема исходного тек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основной вопрос, поставленный в тексте, требующ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Внимание!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 (вопросов) может быть нескольк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Проблематик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совокупность вопросов (проблем), поставленных автором в тек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Позиция автор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отношение создателя текста к поднятой теме, проблемам, героям и т.д. (ина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, это то, что думает обо всем этом автор, как он сам отвечает на поставлен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блем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Фоновый материа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атериал, который использовал экзаменуемый для доказ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го мнения (исторические, литературные, научные и др. факты, события; цитаты, примеры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й жизни 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Фактологическая точност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тсутствие фактических ошибок в фоновом материал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Формально заявленное мне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бездоказательное мнение («Я согласен / не согласен с автором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Формулировка проблем исходного текст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определение основных вопросов, поставл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ом в тек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Этик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учение о нравственности, о правилах поведения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Корректнос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ежливость, тактичность, учтив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Этически корректно сформулировать своё мне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деликатно, тактично, соблюдая нравств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и принципы, изложить свою точку зрения по проблеме, поставленной автором текста (согласиться 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 согласиться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</a:rPr>
              <a:t>Этически некорректно сформулировать своё мне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выразить его неделикатно, в груб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Формулировка проблем исходного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пределяя проблему, вы должны задуматься над тем, каким образом содержание текста касается вас, других людей, всего человечества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мните, что описанная в тексте конкретная ситуация, факты чьей-либо биографии и т.п. — это иллюстрация, частный случай, пример проявления какой-либо абстрактной идеи, рассматриваемой автором. Поэтому формулируйте проблему так, чтобы она охватывала не только случай, рассмотренный в тексте, но и многие подоб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я проблему, важно понять, что можно с ней «сделать». Её можно обозначить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С помощью клише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р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N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коснулся такой-то проблемы. Уделил внимание какой-либо пробл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жно: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ад какой-либо проблемой думать, работать. Какая-либо проблема возникает, встает, представляет интерес, заслуживает внимания, ждет решения. Поставить, выдвинуть, рассмотреть, изложить, обсудить, разрешить какую-либо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122364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7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2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7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2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выигрышно проблему обозначить с помощью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риторического вопро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Что такое настоящая дружба? Каких друзей можно назвать настоящими?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Над этими вопросами размышляет NN  в своём  очерке (рассказе, эссе и т. п.)     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Четь… Человеческое достоинство… Всегда ли нужно отстаивать их? Не лучше ли в трудную минуту  для своего собственного покоя, покоя близких людей промолчать, спрятаться? Очень многие размышляли над этими вопросам, не оставили они равнодушными и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NN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, который  остро и полемично рассматривает проблему чести и бесчестия в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бе поможет начать сочинения и такая фра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роблема, обозначенная таким-то автором, заключается в следующем: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Можно указать №  предло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з текста или записать то предложение, в котором, по вашему мнению, содержится главная проблема, выдвинутая автором, прокомментировать её, отметив, что она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сложная или трудная, глубокая, актуальная, злободневная, философская, политическая, нравственная 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надо быть внимательными при выявлении проблемы текста.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Неправильно выделенная проблема ставит под удар содержание всего сочин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птимальные способы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формулировки проблемы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облема какая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пример, автор размышляет над проблемой воспитания;     в тексте поднимается проблема одиночества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Формулировка в виде вопро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аёт больше возможностей в тех случаях, когда кратко сформулировать проблему текста невозможно (прочитав текст, я задумался над вопросом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обл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ложный практический или теоретический вопрос, требующий решения, исследования, например проблема сохранения окружающей среды, проблема смысла жизни, проблема связи языка и мышления и т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Категории (виды) пробл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философски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трагивают самые общие особенности развития природы, общества,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оциальны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саются устройства и жизн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литически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вязаны с деятельностью государственной власти, партий или общественных груп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логические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ражают взаимодействие человека и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равственные (этические) пробл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вязаны с внутренними духовными качествами, которыми руководствуется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68360" y="260280"/>
            <a:ext cx="8675640" cy="275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171746"/>
                    </a:gs>
                  </a:gsLst>
                  <a:lin ang="5400000"/>
                </a:gradFill>
                <a:latin typeface="Arial"/>
              </a:rPr>
              <a:t>Как готовиться к сочинению по исходному текст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17174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3382920" cy="3529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1356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мментарий к проблеме исходного текс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341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2. Что значит «прокомментировать» пробл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пробуй ответить на вопрос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Насколько актуально то, о чём пишет авто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ому и в каких ситуациях приходится сталкиваться с подобной проблем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 возможности коснись истории вопрос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старайся передать содержание текста, но помни, что пишешь не изложение, а сочинение, поэтому постарайся передать идеи автора своими словами; можешь использовать отдельные цитаты, но не увлекайся и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ует отметить, что в этой части сочинения также возможны как минимум два способа изложения материа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от частных фактов к формулировке проблемы. Например: </a:t>
            </a: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«Начиная разговор на эту тему, автор буквально «наступает на больную мозоль». Действительно, кто из нас с подобным не сталкивался? На вопросы, которыми писатель предваряет свои размышления, тут же начинаешь мысленно отвечать: «И это случалось», «И это видели, а это, простите, и сами по глупости делали». А потом и себе задашь вопрос: «Почему у нас такое творится, отчего происходит?» От невежества, глупости, бескультурья? А может быть, оттого что не научились уважать личность другого человека? Ведь пакостник никогда не думает о том, что кто-то старался, вкладывал силы, душу. А. В. Даль как раз советует: «Всякую пакость к себе примени.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от формулировки проблемы к комментарию. Например: </a:t>
            </a: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«Уважение к минувшему — вот черта, отличающая образованность от дикости». Так сказал однажды великий русский поэт А.С. Пушкин. Актуальна ли эта проблема в наше время? Многие ли могут оглянуться назад и с теплотой вспомнить то, что было в далеком прошлом, например в юности, в детстве? Именно о сказочной поре своего детства, о том времени, когда формируется характер и мировоззрение ребенка, закладываются те основы, с которыми ему придется жить в будущем, и рассуждает Ю. Нагибин в своем тексте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также воспользоваться  речевыми клише: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«Размышляя над актуальной во все времена (актуальной особенно в наше время, злободневной, философской,  глубокой, главной, общественно значимой, вечной, важной, общечеловеческой) автор обращается (к фактам из своей жизни рассказывает историю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NN</a:t>
            </a: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, использует примеры из классической литературы,  приводит высказывания такого-то и п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57440" cy="1265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проблема текста формулируется в виде вопроса, то позиция автора — это ответ на вопрос, поставленный в тексте. Для того чтобы выявить позицию автора, постарайтесь ответить на следующие вопросы: </a:t>
            </a:r>
            <a:r>
              <a:rPr b="0" lang="ru-RU" sz="1400" spc="-1" strike="noStrike">
                <a:solidFill>
                  <a:srgbClr val="990033"/>
                </a:solidFill>
                <a:latin typeface="Arial"/>
              </a:rPr>
              <a:t>«Что хотел сказать своим читателям автор, создавая текст?», «Как автор оценивает описываемую конкретную ситуацию, поступки героев?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ует помнить, что в любом случа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ментарий должен осуществляться с опорой на прочитанный текст. Конкретизировать содержание комментария можно с помощью следующих вопросов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, на каком материале автор раскрывает проблему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На чем заостряет внимание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ие аспекты проблемы рассматриваются в тексте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ие эмоции автора выражены в тексте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 выражено отношение автора к изображаемому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ие средства выразительности помогают выявить авторское отношение к проблеме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ментарий представляет собой логический переход от формулировки проблемы к изложению авторской позиции по данной проблеме.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Чтобы отличить комментарий от пересказа, нужно помнить следующее. Пересказывая, мы говорим о том, что делают герои, а комментируя, мы говорим о том, что делает автор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Позиция автора публицистического текста обычно выявляется довольно просто. Значительно труднее определить авторскую точку зрения художественного текста. И тут на помощь придёт хорошее знание изобразительно-выразительных средств речи, так как именно через их анализ мы можем определить отношение автора к своим героям, к заявленной им проблем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Можно написать:</a:t>
            </a:r>
            <a:br>
              <a:rPr sz="1400"/>
            </a:b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Невозможно не согласиться с точкой зрения автора на (указываем проблему)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ты не согласен с авторской позицией, выражай своё несогласие очень корректно. Например так: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«При всём моём уважении к авторской точке зрения. (или к мыслям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NN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о …), я всё-таки позволю себе высказать собственное видение этой проблемы (или я попытаюсь опровергнуть его мнение)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0"/>
            <a:ext cx="69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. Как выявить позицию автора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Комментируя авторскую позицию, можно воспользоваться и такими оборотами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Ав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посвящает свою ста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полемически заостряет пробле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эмоционально воздействует на чита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делает читателя своим союзни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образно воссоздаёт картину происходящего (изображаем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раскрывает сущность поставлен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точно формулирует мыс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заставляет читателя задуматься над проблем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показывает злободневность рассматриваемой им пробл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пытается найти причины негативных (позитивных) явл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убеждает читателя в правоте своей пози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пытается найти в читателе единомышленника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ставит ряд нравственных вопросов, требующих немедленного раз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пишет интересно и ново о старых проблем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говорит с тревогой о наболевших проблем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- открыто заявляет о своей гражданской позиции по отношению к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8840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4. Как аргументировать свою позици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этой части работы вы должны строго следовать правилам построения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текста-рассу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ь аргументации — убедить в чем-либо, укрепить или изменить мнение. Для этого используется логически стройная система доказатель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ипичное (полное) рассуждение строится по схеме, в которой выделяются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три ча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•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тезис (положение, которое надо доказат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•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аргументация (доказательства, довод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 •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вывод (общий итог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Тезис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— это главная мысль автора текста, которую необходимо обосновать, доказать или опровергнуть. Аргументы — это доказательства, приводимые в поддержку тезиса: факты, примеры, утверждения, объяснения — словом, все, что может подтвердить тезис. От тезиса к аргументам можно поставить вопрос «Почему?», а аргументы отвечают: «Потому что...». Различают аргументы «за» (свой тезис) и аргументы «против» чужого тезиса. Таким образом, если вы согласны с позицией автора, то его и ваш тезис совпадают.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Обратите внимание на то, что вы должны постараться не повторять доводы автора, использованные в тексте, а привести сво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ипичная ошибка всех пишущих сочинение заключается в том, что если вы поддерживаете позицию автора, то нет смысла анализировать его аргументы. Такая работа не предусмотрена условием задания, а значит, не нужно тратить на нее драгоценного времени. Аргументы «за» должны бы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авдивыми, опираться на авторитетные источни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ступными, простыми, понят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ражающими объективную реальность, соответствующими здравому смыс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Критерий 4 гласи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заменуемый выразил свое мнение по сформулированной им проблеме, поставленной автором текста (согласившись или не согласившись с позицией автора), аргументировал 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вёл не менее 2 аргументов, один из которых взят из художественной, публицистической или научной литератур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робуем разобраться, что можно считать жизненным опытом, а что – читательским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Жизненный опыт :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</a:rPr>
              <a:t> реальные факты из жизни окружающих, собственные наблюдения и выводы, традиционно- исторический опы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водя аргументы из жизни окружающих, ты можешь 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</a:rPr>
              <a:t>написать: </a:t>
            </a: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Помню, как-то мама (отец бабушка, друг, знакомый и т. д.) рассказывали, как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Мне кажется, этот случай убеждает нас в том, что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(вспомни, какую авторскую позицию ты обозначил, покажи, что данный пример является её доказательство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приводишь в качестве аргумента собственные выводы и наблюдения, можешь воспользоваться такими фраз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Конечно, мой жизненный опыт пока очень небольшой, но тем не менее нечто подобное было и в моей жизн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ЛИ: </a:t>
            </a:r>
            <a:r>
              <a:rPr b="1" i="1" lang="ru-RU" sz="1400" spc="-1" strike="noStrike">
                <a:solidFill>
                  <a:srgbClr val="000066"/>
                </a:solidFill>
                <a:latin typeface="Arial"/>
              </a:rPr>
              <a:t>Несмотря на мой довольно скромный жизненный опыт, я вспоминаю похожую ситуацию, когда я (мой друг, одноклассник, знакомый)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Традиционно-исторический опы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озволяет сослаться на авторитетное мнение какого-либо выдающегося человека, что сделает твою аргументацию довольно сильн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i="1" lang="ru-RU" sz="1400" spc="-1" strike="noStrike" u="sng">
                <a:solidFill>
                  <a:srgbClr val="ff3300"/>
                </a:solidFill>
                <a:uFillTx/>
                <a:latin typeface="Arial"/>
              </a:rPr>
              <a:t>Ссылки на авторитет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Убеждающему часто выгодно обратиться к «третьей стороне» — сослаться на мнение авторитетного общественного деятеля, ученого, специалиста в какой-либо области, упомянуть пословицу, поговорку, аппелируя к народной мудрости. Сила таких аргументов состоит в том, что, используя их, мы обращаемся к коллективному запасу знаний, который всегда больше, чем у отдельных ли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Третья сторона» может быть конкретным или обобщенным лицом, а также группой лиц. Имени лица обычно сопутствуют добавочные характеристики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звестный русский писатель, выдающийся ученый, философ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п. Например: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Выдающийся борец за гражданские права Мартин Лютер Кинг учил, что...; Гениальный русский ученый Д. И. Менделеев однажды сказал, что...; Еще Петр 1 говорил, что...; Любой историк скажет вам, что...; Большинство врачей считают, что...; Как установлено японскими учеными... и т. 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484360" y="549360"/>
            <a:ext cx="280836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тательский 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2205000"/>
            <a:ext cx="18730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ест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92360" y="1916280"/>
            <a:ext cx="1871640" cy="122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р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0360" y="2276640"/>
            <a:ext cx="230508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о-популя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834920" y="1341360"/>
            <a:ext cx="93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11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1341360"/>
            <a:ext cx="1656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39280" y="3499920"/>
            <a:ext cx="79930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ращение к читательскому опыту – сильнейший аргумент сочинения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обращаться к нему нужно в том случае, если ты хорошо помнишь и автора книги, и само произведение, чтобы избежать фактических  ошиб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Что значит быть высоконравственным человеком? Мне кажется, нравственный человек – это тот, кто стремиться к тому, чтобы стать лучше, не причинять боли другим людям. Примеров стремления «быть вполне хорошим» очень много в русской классической литературе. Вспомним героев романа»Война и мир»  Льва Николаевича Толстого. Андрей Болконский, Пьер Безухов, Наташа Ростова…Все они стремились стать лучше, добрее,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чище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гда вы будете обращаться  к русской классической литературе, запомните такое правило: не допускайте выражений типа Александр Пушкин, или, говоря, допустим, о М. И. Цветаевой, нельзя назвать её Марина; говоря о героях литературного произведения, именуйте их так, как это делает автор (Евгений Базаров, но не Женя, Татьяна Ларина, но не Таня,  Катерина (из «Грозы»), но не Екатерина. Необходимо соблюдать корректность и точность, иначе вы потеряете баллы по критериям  К 11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 1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70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При работе с той частью сочинения, в которой вы будете приводить аргументацию своего мнения,  можно воспользоваться такой схемо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Я думаю, что проблема, затронутая автором, является очень (значимой. актуальной, злободневной, острой и т. д.), поскольку многим приходится в жизни сталкиваться с подобными явлениями (вопросами, событиями, людь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Действительно, каждый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                                                                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так как, во –первых,  ____________________________________________________________ 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Во-вторых, ________________________________________________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И наконец, ___________________________________________________________________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Таким образом, ________________________________________________________________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Используйте в сочинении вводные слова и предложения, отражающие вашу точку зрения: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на мой взгляд, я убеждён, мне кажется, по моему мнению, несомненно, не вызывает сомнении;  возможно, я, ошибаюсь, но позволю себе высказать собственноё видение проблемы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Можно воспользоваться и такими выражения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NN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открыл для меня новый взгляд на проблему…, помог мне по-новому взглянуть на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333399"/>
                </a:solidFill>
                <a:latin typeface="Arial"/>
              </a:rPr>
              <a:t>Словно повторил мои мысли о…, выразил близкие мне чувства о…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136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е забудьте сделать вывод из написанного вами, обязательно соотнеся его и с авторской позицией по поднятой им проблеме, и со своим собственным видением этого во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427640" y="3789360"/>
            <a:ext cx="1960560" cy="2320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11280" y="1962000"/>
            <a:ext cx="3745080" cy="3411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4716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, кто уже сдавал ЕГЭ по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усскому языку или серьёзно готовился к его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даче , знают, что самая трудная и в то же время самая высоко оцениваемая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асть работы – часть «С», написание сочинения по исходному текс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оптимизировать подготовку к этой части ЕГЭ? В этом вам помогут следующие сов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ежде чем приступить к написанию сочинения, внимательно ознакомьтес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ребованиями , которые даны  в КИМах. Учтите, что они из года  в год могут менять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от требования к сочинению в версии 20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8-09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Несколько слов в качестве напутств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859280" y="2262240"/>
            <a:ext cx="3960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0384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333360"/>
            <a:ext cx="4248360" cy="6264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00ff99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333000"/>
            <a:ext cx="4244760" cy="6264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ишите сочинение по прочитанному текст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Сформулируйте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и прокомментируйте одну из проблем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ставленных автором текста (избегайте чрезмерного цитировани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3300"/>
                </a:solidFill>
                <a:uFillTx/>
                <a:latin typeface="Arial"/>
              </a:rPr>
              <a:t>Сформулируйте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озицию автор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Напишите, согласны или не согласны вы с точкой зрения автора прочитанного текст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ъясните, почему.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Свой ответ аргументируйте, опираясь на знания, читательский или жизненный опы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учитываются первые два аргумент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ём сочинения – не менее 150 с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, написанная без опоры на прочитанный текст (не по данному тексту), не оценив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сочинение представляет собой пересказанный или полностью переписанный исходный текст без каких бы то ни было комментариев, то такая работа оценивается нулём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чинение пишите аккуратно, разборчивым почер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2735280" cy="4391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777777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ак мы видим из формулировки задания к написанию сочинения, требования к его содержательной части помогают нам выстроить композицию будущего сочинения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мы должны сформулировать проблему, поднятую автором текста, прокомментировать её, выявить авторскую позицию, согласиться или не согласиться с ней, приведя в качестве доказательства своего мнения ДВА аргумента.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Вроде бы всё довольно просто, но когда вы приступите к выполнению этой части ЕГЭ, поймёте, что это кажущаяся простота. Что же необходимо для хорошего выполнения этой части работы?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Весьма целесообразным будет для вас чёткое знание критериев, по которым эксперты будут оценивать ваше сочинение. Напоминаю, что и критерии меняются из в года в год, поэтому не поленитесь проконсультироваться с учителем  уже в начале учебного года( этому времени появляются проекты демоверсии) по поводу новых требований к ЕГЭ, внимательно перечитайте требования к сочинению накануне экзамена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 Рассмотрим требования к содержательной части вашего соч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932800">
            <a:off x="3780000" y="5516280"/>
            <a:ext cx="3168360" cy="1549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95280" y="260280"/>
          <a:ext cx="8713800" cy="8737560"/>
        </p:xfrm>
        <a:graphic>
          <a:graphicData uri="http://schemas.openxmlformats.org/drawingml/2006/table">
            <a:tbl>
              <a:tblPr/>
              <a:tblGrid>
                <a:gridCol w="504720"/>
                <a:gridCol w="7056720"/>
                <a:gridCol w="1152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ивания ответа на задание С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уемый (в той или иной форме) 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верно сформулировал одну из пробле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сходного текста. Фактических ошибок, связанных с пониманием и формулировкой проблемы, нет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уемый не смог верно сформулировать ни одну из проблем исходного текст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Комментарий к сформулированной проблеме исходного текста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улированная экзаменуемым проблема прокомментирована. Фактических ошибок, связанных с пониманием исходного текста, в комментариях нет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улированная экзаменуемым проблема прокомментирова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не более 1 фактической ошибки в комментариях, связанной с пониманием исходного текст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формулированная экзаменуемым проблема не прокомментирова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более 1 фактической ошибки в комментариях, связанной с пониманием исходно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комментирована другая, не сформулированная экзаменуемым  проблем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честве комментариев дан простой пересказ текста или его фрагмент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ачестве комментариев цитируется большой фрагмент исходного текс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4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971640" y="1557360"/>
            <a:ext cx="81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4005360"/>
            <a:ext cx="82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4941720"/>
            <a:ext cx="82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57200" y="333360"/>
          <a:ext cx="8229600" cy="6572160"/>
        </p:xfrm>
        <a:graphic>
          <a:graphicData uri="http://schemas.openxmlformats.org/drawingml/2006/table">
            <a:tbl>
              <a:tblPr/>
              <a:tblGrid>
                <a:gridCol w="658800"/>
                <a:gridCol w="7128000"/>
                <a:gridCol w="442800"/>
              </a:tblGrid>
              <a:tr h="22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Отражение позиции автора исходного текс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уемый верно сформулировал позицию автора исходного текста по прокомментированной проблем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х ошибок, связанных с пониманием позиции автора исходного текста, нет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я автора исходного текста экзаменуемым сформулирована неверн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я автора исходного текста не сформулирован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Аргументация экзаменуемым собственного мнения по проблеме</a:t>
                      </a: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уемый выразил свое мнение по сформулированной им проблеме, поставленной автором текста (согласившись или не согласившись с позицией автора), аргументировал его </a:t>
                      </a: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ривёл не менее 2 аргументов, один из которых взят из художественной, публицистической или научной литературы</a:t>
                      </a: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уемый выразил свое мнение по сформулированной им проблеме, поставленной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ом текста (согласившись или не согласившись с позицией автора), аргументировал его (привёл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менее 2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ументов, опираясь на знания или жизненный опыт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ёл только 1 аргумент из художественной, публицистической или научной литера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уемый выразил свое мнение по сформулированной им проблеме, поставленной автором текста (согласившись или не согласившись с позицией автора), аргументировал его (привёл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умент), опираясь на знания, жизненный или читательский опыт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заменуемый сформулировал свое мнение по проблеме, поставленной автором текста (согласившись или не согласившись с позицией автора)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не привёл аргумент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ение экзаменуемого лишь формально заявлено (например: «Я согласен / не согласен с автором»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обще не отражено в работе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468360" y="620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116000" y="1413000"/>
            <a:ext cx="763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85264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16000" y="364500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4869000"/>
            <a:ext cx="75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5445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457200" y="274680"/>
          <a:ext cx="8229600" cy="8742240"/>
        </p:xfrm>
        <a:graphic>
          <a:graphicData uri="http://schemas.openxmlformats.org/drawingml/2006/table">
            <a:tbl>
              <a:tblPr/>
              <a:tblGrid>
                <a:gridCol w="487440"/>
                <a:gridCol w="6318000"/>
                <a:gridCol w="1424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Речевое оформление сочинения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ысловая цельность, речевая связность и последователь­ность изложен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экзаменуемого характеризуется смысловой цельностью,  речевой связностью и последовательностью изложения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ические ошибки отсутствуют, последовательность изложения не наруше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в работе н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 нарушений абзацного членения тек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а экзаменуемого характеризуется смысловой цельностью,  связностью и последовательностью изложения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ущена 1 логическая ошибк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/и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работе имеется 1 нарушение абзацного членения текста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боте экзаменуемого просматривается коммуникативный замысе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щено более 1 логической ошибк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/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тся 2 случая нарушения абзацного членения текст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9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Не забывай, что очень важно писать сочинение максимально грамот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Написав сочинение на черновике, перечитай его несколько раз, забыв, что ты его автор, как бы со стороны, устрани речевые недочеты, постарайся найти ошибки орфографические, пунктуационные, грамматические, исправь их и лишь потом перепиши в соответствующий блан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68360" y="3716280"/>
            <a:ext cx="48261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05:39:35Z</dcterms:created>
  <dc:creator>Андрей</dc:creator>
  <dc:description/>
  <dc:language>en-US</dc:language>
  <cp:lastModifiedBy>123</cp:lastModifiedBy>
  <dcterms:modified xsi:type="dcterms:W3CDTF">2013-04-21T09:19:12Z</dcterms:modified>
  <cp:revision>25</cp:revision>
  <dc:subject/>
  <dc:title>Слайд 1</dc:title>
</cp:coreProperties>
</file>