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643-2EB3-46AA-856A-A93F05DC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6FE-5A5C-44F8-93E7-FB6790B2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B26-D8CE-43C3-8E7B-BF6A4103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CB-1D0A-4BFA-BC01-1C6851F2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FC1-2AFB-4E31-9E4C-9F2B8E4B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AD98-77B3-4862-8D93-B1668EB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0AC-7AB9-4176-810F-A45876A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E959-27BD-42E0-B71F-B3187E2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BDFB-EFE8-4A80-8111-1509C856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308F-245A-4214-A76B-ACFB4E2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1265-E528-42BE-B1CB-953E559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2CF-56C4-4358-97AC-08B906A2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405C-520E-4EBE-B9AE-D017AFF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747-8A27-420E-A972-C52F0A3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2E6F-6BAF-4BF1-A1C9-A9B0199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520F-492A-4A7D-84CA-ED39286E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137-DD30-4EB4-89A2-32933F1E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293F-B92B-48D4-AD73-6A435058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2E85-B242-4AF1-A551-921D9F6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7772-5C16-43B1-B9A5-F5CA4FF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03D1-EFB0-42BA-9FA2-871DA40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F395-618A-40CC-9C3C-35F0D1B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FC0-0B74-4FAF-8343-2C4B8F41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4DBD-FE26-49FA-89B9-353F3076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DE4E-4173-42B1-852A-28A6524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F876-B906-472C-8A9D-6B5DC12D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B874-0812-44A2-9991-CA1C143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1C53-BB52-4FCD-A114-78B4932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A2A4-28F7-4494-95E5-EC34719A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F4D7-43B8-4013-83A5-38956708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4CB-2B65-4D4E-B736-0404BEF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5CC-98A5-44A7-A1CD-7A493EF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38B-8BC9-43AB-AC3A-C704464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985-671A-42E6-AE81-D07DAC2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36A-8743-4FC4-A3FE-06BECEA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923-386A-4398-BAAB-7A712FF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8C3-4DEB-4DC5-BE96-E581A041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3E8-1DFC-4965-81EC-1F39E1100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F123-D44E-4076-BE51-AC710A439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575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033960"/>
            <a:ext cx="95756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Пишем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сочи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1099200">
            <a:off x="5802120" y="12600"/>
            <a:ext cx="302544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utami"/>
              </a:rPr>
              <a:t>Часть "с"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utami"/>
              <a:ea typeface="Gautami"/>
            </a:endParaRPr>
          </a:p>
        </p:txBody>
      </p:sp>
      <p:sp>
        <p:nvSpPr>
          <p:cNvPr id="125" name=""/>
          <p:cNvSpPr/>
          <p:nvPr/>
        </p:nvSpPr>
        <p:spPr>
          <a:xfrm>
            <a:off x="4581360" y="443700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79280" y="189000"/>
          <a:ext cx="9145800" cy="6500880"/>
        </p:xfrm>
        <a:graphic>
          <a:graphicData uri="http://schemas.openxmlformats.org/drawingml/2006/table">
            <a:tbl>
              <a:tblPr/>
              <a:tblGrid>
                <a:gridCol w="792360"/>
                <a:gridCol w="6869160"/>
                <a:gridCol w="148428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очность и выразительность речи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 разнообразием грамматических форм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 разнообразием грамматических форм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еживается однообразие грамматического строя речи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мо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орфографически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х ошибок нет (или 1 негрубая ошибк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а 1 ошибк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ошибки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24000" y="31680"/>
          <a:ext cx="8362800" cy="6835680"/>
        </p:xfrm>
        <a:graphic>
          <a:graphicData uri="http://schemas.openxmlformats.org/drawingml/2006/table">
            <a:tbl>
              <a:tblPr/>
              <a:tblGrid>
                <a:gridCol w="566640"/>
                <a:gridCol w="6442200"/>
                <a:gridCol w="1353960"/>
              </a:tblGrid>
              <a:tr h="1031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пунктуационных но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нктуационных ошибок нет (или 1 негрубая ошиб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языковых но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ческих ошибок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900000" y="4365720"/>
            <a:ext cx="77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24000" y="0"/>
          <a:ext cx="8362800" cy="6835680"/>
        </p:xfrm>
        <a:graphic>
          <a:graphicData uri="http://schemas.openxmlformats.org/drawingml/2006/table">
            <a:tbl>
              <a:tblPr/>
              <a:tblGrid>
                <a:gridCol w="814320"/>
                <a:gridCol w="6367320"/>
                <a:gridCol w="1181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языковых нор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ческих ошибок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этических нор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ческие ошибки в работе отсутству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этические ошибки (1 и боле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фактологической точности в фоновом материал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е ошибки в фоновом материале от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фактические ошибки (1 и более) в фоновом матери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количество баллов за всю письменную работу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1 – К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ценке грамотности (К7 – К10) следует учитывать объём сочинения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казанные в таблице нормативы оценки разработаны для сочинения объёмом в 150 – 300 слов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Если в сочинении менее 70 слов, то такая работа не засчитывается (оценивается нулём баллов), задание считается невыполненны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 оценке сочинения объёмом от 70 до 150 слов число допустимых ошибок четырёх видов (К7 – К10) уменьшается. 1 балл по этим критериям ставится в следующих случаях: К7 – орфографических ошибок нет (или допущена 1 негрубая ошибка); К8 – пунктуационных ошибок нет (или 1 негрубая ошибка); К9 – грамматических ошибок нет; К10 – допущено не более 1 речевой ошибки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ысший балл по критериям К7 – К12 за работу объёмом от 70 до 150 слов не ставит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по всем аспектам проверки (К1 − К12) оценивается нулём балл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Если сочинение содержит частично или полностью переписанный исходный текст без каких бы то ни было комментариев, то такая работа по всем аспектам проверки (К1 − К12) оценивается нулём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я из вышесказанного, композиция вашего будущего сочинения должна быть примерно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тите внимание на то, что согласно этому плану у вас как    минимум должно быть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а если вы выделите отдельным абзацем пункты аргументации собственного мнения, то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ы в дальнейшем легче было готовиться к написанию сочинения, составим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небольшой словарь терминов, используемых в критериях оценивания ответа на задание част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692280"/>
            <a:ext cx="8064360" cy="5976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ргу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овод, основание, суждение (или их совокупность), приводимые в дока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казанной мыс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ргументирова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.е. приводить доказательства, аргумен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сходный текс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екст, предложенный экзаменуемому для анали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дея автор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главная мысль текста, отражающая отношение автора к изображае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мментарий пробле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олкование, изъяснение основного вопроса исходного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ммуникативный 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пытка экзаменуемого изложить свою точку зрения на информ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уюся в исходном тексте (коммуникативная компетенция — способность к речевому взаим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ю в различных сферах общ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М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собственное суждение по предложенной проблеме; взгляд, точка зрения. из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роблема исходного тек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ой вопрос, поставленный в тексте, требующ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нимание!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 (вопросов) может быть несколь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роблематик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совокупность вопросов (проблем), поставленных автором в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зиция автор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тношение создателя текста к поднятой теме, проблемам, героям и т.д. (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, это то, что думает обо всем этом автор, как он сам отвечает на поставлен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блем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новый матери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, который использовал экзаменуемый для доказ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го мнения (исторические, литературные, научные и др. факты, события; цитаты, пример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й жизни 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актологическая точно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сутствие фактических ошибок в фоновом матери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рмально заявленное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бездоказательное мнение («Я согласен / не согласен с автором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пределение основных вопросов, поставл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ом в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к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учение о нравственности, о правилах поведения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рректно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ежливость, тактичность, учт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чески корректно сформулировать своё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деликатно, тактично, соблюдая нравств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и принципы, изложить свою точку зрения по проблеме, поставленной автором текста (согласиться 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 согласиться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чески некорректно сформулировать своё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выразить его неделикатно, в груб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исанная в тексте конкретная ситуация, факты чьей-либо биографии и т.п. — это иллюстрация, частный случай, пример проявления какой-либо абстрактной идеи, рассматриваемой автором. Поэтому формулируйте проблему так, чтобы она охватывала не только случай, рассмотренный в тексте, но и многие подоб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клиш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N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снулся такой-то проблемы. Уделил внимание какой-либо пробл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223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ыигрышно проблему обозначить с помощью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иторического вопр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 такое настоящая дружба? Каких друзей можно назвать настоящими?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 этими вопросами размышляет NN  в своём  очерке (рассказе, эссе и т. п.)     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ть… Человеческое достоинство… Всегда ли нужно отстаивать их? Не лучше ли в трудную минуту  для своего собственного покоя, покоя близких людей промолчать, спрятаться? Очень многие размышляли над этими вопросам, не оставили они равнодушными и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который  остро и полемично рассматривает проблему чести и бесчестия в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е поможет начать сочинения и такая фр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блема, обозначенная таким-то автором, заключается в следующем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Можно указать № 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з текста или записать то предложение, в котором, по вашему мнению, содержится главная проблема, выдвинутая автором, прокомментировать её, отметив, что она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сложная или трудная, глубокая, актуальная, злободневная, философская, политическая, нравственная 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до быть внимательными при выявлении проблемы текста.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Неправильно выделенная проблема ставит под удар содержание всего сочин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птимальные способы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формулировки проблемы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блема какая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имер, автор размышляет над проблемой воспитания;     в тексте поднимается проблема одиночеств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Формулировка в виде вопр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ёт больше возможностей в тех случаях, когда кратко сформулировать проблему текста невозможно (прочитав текст, я задумался над вопрос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ложный практический или теоретический вопрос, требующий решения, исследования, например проблема сохранения окружающей среды, проблема смысла жизни, проблема связи языка и мышления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Категории (виды)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лософ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трагивают самые общие особенности развития природы, общества,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саются устройства и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деятельностью государственной власти, партий или обществен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ражают взаимодействие человека 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равственные (этические)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внутренними духовными качествами, которыми руководствуется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260280"/>
            <a:ext cx="867564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171746"/>
                    </a:gs>
                  </a:gsLst>
                  <a:lin ang="5400000"/>
                </a:gradFill>
                <a:latin typeface="Arial"/>
              </a:rPr>
              <a:t>Как готовиться к сочинению по исходному текс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38292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5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мментарий к проблеме исходного текс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2. Что значит «прокомментировать» пробл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робуй ответить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сколько актуально то, о чём пишет авто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ому и в каких ситуациях приходится сталкиваться с подобной пробле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 возможности коснись истории во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старайся передать содержание текста, но помни, что пишешь не изложение, а сочинение, поэтому постарайся передать идеи автора своими словами; можешь использовать отдельные цитаты, но не увлекайся и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отметить, что в этой части сочинения также возможны как минимум два способа изложения матери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от частных фактов к формулировке проблемы. Например: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Начиная разговор на эту тему, автор буквально «наступает на больную мозоль». Действительно, кто из нас с подобным не сталкивался? На вопросы, которыми писатель предваряет свои размышления, тут же начинаешь мысленно отвечать: «И это случалось», «И это видели, а это, простите, и сами по глупости делали». А потом и себе задашь вопрос: «Почему у нас такое творится, отчего происходит?» От невежества, глупости, бескультурья? А может быть, оттого что не научились уважать личность другого человека? Ведь пакостник никогда не думает о том, что кто-то старался, вкладывал силы, душу. А. В. Даль как раз советует: «Всякую пакость к себе примени.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т формулировки проблемы к комментарию. Например: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Уважение к минувшему — вот черта, отличающая образованность от дикости». Так сказал однажды великий русский поэт А.С. Пушкин. Актуальна ли эта проблема в наше время? Многие ли могут оглянуться назад и с теплотой вспомнить то, что было в далеком прошлом, например в юности, в детстве? Именно о сказочной поре своего детства, о том времени, когда формируется характер и мировоззрение ребенка, закладываются те основы, с которыми ему придется жить в будущем, и рассуждает Ю. Нагибин в своем текст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также воспользоваться  речевыми клише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Размышляя над актуальной во все времена (актуальной особенно в наше время, злободневной, философской,  глубокой, главной, общественно значимой, вечной, важной, общечеловеческой) автор обращается (к фактам из своей жизни рассказывает историю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, использует примеры из классической литературы,  приводит высказывания такого-то и п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5744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ru-RU" sz="14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мо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рим о том, что делает авто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Позиция автора публицистического текста обычно выявляется довольно просто. Значительно труднее определить авторскую точку зрения художественного текста. И тут на помощь придёт хорошее знание изобразительно-выразительных средств речи, так как именно через их анализ мы можем определить отношение автора к своим героям, к заявленной им пробле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ожно написать: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Невозможно не согласиться с точкой зрения автора на (указываем проблему)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ты не согласен с авторской позицией, выражай своё несогласие очень корректно. Например так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«При всём моём уважении к авторской точке зрения. (или к мыслям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о …), я всё-таки позволю себе высказать собственное видение этой проблемы (или я попытаюсь опровергнуть его мнение)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омментируя авторскую позицию, можно воспользоваться и такими оборотами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Ав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свящает свою ста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лемически заостряет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эмоционально воздействует на чит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делает читателя своим союз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образно воссоздаёт картину происходящего (изображаем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раскрывает сущность поставл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точно формулирует мыс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заставляет читателя задуматься над пробле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казывает злободневность рассматриваемой им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ытается найти причины негативных (позитивных) я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убеждает читателя в правоте сво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ытается найти в читателе единомышленник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ставит ряд нравственных вопросов, требующих немедленного раз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ишет интересно и ново о стары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говорит с тревогой о наболевши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открыто заявляет о своей гражданской позиции по отношению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8840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4. Как аргументировать свою позици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этой части работы вы должны строго следовать правилам построен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текста-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аргументации — убедить в чем-либо, укрепить или изменить мнение. Для этого используется логически стройная система доказатель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ипичное (полное) рассуждение строится по схеме, в которой выделяются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ри ча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езис (положение, которое надо доказа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аргументация (доказательства, довод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ывод (общий итог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езис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 это главная мысль автора текста, которую необходимо обосновать, доказать или опровергнуть. Аргументы — это доказательства, приводимые в поддержку тезиса: факты, примеры, утверждения, объяснения — словом, все, что может подтвердить тезис. От тезиса к аргументам можно поставить вопрос «Почему?», а аргументы отвечают: «Потому что...». Различают аргументы «за» (свой тезис) и аргументы «против» чужого тезиса. Таким образом, если вы согласны с позицией автора, то его и ваш тезис совпадают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ратите внимание на то, что вы должны постараться не повторять доводы автора, использованные в тексте, а привести сво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ипичная ошибка всех пишущих сочинение заключается в том, что если вы поддерживаете позицию автора, то нет смысла анализировать его аргументы. Такая работа не предусмотрена условием задания, а значит, не нужно тратить на нее драгоценного времени. Аргументы «за» должны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ступными, простыми, поня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Критерий 4 глас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ёл не менее 2 аргументов, один из которых взят из художественной, публицистической или научной литера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обуем разобраться, что можно считать жизненным опытом, а что – читательски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Жизненный опыт :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реальные факты из жизни окружающих, собственные наблюдения и выводы, традиционно- исторический опы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одя аргументы из жизни окружающих, ты можешь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аписать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Помню, как-то мама (отец бабушка, друг, знакомый и т. д.) рассказывали, ка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Мне кажется, этот случай убеждает нас в том, чт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вспомни, какую авторскую позицию ты обозначил, покажи, что данный пример является её доказательств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приводишь в качестве аргумента собственные выводы и наблюдения, можешь воспользоваться такими фра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онечно, мой жизненный опыт пока очень небольшой, но тем не менее нечто подобное было и в моей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Несмотря на мой довольно скромный жизненный опыт, я вспоминаю похожую ситуацию, когда я (мой друг, одноклассник, знакомый)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Традиционно-исторический опы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зволяет сослаться на авторитетное мнение какого-либо выдающегося человека, что сделает твою аргументацию довольно сильн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Ссылки на авторите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беждающему часто выгодно обратиться к «третьей стороне» — сослаться на мнение авторитетного общественного деятеля, ученого, специалиста в какой-либо области, упомянуть пословицу, поговорку, аппелируя к народной мудрости. Сила таких аргументов состоит в том, что, используя их, мы обращаемся к коллективному запасу знаний, который всегда больше, чем у отдель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Третья сторона» может быть конкретным или обобщенным лицом, а также группой лиц. Имени лица обычно сопутствуют добавочные характеристик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вестный русский писатель, выдающийся ученый, философ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п. Например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ыдающийся борец за гражданские права Мартин Лютер Кинг учил, что...; Гениальный русский ученый Д. И. Менделеев однажды сказал, что...; Еще Петр 1 говорил, что...; Любой историк скажет вам, что...; Большинство врачей считают, что...; Как установлено японскими учеными...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Что значит быть высоконравственным человеком? Мне кажется, нравственный человек – это тот, кто стремиться к тому, чтобы стать лучше, не причинять боли другим людям. Примеров стремления «быть вполне хорошим» очень много в русской классической литературе. Вспомним героев романа»Война и мир»  Льва Николаевича Толстого. Андрей Болконский, Пьер Безухов, Наташа Ростова…Все они стремились стать лучше, добрее,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чищ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 вы будете обращаться  к русской классической литературе, запомните такое правило: не допускайте выражений типа Александр Пушкин, или, говоря, допустим, о М. И. Цветаевой, нельзя назвать её Марина; говоря о героях литературного произведения, именуйте их так, как это делает автор (Евгений Базаров, но не Женя, Татьяна Ларина, но не Таня,  Катерина (из «Грозы»), но не Екатерина. Необходимо соблюдать корректность и точность, иначе вы потеряете баллы по критериям  К 1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При работе с той частью сочинения, в которой вы будете приводить аргументацию своего мнения,  можно воспользоваться такой схем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Я думаю, что проблема, затронутая автором, является очень (значимой. актуальной, злободневной, острой и т. д.), поскольку многим приходится в жизни сталкиваться с подобными явлениями (вопросами, событиями, людь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Действительно, каждый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так как, во –первых,  ____________________________________________________________ 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Во-вторых, _________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 наконец, _________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Таким образом, ________________________________________________________________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Используйте в сочинении вводные слова и предложения, отражающие вашу точку зрения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на мой взгляд, я убеждён, мне кажется, по моему мнению, несомненно, не вызывает сомнении;  возможно, я, ошибаюсь, но позволю себе высказать собственноё видение проблемы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Можно воспользоваться и такими выражени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открыл для меня новый взгляд на проблему…, помог мне по-новому взглянуть на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Словно повторил мои мысли о…, выразил близкие мне чувства о…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забудьте сделать вывод из написанного вами, обязательно соотнеся его и с авторской позицией по поднятой им проблеме, и со своим собственным видением этого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96056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11280" y="1962000"/>
            <a:ext cx="3745080" cy="341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4716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, кто уже сдавал ЕГЭ п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усскому языку или серьёзно готовился к его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даче , знают, что самая трудная и в то же время самая высоко оцениваемая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асть работы – часть «С», написание сочинения по исходному тек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оптимизировать подготовку к этой части ЕГЭ? В этом вам помогут следующие со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жде чем приступить к написанию сочинения, внимательно ознакомьтес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ребованиями , которые даны  в КИМах. Учтите, что они из года  в год могут мен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т требования к сочинению в версии 20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8-09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есколько слов в качестве напутств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59280" y="2262240"/>
            <a:ext cx="39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33360"/>
            <a:ext cx="4248360" cy="6264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0ff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26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шите сочинение по прочитанному текс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и прокомментируйте одну из пробле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вленных автором текста (избегайте чрезмерного цитирован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озицию автор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апишите, согласны или не согласны вы с точкой зрения автора прочитанного текст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ъясните, почему.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вой ответ аргументируйте, опираясь на знания, читательский или жизненный опы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учитываются первые два аргумен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 тексту), не оцен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735280" cy="439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777777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ак мы видим из формулировки задания к написанию сочинения, требования к его содержательной части помогают нам выстроить композицию будущего сочинения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ы должны сформулировать проблему, поднятую автором текста, прокомментировать её, выявить авторскую позицию, согласиться или не согласиться с ней, приведя в качестве доказательства своего мнения ДВА аргумента.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роде бы всё довольно просто, но когда вы приступите к выполнению этой части ЕГЭ, поймёте, что это кажущаяся простота. Что же необходимо для хорошего выполнения этой части работы?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Весьма целесообразным будет для вас чёткое знание критериев, по которым эксперты будут оценивать ваше сочинение. Напоминаю, что и критерии меняются из в года в год, поэтому не поленитесь проконсультироваться с учителем  уже в начале учебного года( этому времени появляются проекты демоверсии) по поводу новых требований к ЕГЭ, внимательно перечитайте требования к сочинению накануне экзамена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Рассмотрим требования к содержательной части вашего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932800">
            <a:off x="3780000" y="5516280"/>
            <a:ext cx="3168360" cy="154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5280" y="260280"/>
          <a:ext cx="8713800" cy="8737560"/>
        </p:xfrm>
        <a:graphic>
          <a:graphicData uri="http://schemas.openxmlformats.org/drawingml/2006/table">
            <a:tbl>
              <a:tblPr/>
              <a:tblGrid>
                <a:gridCol w="504720"/>
                <a:gridCol w="7056720"/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 ответа на задание С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(в той или иной форме)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ерно сформулировал одну из пробле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сходного текста. Фактических ошибок, связанных с пониманием и формулировкой проблемы,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не смог верно сформулировать ни одну из проблем исходного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мментарий к сформулированной проблеме исходного текста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прокомментирована. Фактических ошибок, связанных с пониманием исходного текста, в комментариях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прокомментирова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не более 1 фактической ошибки в комментариях, связанной с пониманием исходного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не прокомментирова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фактической ошибки в комментариях, связанной с пониманием исходн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омментирована другая, не сформулированная экзаменуемым  проблем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честве комментариев дан простой пересказ текста или его фрагмен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честве комментариев цитируется большой фрагмент исходного тек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971640" y="1557360"/>
            <a:ext cx="81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400536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94172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333360"/>
          <a:ext cx="8229600" cy="6572160"/>
        </p:xfrm>
        <a:graphic>
          <a:graphicData uri="http://schemas.openxmlformats.org/drawingml/2006/table">
            <a:tbl>
              <a:tblPr/>
              <a:tblGrid>
                <a:gridCol w="658800"/>
                <a:gridCol w="7128000"/>
                <a:gridCol w="442800"/>
              </a:tblGrid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тражение позиции автора исходного текс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ерно сформулировал позицию автора исходного текста по прокомментированной проблем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 ошибок, связанных с пониманием позиции автора исходного текста,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исходного текста экзаменуемым сформулирована неверн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исходного текста не сформулирова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ргументация экзаменуемым собственного мнения по проблеме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вёл не менее 2 аргументов, один из которых взят из художественной, публицистической или научной литературы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ом текста (согласившись или не согласившись с позицией автора), аргументировал его (привё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ов, опираясь на знания или жизненный опыт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ёл только 1 аргумент из художественной, публицистической или научной лите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(привё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), опираясь на знания, жизненный или читательский опыт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сформулировал свое мнение по проблеме, поставленной автором текста (согласившись или не согласившись с позицией автора)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не привёл аргумент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ние экзаменуемого лишь формально заявлено (например: «Я согласен / не согласен с автором»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ще не отражено в работе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16000" y="1413000"/>
            <a:ext cx="763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85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645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869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445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57200" y="274680"/>
          <a:ext cx="8229600" cy="8742240"/>
        </p:xfrm>
        <a:graphic>
          <a:graphicData uri="http://schemas.openxmlformats.org/drawingml/2006/table">
            <a:tbl>
              <a:tblPr/>
              <a:tblGrid>
                <a:gridCol w="487440"/>
                <a:gridCol w="6318000"/>
                <a:gridCol w="142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ечевое оформление сочинения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ысловая цельность, речевая связность и последователь­ность излож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смысловой цельностью,  речевой связностью и последовательностью изложения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е ошибки отсутствуют, последовательность изложения не наруше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в работе н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 нарушений абзацного членения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смысловой цельностью,  связностью и последовательностью изложения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ущена 1 логическая ошиб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/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работе имеется 1 нарушение абзацного членения текста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боте экзаменуемого просматривается коммуникативный замыс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логической ошибк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ся 2 случая нарушения абзацного членения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Не забывай, что очень важно писать сочинение максимально грамо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Написав сочинение на черновике, перечитай его несколько раз, забыв, что ты его автор, как бы со стороны, устрани речевые недочеты, постарайся найти ошибки орфографические, пунктуационные, грамматические, исправь их и лишь потом перепиши в соответствующий блан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4826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5:39:35Z</dcterms:created>
  <dc:creator>Андрей</dc:creator>
  <dc:description/>
  <dc:language>en-US</dc:language>
  <cp:lastModifiedBy>123</cp:lastModifiedBy>
  <dcterms:modified xsi:type="dcterms:W3CDTF">2013-04-21T09:19:12Z</dcterms:modified>
  <cp:revision>25</cp:revision>
  <dc:subject/>
  <dc:title>Слайд 1</dc:title>
</cp:coreProperties>
</file>