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990-83C4-4C43-85A8-5E885F7B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E0F-551C-498B-900C-EC3AA38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285-8597-490C-9C7F-38CD5A23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0A8-8B89-4AE2-8970-FF083018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D53-47C1-4DD1-8E53-4D215CF2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E782-5195-4D0F-A702-222905E2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7227-5138-4D4A-A1BE-BA360D7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79BC-12DF-40CD-B294-9CCB5F2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FA9-A2E0-45CF-A98C-BA89EC2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89AC-3792-4DB6-BCB8-E1C1DBB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8DA-0C1F-4FE7-91E2-2C5ECD0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340-1ECE-47C3-94D9-5B7BABAB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4A2-C094-474F-81C4-9C11FF6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DDC-CAD2-439A-ABEB-3B842F6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CFB-8C50-4486-9373-912210C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6DA2-5752-400F-8D37-6555C8FC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031-1830-445A-A915-4DF35F0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449-30A4-43E4-AFB4-4B802FC0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AA9-4A9E-4A86-AD17-FD8453B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E7C-1D11-4B73-9DB4-D57D0E8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78D-16EA-4ED7-9702-497811A6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283-35D1-459B-A45A-9D13436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DCA-94EA-490C-90EF-DE35184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5F6-3232-432D-A852-591AE841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BC81-F44D-4C3E-A081-82B1D880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D72B-CC5F-478D-B619-C4EBF3CB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er\Desktop\70\стали\images (20)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 со дня победы 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ой битве в годы Великой Отечественной Войн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9289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beb"/>
                </a:solidFill>
                <a:latin typeface="Times New Roman"/>
              </a:rPr>
              <a:t>«Вот тут и научимся, вот в этих самых степях…»</a:t>
            </a:r>
            <a:br>
              <a:rPr sz="3200"/>
            </a:br>
            <a:r>
              <a:rPr b="1" lang="ru-RU" sz="3200" spc="-1" strike="noStrike">
                <a:solidFill>
                  <a:srgbClr val="ebebeb"/>
                </a:solidFill>
                <a:latin typeface="Times New Roman"/>
              </a:rPr>
              <a:t>Михаил Шоло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тва за Мамаев ку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 сорок дней и ночей не утихала ожесточенная битва на Мамаевом ку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дках Совинформбюро курган назывался высотой «102,0». С ее вершины открывается панорама города, большой участок Волги, заволжские леса, где в то время находились тылы совет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и за курган начались 14 сентября 194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user\Desktop\70\стали\Сталинградская-битва.jpg"/>
          <p:cNvPicPr/>
          <p:nvPr/>
        </p:nvPicPr>
        <p:blipFill>
          <a:blip r:embed="rId1"/>
          <a:stretch/>
        </p:blipFill>
        <p:spPr>
          <a:xfrm>
            <a:off x="4786200" y="1944720"/>
            <a:ext cx="4357800" cy="3208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У входа на Мамаев курган. Скульптура Память поколений.jpg"/>
          <p:cNvPicPr/>
          <p:nvPr/>
        </p:nvPicPr>
        <p:blipFill>
          <a:blip r:embed="rId1"/>
          <a:stretch/>
        </p:blipFill>
        <p:spPr>
          <a:xfrm>
            <a:off x="642960" y="4287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928960" y="5143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хода на Мамаев курган. Скульптура «Память покол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чный ого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G:\70\стали\2009-01_stalingrad_37.JPG"/>
          <p:cNvPicPr/>
          <p:nvPr/>
        </p:nvPicPr>
        <p:blipFill>
          <a:blip r:embed="rId1"/>
          <a:stretch/>
        </p:blipFill>
        <p:spPr>
          <a:xfrm>
            <a:off x="2857680" y="20718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иг солдат при защите дома Пав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4428720"/>
            <a:ext cx="825804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г солдат, защищавших четырехэтажный дом на площади «9 Января» от яростных атак гитлеровцев, известен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 дней и ночей 24 воина героически обороняли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 суток беспрерывных боев, без сна и отдыха. И на 59-й день – 24 ноября -  гарнизон перешел в наступление и отбросил врага за железнодорожное пол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ser\Desktop\70\стали\0_281d2_14e3824f_L.jpg"/>
          <p:cNvPicPr/>
          <p:nvPr/>
        </p:nvPicPr>
        <p:blipFill>
          <a:blip r:embed="rId1"/>
          <a:stretch/>
        </p:blipFill>
        <p:spPr>
          <a:xfrm>
            <a:off x="1397160" y="1500120"/>
            <a:ext cx="6349680" cy="2928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наступление советских войск под Сталингра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 ноября утром войска Юго-Западного и Донского фронтов объединенным мощным ударом прорвали оборону немецк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ноября передовые танковые части Сталинградского фронта вошли в район хутора Советский, где встретились с частями Юго-Западного фронта, замкнув кольцо окружения Сталинградской группировки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:\Users\user\Desktop\70\стали\images (2).jpg"/>
          <p:cNvPicPr/>
          <p:nvPr/>
        </p:nvPicPr>
        <p:blipFill>
          <a:blip r:embed="rId1"/>
          <a:stretch/>
        </p:blipFill>
        <p:spPr>
          <a:xfrm>
            <a:off x="4429080" y="1714680"/>
            <a:ext cx="4357800" cy="4143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итуляция армии Паулю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ция «Кольц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74008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января 1943 года командующему немецкими войсками генерал-полковнику Паулюсу был предъявлен ультиматум о немедленной и безоговорочной капитуляции. 10 января 1943 года войска Донского фронта под командованием генерал-лейтенанта К.К.Рокоссовского  перешли в генеральное наступление с целью окончательной ликвидации окруженного вр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500720" y="4000680"/>
            <a:ext cx="4140000" cy="252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беда советских войск в Сталинградской битве является крупнейшим военно-политическим событием в ходе Второй мировой войны. Великая битва, закончившаяся окружением, разгромом и пленением отборной вражеской группировки, внесла огромный вклад в достижение коренного перелома в ходе Великой Отечественной войны и оказала определяющее влияние на дальнейший ход всей Второй мировой вой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талинградской битве со всей силой проявились новые черты военного искусства Вооружённых сил СССР. Советское оперативное искусство обогатилось опытом окружения и уничтожения против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беда под Сталинградом оказала определяющее влияние на дальнейший ход Второй мировой войны. В результате битвы Красная Армия прочно овладела стратегической инициативой и теперь диктовала врагу свою волю. Это изменило характер действий немецких войск на Кавказе, в районах Ржева и Демянска. Удары советских войск вынудили вермахт отдать приказ о подготовке Восточного вала, на котором намеревалось остановить наступление Советской Арм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сход Сталинградской битвы вызвал растерянность и замешательство в странах Оси. Начался кризис профашистских режимов в Италии, Румынии, Венгрии, Словакии. Резко ослабло влияние Германии на её союзников, заметно обострились разногласия между ними. В политических кругах Турции усилилось стремление сохранить нейтралитет. В отношениях нейтральных стран к Германии стали преобладать элементы сдержанности и отчужд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результате поражения перед Германией стала проблема восстановления потерь, понесенных в технике и людях. Начальник экономического отдела ОКВ генерал Г.Томас констатировал, что потери в технике равнозначны количеству боевой техники 45 дивизий из всех родов войск и равны потерям за весь предыдущий период боёв на советско-германском фронте. Геббельс в конце января 1943 года заявил «Германия сможет выдержать атаки русских лишь в том случае, если ей удастся мобилизовать свои последние людские резервы». Потери в танках и автомобилях составили шестимесячное производство страны, в артиллерии — трёхмесячное, в стрелковом и миномётах — двухмеся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4572000" y="5214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 выполнила : ученица 10 «а» ГБОУ СОШ № 662 Карпинская Эльв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Гаврилов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user\Desktop\70\стали\images (6).jpg"/>
          <p:cNvPicPr/>
          <p:nvPr/>
        </p:nvPicPr>
        <p:blipFill>
          <a:blip r:embed="rId1"/>
          <a:stretch/>
        </p:blipFill>
        <p:spPr>
          <a:xfrm>
            <a:off x="14400" y="2714760"/>
            <a:ext cx="6605640" cy="4143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 – начало коренного перелома в ходе Великой Отечественной вой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чало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00120"/>
            <a:ext cx="4214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2 июня 1941 года фашистская Германия без объявления войны напала на Советский Сою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вероломный акт был совершен, несмотря на существ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ско-германск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говора о ненападении. Началась Великая Отечественная война, которая продолжалась 1418 дней и ночей – почти 4 героических и трагических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user\Desktop\yandsearch.jpg"/>
          <p:cNvPicPr/>
          <p:nvPr/>
        </p:nvPicPr>
        <p:blipFill>
          <a:blip r:embed="rId1"/>
          <a:stretch/>
        </p:blipFill>
        <p:spPr>
          <a:xfrm>
            <a:off x="4643280" y="1785960"/>
            <a:ext cx="4500720" cy="3244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42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43г.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июня началось наступление группы армий «Юг». Около 90 фашистских дивизий обрушились на позиции советских войск. Наши войска в середине июля 1942 года были вынуждены отойти к Воронежу, оставили Донбасс и заняли оборону в большой излучине Дона. Создалась непосредственная угроза Сталинграду и Северному Кавк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929120" y="1500120"/>
            <a:ext cx="3960720" cy="4143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о Сталинградской бит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7 июля 1942 года передовые части фашистской группы армий «Б» в большой излучине Дона встретились с войсками Сталинградского фронта. Началась Сталинградская б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31964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572000" y="47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штабе 62-й армии: Н.И.Крылов, В.И.Чуйков, К.А.Гуров, А.И.Родим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и шагу назад 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8 июля 1942 года Народный комиссар обороны СССР издал приказ № 227, вошедший в историю под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и шагу назад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ser\Desktop\70\стали\images (11).jpg"/>
          <p:cNvPicPr/>
          <p:nvPr/>
        </p:nvPicPr>
        <p:blipFill>
          <a:blip r:embed="rId1"/>
          <a:stretch/>
        </p:blipFill>
        <p:spPr>
          <a:xfrm>
            <a:off x="4286160" y="1714680"/>
            <a:ext cx="4857840" cy="3438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рона Стал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571760"/>
            <a:ext cx="43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ороне города огромную роль должны были сыграть заводы, особенно тракторный, «Красный Октябрь», «Баррикады», судоверфь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инградский тракторный приступил к выпуску танковых моторов, артиллерийских тягачей и средних танков Т-3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80000" y="1714680"/>
            <a:ext cx="446400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077080" y="521496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нки с завода уходят на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</a:rPr>
              <a:t>Штурм Сталингра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3571560"/>
            <a:ext cx="8472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ытаясь захватить город с ходу, фашистские орды бросили на Сталинград всю авиацию 4-ого воздушного ф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3 августа враг обрушил на город первый бомбовый удар колоссальной силы. За несколько часов целые кварталы превратились в разва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5830920" cy="2422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его руках судьба армии и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071600" y="171468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 августа 1942 года приказом Военного совета фронта Сталинград был объявлен на осадном положении. Для оказания практической помощи фронтам в район Сталинграда Ставка командирует ген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К. Жукова, назначенного 27 августа на пост заместителя Верховного главнокомандующ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457440" cy="439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34:05Z</dcterms:created>
  <dc:creator>ppsworld.ru</dc:creator>
  <dc:description/>
  <dc:language>en-US</dc:language>
  <cp:lastModifiedBy>Admin</cp:lastModifiedBy>
  <dcterms:modified xsi:type="dcterms:W3CDTF">2013-04-21T18:58:12Z</dcterms:modified>
  <cp:revision>14</cp:revision>
  <dc:subject/>
  <dc:title>Слайд 1</dc:title>
</cp:coreProperties>
</file>