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40F9-0F36-413A-B7A6-3FA8FE9E6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A55B-C5B7-4081-BC7B-9D2343E59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8F20-22E7-49F8-82FE-37EE1EA7C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D23B-2D67-46D4-85D0-DD2317345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8D125-5EE4-4E3F-9333-3076A4BFE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FDC2E-A5CB-4516-A7D3-9EC2E125A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998DF-F792-475F-8294-3FD97A2A6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D1FB1-4C4B-49F5-9D26-7C698637A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8A61B-92D2-499C-A3CA-1C5B20AD9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3DA7C-F022-4A8B-AA69-51D3363A9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88BA7-BA66-4F9E-BD6F-E1CE5C273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F4F7-D396-4821-B27A-BC0DC84DD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0BF5F-CADB-4F48-9F88-2A805FDE9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98943-D960-4258-9DD1-13160C3B1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A136C-07FE-428D-A3D3-809931BD3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464F0-1AD8-4EFB-8749-EEF7A7919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C0B4C-0CF5-4722-AD3A-DFD1BB4E1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2D30-3EB7-4754-A098-E987A392D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22B5-5A70-418E-A00C-EA1DE48C4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F356-FE2E-4B2A-83CD-1B1BEAD97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7500-1B30-4476-A155-BF925FD34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5A47-6AD3-4C76-A7CF-F0694DB3A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D0A6-D750-4684-8693-BDF4411A4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DE53-E5D1-47F6-BABF-BA7E822D1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2B838-4B3F-4EFD-903C-6340BECF72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A2159-74F6-45AA-8602-C6C435BD54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C:\Users\user\Desktop\70\стали\images (20).jpg"/>
          <p:cNvPicPr/>
          <p:nvPr/>
        </p:nvPicPr>
        <p:blipFill>
          <a:blip r:embed="rId1"/>
          <a:stretch/>
        </p:blipFill>
        <p:spPr>
          <a:xfrm>
            <a:off x="0" y="0"/>
            <a:ext cx="2286000" cy="20541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ет со дня победы в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алинградской битве в годы Великой Отечественной Войны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92896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bebeb"/>
                </a:solidFill>
                <a:latin typeface="Times New Roman"/>
              </a:rPr>
              <a:t>«Вот тут и научимся, вот в этих самых степях…»</a:t>
            </a:r>
            <a:br>
              <a:rPr sz="3200"/>
            </a:br>
            <a:r>
              <a:rPr b="1" lang="ru-RU" sz="3200" spc="-1" strike="noStrike">
                <a:solidFill>
                  <a:srgbClr val="ebebeb"/>
                </a:solidFill>
                <a:latin typeface="Times New Roman"/>
              </a:rPr>
              <a:t>Михаил Шолох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итва за Мамаев кург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6840" y="1600200"/>
            <a:ext cx="4614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о сорок дней и ночей не утихала ожесточенная битва на Мамаевом курга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водках Совинформбюро курган назывался высотой «102,0». С ее вершины открывается панорама города, большой участок Волги, заволжские леса, где в то время находились тылы советских войс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и за курган начались 14 сентября 1942 год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C:\Users\user\Desktop\70\стали\Сталинградская-битва.jpg"/>
          <p:cNvPicPr/>
          <p:nvPr/>
        </p:nvPicPr>
        <p:blipFill>
          <a:blip r:embed="rId1"/>
          <a:stretch/>
        </p:blipFill>
        <p:spPr>
          <a:xfrm>
            <a:off x="4786200" y="1944720"/>
            <a:ext cx="4357800" cy="320832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8" descr="У входа на Мамаев курган. Скульптура Память поколений.jpg"/>
          <p:cNvPicPr/>
          <p:nvPr/>
        </p:nvPicPr>
        <p:blipFill>
          <a:blip r:embed="rId1"/>
          <a:stretch/>
        </p:blipFill>
        <p:spPr>
          <a:xfrm>
            <a:off x="642960" y="428760"/>
            <a:ext cx="5715000" cy="428616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4"/>
          <p:cNvSpPr/>
          <p:nvPr/>
        </p:nvSpPr>
        <p:spPr>
          <a:xfrm>
            <a:off x="2928960" y="51436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У входа на Мамаев курган. Скульптура «Память поколений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ечный огон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G:\70\стали\2009-01_stalingrad_37.JPG"/>
          <p:cNvPicPr/>
          <p:nvPr/>
        </p:nvPicPr>
        <p:blipFill>
          <a:blip r:embed="rId1"/>
          <a:stretch/>
        </p:blipFill>
        <p:spPr>
          <a:xfrm>
            <a:off x="2857680" y="20718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двиг солдат при защите дома Пав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85480" y="4428720"/>
            <a:ext cx="8258040" cy="27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виг солдат, защищавших четырехэтажный дом на площади «9 Января» от яростных атак гитлеровцев, известен всему мир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8 дней и ночей 24 воина героически обороняли д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8 суток беспрерывных боев, без сна и отдыха. И на 59-й день – 24 ноября -  гарнизон перешел в наступление и отбросил врага за железнодорожное полот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C:\Users\user\Desktop\70\стали\0_281d2_14e3824f_L.jpg"/>
          <p:cNvPicPr/>
          <p:nvPr/>
        </p:nvPicPr>
        <p:blipFill>
          <a:blip r:embed="rId1"/>
          <a:stretch/>
        </p:blipFill>
        <p:spPr>
          <a:xfrm>
            <a:off x="1397160" y="1500120"/>
            <a:ext cx="6349680" cy="292896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нтрнаступление советских войск под Сталинград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404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9 ноября утром войска Юго-Западного и Донского фронтов объединенным мощным ударом прорвали оборону немецкой арм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3 ноября передовые танковые части Сталинградского фронта вошли в район хутора Советский, где встретились с частями Юго-Западного фронта, замкнув кольцо окружения Сталинградской группировки против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C:\Users\user\Desktop\70\стали\images (2).jpg"/>
          <p:cNvPicPr/>
          <p:nvPr/>
        </p:nvPicPr>
        <p:blipFill>
          <a:blip r:embed="rId1"/>
          <a:stretch/>
        </p:blipFill>
        <p:spPr>
          <a:xfrm>
            <a:off x="4429080" y="1714680"/>
            <a:ext cx="4357800" cy="414324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питуляция армии Паулюса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перация «Кольцо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7400880" cy="31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 января 1943 года командующему немецкими войсками генерал-полковнику Паулюсу был предъявлен ультиматум о немедленной и безоговорочной капитуляции. 10 января 1943 года войска Донского фронта под командованием генерал-лейтенанта К.К.Рокоссовского  перешли в генеральное наступление с целью окончательной ликвидации окруженного вра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4500720" y="4000680"/>
            <a:ext cx="4140000" cy="2520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ключ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обеда советских войск в Сталинградской битве является крупнейшим военно-политическим событием в ходе Второй мировой войны. Великая битва, закончившаяся окружением, разгромом и пленением отборной вражеской группировки, внесла огромный вклад в достижение коренного перелома в ходе Великой Отечественной войны и оказала определяющее влияние на дальнейший ход всей Второй мировой войны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 Сталинградской битве со всей силой проявились новые черты военного искусства Вооружённых сил СССР. Советское оперативное искусство обогатилось опытом окружения и уничтожения противник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обеда под Сталинградом оказала определяющее влияние на дальнейший ход Второй мировой войны. В результате битвы Красная Армия прочно овладела стратегической инициативой и теперь диктовала врагу свою волю. Это изменило характер действий немецких войск на Кавказе, в районах Ржева и Демянска. Удары советских войск вынудили вермахт отдать приказ о подготовке Восточного вала, на котором намеревалось остановить наступление Советской Армии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Исход Сталинградской битвы вызвал растерянность и замешательство в странах Оси. Начался кризис профашистских режимов в Италии, Румынии, Венгрии, Словакии. Резко ослабло влияние Германии на её союзников, заметно обострились разногласия между ними. В политических кругах Турции усилилось стремление сохранить нейтралитет. В отношениях нейтральных стран к Германии стали преобладать элементы сдержанности и отчуждения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 результате поражения перед Германией стала проблема восстановления потерь, понесенных в технике и людях. Начальник экономического отдела ОКВ генерал Г.Томас констатировал, что потери в технике равнозначны количеству боевой техники 45 дивизий из всех родов войск и равны потерям за весь предыдущий период боёв на советско-германском фронте. Геббельс в конце января 1943 года заявил «Германия сможет выдержать атаки русских лишь в том случае, если ей удастся мобилизовать свои последние людские резервы». Потери в танках и автомобилях составили шестимесячное производство страны, в артиллерии — трёхмесячное, в стрелковом и миномётах — двухмесячно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00040" y="857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3"/>
          <p:cNvSpPr/>
          <p:nvPr/>
        </p:nvSpPr>
        <p:spPr>
          <a:xfrm>
            <a:off x="4572000" y="521496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у  выполнила : ученица 10 «а» ГБОУ СОШ № 662 Карпинская Эльви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: Гаврилова Т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C:\Users\user\Desktop\70\стали\images (6).jpg"/>
          <p:cNvPicPr/>
          <p:nvPr/>
        </p:nvPicPr>
        <p:blipFill>
          <a:blip r:embed="rId1"/>
          <a:stretch/>
        </p:blipFill>
        <p:spPr>
          <a:xfrm>
            <a:off x="14400" y="2714760"/>
            <a:ext cx="6605640" cy="41432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5840" y="171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алинградская битва – начало коренного перелома в ходе Великой Отечественной войны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чало Великой Отечественной вой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0" y="1500120"/>
            <a:ext cx="421488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2 июня 1941 года фашистская Германия без объявления войны напала на Советский Союз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тот вероломный акт был совершен, несмотря на существовани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етско-германског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договора о ненападении. Началась Великая Отечественная война, которая продолжалась 1418 дней и ночей – почти 4 героических и трагических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C:\Users\user\Desktop\yandsearch.jpg"/>
          <p:cNvPicPr/>
          <p:nvPr/>
        </p:nvPicPr>
        <p:blipFill>
          <a:blip r:embed="rId1"/>
          <a:stretch/>
        </p:blipFill>
        <p:spPr>
          <a:xfrm>
            <a:off x="4643280" y="1785960"/>
            <a:ext cx="4500720" cy="324468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талинградская битва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юль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942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евраль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943г.г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4400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8 июня началось наступление группы армий «Юг». Около 90 фашистских дивизий обрушились на позиции советских войск. Наши войска в середине июля 1942 года были вынуждены отойти к Воронежу, оставили Донбасс и заняли оборону в большой излучине Дона. Создалась непосредственная угроза Сталинграду и Северному Кавказ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tretch/>
        </p:blipFill>
        <p:spPr>
          <a:xfrm>
            <a:off x="4929120" y="1500120"/>
            <a:ext cx="3960720" cy="414360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чало Сталинградской битв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3828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7 июля 1942 года передовые части фашистской группы армий «Б» в большой излучине Дона встретились с войсками Сталинградского фронта. Началась Сталинградская би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4572000" y="1143000"/>
            <a:ext cx="4319640" cy="338472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4"/>
          <p:cNvSpPr/>
          <p:nvPr/>
        </p:nvSpPr>
        <p:spPr>
          <a:xfrm>
            <a:off x="4572000" y="47149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штабе 62-й армии: Н.И.Крылов, В.И.Чуйков, К.А.Гуров, А.И.Родимц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«Ни шагу назад !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4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8 июля 1942 года Народный комиссар обороны СССР издал приказ № 227, вошедший в историю под назван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«Ни шагу назад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C:\Users\user\Desktop\70\стали\images (11).jpg"/>
          <p:cNvPicPr/>
          <p:nvPr/>
        </p:nvPicPr>
        <p:blipFill>
          <a:blip r:embed="rId1"/>
          <a:stretch/>
        </p:blipFill>
        <p:spPr>
          <a:xfrm>
            <a:off x="4286160" y="1714680"/>
            <a:ext cx="4857840" cy="343836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борона Сталингра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14200" y="1571760"/>
            <a:ext cx="4329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обороне города огромную роль должны были сыграть заводы, особенно тракторный, «Красный Октябрь», «Баррикады», судоверфь.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линградский тракторный приступил к выпуску танковых моторов, артиллерийских тягачей и средних танков Т-3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4680000" y="1714680"/>
            <a:ext cx="4464000" cy="295272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4"/>
          <p:cNvSpPr/>
          <p:nvPr/>
        </p:nvSpPr>
        <p:spPr>
          <a:xfrm>
            <a:off x="5077080" y="5214960"/>
            <a:ext cx="362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анки с завода уходят на фро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99"/>
                </a:solidFill>
                <a:latin typeface="Times New Roman"/>
              </a:rPr>
              <a:t>Штурм Сталинград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6840" y="3571560"/>
            <a:ext cx="8472600" cy="25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39840" algn="ctr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ытаясь захватить город с ходу, фашистские орды бросили на Сталинград всю авиацию 4-ого воздушного фло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3 августа враг обрушил на город первый бомбовый удар колоссальной силы. За несколько часов целые кварталы превратились в развали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1643040" y="1071720"/>
            <a:ext cx="5830920" cy="24224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его руках судьба армии и нар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071600" y="1714680"/>
            <a:ext cx="4686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5 августа 1942 года приказом Военного совета фронта Сталинград был объявлен на осадном положении. Для оказания практической помощи фронтам в район Сталинграда Ставка командирует генер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.К. Жукова, назначенного 27 августа на пост заместителя Верховного главнокомандующего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500040" y="1785960"/>
            <a:ext cx="3457440" cy="43927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11:34:05Z</dcterms:created>
  <dc:creator>ppsworld.ru</dc:creator>
  <dc:description/>
  <dc:language>en-US</dc:language>
  <cp:lastModifiedBy>Admin</cp:lastModifiedBy>
  <dcterms:modified xsi:type="dcterms:W3CDTF">2013-04-21T18:58:12Z</dcterms:modified>
  <cp:revision>14</cp:revision>
  <dc:subject/>
  <dc:title>Слайд 1</dc:title>
</cp:coreProperties>
</file>