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023-DB67-4C45-872F-0A24ECC0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4B18-247E-465E-BAA5-110F8A8A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3B7-AE24-4E49-888B-2E00FC01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696-5AA1-4409-9119-A4E41197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50B5-E22C-4243-A2EA-C47239A3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6466-33FD-4616-94A1-0C556FF7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2F09-07E3-4EA4-BB73-AD261DF8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248C-86C9-4DD3-B9A6-6575596B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24D7-FF5A-4060-96BD-BF9CE527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0DB9-CD8B-467D-9E05-CFFB2041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7EA9-1512-48AC-9685-3C018430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706-13C9-4CD9-A3B7-9E338684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E9D4-BB05-4EDB-92E5-AB2E2AFF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42C6-D666-4C49-A51F-B5B594DC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F248-97AF-43CD-A4DD-D1CC40AF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DF37-873D-4748-9316-06861528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2977-5937-4188-B493-680A8EC3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61E7-9CA5-45AB-97B9-A1080E5C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FEF9-68B5-4EE7-A641-D6364FA2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8B12-5258-49EF-860A-A7DE6D2A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94C9-9FEA-4945-AF44-B67C8B94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F05A-E3B6-4332-B783-12409B88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228-A61D-416D-9D56-7B606E18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4797-7598-4687-A881-B6B6CC2A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B80B-7D25-4CD3-95A6-F99D6A9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A477-C42B-4774-AB27-4EC56F48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4A706-845C-48F0-88E1-3C64C2FC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54DA-9F61-4A50-935D-A74BABEF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A3B3-7640-4924-AE6F-30BBAC6F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D679-D327-4D8C-AAB9-24DA7D80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58F-2AFD-49C2-A4E2-54DBA777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771-7D28-4BDC-B827-E70C3325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EF7-2948-489A-AAB5-135EF95A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79C-613E-434F-A147-48FA575A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2EA-7120-4A8A-B085-A03FD1C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D0E7-AD58-4FF1-8482-C42E4F15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4611-4C5C-4253-867C-1ABA22B5D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8564-4276-4FA7-84BF-B9DA7E9D58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5CC6-4F41-427F-A39B-F3961FF86B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Пишем сочинение по исходном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тексту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3689280"/>
            <a:ext cx="4753080" cy="3168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932360" y="515772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та учителя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цера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Критерий 4 гласи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заменуемый выразил свое мнение по сформулированной им проблеме, поставленной автором текста (согласившись или не согласившись с позицией автора), аргументировал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ёл не менее 2 аргументов, один из которых взят из художественной, публицистической или научной литерату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робуем разобраться, что можно считать жизненным опытом, а что – читательски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Жизненный опыт :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 реальные факты из жизни окружающих, собственные наблюдения и выводы, традиционно- исторический опы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одя аргументы из жизни окружающих, ты можешь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написать: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Помню, как-то мама (отец бабушка, друг, знакомый и т. д.) рассказывали, как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Мне кажется, этот случай убеждает нас в том, чт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(вспомни, какую авторскую позицию ты обозначил, покажи, что данный пример является её доказательство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приводишь в качестве аргумента собственные выводы и наблюдения, можешь воспользоваться такими фраз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Конечно, мой жизненный опыт пока очень небольшой, но тем не менее нечто подобное было и в моей жиз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ЛИ: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Несмотря на мой довольно скромный жизненный опыт, я вспоминаю похожую ситуацию, когда я (мой друг, одноклассник, знакомый)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Традиционно-исторический опы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озволяет сослаться на авторитетное мнение какого-либо выдающегося человека, что сделает твою аргументацию довольно сильн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Ссылки на авторитет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Убеждающему часто выгодно обратиться к «третьей стороне» — сослаться на мнение авторитетного общественного деятеля, ученого, специалиста в какой-либо области, упомянуть пословицу, поговорку, аппелируя к народной мудрости. Сила таких аргументов состоит в том, что, используя их, мы обращаемся к коллективному запасу знаний, который всегда больше, чем у отдельных л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Третья сторона» может быть конкретным или обобщенным лицом, а также группой лиц. Имени лица обычно сопутствуют добавочные характеристик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вестный русский писатель, выдающийся ученый, философ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п. Например: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ыдающийся борец за гражданские права Мартин Лютер Кинг учил, что...; Гениальный русский ученый Д. И. Менделеев однажды сказал, что...; Еще Петр 1 говорил, что...; Любой историк скажет вам, что...; Большинство врачей считают, что...; Как установлено японскими учеными...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484360" y="549360"/>
            <a:ext cx="280836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татель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2205000"/>
            <a:ext cx="18730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1916280"/>
            <a:ext cx="1871640" cy="122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2276640"/>
            <a:ext cx="230508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-популя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34920" y="1341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1341360"/>
            <a:ext cx="165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9280" y="3499920"/>
            <a:ext cx="79930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ащение к читательскому опыту – сильнейший аргумент сочинения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 обращаться к нему нужно в том случае, если ты хорошо помнишь и автора книги, и само произведение, чтобы избежать фактических  оши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Арг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И А. Гончаров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«Обломов». Хороший, добрый, талантливый человек Илья Обломов не сумел преодолеть себя, не раскрыл своих лучших черт. Отсутствие высокой цели в жизни ведёт к нравственной смерти. Даже любовь не смогла спасти Облом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М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Ю. Лермонтов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«Герой нашего времени». Несчастье Печорина, по его собственному признанию, непонимание смысла своей жизни, он говорит, что чувствовал в своей душе силы, но не знал, к чему их приложить, не сумел найти им приме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. Свои примеры из жизни: знакомые, не блиставшие в школе, но достигшие впоследствии успехов; дети индиго, современные вундеркинды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честве примера сочинения приводим работу по тексту Варианта № 1 (Цыбулько И.П. ЕГЭ-2006/2007. Русский язык. Тренировочные задания / И.П. Цыбулько, Львова С.И, В.А. Коханова. – М.: Просвещение. Эксмо, 2006/2007). Обращаем ваше внимание на четкую композицию работы, достаточно развернутый комментарий, однако нельзя не заметить, что аргументы требуют доработки, логического завершения. Это примеры (см. аргумент № 1 в нижеприведенном сочинении), иллюстрирующие позицию пишущ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авьте себе ситуацию: родителям каждого новорождённого ребенка в роддоме сообщают, к чему он предрасположен и какие у него есть задатки. Человек сначала с подачи родителей, а затем и сам развивает свои таланты, а на другие «виды деятельности» не обращает внимания, так как заранее знает, что не добьется положительного результата. И так «шествует по жизни» каждый. Звучит настораживающее, не так ли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асность «однобокого» развития человека заметила и Л. Серова. Она затрагивает очень актуальную проблему наследственности и самоформирования. Серова задает вопрос: полностью ли человек определен своим генотипом или у него есть шанс развить себя самому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 животрепещущей эта проблема стала в последнее время: благодаря развитию генетики человек может не только определить, но и «задать» предрасположенности и таланты. Очевидно авторское негодование: нам самим станет неинтересно жить, если мы будем знать все о своих задатках: все предначертано, нет возможности выбрать – многие страдали бы от чувства обреченности, а если каждому будут расшифровывать его геном – в человеке останется мало человеческого. «Жизнь подарена нам судьбой», - утверждает автор, и мы сами вправе этой жизнью управля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иция Л. Серовой очевидна: «В некоторой степени человек делает себя таким, каким он хочет быть, разумеется, в рамках ограничений, накладываемых внешней средой». То есть только сам человек способен реализовать то, что заложено природой. В подтверждение автор приводит примеры – жизни Ломоносова и Менделеева, которые своими силами достигли высот науки, начав буквально с ну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но не согласиться с Л. Серовой, не случайно в русской литературе и в жизни так почитаем образ лесковского Левши. Нигде не учась ремеслу, он сумел без микроскопа подковать блоху. Нет сомнения, что он сам развил свой талант. Никто не говорил Левше, что в его генотипе заложен или, напротив, не заложен подобный талан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хотелось бы вспомнить о параолимпийских играх. Люди-инвалиды, вроде бы ограниченные природой в подвижности, находят в себе силы для занятий спортом и установления рекордов. Это ярчайшее доказательство того, что каждый способен к самоформированию и саморазвитию, что не все в человеческой жизни определено наследственность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Терпение и труд всё перетрут», - гласит пословица. Действительно, надо не полагаться полностью на научный прогресс, а стараться сделать свою жизнь интересней в первую очередь для себя самого – тогда это будет Человеческая жизнь, и чем больше людей будет так жить, тем ярче и красочней будет наш ми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745080" cy="4076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4221000"/>
            <a:ext cx="81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«Терпение и труд всё перетрут», - гласит пословица.  Верим, что и экзамены вы сдадите хорошо, ЕСЛИ БУДЕТЕ ТРУДИТЬСЯ НЕ ПОКЛАДАЯ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ВСЕМ УДАЧИ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89440" y="3500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ЕГЭ на «отлично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)Представления о том, что всё в нашей жизни предопределено наследственностью, очень старые — старее научной биологи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2)Именно на них базировалась система каст, где социальное положение личности определялось только положением родителей. (З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ители прямо противоположной концепции считали, что разум новорождённого ребенка не содержит мыслей и принципов, всё возникает из чувственных данных и жизненн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4)Накопленные с тех пор научные знания позволяют говорить, что истина лежит посередине. 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Ни один признак не может развиться, если такая возможность не заложена в генотипе. (6)Но если развитие протекает в разных условиях, то проявление генотипа будет варьироваться. (7)А главное, каждому признаку надо помочь развиться. (8)«...Человек таков, каков он есть, потому что его генотип плюс вся биография сделали его таким, — пишет известный генетик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­ка Феодосии Добжанский. — (9)Я употребляю слово «биография», а не «среда», потому что в некоторой степен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еловек сам делает себя таким, каким он хочет быть, разумеется, в рамках ограничений, накладываемых внешней сред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0История знает много случаев, когда люди, родившиеся в глуши, ценой собственных усилий поднимались до высот знания и профессионального мастерства и в то же время эти высоты не были нужны людям, которым, казалось бы, всё дано от рожд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1)Самый известный пример — жизнь М.В. Ломоносо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2)Менее известна жизнь Д.И. Менделеева. (13)Тяжелобольная мать, распродав всё, что у неё было, привезла его из далёкого Тобольска в Петербург. (14)0ни мечтали об университете, но, как выпускник Тобольской гимназии, Дмитрий Иванович не мог поступить ни в Московский, ни в Петербургский университет. (15)Менее чем через год он остался сиротой и дальше всего добивался сам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6)Трудно поверить в то, что замечательный писатель, великий мастер слова Иван Алексеевич Бунин в гимназии «пробыл» всего четыре года. (17)Всё остальное сделали книги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)Недавно в интервью для журнала «Человек» И.И. Иванову, директору Медико-генетического центра, был задан вопрос: «Что получится, если появится возможность анализировать индивидуальный геном человека, подобно, на­пример, анализу крови?» (19)Учёный ответил: «Мы наверняка узнаем, что у это­го человека есть задатки, чтобы развить одну из ста тысяч версий, которые из него в принципе могут развиться, и не развивать другие сто тысяч версий, которые не дадут положительного результата. (20)Только эт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о Л. Серов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шите сочинение по прочитанному текс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Сформулируйте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и прокомментируйте одну из проблем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авленных автором текста (избегайте чрезмерного цитирова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3300"/>
                </a:solidFill>
                <a:uFillTx/>
                <a:latin typeface="Arial"/>
              </a:rPr>
              <a:t>Сформулируйте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позицию авто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Напишите, согласны или не согласны вы с точкой зрения автора прочитанного текст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ясните, почему.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Свой ответ аргументируйте, опираясь на знания, читательский или жизненный опы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учитываются первые два аргумент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ём сочинения – не менее 150 с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, написанная без опоры на прочитанный текст (не по данному тексту), не оценив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нулём бал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нформация о текс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2962440" cy="944640"/>
        </p:xfrm>
        <a:graphic>
          <a:graphicData uri="http://schemas.openxmlformats.org/drawingml/2006/table">
            <a:tbl>
              <a:tblPr/>
              <a:tblGrid>
                <a:gridCol w="2962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роблем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50000">
                          <a:srgbClr val="99ff66"/>
                        </a:gs>
                        <a:gs pos="100000">
                          <a:srgbClr val="66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572000" y="1125360"/>
          <a:ext cx="4572000" cy="26528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 наследственности и воспитания (может ли человек вырваться за рамки наследственности?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50000">
                          <a:srgbClr val="99ff66"/>
                        </a:gs>
                        <a:gs pos="100000">
                          <a:srgbClr val="66ffff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57200" y="5157720"/>
          <a:ext cx="2890800" cy="96840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я автор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cc"/>
                        </a:gs>
                        <a:gs pos="50000">
                          <a:srgbClr val="ffff66"/>
                        </a:gs>
                        <a:gs pos="100000">
                          <a:srgbClr val="ff66cc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648320" y="3938760"/>
          <a:ext cx="4495680" cy="291924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29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ость определяет лишь задатки, склонности человека, но только сам человек может развить то, что дано природой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66cc"/>
                        </a:gs>
                        <a:gs pos="50000">
                          <a:srgbClr val="ffff66"/>
                        </a:gs>
                        <a:gs pos="100000">
                          <a:srgbClr val="ff66cc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 rot="19719000">
            <a:off x="3492000" y="1915920"/>
            <a:ext cx="1008360" cy="50292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125640 h 502920"/>
              <a:gd name="textAreaBottom" fmla="*/ 3772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99ff66"/>
              </a:gs>
              <a:gs pos="100000">
                <a:srgbClr val="66ffff"/>
              </a:gs>
            </a:gsLst>
            <a:lin ang="99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295600">
            <a:off x="3419640" y="5444640"/>
            <a:ext cx="1152360" cy="503280"/>
          </a:xfrm>
          <a:custGeom>
            <a:avLst/>
            <a:gdLst>
              <a:gd name="textAreaLeft" fmla="*/ 144000 w 1152360"/>
              <a:gd name="textAreaRight" fmla="*/ 1008360 w 1152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66cc"/>
              </a:gs>
              <a:gs pos="50000">
                <a:srgbClr val="ffff66"/>
              </a:gs>
              <a:gs pos="100000">
                <a:srgbClr val="ff66cc"/>
              </a:gs>
            </a:gsLst>
            <a:lin ang="94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КОМПОЗИЦИЯ СОЧИ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ходя из вышесказанного, композиция вашего будущего сочинения должна быть примерно следующ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Вступл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Формулировка в той или иной форме одной из проблем исходн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Комментарий к сформулированной проблеме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Формулировка позиции автора по прокомментированной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Аргументация собственного мнения по пробле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.Т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Арг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первый аргу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второй арг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ратите внимание на то, что согласно этому плану у вас как    минимум должно быть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ять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а если вы выделите отдельным абзацем пункты аргументации собственного мнения, то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и больш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абзацев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Если в тексте нарушено абзацное членение текста,  снижается оценка по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критерию К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tebulb"/>
          <p:cNvSpPr/>
          <p:nvPr/>
        </p:nvSpPr>
        <p:spPr>
          <a:xfrm>
            <a:off x="0" y="5373720"/>
            <a:ext cx="647640" cy="1152360"/>
          </a:xfrm>
          <a:prstGeom prst="pie">
            <a:avLst/>
          </a:pr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596360" y="2924280"/>
            <a:ext cx="10126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Формулировка проблем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пределяя проблему, вы должны задуматься над тем, каким образом содержание текста касается вас, других людей, всего человечеств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нном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кст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а наследственности и воспитания (может ли человек вырваться за рамки наследстве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я проблему, важно понять, что можно с ней «сделать». Её можно обозначить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С помощью клише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. Серова коснулась проблем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ледственности и воспитан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ли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ё ли в нашей жизни предопределено наследственностью, может ли человек вырваться за рамки наследственности? Мне кажется именно эта проблема является самой важной в тексте Л. Сер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: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д какой-либо проблемой думать, работать. Какая-либо проблема возникает, встает, представляет интерес, заслуживает внимания, ждет решения. Поставить, выдвинуть, рассмотреть, изложить, обсудить, разрешить какую-либо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2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2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ложный практический или теоретический вопрос, требующий решения, исследования, например проблема сохранения окружающей среды, проблема смысла жизни, проблема связи языка и мышления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Категории (виды) пробл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илософ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трагивают самые общие особенности развития природы, общества,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саются устройства и жизн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язаны с деятельностью государственной власти, партий или общественны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ражают взаимодействие человека и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равственные (этические)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язаны с внутренними духовными качествами, которыми руководствуется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мментарий к проблеме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робуй ответить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асколько актуально то, о чём пишет авт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ому и в каких ситуациях приходится сталкиваться с подобной проблем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озможности коснись истории вопро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Размышляя над актуальной во все времена (актуальной особенно в наше время, злободневной, философской,  глубокой, главной, общественно значимой, вечной, важной, общечеловеческой) автор обращается (к фактам из своей жизни рассказывает историю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, использует примеры из классической литературы,  приводит высказывания такого-то и п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проблема текста формулируется в виде вопроса, то позиция автора — это ответ на вопрос, поставленный в тексте. Для того чтобы выявить позицию автора, постарайтесь ответить на следующие вопросы: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«Что хотел сказать своим читателям автор, создавая текст?», «Как автор оценивает описываемую конкретную ситуацию, поступки героев?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едует помнить, что в любом случа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ментарий должен осуществляться с опорой на прочитанный текст. Конкретизировать содержание комментария можно с помощью следующих вопросов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, на каком материале автор раскрывает проблему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На чем заостряет внимание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ие аспекты проблемы рассматриваются в тексте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ие эмоции автора выражены в тексте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 выражено отношение автора к изображаемому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Какие средства выразительности помогают выявить авторское отношение к проблеме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ментарий представляет собой логический переход от формулировки проблемы к изложению авторской позиции по данной проблеме.</a:t>
            </a:r>
            <a:br>
              <a:rPr sz="1600"/>
            </a:b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Чтобы отличить комментарий от пересказа, нужно помнить следующее. Пересказывая, мы говорим о том, что делают герои, а комментируя, мы говорим о том, что делает авто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. Как выявить позицию автор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анном тексте позиция автора так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Наследственность определяет лишь задатки, склонности человека, но только сам человек может развить то, что дано природой</a:t>
            </a: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6:49:24Z</dcterms:created>
  <dc:creator>Programmer</dc:creator>
  <dc:description/>
  <dc:language>en-US</dc:language>
  <cp:lastModifiedBy>123</cp:lastModifiedBy>
  <dcterms:modified xsi:type="dcterms:W3CDTF">2013-04-21T09:20:17Z</dcterms:modified>
  <cp:revision>4</cp:revision>
  <dc:subject/>
  <dc:title>КОМПОЗИЦИЯ СОЧИНЕНИЯ </dc:title>
</cp:coreProperties>
</file>