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1D1A-08AA-43B8-83E3-106EF5C2E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CC66-3658-4C98-BF46-0ACD1056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37C7-B21B-46B7-B577-AFB4421C9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1629-F072-4323-A74F-C73031C14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37F4-4949-4571-AC6B-CF90A82E5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915E-913B-493A-9C13-6B88BCDB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F607-8192-4598-8D55-977BB5C6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1D9F-37DE-47BF-BB84-AF77BB24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72C7-F852-4EF5-BB8A-65377D3EF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6843D-F621-44E6-8FE6-6E40A5EA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B99A-866E-49DB-9E32-1398BBDB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A583-8899-49F1-BABC-665C0B45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F07F-7D14-458E-81E6-9070739E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C523-910B-40A3-B23E-6E081D7A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EB1B-330D-4248-BB4C-E6B6D042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20A87-8474-4E89-B8FA-EE8DABE8F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D4F6-1B79-49B5-BF80-285E80446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DB887-2FC1-4B87-BAA1-D50CA6DE1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37B8D-87CB-4325-987E-E564B548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C4E7D-3443-4F27-B828-31429A3F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522AB-1019-4F2D-8A57-D684C7BC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F7953-374A-4FDE-A3F6-17C9B600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71C5-CBC6-44AB-8389-9EBAAFBD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7F523-084F-4385-96E5-E2E78765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71EE8-87DC-4C25-B0A1-CF540C4F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ABC77-D32E-42F7-9B59-A157A22E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2F6F6-0C5D-4179-94CC-4D3C1927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8855A-169A-4BE2-96CD-B8FE612E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64C57-4346-465D-A373-C54339AB7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C9398-F8CC-400E-BBB9-647B9BF43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400C-7A18-4876-AC88-5B239267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041C-A58B-452D-A894-D3E2A964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8473-B2F9-46E9-A9F8-78821C47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F901-A101-45AE-B22F-8581960D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41DE-D320-481C-94A9-9C0F5C2E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96EF-75C8-45FE-8FFE-F49D79C2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7B9C-1BE5-4F43-AABD-906147A46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4D9E-19D7-4EE0-8A92-B393FD253A3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16CA-6BFA-484B-BDF7-700168466E4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Пишем сочинение по исходному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тексту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4788000" cy="3603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3689280"/>
            <a:ext cx="4753080" cy="31687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932360" y="5157720"/>
            <a:ext cx="42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бота учителя русского языка и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цера Е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0" i="1" lang="ru-RU" sz="1400" spc="-1" strike="noStrike">
                <a:solidFill>
                  <a:srgbClr val="000066"/>
                </a:solidFill>
                <a:latin typeface="Arial"/>
              </a:rPr>
              <a:t>Критерий 4 гласи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кзаменуемый выразил свое мнение по сформулированной им проблеме, поставленной автором текста (согласившись или не согласившись с позицией автора), аргументировал е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вёл не менее 2 аргументов, один из которых взят из художественной, публицистической или научной литератур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пробуем разобраться, что можно считать жизненным опытом, а что – читательским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3300"/>
                </a:solidFill>
                <a:uFillTx/>
                <a:latin typeface="Arial"/>
              </a:rPr>
              <a:t>Жизненный опыт :</a:t>
            </a:r>
            <a:r>
              <a:rPr b="0" i="1" lang="ru-RU" sz="1400" spc="-1" strike="noStrike">
                <a:solidFill>
                  <a:srgbClr val="000066"/>
                </a:solidFill>
                <a:latin typeface="Arial"/>
              </a:rPr>
              <a:t> реальные факты из жизни окружающих, собственные наблюдения и выводы, традиционно- исторический опы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водя аргументы из жизни окружающих, ты можешь </a:t>
            </a: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написать: </a:t>
            </a:r>
            <a:r>
              <a:rPr b="1" i="1" lang="ru-RU" sz="1400" spc="-1" strike="noStrike">
                <a:solidFill>
                  <a:srgbClr val="000066"/>
                </a:solidFill>
                <a:latin typeface="Arial"/>
              </a:rPr>
              <a:t>Помню, как-то мама (отец бабушка, друг, знакомый и т. д.) рассказывали, как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Arial"/>
              </a:rPr>
              <a:t>Мне кажется, этот случай убеждает нас в том, что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(вспомни, какую авторскую позицию ты обозначил, покажи, что данный пример является её доказательством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сли приводишь в качестве аргумента собственные выводы и наблюдения, можешь воспользоваться такими фразам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Arial"/>
              </a:rPr>
              <a:t>Конечно, мой жизненный опыт пока очень небольшой, но тем не менее нечто подобное было и в моей жизн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ЛИ: </a:t>
            </a:r>
            <a:r>
              <a:rPr b="1" i="1" lang="ru-RU" sz="1400" spc="-1" strike="noStrike">
                <a:solidFill>
                  <a:srgbClr val="000066"/>
                </a:solidFill>
                <a:latin typeface="Arial"/>
              </a:rPr>
              <a:t>Несмотря на мой довольно скромный жизненный опыт, я вспоминаю похожую ситуацию, когда я (мой друг, одноклассник, знакомый)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3300"/>
                </a:solidFill>
                <a:uFillTx/>
                <a:latin typeface="Arial"/>
              </a:rPr>
              <a:t>Традиционно-исторический опыт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позволяет сослаться на авторитетное мнение какого-либо выдающегося человека, что сделает твою аргументацию довольно сильно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3300"/>
                </a:solidFill>
                <a:uFillTx/>
                <a:latin typeface="Arial"/>
              </a:rPr>
              <a:t>Ссылки на авторитет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Убеждающему часто выгодно обратиться к «третьей стороне» — сослаться на мнение авторитетного общественного деятеля, ученого, специалиста в какой-либо области, упомянуть пословицу, поговорку, аппелируя к народной мудрости. Сила таких аргументов состоит в том, что, используя их, мы обращаемся к коллективному запасу знаний, который всегда больше, чем у отдельных лиц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Третья сторона» может быть конкретным или обобщенным лицом, а также группой лиц. Имени лица обычно сопутствуют добавочные характеристики: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звестный русский писатель, выдающийся ученый, философ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т.п. Например: </a:t>
            </a: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Выдающийся борец за гражданские права Мартин Лютер Кинг учил, что...; Гениальный русский ученый Д. И. Менделеев однажды сказал, что...; Еще Петр 1 говорил, что...; Любой историк скажет вам, что...; Большинство врачей считают, что...; Как установлено японскими учеными... и т. 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484360" y="549360"/>
            <a:ext cx="2808360" cy="718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итательский опы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2205000"/>
            <a:ext cx="18730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удожествен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92360" y="1916280"/>
            <a:ext cx="1871640" cy="1225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ториче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40360" y="2276640"/>
            <a:ext cx="2305080" cy="93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учно-популяр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34920" y="1341360"/>
            <a:ext cx="93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211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76720" y="1341360"/>
            <a:ext cx="165600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39280" y="3499920"/>
            <a:ext cx="79930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ращение к читательскому опыту – сильнейший аргумент сочинения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 обращаться к нему нужно в том случае, если ты хорошо помнишь и автора книги, и само произведение, чтобы избежать фактических  ошиб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Аргум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И А. Гончаров.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«Обломов». Хороший, добрый, талантливый человек Илья Обломов не сумел преодолеть себя, не раскрыл своих лучших черт. Отсутствие высокой цели в жизни ведёт к нравственной смерти. Даже любовь не смогла спасти Облом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М.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Ю. Лермонтов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. «Герой нашего времени». Несчастье Печорина, по его собственному признанию, непонимание смысла своей жизни, он говорит, что чувствовал в своей душе силы, но не знал, к чему их приложить, не сумел найти им примен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3. Свои примеры из жизни: знакомые, не блиставшие в школе, но достигшие впоследствии успехов; дети индиго, современные вундеркинды и т. 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ачестве примера сочинения приводим работу по тексту Варианта № 1 (Цыбулько И.П. ЕГЭ-2006/2007. Русский язык. Тренировочные задания / И.П. Цыбулько, Львова С.И, В.А. Коханова. – М.: Просвещение. Эксмо, 2006/2007). Обращаем ваше внимание на четкую композицию работы, достаточно развернутый комментарий, однако нельзя не заметить, что аргументы требуют доработки, логического завершения. Это примеры (см. аргумент № 1 в нижеприведенном сочинении), иллюстрирующие позицию пишуще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чин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ставьте себе ситуацию: родителям каждого новорождённого ребенка в роддоме сообщают, к чему он предрасположен и какие у него есть задатки. Человек сначала с подачи родителей, а затем и сам развивает свои таланты, а на другие «виды деятельности» не обращает внимания, так как заранее знает, что не добьется положительного результата. И так «шествует по жизни» каждый. Звучит настораживающее, не так ли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асность «однобокого» развития человека заметила и Л. Серова. Она затрагивает очень актуальную проблему наследственности и самоформирования. Серова задает вопрос: полностью ли человек определен своим генотипом или у него есть шанс развить себя самому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обенно животрепещущей эта проблема стала в последнее время: благодаря развитию генетики человек может не только определить, но и «задать» предрасположенности и таланты. Очевидно авторское негодование: нам самим станет неинтересно жить, если мы будем знать все о своих задатках: все предначертано, нет возможности выбрать – многие страдали бы от чувства обреченности, а если каждому будут расшифровывать его геном – в человеке останется мало человеческого. «Жизнь подарена нам судьбой», - утверждает автор, и мы сами вправе этой жизнью управлят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зиция Л. Серовой очевидна: «В некоторой степени человек делает себя таким, каким он хочет быть, разумеется, в рамках ограничений, накладываемых внешней средой». То есть только сам человек способен реализовать то, что заложено природой. В подтверждение автор приводит примеры – жизни Ломоносова и Менделеева, которые своими силами достигли высот науки, начав буквально с нул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удно не согласиться с Л. Серовой, не случайно в русской литературе и в жизни так почитаем образ лесковского Левши. Нигде не учась ремеслу, он сумел без микроскопа подковать блоху. Нет сомнения, что он сам развил свой талант. Никто не говорил Левше, что в его генотипе заложен или, напротив, не заложен подобный талан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же хотелось бы вспомнить о параолимпийских играх. Люди-инвалиды, вроде бы ограниченные природой в подвижности, находят в себе силы для занятий спортом и установления рекордов. Это ярчайшее доказательство того, что каждый способен к самоформированию и саморазвитию, что не все в человеческой жизни определено наследственность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Терпение и труд всё перетрут», - гласит пословица. Действительно, надо не полагаться полностью на научный прогресс, а стараться сделать свою жизнь интересней в первую очередь для себя самого – тогда это будет Человеческая жизнь, и чем больше людей будет так жить, тем ярче и красочней будет наш ми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3745080" cy="40766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95280" y="4221000"/>
            <a:ext cx="810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«Терпение и труд всё перетрут», - гласит пословица.  Верим, что и экзамены вы сдадите хорошо, ЕСЛИ БУДЕТЕ ТРУДИТЬСЯ НЕ ПОКЛАДАЯ РУ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ВСЕМ УДАЧИ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989440" y="350028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ЕГЭ на «отлично»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1)Представления о том, что всё в нашей жизни предопределено наследственностью, очень старые — старее научной биологи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2)Именно на них базировалась система каст, где социальное положение личности определялось только положением родителей. (З)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ставители прямо противоположной концепции считали, что разум новорождённого ребенка не содержит мыслей и принципов, всё возникает из чувственных данных и жизненного опы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4)Накопленные с тех пор научные знания позволяют говорить, что истина лежит посередине. 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Ни один признак не может развиться, если такая возможность не заложена в генотипе. (6)Но если развитие протекает в разных условиях, то проявление генотипа будет варьироваться. (7)А главное, каждому признаку надо помочь развиться. (8)«...Человек таков, каков он есть, потому что его генотип плюс вся биография сделали его таким, — пишет известный генетик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е­ка Феодосии Добжанский. — (9)Я употребляю слово «биография», а не «среда», потому что в некоторой степен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еловек сам делает себя таким, каким он хочет быть, разумеется, в рамках ограничений, накладываемых внешней средо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10История знает много случаев, когда люди, родившиеся в глуши, ценой собственных усилий поднимались до высот знания и профессионального мастерства и в то же время эти высоты не были нужны людям, которым, казалось бы, всё дано от рождения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1)Самый известный пример — жизнь М.В. Ломоносо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2)Менее известна жизнь Д.И. Менделеева. (13)Тяжелобольная мать, распродав всё, что у неё было, привезла его из далёкого Тобольска в Петербург. (14)0ни мечтали об университете, но, как выпускник Тобольской гимназии, Дмитрий Иванович не мог поступить ни в Московский, ни в Петербургский университет. (15)Менее чем через год он остался сиротой и дальше всего добивался сам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6)Трудно поверить в то, что замечательный писатель, великий мастер слова Иван Алексеевич Бунин в гимназии «пробыл» всего четыре года. (17)Всё остальное сделали книги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8)Недавно в интервью для журнала «Человек» И.И. Иванову, директору Медико-генетического центра, был задан вопрос: «Что получится, если появится возможность анализировать индивидуальный геном человека, подобно, на­пример, анализу крови?» (19)Учёный ответил: «Мы наверняка узнаем, что у это­го человека есть задатки, чтобы развить одну из ста тысяч версий, которые из него в принципе могут развиться, и не развивать другие сто тысяч версий, которые не дадут положительного результата. (20)Только эт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По Л. Серов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C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ишите сочинение по прочитанному текст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Сформулируйте </a:t>
            </a: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и прокомментируйте одну из проблем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ставленных автором текста (избегайте чрезмерного цитирования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Сформулируйте </a:t>
            </a: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позицию автор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Напишите, согласны или не согласны вы с точкой зрения автора прочитанного текст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бъясните, почему. </a:t>
            </a: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Свой ответ аргументируйте, опираясь на знания, читательский или жизненный опы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учитываются первые два аргумента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ём сочинения – не менее 150 сл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, написанная без опоры на прочитанный текст (не по данному тексту), не оценивает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сочинение представляет собой пересказанный или полностью переписанный исходный текст без каких бы то ни было комментариев, то такая работа оценивается нулём балл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чинение пишите аккуратно, разборчивым почерк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99ff66"/>
          </a:solidFill>
          <a:ln w="9360">
            <a:solidFill>
              <a:srgbClr val="99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Информация о текст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57200" y="1600200"/>
          <a:ext cx="2962440" cy="944640"/>
        </p:xfrm>
        <a:graphic>
          <a:graphicData uri="http://schemas.openxmlformats.org/drawingml/2006/table">
            <a:tbl>
              <a:tblPr/>
              <a:tblGrid>
                <a:gridCol w="2962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роблемы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50000">
                          <a:srgbClr val="99ff66"/>
                        </a:gs>
                        <a:gs pos="100000">
                          <a:srgbClr val="66ffff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4572000" y="1125360"/>
          <a:ext cx="4572000" cy="265284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блема наследственности и воспитания (может ли человек вырваться за рамки наследственности?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50000">
                          <a:srgbClr val="99ff66"/>
                        </a:gs>
                        <a:gs pos="100000">
                          <a:srgbClr val="66ffff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457200" y="5157720"/>
          <a:ext cx="2890800" cy="968400"/>
        </p:xfrm>
        <a:graphic>
          <a:graphicData uri="http://schemas.openxmlformats.org/drawingml/2006/table">
            <a:tbl>
              <a:tblPr/>
              <a:tblGrid>
                <a:gridCol w="2890800"/>
              </a:tblGrid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зиция автор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cc"/>
                        </a:gs>
                        <a:gs pos="50000">
                          <a:srgbClr val="ffff66"/>
                        </a:gs>
                        <a:gs pos="100000">
                          <a:srgbClr val="ff66cc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4648320" y="3938760"/>
          <a:ext cx="4495680" cy="2919240"/>
        </p:xfrm>
        <a:graphic>
          <a:graphicData uri="http://schemas.openxmlformats.org/drawingml/2006/table">
            <a:tbl>
              <a:tblPr/>
              <a:tblGrid>
                <a:gridCol w="4495680"/>
              </a:tblGrid>
              <a:tr h="291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ледственность определяет лишь задатки, склонности человека, но только сам человек может развить то, что дано природой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cc"/>
                        </a:gs>
                        <a:gs pos="50000">
                          <a:srgbClr val="ffff66"/>
                        </a:gs>
                        <a:gs pos="100000">
                          <a:srgbClr val="ff66cc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202" name=""/>
          <p:cNvSpPr/>
          <p:nvPr/>
        </p:nvSpPr>
        <p:spPr>
          <a:xfrm rot="19719000">
            <a:off x="3492000" y="1915920"/>
            <a:ext cx="1008360" cy="502920"/>
          </a:xfrm>
          <a:custGeom>
            <a:avLst/>
            <a:gdLst>
              <a:gd name="textAreaLeft" fmla="*/ 126000 w 1008360"/>
              <a:gd name="textAreaRight" fmla="*/ 882360 w 1008360"/>
              <a:gd name="textAreaTop" fmla="*/ 125640 h 502920"/>
              <a:gd name="textAreaBottom" fmla="*/ 377280 h 502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99ff66"/>
              </a:gs>
              <a:gs pos="100000">
                <a:srgbClr val="66ffff"/>
              </a:gs>
            </a:gsLst>
            <a:lin ang="998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20295600">
            <a:off x="3419640" y="5444640"/>
            <a:ext cx="1152360" cy="503280"/>
          </a:xfrm>
          <a:custGeom>
            <a:avLst/>
            <a:gdLst>
              <a:gd name="textAreaLeft" fmla="*/ 144000 w 1152360"/>
              <a:gd name="textAreaRight" fmla="*/ 1008360 w 115236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66cc"/>
              </a:gs>
              <a:gs pos="50000">
                <a:srgbClr val="ffff66"/>
              </a:gs>
              <a:gs pos="100000">
                <a:srgbClr val="ff66cc"/>
              </a:gs>
            </a:gsLst>
            <a:lin ang="940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 Black"/>
              </a:rPr>
              <a:t>КОМПОЗИЦИЯ СОЧИН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сходя из вышесказанного, композиция вашего будущего сочинения должна быть примерно следующ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Вступл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Формулировка в той или иной форме одной из проблем исходного тек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Комментарий к сформулированной проблеме тек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Формулировка позиции автора по прокомментированной пробл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Аргументация собственного мнения по проблем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.Тези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Аргумен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) первый аргумен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) второй аргуме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Выв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Заклю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братите внимание на то, что согласно этому плану у вас как    минимум должно быть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пять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а если вы выделите отдельным абзацем пункты аргументации собственного мнения, то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и больше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абзацев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Если в тексте нарушено абзацное членение текста,  снижается оценка по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критерию К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tebulb"/>
          <p:cNvSpPr/>
          <p:nvPr/>
        </p:nvSpPr>
        <p:spPr>
          <a:xfrm>
            <a:off x="0" y="5373720"/>
            <a:ext cx="647640" cy="1152360"/>
          </a:xfrm>
          <a:prstGeom prst="pie">
            <a:avLst/>
          </a:prstGeom>
          <a:solidFill>
            <a:srgbClr val="ff33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596360" y="2924280"/>
            <a:ext cx="10126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Формулировка проблем исходного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89647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Определяя проблему, вы должны задуматься над тем, каким образом содержание текста касается вас, других людей, всего человечества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данном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ксте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блема наследственности и воспитания (может ли человек вырваться за рамки наследственнос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яя проблему, важно понять, что можно с ней «сделать». Её можно обозначить следующим образ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 С помощью клише: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Л. Серова коснулась проблемы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следственности и воспитания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ли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ё ли в нашей жизни предопределено наследственностью, может ли человек вырваться за рамки наследственности? Мне кажется именно эта проблема является самой важной в тексте Л. Сер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ожно: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над какой-либо проблемой думать, работать. Какая-либо проблема возникает, встает, представляет интерес, заслуживает внимания, ждет решения. Поставить, выдвинуть, рассмотреть, изложить, обсудить, разрешить какую-либо пробл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24000" cy="10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2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2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2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20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робле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сложный практический или теоретический вопрос, требующий решения, исследования, например проблема сохранения окружающей среды, проблема смысла жизни, проблема связи языка и мышления и т. 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Категории (виды) пробле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философские пробле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трагивают самые общие особенности развития природы, общества, 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оциальные пробле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асаются устройства и жизни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олитические пробле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вязаны с деятельностью государственной власти, партий или общественных груп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экологические пробле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ражают взаимодействие человека и окружающе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равственные (этические) пробле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вязаны с внутренними духовными качествами, которыми руководствуется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2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Комментарий к проблеме исходного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пробуй ответить на вопро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Насколько актуально то, о чём пишет авто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Кому и в каких ситуациях приходится сталкиваться с подобной проблем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возможности коснись истории вопро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«Размышляя над актуальной во все времена (актуальной особенно в наше время, злободневной, философской,  глубокой, главной, общественно значимой, вечной, важной, общечеловеческой) автор обращается (к фактам из своей жизни рассказывает историю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NN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, использует примеры из классической литературы,  приводит высказывания такого-то и п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сли проблема текста формулируется в виде вопроса, то позиция автора — это ответ на вопрос, поставленный в тексте. Для того чтобы выявить позицию автора, постарайтесь ответить на следующие вопросы: </a:t>
            </a: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«Что хотел сказать своим читателям автор, создавая текст?», «Как автор оценивает описываемую конкретную ситуацию, поступки героев?»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ледует помнить, что в любом случае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омментарий должен осуществляться с опорой на прочитанный текст. Конкретизировать содержание комментария можно с помощью следующих вопросов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Как, на каком материале автор раскрывает проблему?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На чем заостряет внимание?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Какие аспекты проблемы рассматриваются в тексте?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Какие эмоции автора выражены в тексте?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Как выражено отношение автора к изображаемому?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Какие средства выразительности помогают выявить авторское отношение к проблеме?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омментарий представляет собой логический переход от формулировки проблемы к изложению авторской позиции по данной проблеме.</a:t>
            </a:r>
            <a:br>
              <a:rPr sz="1600"/>
            </a:b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Чтобы отличить комментарий от пересказа, нужно помнить следующее. Пересказывая, мы говорим о том, что делают герои, а комментируя, мы говорим о том, что делает авто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71640" y="0"/>
            <a:ext cx="690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. Как выявить позицию автора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данном тексте позиция автора тако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Наследственность определяет лишь задатки, склонности человека, но только сам человек может развить то, что дано природой</a:t>
            </a: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6:49:24Z</dcterms:created>
  <dc:creator>Programmer</dc:creator>
  <dc:description/>
  <dc:language>en-US</dc:language>
  <cp:lastModifiedBy>123</cp:lastModifiedBy>
  <dcterms:modified xsi:type="dcterms:W3CDTF">2013-04-21T09:20:17Z</dcterms:modified>
  <cp:revision>4</cp:revision>
  <dc:subject/>
  <dc:title>КОМПОЗИЦИЯ СОЧИНЕНИЯ </dc:title>
</cp:coreProperties>
</file>