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AE6-7B32-4549-B07D-25518757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002-5C8E-4D94-8C4D-133A5D2F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166-B386-406E-AEEC-E4D59801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9E56-B67D-4450-AAE5-BA4B313E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6445-6E4B-4EB9-93F9-F6353411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C8C0-C9C2-48E3-A709-8CAD64CC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1961-8EC9-40AC-A313-F7046486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AE65-8F46-4BE1-97B5-379A6D10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7199-8034-413B-BD68-06E96E6C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1365-EE48-4F03-86A7-31D15EAF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39F7-172C-45DC-A9C9-8B270D7F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30E3-3556-4080-BF25-1DB64AC0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B6C8-8FDE-4A8B-A04A-B6356AAD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CF0C-4497-4D79-A6CE-AA33356B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57B4-C53F-4498-9BD7-98A48823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ED41-85E4-4E74-9D0F-6B9CC60C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2293-1E34-4C01-BBA9-BDF01E2D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0C02-8A77-433C-A189-D9D111EF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A11-F70E-4908-94D4-575AB6D8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7AF1-5A81-40DA-B62E-25FE7A2E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8D2D-023D-42BE-9158-04F8D89C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35AE-45B0-45BD-9C1B-DF8D8A77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D61-F408-465E-8F27-E85F49F1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52D9-A6AA-4100-8F0F-9AF32746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F06D-2C6F-4676-AA23-B2C9F810E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B3A4-8AD8-421C-9ED8-558FAA1AF4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Советы Мойдодыр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667280" y="5568840"/>
            <a:ext cx="10476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3960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604000" y="-52992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тобы почистить зубы нужны зубная паста и зубная щётка. Как же правильно чистить зуб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957480" cy="29685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211640" y="1197000"/>
            <a:ext cx="45370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977240" y="-51631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769080" cy="43923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 том, как правильно чистить зубы мы узнали из интерн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686800" y="-52992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ы почистили зубы на макете, соблюдая прави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957480" cy="3384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356000" y="404640"/>
            <a:ext cx="41767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686800" y="-5219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4508640"/>
            <a:ext cx="274644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тем сделали памятку « Как правильно чистить зубы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00720" y="2781360"/>
            <a:ext cx="3960720" cy="30481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250920" y="836640"/>
            <a:ext cx="41767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686800" y="-52992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4437000"/>
            <a:ext cx="82296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ы сделали стенгазету : «Советы Мойдодыра» и повесили её в спальном корпус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067280" y="765000"/>
            <a:ext cx="4897440" cy="36738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9006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686800" y="-5219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получили письмо от Мойдодыра. Он прислал нам свои советы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мойте руки с мылом, чистите зубы два раза в день.    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3981600" cy="29862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643280" y="3409920"/>
            <a:ext cx="427356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604000" y="-52174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с заинтересовал вопрос: Почему нужно мыть  руки с мылом? Как правильно чистить зубы?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ы  решили найти ответы на свои вопрос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003640" y="189000"/>
            <a:ext cx="3994200" cy="2995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724360" y="378936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86800" y="-5219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560" y="188640"/>
            <a:ext cx="4537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ипотеза : Через грязные руки в организм человека попадают микробы и человек начинает болеть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дачи: Научиться правильно мыть ру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яснить, почему надо мыть руки с мыл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знать как правильно чистить зуб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403848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459280" y="-521928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ы посмотрели через микроскоп на грязные руки и увидели множество микроб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ы помыли руки водой без мыла, но микробы не исчез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0" y="404640"/>
            <a:ext cx="420372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604000" y="-519084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тем, мы помыли руки с мылом и увидели, что микробов на руках 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258920" y="208080"/>
            <a:ext cx="61927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686800" y="-52192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вод: Нужно мыть руки с мылом, чтобы микробы не попали в организм и человек не заболе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590544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04000" y="-52992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книжке мы прочитали как правильно мыть ру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6913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69240" y="-50198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048360" cy="4535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ы сделали памятку как правильно мыть руки и повесили ее перед умывальни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9:49:14Z</dcterms:created>
  <dc:creator>Ирина</dc:creator>
  <dc:description/>
  <dc:language>en-US</dc:language>
  <cp:lastModifiedBy>Ирина</cp:lastModifiedBy>
  <dcterms:modified xsi:type="dcterms:W3CDTF">2013-03-07T04:48:22Z</dcterms:modified>
  <cp:revision>9</cp:revision>
  <dc:subject/>
  <dc:title>Советы Мойдодыра</dc:title>
</cp:coreProperties>
</file>