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1AB-533F-4F23-875E-FCD810BA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F7E-1EBF-446D-9AC2-C819E30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8B1-D397-4568-AD0E-F381BB3F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986-8ED8-4801-8B72-3AC2C565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D4C0-3A85-4434-97A4-0C810C7E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754-9B80-42AD-B876-3817626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DC5-9507-4991-B399-D45B585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567F-3E83-45F5-886B-7393EDA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650C-A53A-4A67-BA99-228A371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5C2-D6B2-4AF4-B7EA-E197E4B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C269-0F4F-4255-A07C-50E034DF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371-8EB6-483E-9F8E-ECB02E3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A17-AA1D-4AF0-A9B2-6DDABC5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313-B59F-4396-BCFE-21FC04B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1F0E-B2BE-4CA9-9ADF-1CBC4A1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9C7-46B3-44D7-B575-0257FE44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87D-EE86-4D09-AA09-323FA09F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77A-2ADB-4FA5-8F29-70DC711D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43F-EE76-49AF-9DC0-C1B75AA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FA8-2536-4D68-B43D-71C6D4D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0F4-2849-4390-93B3-9CDBD50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1B8-9BBD-4FFF-A28D-FD1614B5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98C-9D72-4A60-9437-91F72D0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EA8-8C64-40F4-ACE3-CA3A278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57E-46A0-454D-B525-A2346196C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507-0039-4C61-9D63-988256761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оветы Мойдоды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67280" y="5568840"/>
            <a:ext cx="1047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960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604000" y="-5299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почистить зубы нужны зубная паста и зубная щётка. Как же правильно чистить зуб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77240" y="-5163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том, как правильно чистить зубы мы узнали из интер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86800" y="-529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чистили зубы на макете, соблюдая прави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57480" cy="3384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4508640"/>
            <a:ext cx="2746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тем сделали памятку « Как правильно чистить зуб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00720" y="2781360"/>
            <a:ext cx="3960720" cy="304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686800" y="-529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ы сделали стенгазету : «Советы Мойдодыра» и повесили её в спальном корпус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067280" y="765000"/>
            <a:ext cx="4897440" cy="3673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006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получили письмо от Мойдодыра. Он прислал нам свои совет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мойте руки с мылом, чистите зубы два раза в день. 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81600" cy="298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3280" y="3409920"/>
            <a:ext cx="42735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604000" y="-5217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с заинтересовал вопрос: Почему нужно мыть  руки с мылом? Как правильно чистить зубы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ы  решили найти ответы на свои вопрос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994200" cy="299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отеза : Через грязные руки в организм человека попадают микробы и человек начинает болеть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и: Научиться правильно мыть р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яснить, почему надо мыть руки с мы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как правильно чистить зу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459280" y="-52192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смотрели через микроскоп на грязные руки и увидели множество микроб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мыли руки водой без мыла, но микробы не исчез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20372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604000" y="-5190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тем, мы помыли руки с мылом и увидели, что микробов на руках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08080"/>
            <a:ext cx="61927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: Нужно мыть руки с мылом, чтобы микробы не попали в организм и человек не забол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59054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04000" y="-5299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нижке мы прочитали как правильно мыть р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6913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69240" y="-50198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048360" cy="4535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сделали памятку как правильно мыть руки и повесили ее перед умываль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49:14Z</dcterms:created>
  <dc:creator>Ирина</dc:creator>
  <dc:description/>
  <dc:language>en-US</dc:language>
  <cp:lastModifiedBy>Ирина</cp:lastModifiedBy>
  <dcterms:modified xsi:type="dcterms:W3CDTF">2013-03-07T04:48:22Z</dcterms:modified>
  <cp:revision>9</cp:revision>
  <dc:subject/>
  <dc:title>Советы Мойдодыра</dc:title>
</cp:coreProperties>
</file>