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E3B-3FB6-4EFF-BA27-1C4323A9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E54-4012-4DFD-B08B-A2BBD605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91D1-2701-415D-A01C-03146449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B87-4480-4E24-A28F-D5749422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B5C0-486E-423D-BB9A-9388ED69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EE99-8B7F-474F-BA78-73935622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2C51-9BD3-4B2F-8067-39869786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FD27-B010-4760-B89F-C5EF67A5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58F0-0B4A-4EFA-BFCE-FF3AB297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D987-56BF-4CEA-A142-D1C9B565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3174-CA63-499D-BBC3-50DC222A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C7E6-B5DC-48AE-97DF-F81B983F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FF7B-A437-4CB6-8F6A-7584AF6B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08B0-EDC9-4CBE-BA76-936BC973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D38E-B930-4E39-9B50-F64A2FEE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BFDC-4EAE-430F-ABEF-5B9C52AC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221D-E326-4072-BBE9-F4411751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852B-2CB7-4747-B97C-A6B3DC7B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679-1CAC-4BFE-B4E6-A5203613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B32-DE50-4301-82B2-A0A18DD4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553-F7AF-4F0B-9EA5-F3CE2CD2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828-1108-494A-B10D-5F26CEDE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B42A-F433-4E48-A914-8CA4DF10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EC23-A787-412C-B8ED-EF2C0C97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BC94-E2A9-4CC1-B8B7-5250AD9999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97CA-146D-4FB2-8061-1D17BF934DB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Сталинградская битва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линград – это гимн беспредельному мужеству и героизму его защитников, всех воинов нашего Отечества, которыми до сегодняшнего дня восхищается весь 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12 сентяб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противник в плотную подошел к городу также с запада и юго-запада, оборона огромного центра была возложена на 62-ю армию генерал-лейтенанта В. И. Чуйкова и 64-ю армию генерал-майора М. С. Шумил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13 сентябр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ащитников города в его центральной части обрушился мощный удар двух вражеских группировок. В первой из них шли на штурм города до 100 танков и штурмовых орудий, во второй – 25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Продвижение немецких танков"/>
          <p:cNvPicPr/>
          <p:nvPr/>
        </p:nvPicPr>
        <p:blipFill>
          <a:blip r:embed="rId1"/>
          <a:stretch/>
        </p:blipFill>
        <p:spPr>
          <a:xfrm>
            <a:off x="2268360" y="3738600"/>
            <a:ext cx="4132440" cy="3119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упление вражеских группировок поддерживалось массированными ударами ави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4993"/>
          <p:cNvPicPr/>
          <p:nvPr/>
        </p:nvPicPr>
        <p:blipFill>
          <a:blip r:embed="rId1"/>
          <a:stretch/>
        </p:blipFill>
        <p:spPr>
          <a:xfrm>
            <a:off x="1692360" y="3141720"/>
            <a:ext cx="5832360" cy="354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15 сентяб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чью А. И. Родимцеву удалось переправить на правый берег Волги свыше 6 тыс. человек. Подразделения дивизии неожиданно для противника с ходу вступили в бой. К концу дня весь район города был отчищен от гитлеров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16 сентяб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очь на 16 сентября на правый берег переправились остальные силы дивизии. Им удалось вернуть мамаев курган и вокзал, который затем 13 раз переходил из рук в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15 октябр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ецко-фашистские войска на узком участке прорвались к Волге в районе Сталинградского тракторного зав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stalingrad"/>
          <p:cNvPicPr/>
          <p:nvPr/>
        </p:nvPicPr>
        <p:blipFill>
          <a:blip r:embed="rId1"/>
          <a:stretch/>
        </p:blipFill>
        <p:spPr>
          <a:xfrm>
            <a:off x="1835280" y="3068640"/>
            <a:ext cx="5400720" cy="3338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авершение оборонительного период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 гитлеровского командования, рассчитанный на быстрое овладение Сталинградом, а также план всей летне-осенней кампании 1942 были сорваны. Советские войска измотали и обескровили главную группировку противника, действовавшею под Сталинградом, создав благоприятные условия для контрнаступ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ступательная операция «Уран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упательная операция началась 19 ноября 1942 года. План контрнаступления был разработан в ходе оборонительной операции, когда гитлеровское командование готовило решающий штурм гор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Панорама разрушенного Сталинграда"/>
          <p:cNvPicPr/>
          <p:nvPr/>
        </p:nvPicPr>
        <p:blipFill>
          <a:blip r:embed="rId1"/>
          <a:stretch/>
        </p:blipFill>
        <p:spPr>
          <a:xfrm>
            <a:off x="2916360" y="3789360"/>
            <a:ext cx="4176720" cy="273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тром 19 ноября сильнейшие удары по врагу нанесли войска Юго-Западного и Донского фронтов. Наступлению, начавшемуся в 8 часов 50 минут, предшествовала мощная 80-минутная артиллерийская подготовка: на участках прорыва огонь на врага обрушили около 3500 орудий и мино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20 нояб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перацию «Уран» включился Сталинградский фронт. К исходу дня ударные группировки наступавших на встречу друг другу ударных фронтов прорвались в расположение противника на глубину до 40 км, пройдя каждая треть пути до района Калач, Советский, где им предстояло встретится и завершить окружение против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линград… Это гимн мужеству и героизму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линградская битва -  это стратегические оборонительная (17июля – 18 ноября 1942 г.) и наступательная (19 ноября 1942 г. – 2 февраля 1943 г. ) операции, проведенные советскими войсками с целью обороны Сталинграда и разгрома действовавшей на Сталинградском направлении крупной группировки немецко-фашистских войс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23 нояб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ошла историческая встреча войск Юго-Западного и Сталинградского фро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Начало контрнаступления"/>
          <p:cNvPicPr/>
          <p:nvPr/>
        </p:nvPicPr>
        <p:blipFill>
          <a:blip r:embed="rId1"/>
          <a:stretch/>
        </p:blipFill>
        <p:spPr>
          <a:xfrm>
            <a:off x="1835280" y="2565360"/>
            <a:ext cx="5715000" cy="3687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25 ноябр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тянувшиеся войска образовали внешний фронт окружения, хотя он не был еще сплошным. Внутренний фронт окружения имел протяженность около 200 км. С подходом стрелковых соединений был создан сплошной внутренний фронт окру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30 нояб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етские войска сжали кольцо окружения, сократив более чем в двое территорию, занимаемую противником, но рассечь и уничтожить его группировку не смогли в связи с недостатком сил. В то же время был образован более чем 500- км внешний фронт ору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12 декаб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ецко-фашистское командование предприняло попытку деблокировать свои окруженные войска ударом из района Котельниковс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16 декаб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ернулось наступление советских войск на Среднем Дону с целью развития контрнаступления. Оно вынудило немецко-фашистское командование окончательно отказаться от мысли деблокировать окруженную группиров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10 янва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йска фронта перешли в наступление, которому предшествовала мощная артиллерийская и авиационная подготов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Мощные артиллерийские и ракетные залпы возвестили о начале контрнаступления Советской Армии"/>
          <p:cNvPicPr/>
          <p:nvPr/>
        </p:nvPicPr>
        <p:blipFill>
          <a:blip r:embed="rId1"/>
          <a:stretch/>
        </p:blipFill>
        <p:spPr>
          <a:xfrm>
            <a:off x="3419640" y="2997360"/>
            <a:ext cx="3528720" cy="360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31 январ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кратила сопротивление южная группа войск 6-й армии во главе с генерал -фельдмаршалом Ф. Паулюсом, а 2 февраля капитулировала север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Панорама разрушенного Сталинграда"/>
          <p:cNvPicPr/>
          <p:nvPr/>
        </p:nvPicPr>
        <p:blipFill>
          <a:blip r:embed="rId1"/>
          <a:stretch/>
        </p:blipFill>
        <p:spPr>
          <a:xfrm>
            <a:off x="2340000" y="3357720"/>
            <a:ext cx="4321080" cy="322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10 января – 2 февра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йска Донского фронта взяли в плен свыше 91 тыс. солдат и офицеров противника, в том числе свыше 2500 офицеров и 24 генерала, около 140 тыс. было убито в ходе наступления. 2 февраля1943 года завершится наступательная операция полным разгромом против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у выполня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ц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БОУ СОШ №6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фанкина Екатери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злова Виктор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: Гаврилова Т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алинградской битве в разное время участвовали войска Сталинградского, Юго-Восточного, Юго-Западного, Донского, левого крыла Воронежского фронта, волжская военная флотилия и Сталинградский корпусной район П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ето 1942 год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121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уясь отсутствием второго фронта в Европе, гитлеровское командование продолжало наращивать военные усилия на восточном фронте. Немецко-фашистские войска предприняли крупное наступление на южном крыле советско-германского фронта с целью выхода в нефтеносные районы Кавказа и плодородные районы Дона, Кубани, Нижней Вол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83883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очередной их задачей было прорваться к Волге и захватить Сталинград – важнейший стратегический пункт и крупный промышленный цент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6" descr="d69088edf488"/>
          <p:cNvPicPr/>
          <p:nvPr/>
        </p:nvPicPr>
        <p:blipFill>
          <a:blip r:embed="rId1"/>
          <a:stretch/>
        </p:blipFill>
        <p:spPr>
          <a:xfrm>
            <a:off x="3635280" y="3284640"/>
            <a:ext cx="5230800" cy="3416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д сам вставал в оборону: формировались части народного ополчения, перестраивались на военный лад промышленные предприятия, десятки тысяч сталинградцев строили оборонительные обв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Жители города на строительстве оборонительных сооружений"/>
          <p:cNvPicPr/>
          <p:nvPr/>
        </p:nvPicPr>
        <p:blipFill>
          <a:blip r:embed="rId1"/>
          <a:stretch/>
        </p:blipFill>
        <p:spPr>
          <a:xfrm>
            <a:off x="5580000" y="3716280"/>
            <a:ext cx="3564000" cy="314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23 июл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ьба за главную полосу началась 23 июля. Противник пытался охватывающими ударами по флангам советских войск в большой излучине Дона окружить их, выйти в районе Калача и с запада прорваться к Сталингра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19 августа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ецко-фашистские войска возобновили наступление, стремясь овладеть Сталинградом одновременными ударами с запада и юго-запа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23 авгус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ивник попытался ударом с севера вдоль Волги овладеть районом города, где располагались заводы, прорвавшись узким коридором к Волге в районе поселка Рынок и захватив плацдарм на ее правом бере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1296621914_stalingrad_15"/>
          <p:cNvPicPr/>
          <p:nvPr/>
        </p:nvPicPr>
        <p:blipFill>
          <a:blip r:embed="rId1"/>
          <a:stretch/>
        </p:blipFill>
        <p:spPr>
          <a:xfrm>
            <a:off x="3059280" y="3860640"/>
            <a:ext cx="4822560" cy="2764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6:35:21Z</dcterms:created>
  <dc:creator>Admin</dc:creator>
  <dc:description/>
  <dc:language>en-US</dc:language>
  <cp:lastModifiedBy>Admin</cp:lastModifiedBy>
  <dcterms:modified xsi:type="dcterms:W3CDTF">2013-04-21T18:51:43Z</dcterms:modified>
  <cp:revision>5</cp:revision>
  <dc:subject/>
  <dc:title>Сталинградская битва </dc:title>
</cp:coreProperties>
</file>