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B9CEE-F505-4962-894D-03F66668F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7CCA6-5FA0-44DC-B8D0-699FD5CD8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E5BAC-6BDE-4CEB-A53A-F9C650809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132C0-3C47-421D-BD3E-8ABF3D777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C8D75-03C8-44DF-B575-4CF1FD475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84ADE-CA8C-4A9B-B84A-C070F52D0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BE780-5537-4E9F-8FEA-076F294E3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7F00F-4673-42E6-AB0F-2671F4433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58345-44B3-4B0D-808F-62BED30B2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75D59-972D-4CC4-BD24-17B80E3F4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ADBF9-1190-403C-AD91-72BA6998B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6E24F-20C4-4D9B-8C88-3555FE6ED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DB5B6-D1DA-4EA6-A088-C93404521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DD22E-BA2F-4EE4-AA23-5697D74B4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FCE2E-D1A6-48B4-86C9-EE88336EF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FF2F1-0409-4D88-A01C-2E098F8A0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1C26A-E4F1-4D35-AC36-C84EBF560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F78EE-2DA7-4825-B68E-C42BF96F9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A16A7-8CF5-421D-AE27-461CEE9A2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1926E-2CE9-425F-BDD9-C884C9BC3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297FB-2D6C-4736-833A-284F14B3A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3015E-3F0F-455A-86ED-250EBC0F0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50163-25CE-4206-9463-C0738AF01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41C61-482D-4347-B799-10359940A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71F0E-5CB2-4FEF-B732-2F0775035A33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A6EAE-A35D-44F9-B4FF-7EBCA80DC448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30033"/>
                </a:solidFill>
                <a:latin typeface="Times New Roman"/>
              </a:rPr>
              <a:t>Сталинградская битва 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алинград – это гимн беспредельному мужеству и героизму его защитников, всех воинов нашего Отечества, которыми до сегодняшнего дня восхищается весь мир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12 сентября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гда противник в плотную подошел к городу также с запада и юго-запада, оборона огромного центра была возложена на 62-ю армию генерал-лейтенанта В. И. Чуйкова и 64-ю армию генерал-майора М. С. Шумилов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13 сентября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защитников города в его центральной части обрушился мощный удар двух вражеских группировок. В первой из них шли на штурм города до 100 танков и штурмовых орудий, во второй – 250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6" descr="Продвижение немецких танков"/>
          <p:cNvPicPr/>
          <p:nvPr/>
        </p:nvPicPr>
        <p:blipFill>
          <a:blip r:embed="rId1"/>
          <a:stretch/>
        </p:blipFill>
        <p:spPr>
          <a:xfrm>
            <a:off x="2268360" y="3738600"/>
            <a:ext cx="4132440" cy="31194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ступление вражеских группировок поддерживалось массированными ударами авиац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7" descr="4993"/>
          <p:cNvPicPr/>
          <p:nvPr/>
        </p:nvPicPr>
        <p:blipFill>
          <a:blip r:embed="rId1"/>
          <a:stretch/>
        </p:blipFill>
        <p:spPr>
          <a:xfrm>
            <a:off x="1692360" y="3141720"/>
            <a:ext cx="5832360" cy="35402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15 сентября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очью А. И. Родимцеву удалось переправить на правый берег Волги свыше 6 тыс. человек. Подразделения дивизии неожиданно для противника с ходу вступили в бой. К концу дня весь район города был отчищен от гитлеровце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16 сентября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ночь на 16 сентября на правый берег переправились остальные силы дивизии. Им удалось вернуть мамаев курган и вокзал, который затем 13 раз переходил из рук в ру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15 октября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мецко-фашистские войска на узком участке прорвались к Волге в районе Сталинградского тракторного завод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8" descr="stalingrad"/>
          <p:cNvPicPr/>
          <p:nvPr/>
        </p:nvPicPr>
        <p:blipFill>
          <a:blip r:embed="rId1"/>
          <a:stretch/>
        </p:blipFill>
        <p:spPr>
          <a:xfrm>
            <a:off x="1835280" y="3068640"/>
            <a:ext cx="5400720" cy="33386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Завершение оборонительного периода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лан гитлеровского командования, рассчитанный на быстрое овладение Сталинградом, а также план всей летне-осенней кампании 1942 были сорваны. Советские войска измотали и обескровили главную группировку противника, действовавшею под Сталинградом, создав благоприятные условия для контрнаступл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Наступательная операция «Уран»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ступательная операция началась 19 ноября 1942 года. План контрнаступления был разработан в ходе оборонительной операции, когда гитлеровское командование готовило решающий штурм город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5" descr="Панорама разрушенного Сталинграда"/>
          <p:cNvPicPr/>
          <p:nvPr/>
        </p:nvPicPr>
        <p:blipFill>
          <a:blip r:embed="rId1"/>
          <a:stretch/>
        </p:blipFill>
        <p:spPr>
          <a:xfrm>
            <a:off x="2916360" y="3789360"/>
            <a:ext cx="4176720" cy="27320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тром 19 ноября сильнейшие удары по врагу нанесли войска Юго-Западного и Донского фронтов. Наступлению, начавшемуся в 8 часов 50 минут, предшествовала мощная 80-минутная артиллерийская подготовка: на участках прорыва огонь на врага обрушили около 3500 орудий и миномет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20 ноября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операцию «Уран» включился Сталинградский фронт. К исходу дня ударные группировки наступавших на встречу друг другу ударных фронтов прорвались в расположение противника на глубину до 40 км, пройдя каждая треть пути до района Калач, Советский, где им предстояло встретится и завершить окружение противни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Сталинград… Это гимн мужеству и героизму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алинградская битва -  это стратегические оборонительная (17июля – 18 ноября 1942 г.) и наступательная (19 ноября 1942 г. – 2 февраля 1943 г. ) операции, проведенные советскими войсками с целью обороны Сталинграда и разгрома действовавшей на Сталинградском направлении крупной группировки немецко-фашистских войск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23 ноября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изошла историческая встреча войск Юго-Западного и Сталинградского фронто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5" descr="Начало контрнаступления"/>
          <p:cNvPicPr/>
          <p:nvPr/>
        </p:nvPicPr>
        <p:blipFill>
          <a:blip r:embed="rId1"/>
          <a:stretch/>
        </p:blipFill>
        <p:spPr>
          <a:xfrm>
            <a:off x="1835280" y="2565360"/>
            <a:ext cx="5715000" cy="36878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25 ноября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дтянувшиеся войска образовали внешний фронт окружения, хотя он не был еще сплошным. Внутренний фронт окружения имел протяженность около 200 км. С подходом стрелковых соединений был создан сплошной внутренний фронт окруж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30 ноября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ветские войска сжали кольцо окружения, сократив более чем в двое территорию, занимаемую противником, но рассечь и уничтожить его группировку не смогли в связи с недостатком сил. В то же время был образован более чем 500- км внешний фронт оруж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12 декабря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мецко-фашистское командование предприняло попытку деблокировать свои окруженные войска ударом из района Котельниковског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16 декабря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вернулось наступление советских войск на Среднем Дону с целью развития контрнаступления. Оно вынудило немецко-фашистское командование окончательно отказаться от мысли деблокировать окруженную группировк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10 января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йска фронта перешли в наступление, которому предшествовала мощная артиллерийская и авиационная подготовк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5" descr="Мощные артиллерийские и ракетные залпы возвестили о начале контрнаступления Советской Армии"/>
          <p:cNvPicPr/>
          <p:nvPr/>
        </p:nvPicPr>
        <p:blipFill>
          <a:blip r:embed="rId1"/>
          <a:stretch/>
        </p:blipFill>
        <p:spPr>
          <a:xfrm>
            <a:off x="3419640" y="2997360"/>
            <a:ext cx="3528720" cy="36003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31 января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екратила сопротивление южная группа войск 6-й армии во главе с генерал -фельдмаршалом Ф. Паулюсом, а 2 февраля капитулировала северна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5" descr="Панорама разрушенного Сталинграда"/>
          <p:cNvPicPr/>
          <p:nvPr/>
        </p:nvPicPr>
        <p:blipFill>
          <a:blip r:embed="rId1"/>
          <a:stretch/>
        </p:blipFill>
        <p:spPr>
          <a:xfrm>
            <a:off x="2340000" y="3357720"/>
            <a:ext cx="4321080" cy="32256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10 января – 2 февраля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йска Донского фронта взяли в плен свыше 91 тыс. солдат и офицеров противника, в том числе свыше 2500 офицеров и 24 генерала, около 140 тыс. было убито в ходе наступления. 2 февраля1943 года завершится наступательная операция полным разгромом противни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боту выполнял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ченицы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 “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ГБОУ СОШ №66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фанкина Екатерин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злова Виктори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читель: Гаврилова Т.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13716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Сталинградской битве в разное время участвовали войска Сталинградского, Юго-Восточного, Юго-Западного, Донского, левого крыла Воронежского фронта, волжская военная флотилия и Сталинградский корпусной район ПВО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Лето 1942 года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8121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льзуясь отсутствием второго фронта в Европе, гитлеровское командование продолжало наращивать военные усилия на восточном фронте. Немецко-фашистские войска предприняли крупное наступление на южном крыле советско-германского фронта с целью выхода в нефтеносные районы Кавказа и плодородные районы Дона, Кубани, Нижней Волг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755280" y="1483920"/>
            <a:ext cx="8388360" cy="474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рвоочередной их задачей было прорваться к Волге и захватить Сталинград – важнейший стратегический пункт и крупный промышленный центр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16" descr="d69088edf488"/>
          <p:cNvPicPr/>
          <p:nvPr/>
        </p:nvPicPr>
        <p:blipFill>
          <a:blip r:embed="rId1"/>
          <a:stretch/>
        </p:blipFill>
        <p:spPr>
          <a:xfrm>
            <a:off x="3635280" y="3284640"/>
            <a:ext cx="5230800" cy="34160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ород сам вставал в оборону: формировались части народного ополчения, перестраивались на военный лад промышленные предприятия, десятки тысяч сталинградцев строили оборонительные обвод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5" descr="Жители города на строительстве оборонительных сооружений"/>
          <p:cNvPicPr/>
          <p:nvPr/>
        </p:nvPicPr>
        <p:blipFill>
          <a:blip r:embed="rId1"/>
          <a:stretch/>
        </p:blipFill>
        <p:spPr>
          <a:xfrm>
            <a:off x="5580000" y="3716280"/>
            <a:ext cx="3564000" cy="31417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23 июля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орьба за главную полосу началась 23 июля. Противник пытался охватывающими ударами по флангам советских войск в большой излучине Дона окружить их, выйти в районе Калача и с запада прорваться к Сталинград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19 августа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мецко-фашистские войска возобновили наступление, стремясь овладеть Сталинградом одновременными ударами с запада и юго-запад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23 августа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тивник попытался ударом с севера вдоль Волги овладеть районом города, где располагались заводы, прорвавшись узким коридором к Волге в районе поселка Рынок и захватив плацдарм на ее правом берег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6" descr="1296621914_stalingrad_15"/>
          <p:cNvPicPr/>
          <p:nvPr/>
        </p:nvPicPr>
        <p:blipFill>
          <a:blip r:embed="rId1"/>
          <a:stretch/>
        </p:blipFill>
        <p:spPr>
          <a:xfrm>
            <a:off x="3059280" y="3860640"/>
            <a:ext cx="4822560" cy="27640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24T16:35:21Z</dcterms:created>
  <dc:creator>Admin</dc:creator>
  <dc:description/>
  <dc:language>en-US</dc:language>
  <cp:lastModifiedBy>Admin</cp:lastModifiedBy>
  <dcterms:modified xsi:type="dcterms:W3CDTF">2013-04-21T18:51:43Z</dcterms:modified>
  <cp:revision>5</cp:revision>
  <dc:subject/>
  <dc:title>Сталинградская битва </dc:title>
</cp:coreProperties>
</file>