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gif" ContentType="image/gif"/>
  <Override PartName="/ppt/media/image16.png" ContentType="image/png"/>
  <Override PartName="/ppt/media/image10.png" ContentType="image/png"/>
  <Override PartName="/ppt/media/image6.jpeg" ContentType="image/jpeg"/>
  <Override PartName="/ppt/media/image15.gif" ContentType="image/gif"/>
  <Override PartName="/ppt/media/image1.png" ContentType="image/png"/>
  <Override PartName="/ppt/media/image14.gif" ContentType="image/gif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1.gif" ContentType="image/gif"/>
  <Override PartName="/ppt/media/image8.png" ContentType="image/png"/>
  <Override PartName="/ppt/media/image7.png" ContentType="image/png"/>
  <Override PartName="/ppt/media/image12.png" ContentType="image/png"/>
  <Override PartName="/ppt/media/image17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B7F5-F38D-459F-9701-CD0D065BE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A3E1-C158-4CA1-923B-0618F2D1F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36DB-0434-4E69-BB62-F02F14FE0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7B24-A38E-43B0-8ECD-E3C09919C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43A32-C630-46B7-9CA0-444E3B9D5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504BB-7E86-4A02-823B-E5997A4D1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75C85-7132-4233-A546-6CFD87E33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0B7AC-E962-4B97-BF0F-FF1167DAF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5CF34-DD8F-4267-816B-C8CC73B3D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3D52F-8264-402C-B144-A503FF527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B8D58-923C-4037-B74D-1B9F84303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C014-8F7D-43CE-8CCC-3363F7080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04769-D6F5-484E-85BB-4B1DBDABB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D5627-D1DB-4E39-9907-92587B43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6F341-9EDA-4B47-A594-D8B45B90B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61409-9088-401F-8EF5-39ED160F6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0DFC2-49C6-4F5D-A719-4D7BA532A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A92AAD-2B24-469C-A689-BA18B5EE5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A42C48-1014-42E6-BCAC-6EA1283D7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F7CDF1-3D1B-4578-89BC-345F6E27D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C6D1FB-CDEC-4528-83BA-738CDED02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8EE031-1037-439C-942A-D2AABC0C3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44A3-F49A-423A-8EE9-7B8171CFC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0125A0-DC38-46A7-895C-4DD0B46C4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635BE5-9F1E-42AB-AF60-39B04913C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DF0940-2499-4098-BDBF-9F601686E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EFDBD6-1F72-4A12-A13D-22CFE5D58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35C5DB-A83F-4D65-AA8A-630551408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9B10FD-6743-433D-8F3F-47E96F0A0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DBD4FE-53B1-4610-B0DD-3344781C2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EA814-D129-4257-9049-CB5F0C570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5C57A-BD4F-49EA-8177-EED7A28C6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9E809-EB9C-40D0-9E90-F4C1867A6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87D8-A4AB-416F-B151-364E344AD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39322-A203-455C-A40E-78E9ABD73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06120-1CFE-4464-BB2B-AC9CAD2B4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BE949-F7F5-422A-9292-A8A77FD97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EF4DB0-D02F-49E4-9DA8-6982636A5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F2531-0F89-4EB3-80EE-1E0BA34D2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24AC5-FF05-4660-9E69-BAABFE9D5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B4F9E-047D-466E-8377-073A05EA5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F98CC-7571-4D49-BEDE-2E59E37DE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21996-3754-42DB-A76B-E534CCC70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1365-B9E5-4601-A211-D68375DE7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0696-A8DA-45A6-89A2-E1F9A50FC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82EF-3591-432C-881B-840F0930E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C0B9-9EFA-4C81-8C70-C7D8DE369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FCF1-3AD0-4828-9388-38A9052BC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ea15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ea15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feb80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657360" indent="-246240">
              <a:spcBef>
                <a:spcPts val="300"/>
              </a:spcBef>
              <a:buClr>
                <a:srgbClr val="ea157a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2" marL="922320" indent="-218880">
              <a:spcBef>
                <a:spcPts val="300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3" marL="1179360" indent="-199800">
              <a:spcBef>
                <a:spcPts val="300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4" marL="1389240" indent="-182880">
              <a:spcBef>
                <a:spcPts val="300"/>
              </a:spcBef>
              <a:buClr>
                <a:srgbClr val="feb80a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ea157a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ea157a"/>
                </a:solidFill>
                <a:latin typeface="Cambr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EB635-B24B-42BF-AF93-E9FB2EDB8CDE}" type="slidenum">
              <a:rPr b="0" lang="ru-RU" sz="24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ea15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ea157a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ea157a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ea157a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ea15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feb80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657360" indent="-246240">
              <a:spcBef>
                <a:spcPts val="300"/>
              </a:spcBef>
              <a:buClr>
                <a:srgbClr val="ea157a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2" marL="922320" indent="-218880">
              <a:spcBef>
                <a:spcPts val="300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3" marL="1179360" indent="-199800">
              <a:spcBef>
                <a:spcPts val="300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4" marL="1389240" indent="-182880">
              <a:spcBef>
                <a:spcPts val="300"/>
              </a:spcBef>
              <a:buClr>
                <a:srgbClr val="feb80a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ea157a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ea157a"/>
                </a:solidFill>
                <a:latin typeface="Cambr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6EF43-17AF-421C-915D-D7BA8764DB47}" type="slidenum">
              <a:rPr b="0" lang="ru-RU" sz="24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ea15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ea15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feb80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657360" indent="-246240">
              <a:spcBef>
                <a:spcPts val="300"/>
              </a:spcBef>
              <a:buClr>
                <a:srgbClr val="ea157a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2" marL="922320" indent="-218880">
              <a:spcBef>
                <a:spcPts val="300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3" marL="1179360" indent="-199800">
              <a:spcBef>
                <a:spcPts val="300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4" marL="1389240" indent="-182880">
              <a:spcBef>
                <a:spcPts val="300"/>
              </a:spcBef>
              <a:buClr>
                <a:srgbClr val="feb80a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ea157a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ea157a"/>
                </a:solidFill>
                <a:latin typeface="Cambr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35E35-F395-47FC-9B0C-B197DE9BE02E}" type="slidenum">
              <a:rPr b="0" lang="ru-RU" sz="24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ea15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ea15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feb80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657360" indent="-246240">
              <a:spcBef>
                <a:spcPts val="300"/>
              </a:spcBef>
              <a:buClr>
                <a:srgbClr val="ea157a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2" marL="922320" indent="-218880">
              <a:spcBef>
                <a:spcPts val="300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3" marL="1179360" indent="-199800">
              <a:spcBef>
                <a:spcPts val="300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4" marL="1389240" indent="-182880">
              <a:spcBef>
                <a:spcPts val="300"/>
              </a:spcBef>
              <a:buClr>
                <a:srgbClr val="feb80a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ea157a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ea157a"/>
                </a:solidFill>
                <a:latin typeface="Cambr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4512B-CBC5-4F7E-80CE-931391F1837A}" type="slidenum">
              <a:rPr b="0" lang="ru-RU" sz="24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png"/><Relationship Id="rId3" Type="http://schemas.openxmlformats.org/officeDocument/2006/relationships/image" Target="../media/image13.gif"/><Relationship Id="rId4" Type="http://schemas.openxmlformats.org/officeDocument/2006/relationships/image" Target="../media/image14.gif"/><Relationship Id="rId5" Type="http://schemas.openxmlformats.org/officeDocument/2006/relationships/image" Target="../media/image11.gif"/><Relationship Id="rId6" Type="http://schemas.openxmlformats.org/officeDocument/2006/relationships/image" Target="../media/image15.gif"/><Relationship Id="rId7" Type="http://schemas.openxmlformats.org/officeDocument/2006/relationships/image" Target="../media/image11.gif"/><Relationship Id="rId8" Type="http://schemas.openxmlformats.org/officeDocument/2006/relationships/image" Target="../media/image11.gif"/><Relationship Id="rId9" Type="http://schemas.openxmlformats.org/officeDocument/2006/relationships/image" Target="../media/image16.png"/><Relationship Id="rId10" Type="http://schemas.openxmlformats.org/officeDocument/2006/relationships/image" Target="../media/image17.wmf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Заголовок 1" descr=""/>
          <p:cNvPicPr/>
          <p:nvPr/>
        </p:nvPicPr>
        <p:blipFill>
          <a:blip r:embed="rId1"/>
          <a:stretch/>
        </p:blipFill>
        <p:spPr>
          <a:xfrm>
            <a:off x="457200" y="1841400"/>
            <a:ext cx="8461440" cy="2340000"/>
          </a:xfrm>
          <a:prstGeom prst="rect">
            <a:avLst/>
          </a:prstGeom>
          <a:ln w="0">
            <a:noFill/>
          </a:ln>
        </p:spPr>
      </p:pic>
      <p:pic>
        <p:nvPicPr>
          <p:cNvPr id="215" name="Подзаголовок 2" descr=""/>
          <p:cNvPicPr/>
          <p:nvPr/>
        </p:nvPicPr>
        <p:blipFill>
          <a:blip r:embed="rId2"/>
          <a:stretch/>
        </p:blipFill>
        <p:spPr>
          <a:xfrm>
            <a:off x="1785960" y="4621320"/>
            <a:ext cx="589428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9" descr="50fa9609271314dbf1db96f3b7f4ef0b"/>
          <p:cNvPicPr/>
          <p:nvPr/>
        </p:nvPicPr>
        <p:blipFill>
          <a:blip r:embed="rId1"/>
          <a:stretch/>
        </p:blipFill>
        <p:spPr>
          <a:xfrm>
            <a:off x="7059600" y="4365720"/>
            <a:ext cx="1994040" cy="23032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7" descr="616b605d6a17"/>
          <p:cNvPicPr/>
          <p:nvPr/>
        </p:nvPicPr>
        <p:blipFill>
          <a:blip r:embed="rId2"/>
          <a:stretch/>
        </p:blipFill>
        <p:spPr>
          <a:xfrm>
            <a:off x="1979640" y="2708280"/>
            <a:ext cx="5689440" cy="2879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97c09fa0459e5fcc433e93f7ce4b3eac"/>
          <p:cNvPicPr/>
          <p:nvPr/>
        </p:nvPicPr>
        <p:blipFill>
          <a:blip r:embed="rId3">
            <a:lum bright="-18000"/>
          </a:blip>
          <a:stretch/>
        </p:blipFill>
        <p:spPr>
          <a:xfrm>
            <a:off x="5435640" y="3611520"/>
            <a:ext cx="1728720" cy="17287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2" descr="1704087f7398b7526373f1b6516a7e8e"/>
          <p:cNvPicPr/>
          <p:nvPr/>
        </p:nvPicPr>
        <p:blipFill>
          <a:blip r:embed="rId4"/>
          <a:stretch/>
        </p:blipFill>
        <p:spPr>
          <a:xfrm>
            <a:off x="4067280" y="981000"/>
            <a:ext cx="1652400" cy="16398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3" descr="50fa9609271314dbf1db96f3b7f4ef0b"/>
          <p:cNvPicPr/>
          <p:nvPr/>
        </p:nvPicPr>
        <p:blipFill>
          <a:blip r:embed="rId5"/>
          <a:stretch/>
        </p:blipFill>
        <p:spPr>
          <a:xfrm>
            <a:off x="826920" y="719280"/>
            <a:ext cx="1970280" cy="22762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5" descr="00814d960bce3fb6809b34c01327b649"/>
          <p:cNvPicPr/>
          <p:nvPr/>
        </p:nvPicPr>
        <p:blipFill>
          <a:blip r:embed="rId6"/>
          <a:stretch/>
        </p:blipFill>
        <p:spPr>
          <a:xfrm flipH="1">
            <a:off x="9143640" y="2060640"/>
            <a:ext cx="1476360" cy="12970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8" descr="50fa9609271314dbf1db96f3b7f4ef0b"/>
          <p:cNvPicPr/>
          <p:nvPr/>
        </p:nvPicPr>
        <p:blipFill>
          <a:blip r:embed="rId7"/>
          <a:stretch/>
        </p:blipFill>
        <p:spPr>
          <a:xfrm>
            <a:off x="4500720" y="1844640"/>
            <a:ext cx="2016000" cy="23036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29" descr="50fa9609271314dbf1db96f3b7f4ef0b"/>
          <p:cNvPicPr/>
          <p:nvPr/>
        </p:nvPicPr>
        <p:blipFill>
          <a:blip r:embed="rId8"/>
          <a:stretch/>
        </p:blipFill>
        <p:spPr>
          <a:xfrm flipH="1">
            <a:off x="2987640" y="1557360"/>
            <a:ext cx="2394000" cy="2521080"/>
          </a:xfrm>
          <a:prstGeom prst="rect">
            <a:avLst/>
          </a:prstGeom>
          <a:ln w="0">
            <a:noFill/>
          </a:ln>
        </p:spPr>
      </p:pic>
      <p:pic>
        <p:nvPicPr>
          <p:cNvPr id="258" name="птич4001.wav" descr=""/>
          <p:cNvPicPr/>
          <p:nvPr/>
        </p:nvPicPr>
        <p:blipFill>
          <a:blip r:embed="rId9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59" name="Ink 46" descr=""/>
          <p:cNvPicPr/>
          <p:nvPr/>
        </p:nvPicPr>
        <p:blipFill>
          <a:blip r:embed="rId10"/>
          <a:stretch/>
        </p:blipFill>
        <p:spPr>
          <a:xfrm>
            <a:off x="3505320" y="4319640"/>
            <a:ext cx="176040" cy="6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2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3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3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" dur="30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30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3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3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" dur="30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30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5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4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3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3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54" nodeType="afterEffect" fill="hold" presetClass="exit" presetID="2" presetSubtype="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" dur="30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30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3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3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64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4.81481E-006 C 0.06892 -4.81481E-006 0.125 0.07477 0.125 0.16667 C 0.125 0.25857 0.06892 0.33334 4.44444E-006 0.33334 C -0.06893 0.33334 -0.125 0.25857 -0.125 0.16667 C -0.125 0.07477 -0.06893 -4.81481E-006 4.44444E-006 -4.81481E-006 Z">
                                      <p:cBhvr>
                                        <p:cTn id="65" dur="200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67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" dur="30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30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35000"/>
                            </p:stCondLst>
                            <p:childTnLst>
                              <p:par>
                                <p:cTn id="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3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3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38000"/>
                            </p:stCondLst>
                            <p:childTnLst>
                              <p:par>
                                <p:cTn id="77" nodeType="after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8" dur="30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41000"/>
                            </p:stCondLst>
                            <p:childTnLst>
                              <p:par>
                                <p:cTn id="82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8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3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3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47000"/>
                            </p:stCondLst>
                            <p:childTnLst>
                              <p:par>
                                <p:cTn id="9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3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3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4e5b6f"/>
                </a:solidFill>
                <a:latin typeface="Calibri"/>
              </a:rPr>
              <a:t>Лот 1</a:t>
            </a:r>
            <a:endParaRPr b="0" lang="en-US" sz="72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2249640"/>
            <a:ext cx="4038480" cy="4525920"/>
          </a:xfrm>
          <a:prstGeom prst="rect">
            <a:avLst/>
          </a:prstGeom>
          <a:solidFill>
            <a:srgbClr val="ccedb1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feb80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buClr>
                <a:srgbClr val="feb80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Не товар, а просто      клад 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buClr>
                <a:srgbClr val="feb80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648320" y="2249640"/>
            <a:ext cx="4038480" cy="4525920"/>
          </a:xfrm>
          <a:prstGeom prst="rect">
            <a:avLst/>
          </a:prstGeom>
          <a:solidFill>
            <a:srgbClr val="94f0e4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feb80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buClr>
                <a:srgbClr val="feb80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buClr>
                <a:srgbClr val="feb80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buClr>
                <a:srgbClr val="feb80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Имя существительное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4e5b6f"/>
                </a:solidFill>
                <a:latin typeface="Calibri"/>
              </a:rPr>
              <a:t>Лот 2</a:t>
            </a:r>
            <a:endParaRPr b="0" lang="en-US" sz="72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285840" y="2249640"/>
            <a:ext cx="4209840" cy="4525920"/>
          </a:xfrm>
          <a:prstGeom prst="rect">
            <a:avLst/>
          </a:prstGeom>
          <a:solidFill>
            <a:srgbClr val="ccedb1"/>
          </a:solidFill>
          <a:ln w="0">
            <a:noFill/>
          </a:ln>
        </p:spPr>
        <p:txBody>
          <a:bodyPr anchor="t">
            <a:normAutofit fontScale="89000"/>
          </a:bodyPr>
          <a:p>
            <a:pPr marL="324720" indent="-22716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У существительных                                                                              без нас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24720" indent="-227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Не жизнь,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24720" indent="-22716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а просто скука!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24720" indent="-22716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Ни цвета нет у них подчас,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24720" indent="-22716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Ни запаха, ни звука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24720" indent="-227160">
              <a:spcBef>
                <a:spcPts val="300"/>
              </a:spcBef>
              <a:buClr>
                <a:srgbClr val="feb80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648320" y="2249640"/>
            <a:ext cx="4038480" cy="4525920"/>
          </a:xfrm>
          <a:prstGeom prst="rect">
            <a:avLst/>
          </a:prstGeom>
          <a:solidFill>
            <a:srgbClr val="94f0e4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feb80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buClr>
                <a:srgbClr val="feb80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buClr>
                <a:srgbClr val="feb80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Имя прилагательное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4e5b6f"/>
                </a:solidFill>
                <a:latin typeface="Calibri"/>
              </a:rPr>
              <a:t>Лот 3</a:t>
            </a:r>
            <a:endParaRPr b="0" lang="en-US" sz="72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2249640"/>
            <a:ext cx="4038480" cy="4525920"/>
          </a:xfrm>
          <a:prstGeom prst="rect">
            <a:avLst/>
          </a:prstGeom>
          <a:solidFill>
            <a:srgbClr val="ccedb1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Что без меня предметы?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Лишь названия.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Летит ракета. Люди строят здания.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Цветут сады, и хлеб в полях растёт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buClr>
                <a:srgbClr val="feb80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648320" y="2249640"/>
            <a:ext cx="4038480" cy="3179520"/>
          </a:xfrm>
          <a:prstGeom prst="rect">
            <a:avLst/>
          </a:prstGeom>
          <a:solidFill>
            <a:srgbClr val="94f0e4"/>
          </a:solidFill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buClr>
                <a:srgbClr val="feb80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 algn="ctr">
              <a:spcBef>
                <a:spcPts val="300"/>
              </a:spcBef>
              <a:buClr>
                <a:srgbClr val="feb80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 algn="ctr">
              <a:spcBef>
                <a:spcPts val="300"/>
              </a:spcBef>
              <a:buClr>
                <a:srgbClr val="feb80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Глагол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4e5b6f"/>
                </a:solidFill>
                <a:latin typeface="Calibri"/>
              </a:rPr>
              <a:t>Лот 4 </a:t>
            </a:r>
            <a:endParaRPr b="0" lang="en-US" sz="72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213840" y="2249640"/>
            <a:ext cx="4643640" cy="4525920"/>
          </a:xfrm>
          <a:prstGeom prst="rect">
            <a:avLst/>
          </a:prstGeom>
          <a:solidFill>
            <a:srgbClr val="ccedb1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Хорошо , красиво, ладно,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Осторожно, аккуратно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Знали вы или не знали,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Какую  часть   речи  сейчас читали?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buClr>
                <a:srgbClr val="feb80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357520" y="2249640"/>
            <a:ext cx="3328920" cy="4525920"/>
          </a:xfrm>
          <a:prstGeom prst="rect">
            <a:avLst/>
          </a:prstGeom>
          <a:solidFill>
            <a:srgbClr val="8be6ff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feb80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buClr>
                <a:srgbClr val="feb80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buClr>
                <a:srgbClr val="feb80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 algn="ctr">
              <a:spcBef>
                <a:spcPts val="300"/>
              </a:spcBef>
              <a:buClr>
                <a:srgbClr val="feb80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Наречие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C:\Documents and Settings\UserXP\Рабочий стол\к уроку\Новая папка\0_755a8_fb4088f6_L.jpeg"/>
          <p:cNvPicPr/>
          <p:nvPr/>
        </p:nvPicPr>
        <p:blipFill>
          <a:blip r:embed="rId1"/>
          <a:stretch/>
        </p:blipFill>
        <p:spPr>
          <a:xfrm>
            <a:off x="622440" y="420840"/>
            <a:ext cx="3473280" cy="34812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" descr="C:\Documents and Settings\UserXP\Рабочий стол\к уроку\Новая папка\a966aa0e5a60.jpg"/>
          <p:cNvPicPr/>
          <p:nvPr/>
        </p:nvPicPr>
        <p:blipFill>
          <a:blip r:embed="rId2"/>
          <a:stretch/>
        </p:blipFill>
        <p:spPr>
          <a:xfrm>
            <a:off x="4986360" y="3413160"/>
            <a:ext cx="3419280" cy="26035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" descr="C:\Documents and Settings\UserXP\Рабочий стол\к уроку\Новая папка\f897e4a6a829t.jpg"/>
          <p:cNvPicPr/>
          <p:nvPr/>
        </p:nvPicPr>
        <p:blipFill>
          <a:blip r:embed="rId3"/>
          <a:stretch/>
        </p:blipFill>
        <p:spPr>
          <a:xfrm>
            <a:off x="1143000" y="3929040"/>
            <a:ext cx="213372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3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3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3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 rot="10800000">
            <a:off x="785880" y="1096920"/>
            <a:ext cx="46080" cy="46080"/>
          </a:xfrm>
          <a:prstGeom prst="rect">
            <a:avLst/>
          </a:prstGeom>
          <a:solidFill>
            <a:srgbClr val="fff1ce"/>
          </a:solidFill>
          <a:ln w="0">
            <a:noFill/>
          </a:ln>
        </p:spPr>
        <p:txBody>
          <a:bodyPr tIns="360" bIns="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5b6f"/>
                </a:solidFill>
                <a:latin typeface="Calibri"/>
              </a:rPr>
              <a:t>                       </a:t>
            </a:r>
            <a:br>
              <a:rPr sz="2500"/>
            </a:br>
            <a:endParaRPr b="0" lang="en-US" sz="32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feb80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33" name="Picture 2" descr="C:\Documents and Settings\UserXP\Рабочий стол\к семимнару\лента мёбиуса.jpg"/>
          <p:cNvPicPr/>
          <p:nvPr/>
        </p:nvPicPr>
        <p:blipFill>
          <a:blip r:embed="rId1"/>
          <a:stretch/>
        </p:blipFill>
        <p:spPr>
          <a:xfrm>
            <a:off x="1476360" y="1197000"/>
            <a:ext cx="5802480" cy="38656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838224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e5b6f"/>
                </a:solidFill>
                <a:latin typeface="Calibri"/>
              </a:rPr>
              <a:t>   </a:t>
            </a: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71680" y="642960"/>
            <a:ext cx="3286080" cy="1000080"/>
          </a:xfrm>
          <a:prstGeom prst="rect">
            <a:avLst/>
          </a:prstGeom>
          <a:solidFill>
            <a:srgbClr val="8be6ff">
              <a:alpha val="25000"/>
            </a:srgbClr>
          </a:solidFill>
          <a:ln w="12600">
            <a:solidFill>
              <a:srgbClr val="ea157a"/>
            </a:solidFill>
            <a:miter/>
          </a:ln>
        </p:spPr>
        <p:txBody>
          <a:bodyPr anchor="ctr">
            <a:normAutofit/>
          </a:bodyPr>
          <a:p>
            <a:pPr marL="44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3f3f3f"/>
                </a:solidFill>
                <a:latin typeface="Cambria"/>
              </a:rPr>
              <a:t>     </a:t>
            </a:r>
            <a:r>
              <a:rPr b="1" lang="ru-RU" sz="1900" spc="-1" strike="noStrike">
                <a:solidFill>
                  <a:srgbClr val="3f3f3f"/>
                </a:solidFill>
                <a:latin typeface="Cambria"/>
              </a:rPr>
              <a:t>Подведение итогов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00400" y="642960"/>
            <a:ext cx="3429000" cy="1000080"/>
          </a:xfrm>
          <a:prstGeom prst="rect">
            <a:avLst/>
          </a:prstGeom>
          <a:solidFill>
            <a:srgbClr val="61b6ff">
              <a:alpha val="25000"/>
            </a:srgbClr>
          </a:solidFill>
          <a:ln w="12600">
            <a:solidFill>
              <a:srgbClr val="ea157a"/>
            </a:solidFill>
            <a:miter/>
          </a:ln>
        </p:spPr>
        <p:txBody>
          <a:bodyPr anchor="ctr">
            <a:normAutofit/>
          </a:bodyPr>
          <a:p>
            <a:pPr marL="44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3f3f3f"/>
                </a:solidFill>
                <a:latin typeface="Cambria"/>
              </a:rPr>
              <a:t>          </a:t>
            </a:r>
            <a:r>
              <a:rPr b="1" lang="ru-RU" sz="1900" spc="-1" strike="noStrike">
                <a:solidFill>
                  <a:srgbClr val="3f3f3f"/>
                </a:solidFill>
                <a:latin typeface="Cambria"/>
              </a:rPr>
              <a:t>Рефлексия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237" name="Содержимое 4"/>
          <p:cNvGrpSpPr/>
          <p:nvPr/>
        </p:nvGrpSpPr>
        <p:grpSpPr>
          <a:xfrm>
            <a:off x="324000" y="1920960"/>
            <a:ext cx="4162320" cy="4761000"/>
            <a:chOff x="324000" y="1920960"/>
            <a:chExt cx="4162320" cy="4761000"/>
          </a:xfrm>
        </p:grpSpPr>
        <p:pic>
          <p:nvPicPr>
            <p:cNvPr id="238" name="Содержимое 4" descr=""/>
            <p:cNvPicPr/>
            <p:nvPr/>
          </p:nvPicPr>
          <p:blipFill>
            <a:blip r:embed="rId1"/>
            <a:stretch/>
          </p:blipFill>
          <p:spPr>
            <a:xfrm>
              <a:off x="324000" y="1920960"/>
              <a:ext cx="4162320" cy="47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380880" y="2000160"/>
              <a:ext cx="4041720" cy="459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buClr>
                  <a:srgbClr val="feb80a"/>
                </a:buClr>
                <a:buFont typeface="Georgi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Cambria"/>
                </a:rPr>
                <a:t>Сегодня на уроке мы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buClr>
                  <a:srgbClr val="feb80a"/>
                </a:buClr>
                <a:buFont typeface="Georgi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Cambria"/>
                </a:rPr>
                <a:t>Развивали внима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buClr>
                  <a:srgbClr val="feb80a"/>
                </a:buClr>
                <a:buFont typeface="Georgi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Cambria"/>
                </a:rPr>
                <a:t>Наблюдал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buClr>
                  <a:srgbClr val="feb80a"/>
                </a:buClr>
                <a:buFont typeface="Georgi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Cambria"/>
                </a:rPr>
                <a:t>Объяснял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buClr>
                  <a:srgbClr val="feb80a"/>
                </a:buClr>
                <a:buFont typeface="Georgi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Cambria"/>
                </a:rPr>
                <a:t>Делали вывод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buClr>
                  <a:srgbClr val="feb80a"/>
                </a:buClr>
                <a:buFont typeface="Georgi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Cambria"/>
                </a:rPr>
                <a:t>Думал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Содержимое 5"/>
          <p:cNvGrpSpPr/>
          <p:nvPr/>
        </p:nvGrpSpPr>
        <p:grpSpPr>
          <a:xfrm>
            <a:off x="4657680" y="1968480"/>
            <a:ext cx="4162320" cy="4713480"/>
            <a:chOff x="4657680" y="1968480"/>
            <a:chExt cx="4162320" cy="4713480"/>
          </a:xfrm>
        </p:grpSpPr>
        <p:pic>
          <p:nvPicPr>
            <p:cNvPr id="241" name="Содержимое 5" descr=""/>
            <p:cNvPicPr/>
            <p:nvPr/>
          </p:nvPicPr>
          <p:blipFill>
            <a:blip r:embed="rId2"/>
            <a:stretch/>
          </p:blipFill>
          <p:spPr>
            <a:xfrm>
              <a:off x="4657680" y="1968480"/>
              <a:ext cx="4162320" cy="471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4718160" y="2000160"/>
              <a:ext cx="4041720" cy="459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buClr>
                  <a:srgbClr val="feb80a"/>
                </a:buClr>
                <a:buFont typeface="Georgi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0d5a50"/>
                  </a:solidFill>
                  <a:latin typeface="Cambria"/>
                </a:rPr>
                <a:t>Интересно или скучно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buClr>
                  <a:srgbClr val="feb80a"/>
                </a:buClr>
                <a:buFont typeface="Georgi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0d5a50"/>
                  </a:solidFill>
                  <a:latin typeface="Cambria"/>
                </a:rPr>
                <a:t>Оцените свою работу  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buClr>
                  <a:srgbClr val="feb80a"/>
                </a:buClr>
                <a:buFont typeface="Georgi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0d5a50"/>
                  </a:solidFill>
                  <a:latin typeface="Cambria"/>
                </a:rPr>
                <a:t>На уроке я работал активно или нет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buClr>
                  <a:srgbClr val="feb80a"/>
                </a:buClr>
                <a:buFont typeface="Georgi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0d5a50"/>
                  </a:solidFill>
                  <a:latin typeface="Cambria"/>
                </a:rPr>
                <a:t>Своей работой я доволен или нет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buClr>
                  <a:srgbClr val="feb80a"/>
                </a:buClr>
                <a:buFont typeface="Georgi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000000"/>
                  </a:solidFill>
                  <a:latin typeface="Cambria"/>
                </a:rPr>
                <a:t>меня удивило…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0d5a50"/>
                  </a:solidFill>
                  <a:latin typeface="Cambria"/>
                </a:rPr>
                <a:t>     </a:t>
              </a:r>
              <a:r>
                <a:rPr b="0" i="1" lang="ru-RU" sz="2000" spc="-1" strike="noStrike">
                  <a:solidFill>
                    <a:srgbClr val="0d5a50"/>
                  </a:solidFill>
                  <a:latin typeface="Cambria"/>
                </a:rPr>
                <a:t>Урок показался длинным или коротким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buClr>
                  <a:srgbClr val="feb80a"/>
                </a:buClr>
                <a:buFont typeface="Georgi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0d5a50"/>
                  </a:solidFill>
                  <a:latin typeface="Cambria"/>
                </a:rPr>
                <a:t>Моё настроение стало лучше или хуже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buClr>
                  <a:srgbClr val="feb80a"/>
                </a:buClr>
                <a:buFont typeface="Georgi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Заголовок 3"/>
          <p:cNvGrpSpPr/>
          <p:nvPr/>
        </p:nvGrpSpPr>
        <p:grpSpPr>
          <a:xfrm>
            <a:off x="158760" y="1042920"/>
            <a:ext cx="8558280" cy="1262160"/>
            <a:chOff x="158760" y="1042920"/>
            <a:chExt cx="8558280" cy="1262160"/>
          </a:xfrm>
        </p:grpSpPr>
        <p:pic>
          <p:nvPicPr>
            <p:cNvPr id="244" name="Заголовок 3" descr=""/>
            <p:cNvPicPr/>
            <p:nvPr/>
          </p:nvPicPr>
          <p:blipFill>
            <a:blip r:embed="rId1"/>
            <a:stretch/>
          </p:blipFill>
          <p:spPr>
            <a:xfrm>
              <a:off x="158760" y="1042920"/>
              <a:ext cx="8558280" cy="12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428760" y="1071720"/>
              <a:ext cx="82296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ffffff"/>
                  </a:solidFill>
                  <a:latin typeface="Cambria"/>
                </a:rPr>
                <a:t>Домашнее задание: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 txBox="1"/>
          <p:nvPr/>
        </p:nvSpPr>
        <p:spPr>
          <a:xfrm>
            <a:off x="457200" y="2500200"/>
            <a:ext cx="8229600" cy="40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feb80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buClr>
                <a:srgbClr val="feb80a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2.Продолжить рассказ «Пуськи бятые» с иллюстрированием героев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247" name="Блок-схема: перфолента 5"/>
          <p:cNvGrpSpPr/>
          <p:nvPr/>
        </p:nvGrpSpPr>
        <p:grpSpPr>
          <a:xfrm>
            <a:off x="225360" y="609480"/>
            <a:ext cx="8480520" cy="2048040"/>
            <a:chOff x="225360" y="609480"/>
            <a:chExt cx="8480520" cy="2048040"/>
          </a:xfrm>
        </p:grpSpPr>
        <p:pic>
          <p:nvPicPr>
            <p:cNvPr id="248" name="Блок-схема: перфолента 5" descr=""/>
            <p:cNvPicPr/>
            <p:nvPr/>
          </p:nvPicPr>
          <p:blipFill>
            <a:blip r:embed="rId2"/>
            <a:stretch/>
          </p:blipFill>
          <p:spPr>
            <a:xfrm>
              <a:off x="225360" y="609480"/>
              <a:ext cx="8480520" cy="204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285840" y="1028880"/>
              <a:ext cx="8358120" cy="11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Cambria"/>
                </a:rPr>
                <a:t>Домашнее задание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4-21T08:43:02Z</dcterms:modified>
  <cp:revision>39</cp:revision>
  <dc:subject/>
  <dc:title>Урок русского языка 4 класс Тема: «Правописание гласных в суффиксах глаголов прошедшедшего времени».</dc:title>
</cp:coreProperties>
</file>