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0.png" ContentType="image/png"/>
  <Override PartName="/ppt/media/image6.jpeg" ContentType="image/jpeg"/>
  <Override PartName="/ppt/media/image15.gif" ContentType="image/gif"/>
  <Override PartName="/ppt/media/image1.png" ContentType="image/png"/>
  <Override PartName="/ppt/media/image14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1.gif" ContentType="image/gif"/>
  <Override PartName="/ppt/media/image8.png" ContentType="image/png"/>
  <Override PartName="/ppt/media/image7.png" ContentType="image/png"/>
  <Override PartName="/ppt/media/image12.png" ContentType="image/png"/>
  <Override PartName="/ppt/media/image17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FA54-2C7E-4523-87DE-40A2D1473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50D6-906A-4234-B73C-2F8FA8BE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3B9E-D7D9-4D91-9BB3-73E61B82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508F-0FC0-46D8-AE8A-EEEEA262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79EC-6028-4704-BF47-368470545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DCE1-204B-42E5-96BD-987E4DF4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85CA-AC13-456F-B76D-7E68C19F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7695-683A-4D71-AE27-BE05BA28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AB57-52AE-4F81-81D8-67AD42C1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BD75-DF63-4CB4-BADD-178560E8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E134-3280-4F07-9C2E-2F3BADD0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A016-B967-4218-AF82-10578303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3417-A236-4D01-8526-9EFBD7EE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BA82-C104-40C5-B273-DA44071F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8EFD-9CBA-4997-A759-37818A89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03EB-A4C3-4460-8502-8070E04B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761D-38CC-49A2-8B8A-B90610600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B05AEC-3C33-4D07-B3A8-F54795C8D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A46ADD-1165-4498-9FBB-114C1511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0025E7-2C33-4FD5-8567-8F629AA8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E6B954-4607-42BE-8BD3-19481779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6B267D-D831-4D04-A57D-B135398D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0AF0-31E0-41A2-93DD-7209E3EF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B58635-1309-4E6B-B5FF-9CCA3F4A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96E9C4-67FE-4E6D-BA12-6E6D966E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A2C166-6233-42B8-887A-2262BD86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430064-5EFD-4484-A582-57E96A04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58E371-DEEA-462E-95F2-7982B6B5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A02043-5980-4F05-BF7F-46A05149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6F1FF4-E251-4786-BC5D-86A81A55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9BC6D-6E1D-432D-ABB7-F5721557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AC2D0-5F02-4175-8321-E37AC697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5D0BF-0256-4688-A574-5C617F96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F8FA-BE4E-4982-B793-F9F3CFA5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A2095-DF0C-44C6-A440-6035DFEC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17B3D-8B67-4207-8683-E83F16B1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AF9F9-1014-4626-9C09-1A023846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4BB68-B58B-4B4E-9A09-76346EE3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1E9FC-76FB-48F9-A9F9-64DC850F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BC716-757A-47ED-9DB6-F699939E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3998B-EEFB-459D-BDA0-995F94A4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D92A0-2AFE-4692-A860-9449515D3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E9798-67DD-47E0-BC1D-0556C632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9594-9BC6-479C-9A0B-35EE7091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BBE4-A221-41B1-862A-18A77F37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44A9-177B-4E89-9421-A9BDA354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9D25-EAF2-42B9-B0C5-42729D02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D687-4BB2-4004-A299-B3DC11F8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ea15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ea15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57360" indent="-246240">
              <a:spcBef>
                <a:spcPts val="300"/>
              </a:spcBef>
              <a:buClr>
                <a:srgbClr val="ea157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922320" indent="-218880">
              <a:spcBef>
                <a:spcPts val="300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179360" indent="-199800">
              <a:spcBef>
                <a:spcPts val="300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389240" indent="-18288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ea157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a157a"/>
                </a:solidFill>
                <a:latin typeface="Cambr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4B83-5046-4FD4-B630-EF5740BC7D47}" type="slidenum">
              <a:rPr b="0" lang="ru-RU" sz="2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ea15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ea157a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ea157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ea157a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ea15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57360" indent="-246240">
              <a:spcBef>
                <a:spcPts val="300"/>
              </a:spcBef>
              <a:buClr>
                <a:srgbClr val="ea157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922320" indent="-218880">
              <a:spcBef>
                <a:spcPts val="300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179360" indent="-199800">
              <a:spcBef>
                <a:spcPts val="300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389240" indent="-18288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ea157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a157a"/>
                </a:solidFill>
                <a:latin typeface="Cambr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874D-B3A8-4444-864D-7DCD42B1E4DA}" type="slidenum">
              <a:rPr b="0" lang="ru-RU" sz="2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ea15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ea15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57360" indent="-246240">
              <a:spcBef>
                <a:spcPts val="300"/>
              </a:spcBef>
              <a:buClr>
                <a:srgbClr val="ea157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922320" indent="-218880">
              <a:spcBef>
                <a:spcPts val="300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179360" indent="-199800">
              <a:spcBef>
                <a:spcPts val="300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389240" indent="-18288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ea157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a157a"/>
                </a:solidFill>
                <a:latin typeface="Cambr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B230-87D0-42D4-80AB-1124F8857C66}" type="slidenum">
              <a:rPr b="0" lang="ru-RU" sz="2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ea15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ea15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57360" indent="-246240">
              <a:spcBef>
                <a:spcPts val="300"/>
              </a:spcBef>
              <a:buClr>
                <a:srgbClr val="ea157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922320" indent="-218880">
              <a:spcBef>
                <a:spcPts val="300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179360" indent="-199800">
              <a:spcBef>
                <a:spcPts val="300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389240" indent="-18288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ea157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a157a"/>
                </a:solidFill>
                <a:latin typeface="Cambr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A796-83B8-4E09-9FCF-D64C857E4427}" type="slidenum">
              <a:rPr b="0" lang="ru-RU" sz="2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1.gif"/><Relationship Id="rId6" Type="http://schemas.openxmlformats.org/officeDocument/2006/relationships/image" Target="../media/image15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6.png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457200" y="1841400"/>
            <a:ext cx="8461440" cy="2340000"/>
          </a:xfrm>
          <a:prstGeom prst="rect">
            <a:avLst/>
          </a:prstGeom>
          <a:ln w="0">
            <a:noFill/>
          </a:ln>
        </p:spPr>
      </p:pic>
      <p:pic>
        <p:nvPicPr>
          <p:cNvPr id="215" name="Подзаголовок 2" descr=""/>
          <p:cNvPicPr/>
          <p:nvPr/>
        </p:nvPicPr>
        <p:blipFill>
          <a:blip r:embed="rId2"/>
          <a:stretch/>
        </p:blipFill>
        <p:spPr>
          <a:xfrm>
            <a:off x="1785960" y="4621320"/>
            <a:ext cx="58942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9" descr="50fa9609271314dbf1db96f3b7f4ef0b"/>
          <p:cNvPicPr/>
          <p:nvPr/>
        </p:nvPicPr>
        <p:blipFill>
          <a:blip r:embed="rId1"/>
          <a:stretch/>
        </p:blipFill>
        <p:spPr>
          <a:xfrm>
            <a:off x="7059600" y="4365720"/>
            <a:ext cx="1994040" cy="2303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7" descr="616b605d6a17"/>
          <p:cNvPicPr/>
          <p:nvPr/>
        </p:nvPicPr>
        <p:blipFill>
          <a:blip r:embed="rId2"/>
          <a:stretch/>
        </p:blipFill>
        <p:spPr>
          <a:xfrm>
            <a:off x="1979640" y="2708280"/>
            <a:ext cx="5689440" cy="2879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97c09fa0459e5fcc433e93f7ce4b3eac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5435640" y="361152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2" descr="1704087f7398b7526373f1b6516a7e8e"/>
          <p:cNvPicPr/>
          <p:nvPr/>
        </p:nvPicPr>
        <p:blipFill>
          <a:blip r:embed="rId4"/>
          <a:stretch/>
        </p:blipFill>
        <p:spPr>
          <a:xfrm>
            <a:off x="4067280" y="981000"/>
            <a:ext cx="1652400" cy="16398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3" descr="50fa9609271314dbf1db96f3b7f4ef0b"/>
          <p:cNvPicPr/>
          <p:nvPr/>
        </p:nvPicPr>
        <p:blipFill>
          <a:blip r:embed="rId5"/>
          <a:stretch/>
        </p:blipFill>
        <p:spPr>
          <a:xfrm>
            <a:off x="826920" y="719280"/>
            <a:ext cx="1970280" cy="22762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5" descr="00814d960bce3fb6809b34c01327b649"/>
          <p:cNvPicPr/>
          <p:nvPr/>
        </p:nvPicPr>
        <p:blipFill>
          <a:blip r:embed="rId6"/>
          <a:stretch/>
        </p:blipFill>
        <p:spPr>
          <a:xfrm flipH="1">
            <a:off x="9143640" y="2060640"/>
            <a:ext cx="1476360" cy="1297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8" descr="50fa9609271314dbf1db96f3b7f4ef0b"/>
          <p:cNvPicPr/>
          <p:nvPr/>
        </p:nvPicPr>
        <p:blipFill>
          <a:blip r:embed="rId7"/>
          <a:stretch/>
        </p:blipFill>
        <p:spPr>
          <a:xfrm>
            <a:off x="4500720" y="1844640"/>
            <a:ext cx="2016000" cy="2303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9" descr="50fa9609271314dbf1db96f3b7f4ef0b"/>
          <p:cNvPicPr/>
          <p:nvPr/>
        </p:nvPicPr>
        <p:blipFill>
          <a:blip r:embed="rId8"/>
          <a:stretch/>
        </p:blipFill>
        <p:spPr>
          <a:xfrm flipH="1">
            <a:off x="2987640" y="1557360"/>
            <a:ext cx="2394000" cy="2521080"/>
          </a:xfrm>
          <a:prstGeom prst="rect">
            <a:avLst/>
          </a:prstGeom>
          <a:ln w="0">
            <a:noFill/>
          </a:ln>
        </p:spPr>
      </p:pic>
      <p:pic>
        <p:nvPicPr>
          <p:cNvPr id="258" name="птич4001.wav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59" name="Ink 46" descr=""/>
          <p:cNvPicPr/>
          <p:nvPr/>
        </p:nvPicPr>
        <p:blipFill>
          <a:blip r:embed="rId10"/>
          <a:stretch/>
        </p:blipFill>
        <p:spPr>
          <a:xfrm>
            <a:off x="3505320" y="4319640"/>
            <a:ext cx="17604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3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3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" nodeType="afterEffect" fill="hold" presetClass="exit" presetID="2" presetSubtype="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" dur="3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64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81481E-006 C 0.06892 -4.81481E-006 0.125 0.07477 0.125 0.16667 C 0.125 0.25857 0.06892 0.33334 4.44444E-006 0.33334 C -0.06893 0.33334 -0.125 0.25857 -0.125 0.16667 C -0.125 0.07477 -0.06893 -4.81481E-006 4.44444E-006 -4.81481E-006 Z">
                                      <p:cBhvr>
                                        <p:cTn id="65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67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3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77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3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82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8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9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e5b6f"/>
                </a:solidFill>
                <a:latin typeface="Calibri"/>
              </a:rPr>
              <a:t>Лот 1</a:t>
            </a:r>
            <a:endParaRPr b="0" lang="en-US" sz="72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solidFill>
            <a:srgbClr val="ccedb1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Не товар, а просто      клад 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solidFill>
            <a:srgbClr val="94f0e4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Имя существительное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e5b6f"/>
                </a:solidFill>
                <a:latin typeface="Calibri"/>
              </a:rPr>
              <a:t>Лот 2</a:t>
            </a:r>
            <a:endParaRPr b="0" lang="en-US" sz="72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85840" y="2249640"/>
            <a:ext cx="4209840" cy="4525920"/>
          </a:xfrm>
          <a:prstGeom prst="rect">
            <a:avLst/>
          </a:prstGeom>
          <a:solidFill>
            <a:srgbClr val="ccedb1"/>
          </a:solidFill>
          <a:ln w="0">
            <a:noFill/>
          </a:ln>
        </p:spPr>
        <p:txBody>
          <a:bodyPr anchor="t">
            <a:normAutofit fontScale="89000"/>
          </a:bodyPr>
          <a:p>
            <a:pPr marL="324720" indent="-22716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У существительных                                                                              без нас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24720" indent="-227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Не жизнь,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24720" indent="-22716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а просто скука!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24720" indent="-22716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Ни цвета нет у них подчас,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24720" indent="-22716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Ни запаха, ни звука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24720" indent="-22716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solidFill>
            <a:srgbClr val="94f0e4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Имя прилагательное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e5b6f"/>
                </a:solidFill>
                <a:latin typeface="Calibri"/>
              </a:rPr>
              <a:t>Лот 3</a:t>
            </a:r>
            <a:endParaRPr b="0" lang="en-US" sz="72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solidFill>
            <a:srgbClr val="ccedb1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Что без меня предметы?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Лишь названия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Летит ракета. Люди строят здания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Цветут сады, и хлеб в полях растёт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48320" y="2249640"/>
            <a:ext cx="4038480" cy="3179520"/>
          </a:xfrm>
          <a:prstGeom prst="rect">
            <a:avLst/>
          </a:prstGeom>
          <a:solidFill>
            <a:srgbClr val="94f0e4"/>
          </a:solidFill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 algn="ctr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 algn="ctr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Глагол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e5b6f"/>
                </a:solidFill>
                <a:latin typeface="Calibri"/>
              </a:rPr>
              <a:t>Лот 4 </a:t>
            </a:r>
            <a:endParaRPr b="0" lang="en-US" sz="72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13840" y="2249640"/>
            <a:ext cx="4643640" cy="4525920"/>
          </a:xfrm>
          <a:prstGeom prst="rect">
            <a:avLst/>
          </a:prstGeom>
          <a:solidFill>
            <a:srgbClr val="ccedb1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Хорошо , красиво, ладно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сторожно, аккуратно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Знали вы или не знали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Какую  часть   речи  сейчас читали?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57520" y="2249640"/>
            <a:ext cx="3328920" cy="4525920"/>
          </a:xfrm>
          <a:prstGeom prst="rect">
            <a:avLst/>
          </a:prstGeom>
          <a:solidFill>
            <a:srgbClr val="8be6ff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 algn="ctr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Наречие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C:\Documents and Settings\UserXP\Рабочий стол\к уроку\Новая папка\0_755a8_fb4088f6_L.jpeg"/>
          <p:cNvPicPr/>
          <p:nvPr/>
        </p:nvPicPr>
        <p:blipFill>
          <a:blip r:embed="rId1"/>
          <a:stretch/>
        </p:blipFill>
        <p:spPr>
          <a:xfrm>
            <a:off x="622440" y="420840"/>
            <a:ext cx="3473280" cy="34812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C:\Documents and Settings\UserXP\Рабочий стол\к уроку\Новая папка\a966aa0e5a60.jpg"/>
          <p:cNvPicPr/>
          <p:nvPr/>
        </p:nvPicPr>
        <p:blipFill>
          <a:blip r:embed="rId2"/>
          <a:stretch/>
        </p:blipFill>
        <p:spPr>
          <a:xfrm>
            <a:off x="4986360" y="3413160"/>
            <a:ext cx="3419280" cy="2603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C:\Documents and Settings\UserXP\Рабочий стол\к уроку\Новая папка\f897e4a6a829t.jpg"/>
          <p:cNvPicPr/>
          <p:nvPr/>
        </p:nvPicPr>
        <p:blipFill>
          <a:blip r:embed="rId3"/>
          <a:stretch/>
        </p:blipFill>
        <p:spPr>
          <a:xfrm>
            <a:off x="1143000" y="3929040"/>
            <a:ext cx="213372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 rot="10800000">
            <a:off x="785880" y="1096920"/>
            <a:ext cx="46080" cy="4608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5b6f"/>
                </a:solidFill>
                <a:latin typeface="Calibri"/>
              </a:rPr>
              <a:t>                       </a:t>
            </a:r>
            <a:br>
              <a:rPr sz="2500"/>
            </a:br>
            <a:endParaRPr b="0" lang="en-US" sz="32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3" name="Picture 2" descr="C:\Documents and Settings\UserXP\Рабочий стол\к семимнару\лента мёбиуса.jpg"/>
          <p:cNvPicPr/>
          <p:nvPr/>
        </p:nvPicPr>
        <p:blipFill>
          <a:blip r:embed="rId1"/>
          <a:stretch/>
        </p:blipFill>
        <p:spPr>
          <a:xfrm>
            <a:off x="1476360" y="1197000"/>
            <a:ext cx="5802480" cy="38656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5b6f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71680" y="642960"/>
            <a:ext cx="3286080" cy="1000080"/>
          </a:xfrm>
          <a:prstGeom prst="rect">
            <a:avLst/>
          </a:prstGeom>
          <a:solidFill>
            <a:srgbClr val="8be6ff">
              <a:alpha val="25000"/>
            </a:srgbClr>
          </a:solidFill>
          <a:ln w="12600">
            <a:solidFill>
              <a:srgbClr val="ea157a"/>
            </a:solidFill>
            <a:miter/>
          </a:ln>
        </p:spPr>
        <p:txBody>
          <a:bodyPr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f3f3f"/>
                </a:solidFill>
                <a:latin typeface="Cambria"/>
              </a:rPr>
              <a:t>     </a:t>
            </a:r>
            <a:r>
              <a:rPr b="1" lang="ru-RU" sz="1900" spc="-1" strike="noStrike">
                <a:solidFill>
                  <a:srgbClr val="3f3f3f"/>
                </a:solidFill>
                <a:latin typeface="Cambria"/>
              </a:rPr>
              <a:t>Подведение итогов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00400" y="642960"/>
            <a:ext cx="3429000" cy="1000080"/>
          </a:xfrm>
          <a:prstGeom prst="rect">
            <a:avLst/>
          </a:prstGeom>
          <a:solidFill>
            <a:srgbClr val="61b6ff">
              <a:alpha val="25000"/>
            </a:srgbClr>
          </a:solidFill>
          <a:ln w="12600">
            <a:solidFill>
              <a:srgbClr val="ea157a"/>
            </a:solidFill>
            <a:miter/>
          </a:ln>
        </p:spPr>
        <p:txBody>
          <a:bodyPr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f3f3f"/>
                </a:solidFill>
                <a:latin typeface="Cambria"/>
              </a:rPr>
              <a:t>          </a:t>
            </a:r>
            <a:r>
              <a:rPr b="1" lang="ru-RU" sz="1900" spc="-1" strike="noStrike">
                <a:solidFill>
                  <a:srgbClr val="3f3f3f"/>
                </a:solidFill>
                <a:latin typeface="Cambria"/>
              </a:rPr>
              <a:t>Рефлексия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37" name="Содержимое 4"/>
          <p:cNvGrpSpPr/>
          <p:nvPr/>
        </p:nvGrpSpPr>
        <p:grpSpPr>
          <a:xfrm>
            <a:off x="324000" y="1920960"/>
            <a:ext cx="4162320" cy="4761000"/>
            <a:chOff x="324000" y="1920960"/>
            <a:chExt cx="4162320" cy="4761000"/>
          </a:xfrm>
        </p:grpSpPr>
        <p:pic>
          <p:nvPicPr>
            <p:cNvPr id="238" name="Содержимое 4" descr=""/>
            <p:cNvPicPr/>
            <p:nvPr/>
          </p:nvPicPr>
          <p:blipFill>
            <a:blip r:embed="rId1"/>
            <a:stretch/>
          </p:blipFill>
          <p:spPr>
            <a:xfrm>
              <a:off x="324000" y="1920960"/>
              <a:ext cx="416232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80880" y="2000160"/>
              <a:ext cx="4041720" cy="459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feb80a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ambria"/>
                </a:rPr>
                <a:t>Сегодня на уроке мы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feb80a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ambria"/>
                </a:rPr>
                <a:t>Развивали вним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feb80a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ambria"/>
                </a:rPr>
                <a:t>Наблюдал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feb80a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ambria"/>
                </a:rPr>
                <a:t>Объяснял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feb80a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ambria"/>
                </a:rPr>
                <a:t>Делали вывод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feb80a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ambria"/>
                </a:rPr>
                <a:t>Думал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Содержимое 5"/>
          <p:cNvGrpSpPr/>
          <p:nvPr/>
        </p:nvGrpSpPr>
        <p:grpSpPr>
          <a:xfrm>
            <a:off x="4657680" y="1968480"/>
            <a:ext cx="4162320" cy="4713480"/>
            <a:chOff x="4657680" y="1968480"/>
            <a:chExt cx="4162320" cy="4713480"/>
          </a:xfrm>
        </p:grpSpPr>
        <p:pic>
          <p:nvPicPr>
            <p:cNvPr id="241" name="Содержимое 5" descr=""/>
            <p:cNvPicPr/>
            <p:nvPr/>
          </p:nvPicPr>
          <p:blipFill>
            <a:blip r:embed="rId2"/>
            <a:stretch/>
          </p:blipFill>
          <p:spPr>
            <a:xfrm>
              <a:off x="4657680" y="1968480"/>
              <a:ext cx="4162320" cy="471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4718160" y="2000160"/>
              <a:ext cx="4041720" cy="459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feb80a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d5a50"/>
                  </a:solidFill>
                  <a:latin typeface="Cambria"/>
                </a:rPr>
                <a:t>Интересно или скучно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feb80a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d5a50"/>
                  </a:solidFill>
                  <a:latin typeface="Cambria"/>
                </a:rPr>
                <a:t>Оцените свою работу 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feb80a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d5a50"/>
                  </a:solidFill>
                  <a:latin typeface="Cambria"/>
                </a:rPr>
                <a:t>На уроке я работал активно или нет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feb80a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d5a50"/>
                  </a:solidFill>
                  <a:latin typeface="Cambria"/>
                </a:rPr>
                <a:t>Своей работой я доволен или нет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feb80a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Cambria"/>
                </a:rPr>
                <a:t>меня удивило…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d5a50"/>
                  </a:solidFill>
                  <a:latin typeface="Cambria"/>
                </a:rPr>
                <a:t>     </a:t>
              </a:r>
              <a:r>
                <a:rPr b="0" i="1" lang="ru-RU" sz="2000" spc="-1" strike="noStrike">
                  <a:solidFill>
                    <a:srgbClr val="0d5a50"/>
                  </a:solidFill>
                  <a:latin typeface="Cambria"/>
                </a:rPr>
                <a:t>Урок показался длинным или коротким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feb80a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d5a50"/>
                  </a:solidFill>
                  <a:latin typeface="Cambria"/>
                </a:rPr>
                <a:t>Моё настроение стало лучше или хуже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feb80a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Заголовок 3"/>
          <p:cNvGrpSpPr/>
          <p:nvPr/>
        </p:nvGrpSpPr>
        <p:grpSpPr>
          <a:xfrm>
            <a:off x="158760" y="1042920"/>
            <a:ext cx="8558280" cy="1262160"/>
            <a:chOff x="158760" y="1042920"/>
            <a:chExt cx="8558280" cy="1262160"/>
          </a:xfrm>
        </p:grpSpPr>
        <p:pic>
          <p:nvPicPr>
            <p:cNvPr id="244" name="Заголовок 3" descr=""/>
            <p:cNvPicPr/>
            <p:nvPr/>
          </p:nvPicPr>
          <p:blipFill>
            <a:blip r:embed="rId1"/>
            <a:stretch/>
          </p:blipFill>
          <p:spPr>
            <a:xfrm>
              <a:off x="158760" y="1042920"/>
              <a:ext cx="855828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428760" y="1071720"/>
              <a:ext cx="82296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Cambria"/>
                </a:rPr>
                <a:t>Домашнее задание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 txBox="1"/>
          <p:nvPr/>
        </p:nvSpPr>
        <p:spPr>
          <a:xfrm>
            <a:off x="457200" y="2500200"/>
            <a:ext cx="8229600" cy="40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2.Продолжить рассказ «Пуськи бятые» с иллюстрированием героев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47" name="Блок-схема: перфолента 5"/>
          <p:cNvGrpSpPr/>
          <p:nvPr/>
        </p:nvGrpSpPr>
        <p:grpSpPr>
          <a:xfrm>
            <a:off x="225360" y="609480"/>
            <a:ext cx="8480520" cy="2048040"/>
            <a:chOff x="225360" y="609480"/>
            <a:chExt cx="8480520" cy="2048040"/>
          </a:xfrm>
        </p:grpSpPr>
        <p:pic>
          <p:nvPicPr>
            <p:cNvPr id="248" name="Блок-схема: перфолента 5" descr=""/>
            <p:cNvPicPr/>
            <p:nvPr/>
          </p:nvPicPr>
          <p:blipFill>
            <a:blip r:embed="rId2"/>
            <a:stretch/>
          </p:blipFill>
          <p:spPr>
            <a:xfrm>
              <a:off x="225360" y="609480"/>
              <a:ext cx="848052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85840" y="1028880"/>
              <a:ext cx="835812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mbria"/>
                </a:rPr>
                <a:t>Домашнее задание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21T08:43:02Z</dcterms:modified>
  <cp:revision>39</cp:revision>
  <dc:subject/>
  <dc:title>Урок русского языка 4 класс Тема: «Правописание гласных в суффиксах глаголов прошедшедшего времени».</dc:title>
</cp:coreProperties>
</file>