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1.png" ContentType="image/png"/>
  <Override PartName="/ppt/media/image20.gif" ContentType="image/gif"/>
  <Override PartName="/ppt/media/image13.png" ContentType="image/png"/>
  <Override PartName="/ppt/media/image19.gif" ContentType="image/gif"/>
  <Override PartName="/ppt/media/image18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gif" ContentType="image/gif"/>
  <Override PartName="/ppt/media/image4.png" ContentType="image/png"/>
  <Override PartName="/ppt/media/image28.png" ContentType="image/png"/>
  <Override PartName="/ppt/media/image35.gif" ContentType="image/gif"/>
  <Override PartName="/ppt/media/image31.png" ContentType="image/png"/>
  <Override PartName="/ppt/media/image6.png" ContentType="image/png"/>
  <Override PartName="/ppt/media/image37.jpeg" ContentType="image/jpeg"/>
  <Override PartName="/ppt/media/image50.png" ContentType="image/png"/>
  <Override PartName="/ppt/media/image10.gif" ContentType="image/gif"/>
  <Override PartName="/ppt/media/image39.gif" ContentType="image/gif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2.jpeg" ContentType="image/jpeg"/>
  <Override PartName="/ppt/media/image40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52.png" ContentType="image/png"/>
  <Override PartName="/ppt/media/image41.png" ContentType="image/png"/>
  <Override PartName="/ppt/media/image29.png" ContentType="image/png"/>
  <Override PartName="/ppt/media/image36.gif" ContentType="image/gif"/>
  <Override PartName="/ppt/media/image53.png" ContentType="image/png"/>
  <Override PartName="/ppt/media/image30.gif" ContentType="image/gif"/>
  <Override PartName="/ppt/media/image49.png" ContentType="image/png"/>
  <Override PartName="/ppt/media/image12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19C-AD2E-487B-B5F7-4F98BF97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55F-2F7D-4939-A26E-212E2C52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575-D1D5-4170-B0A9-A23D0533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D2B-DBA3-4FB5-9A4B-28D1D47E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054-5016-427B-B11E-B39157A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42A-7852-40F1-80C7-23E755CB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5CD-9777-4185-9492-DF39D96F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ABC-1026-47A6-8A6C-C784E118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DEE-8FF9-4871-835D-1F045482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B77-798E-4191-8C29-25FB4EFC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E4D-ADDB-4395-B7E1-1274526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D5D-0ADA-43E0-8E45-318C2B4A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9848-7A86-4137-920B-F332393DB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3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jpe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4.gif"/><Relationship Id="rId5" Type="http://schemas.openxmlformats.org/officeDocument/2006/relationships/image" Target="../media/image36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44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8fb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11280" y="476280"/>
            <a:ext cx="430056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тный сч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6" descr="ноль"/>
          <p:cNvPicPr/>
          <p:nvPr/>
        </p:nvPicPr>
        <p:blipFill>
          <a:blip r:embed="rId1"/>
          <a:stretch/>
        </p:blipFill>
        <p:spPr>
          <a:xfrm>
            <a:off x="5435640" y="189000"/>
            <a:ext cx="3495600" cy="4705200"/>
          </a:xfrm>
          <a:prstGeom prst="rect">
            <a:avLst/>
          </a:prstGeom>
          <a:ln w="57240">
            <a:solidFill>
              <a:srgbClr val="ccff33"/>
            </a:solidFill>
            <a:miter/>
          </a:ln>
        </p:spPr>
      </p:pic>
      <p:pic>
        <p:nvPicPr>
          <p:cNvPr id="43" name="Picture 7" descr="колобок"/>
          <p:cNvPicPr/>
          <p:nvPr/>
        </p:nvPicPr>
        <p:blipFill>
          <a:blip r:embed="rId2"/>
          <a:stretch/>
        </p:blipFill>
        <p:spPr>
          <a:xfrm>
            <a:off x="395280" y="1844640"/>
            <a:ext cx="4464000" cy="3348000"/>
          </a:xfrm>
          <a:prstGeom prst="rect">
            <a:avLst/>
          </a:prstGeom>
          <a:ln w="38160">
            <a:solidFill>
              <a:srgbClr val="ccff33"/>
            </a:solidFill>
            <a:miter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68436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661920" y="5500800"/>
            <a:ext cx="47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575d1"/>
                </a:solidFill>
                <a:latin typeface="Arial"/>
              </a:rPr>
              <a:t>Задачи в стих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3024360" cy="25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54720" y="196560"/>
            <a:ext cx="3976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Т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ри цыпленка стоят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На скорлупки гля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Три  яичка в гнезде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У наседки лежат.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осчитай поверней,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Отвечай поскорей: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колько будет цыплят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У наседки моей?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6227640" y="836640"/>
            <a:ext cx="2444760" cy="3263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1657440" cy="1281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4"/>
          <a:stretch/>
        </p:blipFill>
        <p:spPr>
          <a:xfrm>
            <a:off x="2124000" y="5300640"/>
            <a:ext cx="1657440" cy="1281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1657080" cy="1281240"/>
          </a:xfrm>
          <a:prstGeom prst="rect">
            <a:avLst/>
          </a:prstGeom>
          <a:ln w="0">
            <a:noFill/>
          </a:ln>
        </p:spPr>
      </p:pic>
      <p:pic>
        <p:nvPicPr>
          <p:cNvPr id="136" name="сл 9.wav" descr=""/>
          <p:cNvPicPr/>
          <p:nvPr/>
        </p:nvPicPr>
        <p:blipFill>
          <a:blip r:embed="rId6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2504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403360" y="331920"/>
            <a:ext cx="4552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с мамой в зоопарке бы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ерей с руки весь день корм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Верблю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зебр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енг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линнохвостую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лис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ого серого 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с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идеть  я едва смо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жите мне скорей, друз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х зверей видала 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если их вы счесть смог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 просто чудо! Молодц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3995640" y="3789360"/>
            <a:ext cx="1619280" cy="21589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7"/>
          <p:cNvGrpSpPr/>
          <p:nvPr/>
        </p:nvGrpSpPr>
        <p:grpSpPr>
          <a:xfrm>
            <a:off x="7308720" y="260280"/>
            <a:ext cx="1549440" cy="2449440"/>
            <a:chOff x="7308720" y="260280"/>
            <a:chExt cx="1549440" cy="2449440"/>
          </a:xfrm>
        </p:grpSpPr>
        <p:pic>
          <p:nvPicPr>
            <p:cNvPr id="50" name="Picture 7" descr=""/>
            <p:cNvPicPr/>
            <p:nvPr/>
          </p:nvPicPr>
          <p:blipFill>
            <a:blip r:embed="rId3"/>
            <a:stretch/>
          </p:blipFill>
          <p:spPr>
            <a:xfrm>
              <a:off x="7308720" y="260280"/>
              <a:ext cx="15494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8"/>
            <p:cNvSpPr/>
            <p:nvPr/>
          </p:nvSpPr>
          <p:spPr>
            <a:xfrm>
              <a:off x="7455600" y="218916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зеб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541440" y="3357720"/>
            <a:ext cx="1532520" cy="2593800"/>
            <a:chOff x="541440" y="3357720"/>
            <a:chExt cx="1532520" cy="2593800"/>
          </a:xfrm>
        </p:grpSpPr>
        <p:pic>
          <p:nvPicPr>
            <p:cNvPr id="53" name="Picture 10" descr=""/>
            <p:cNvPicPr/>
            <p:nvPr/>
          </p:nvPicPr>
          <p:blipFill>
            <a:blip r:embed="rId4"/>
            <a:stretch/>
          </p:blipFill>
          <p:spPr>
            <a:xfrm>
              <a:off x="684000" y="3357720"/>
              <a:ext cx="12574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2"/>
            <p:cNvSpPr/>
            <p:nvPr/>
          </p:nvSpPr>
          <p:spPr>
            <a:xfrm>
              <a:off x="541440" y="5430960"/>
              <a:ext cx="153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кенгур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6"/>
          <p:cNvGrpSpPr/>
          <p:nvPr/>
        </p:nvGrpSpPr>
        <p:grpSpPr>
          <a:xfrm>
            <a:off x="7451640" y="3341520"/>
            <a:ext cx="1404720" cy="2432880"/>
            <a:chOff x="7451640" y="3341520"/>
            <a:chExt cx="1404720" cy="2432880"/>
          </a:xfrm>
        </p:grpSpPr>
        <p:pic>
          <p:nvPicPr>
            <p:cNvPr id="56" name="Picture 14" descr=""/>
            <p:cNvPicPr/>
            <p:nvPr/>
          </p:nvPicPr>
          <p:blipFill>
            <a:blip r:embed="rId5"/>
            <a:stretch/>
          </p:blipFill>
          <p:spPr>
            <a:xfrm>
              <a:off x="7451640" y="3341520"/>
              <a:ext cx="1404720" cy="20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5"/>
            <p:cNvSpPr/>
            <p:nvPr/>
          </p:nvSpPr>
          <p:spPr>
            <a:xfrm>
              <a:off x="7605360" y="5253840"/>
              <a:ext cx="102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ли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сл 1.wav" descr=""/>
          <p:cNvPicPr/>
          <p:nvPr/>
        </p:nvPicPr>
        <p:blipFill>
          <a:blip r:embed="rId6"/>
          <a:stretch/>
        </p:blipFill>
        <p:spPr>
          <a:xfrm>
            <a:off x="25092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"/>
          <p:cNvPicPr/>
          <p:nvPr/>
        </p:nvPicPr>
        <p:blipFill>
          <a:blip r:embed="rId7"/>
          <a:stretch/>
        </p:blipFill>
        <p:spPr>
          <a:xfrm>
            <a:off x="3040200" y="3429000"/>
            <a:ext cx="3043080" cy="335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8fb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74520" y="549360"/>
            <a:ext cx="4851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а забор влетел пет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овстречал ещё там дв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Сколько стало пету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У кого ответ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9"/>
          <p:cNvGrpSpPr/>
          <p:nvPr/>
        </p:nvGrpSpPr>
        <p:grpSpPr>
          <a:xfrm>
            <a:off x="971640" y="3933720"/>
            <a:ext cx="7345080" cy="2710080"/>
            <a:chOff x="971640" y="3933720"/>
            <a:chExt cx="7345080" cy="2710080"/>
          </a:xfrm>
        </p:grpSpPr>
        <p:pic>
          <p:nvPicPr>
            <p:cNvPr id="62" name="Picture 6" descr="мульт петух клюет"/>
            <p:cNvPicPr/>
            <p:nvPr/>
          </p:nvPicPr>
          <p:blipFill>
            <a:blip r:embed="rId1"/>
            <a:stretch/>
          </p:blipFill>
          <p:spPr>
            <a:xfrm flipH="1">
              <a:off x="5292360" y="4221000"/>
              <a:ext cx="3024360" cy="242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7" descr="мульт петух клюет"/>
            <p:cNvPicPr/>
            <p:nvPr/>
          </p:nvPicPr>
          <p:blipFill>
            <a:blip r:embed="rId2"/>
            <a:stretch/>
          </p:blipFill>
          <p:spPr>
            <a:xfrm>
              <a:off x="971640" y="3933720"/>
              <a:ext cx="3024000" cy="242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4249800" cy="3454560"/>
          </a:xfrm>
          <a:prstGeom prst="rect">
            <a:avLst/>
          </a:prstGeom>
          <a:ln w="0">
            <a:noFill/>
          </a:ln>
        </p:spPr>
      </p:pic>
      <p:pic>
        <p:nvPicPr>
          <p:cNvPr id="65" name="сл2.wav" descr=""/>
          <p:cNvPicPr/>
          <p:nvPr/>
        </p:nvPicPr>
        <p:blipFill>
          <a:blip r:embed="rId4"/>
          <a:stretch/>
        </p:blipFill>
        <p:spPr>
          <a:xfrm>
            <a:off x="53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09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4520" y="261000"/>
            <a:ext cx="2794320" cy="31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авил Андрю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ва ряда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ядом с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мартышкой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юшевый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иш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е с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лис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й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м за ни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Ёж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лягуш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игр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авил Андрюш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rcRect l="20790" t="0" r="22500" b="0"/>
          <a:stretch/>
        </p:blipFill>
        <p:spPr>
          <a:xfrm>
            <a:off x="6407280" y="0"/>
            <a:ext cx="2557440" cy="450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122364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1406520" cy="158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tretch/>
        </p:blipFill>
        <p:spPr>
          <a:xfrm>
            <a:off x="3851280" y="2997360"/>
            <a:ext cx="1380960" cy="1726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5"/>
          <a:stretch/>
        </p:blipFill>
        <p:spPr>
          <a:xfrm>
            <a:off x="5307120" y="3429000"/>
            <a:ext cx="9936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6"/>
          <a:stretch/>
        </p:blipFill>
        <p:spPr>
          <a:xfrm>
            <a:off x="395280" y="5084640"/>
            <a:ext cx="1062000" cy="14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7"/>
          <a:stretch/>
        </p:blipFill>
        <p:spPr>
          <a:xfrm>
            <a:off x="1619280" y="5013360"/>
            <a:ext cx="140508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сл 3.wav" descr=""/>
          <p:cNvPicPr/>
          <p:nvPr/>
        </p:nvPicPr>
        <p:blipFill>
          <a:blip r:embed="rId8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348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л4.wav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елка4"/>
          <p:cNvPicPr/>
          <p:nvPr/>
        </p:nvPicPr>
        <p:blipFill>
          <a:blip r:embed="rId2"/>
          <a:stretch/>
        </p:blipFill>
        <p:spPr>
          <a:xfrm>
            <a:off x="3132000" y="404640"/>
            <a:ext cx="3114720" cy="39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мульт медведь"/>
          <p:cNvPicPr/>
          <p:nvPr/>
        </p:nvPicPr>
        <p:blipFill>
          <a:blip r:embed="rId3"/>
          <a:stretch/>
        </p:blipFill>
        <p:spPr>
          <a:xfrm>
            <a:off x="7164360" y="404640"/>
            <a:ext cx="134460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мульт кот умывается"/>
          <p:cNvPicPr/>
          <p:nvPr/>
        </p:nvPicPr>
        <p:blipFill>
          <a:blip r:embed="rId4"/>
          <a:stretch/>
        </p:blipFill>
        <p:spPr>
          <a:xfrm>
            <a:off x="4572000" y="5445000"/>
            <a:ext cx="165564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мульт еж"/>
          <p:cNvPicPr/>
          <p:nvPr/>
        </p:nvPicPr>
        <p:blipFill>
          <a:blip r:embed="rId5"/>
          <a:stretch/>
        </p:blipFill>
        <p:spPr>
          <a:xfrm>
            <a:off x="2268360" y="53737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мульт белка"/>
          <p:cNvPicPr/>
          <p:nvPr/>
        </p:nvPicPr>
        <p:blipFill>
          <a:blip r:embed="rId6"/>
          <a:stretch/>
        </p:blipFill>
        <p:spPr>
          <a:xfrm>
            <a:off x="3203640" y="189000"/>
            <a:ext cx="1627200" cy="119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зайка"/>
          <p:cNvPicPr/>
          <p:nvPr/>
        </p:nvPicPr>
        <p:blipFill>
          <a:blip r:embed="rId7"/>
          <a:stretch/>
        </p:blipFill>
        <p:spPr>
          <a:xfrm>
            <a:off x="7740720" y="2852640"/>
            <a:ext cx="88560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8"/>
          <a:stretch/>
        </p:blipFill>
        <p:spPr>
          <a:xfrm>
            <a:off x="684360" y="260280"/>
            <a:ext cx="1876320" cy="1647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"/>
          <p:cNvPicPr/>
          <p:nvPr/>
        </p:nvPicPr>
        <p:blipFill>
          <a:blip r:embed="rId9"/>
          <a:stretch/>
        </p:blipFill>
        <p:spPr>
          <a:xfrm>
            <a:off x="5364000" y="0"/>
            <a:ext cx="1873440" cy="957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"/>
          <p:cNvPicPr/>
          <p:nvPr/>
        </p:nvPicPr>
        <p:blipFill>
          <a:blip r:embed="rId10"/>
          <a:stretch/>
        </p:blipFill>
        <p:spPr>
          <a:xfrm>
            <a:off x="395280" y="3716280"/>
            <a:ext cx="1944720" cy="15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"/>
          <p:cNvPicPr/>
          <p:nvPr/>
        </p:nvPicPr>
        <p:blipFill>
          <a:blip r:embed="rId11"/>
          <a:stretch/>
        </p:blipFill>
        <p:spPr>
          <a:xfrm>
            <a:off x="6804000" y="458136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свинка"/>
          <p:cNvPicPr/>
          <p:nvPr/>
        </p:nvPicPr>
        <p:blipFill>
          <a:blip r:embed="rId12"/>
          <a:stretch/>
        </p:blipFill>
        <p:spPr>
          <a:xfrm>
            <a:off x="611280" y="191628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226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e1f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41120" y="188640"/>
            <a:ext cx="31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арил утятам ёж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емь кожаных сапож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ответит из ребя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было всех ут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8"/>
          <p:cNvGrpSpPr/>
          <p:nvPr/>
        </p:nvGrpSpPr>
        <p:grpSpPr>
          <a:xfrm>
            <a:off x="755640" y="2565360"/>
            <a:ext cx="8064360" cy="3527640"/>
            <a:chOff x="755640" y="2565360"/>
            <a:chExt cx="8064360" cy="3527640"/>
          </a:xfrm>
        </p:grpSpPr>
        <p:pic>
          <p:nvPicPr>
            <p:cNvPr id="89" name="Picture 5" descr="мульт утенок7"/>
            <p:cNvPicPr/>
            <p:nvPr/>
          </p:nvPicPr>
          <p:blipFill>
            <a:blip r:embed="rId1"/>
            <a:stretch/>
          </p:blipFill>
          <p:spPr>
            <a:xfrm>
              <a:off x="7380360" y="465300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6" descr="мульт утенок7"/>
            <p:cNvPicPr/>
            <p:nvPr/>
          </p:nvPicPr>
          <p:blipFill>
            <a:blip r:embed="rId2"/>
            <a:stretch/>
          </p:blipFill>
          <p:spPr>
            <a:xfrm>
              <a:off x="6084720" y="2637000"/>
              <a:ext cx="14400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7" descr="мульт утенок7"/>
            <p:cNvPicPr/>
            <p:nvPr/>
          </p:nvPicPr>
          <p:blipFill>
            <a:blip r:embed="rId3"/>
            <a:stretch/>
          </p:blipFill>
          <p:spPr>
            <a:xfrm flipH="1">
              <a:off x="755640" y="45813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8" descr="мульт утенок7"/>
            <p:cNvPicPr/>
            <p:nvPr/>
          </p:nvPicPr>
          <p:blipFill>
            <a:blip r:embed="rId4"/>
            <a:stretch/>
          </p:blipFill>
          <p:spPr>
            <a:xfrm flipH="1">
              <a:off x="826920" y="2565360"/>
              <a:ext cx="144000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9" descr=""/>
          <p:cNvPicPr/>
          <p:nvPr/>
        </p:nvPicPr>
        <p:blipFill>
          <a:blip r:embed="rId5"/>
          <a:stretch/>
        </p:blipFill>
        <p:spPr>
          <a:xfrm>
            <a:off x="3132000" y="3645000"/>
            <a:ext cx="3240360" cy="240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6"/>
          <a:stretch/>
        </p:blipFill>
        <p:spPr>
          <a:xfrm>
            <a:off x="3924360" y="1557360"/>
            <a:ext cx="820800" cy="614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7"/>
          <a:stretch/>
        </p:blipFill>
        <p:spPr>
          <a:xfrm>
            <a:off x="1763640" y="1557360"/>
            <a:ext cx="820800" cy="614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8"/>
          <a:stretch/>
        </p:blipFill>
        <p:spPr>
          <a:xfrm>
            <a:off x="2771640" y="1557360"/>
            <a:ext cx="820800" cy="614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9"/>
          <a:stretch/>
        </p:blipFill>
        <p:spPr>
          <a:xfrm>
            <a:off x="5003640" y="1557360"/>
            <a:ext cx="820800" cy="614520"/>
          </a:xfrm>
          <a:prstGeom prst="rect">
            <a:avLst/>
          </a:prstGeom>
          <a:ln w="0">
            <a:noFill/>
          </a:ln>
        </p:spPr>
      </p:pic>
      <p:pic>
        <p:nvPicPr>
          <p:cNvPr id="98" name="сл 5.wav" descr=""/>
          <p:cNvPicPr/>
          <p:nvPr/>
        </p:nvPicPr>
        <p:blipFill>
          <a:blip r:embed="rId10"/>
          <a:stretch/>
        </p:blipFill>
        <p:spPr>
          <a:xfrm>
            <a:off x="53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816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162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8.20809E-006 C 0.00018 0.00277 0.00053 0.02589 0.00313 0.03398 C 0.00383 0.03629 0.00556 0.03791 0.00626 0.04022 C 0.0106 0.05363 0.0139 0.06728 0.01893 0.08046 C 0.02518 0.09687 0.02067 0.0719 0.02848 0.10358 C 0.02952 0.10774 0.03161 0.11629 0.03161 0.11629 C 0.03299 0.13872 0.03438 0.16046 0.03959 0.18196 C 0.04011 0.18751 0.04115 0.19306 0.04115 0.19884 C 0.04115 0.20785 0.03751 0.21363 0.04445 0.22196 E">
                                      <p:cBhvr>
                                        <p:cTn id="10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162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0.0245 C 0.0493 0.02658 0.0533 0.02797 0.05677 0.03075 C 0.05937 0.03283 0.06093 0.03676 0.06319 0.0393 C 0.07361 0.05132 0.08489 0.06312 0.09809 0.0689 C 0.10416 0.07676 0.11024 0.07838 0.11718 0.08578 C 0.12899 0.09849 0.14218 0.11167 0.15521 0.12184 C 0.16128 0.1267 0.17048 0.1378 0.17743 0.1408 C 0.18802 0.15445 0.20277 0.16462 0.21718 0.16832 C 0.22691 0.17803 0.23802 0.18427 0.24896 0.19144 C 0.25573 0.19583 0.26146 0.20369 0.26788 0.20832 C 0.27448 0.21317 0.28021 0.21456 0.28698 0.21687 C 0.29722 0.22543 0.30868 0.23722 0.32031 0.24231 C 0.33715 0.25988 0.31944 0.243 0.33628 0.25502 C 0.34705 0.26289 0.35538 0.27098 0.36632 0.27815 C 0.38593 0.29109 0.36736 0.28393 0.38229 0.28878 C 0.41892 0.31329 0.46093 0.30982 0.50121 0.30982 E">
                                      <p:cBhvr>
                                        <p:cTn id="11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162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8382E-006 C -0.00208 0.00277 -0.00451 0.00532 -0.00642 0.00832 C -0.00764 0.01017 -0.00833 0.01295 -0.00955 0.0148 C -0.0125 0.01919 -0.0191 0.02728 -0.0191 0.02728 C -0.01962 0.03006 -0.01944 0.03329 -0.02066 0.03584 C -0.0217 0.03792 -0.02413 0.03838 -0.02552 0.04 C -0.03212 0.04763 -0.03333 0.05063 -0.03819 0.05919 C -0.0401 0.06682 -0.04097 0.07329 -0.04444 0.08023 C -0.04791 0.09873 -0.05746 0.11468 -0.06198 0.13318 C -0.06371 0.14035 -0.06944 0.14497 -0.07153 0.15214 C -0.07795 0.1741 -0.08351 0.19838 -0.09375 0.21757 C -0.09566 0.22543 -0.09878 0.23144 -0.10156 0.23884 C -0.10416 0.24555 -0.10434 0.25318 -0.10642 0.25988 C -0.10816 0.2652 -0.11094 0.26959 -0.11267 0.27468 C -0.11528 0.28231 -0.11614 0.28971 -0.12066 0.29595 C -0.12344 0.31075 -0.12517 0.32601 -0.12864 0.34035 C -0.12986 0.34543 -0.13107 0.35075 -0.13333 0.35514 C -0.14045 0.36925 -0.13628 0.35376 -0.14132 0.36763 C -0.1434 0.37318 -0.14392 0.37942 -0.14601 0.38474 C -0.15451 0.40717 -0.16302 0.43006 -0.17153 0.45225 C -0.18003 0.47445 -0.18906 0.51537 -0.20156 0.53272 C -0.20208 0.5348 -0.2026 0.53688 -0.2033 0.53896 C -0.20416 0.54127 -0.20573 0.54289 -0.20642 0.5452 C -0.21232 0.563 -0.20625 0.55329 -0.21267 0.56231 C -0.21493 0.57063 -0.21944 0.57572 -0.22222 0.58335 E">
                                      <p:cBhvr>
                                        <p:cTn id="11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162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66 0.04994 C 0.02205 0.08416 0.02032 0.11884 0.02865 0.15144 C 0.03073 0.1704 0.03108 0.19075 0.03664 0.20832 C 0.03802 0.21988 0.03959 0.22635 0.04445 0.23583 C 0.04809 0.25132 0.04532 0.24023 0.05556 0.26751 C 0.05799 0.27421 0.0566 0.27699 0.05886 0.28462 C 0.06112 0.29179 0.06667 0.30566 0.06667 0.30566 C 0.06823 0.31606 0.07483 0.34034 0.07934 0.35005 C 0.0816 0.35468 0.0849 0.35838 0.08733 0.36277 C 0.09202 0.3815 0.10052 0.39583 0.10955 0.41132 C 0.11424 0.41942 0.11737 0.42867 0.12379 0.43468 C 0.1257 0.43953 0.12622 0.44508 0.12865 0.44947 C 0.13316 0.45734 0.13924 0.46335 0.14445 0.47052 C 0.14896 0.47676 0.15174 0.48485 0.15556 0.49179 C 0.1566 0.49387 0.15886 0.49803 0.15886 0.49803 C 0.16164 0.5089 0.16424 0.50265 0.16823 0.51283 C 0.17171 0.52161 0.17414 0.53086 0.17934 0.53826 C 0.18195 0.54774 0.18681 0.55861 0.19219 0.56578 C 0.19358 0.57641 0.1941 0.58219 0.19844 0.59098 C 0.20191 0.60531 0.2 0.59953 0.2033 0.60786 E">
                                      <p:cBhvr>
                                        <p:cTn id="11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161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фон звезды1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850560" y="4073760"/>
            <a:ext cx="4892760" cy="2288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 неба звездочка упала,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В гости к детям забежала     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Две кричат во след за ней: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«Не за будь своих друзей!»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колько ярких звезд пропало,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 неба звездного упало?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мульт звезда2"/>
          <p:cNvPicPr/>
          <p:nvPr/>
        </p:nvPicPr>
        <p:blipFill>
          <a:blip r:embed="rId2"/>
          <a:stretch/>
        </p:blipFill>
        <p:spPr>
          <a:xfrm>
            <a:off x="1619280" y="620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разноцветн"/>
          <p:cNvPicPr/>
          <p:nvPr/>
        </p:nvPicPr>
        <p:blipFill>
          <a:blip r:embed="rId3"/>
          <a:stretch/>
        </p:blipFill>
        <p:spPr>
          <a:xfrm>
            <a:off x="324000" y="333360"/>
            <a:ext cx="576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мульт звезда2"/>
          <p:cNvPicPr/>
          <p:nvPr/>
        </p:nvPicPr>
        <p:blipFill>
          <a:blip r:embed="rId4"/>
          <a:stretch/>
        </p:blipFill>
        <p:spPr>
          <a:xfrm>
            <a:off x="4284720" y="189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мульт танец"/>
          <p:cNvPicPr/>
          <p:nvPr/>
        </p:nvPicPr>
        <p:blipFill>
          <a:blip r:embed="rId5"/>
          <a:stretch/>
        </p:blipFill>
        <p:spPr>
          <a:xfrm>
            <a:off x="611280" y="2565360"/>
            <a:ext cx="3240000" cy="2243160"/>
          </a:xfrm>
          <a:prstGeom prst="rect">
            <a:avLst/>
          </a:prstGeom>
          <a:ln w="0">
            <a:noFill/>
          </a:ln>
        </p:spPr>
      </p:pic>
      <p:pic>
        <p:nvPicPr>
          <p:cNvPr id="105" name="сл 6.wav" descr=""/>
          <p:cNvPicPr/>
          <p:nvPr/>
        </p:nvPicPr>
        <p:blipFill>
          <a:blip r:embed="rId6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422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5E-006 -5.54913E-006 C 0.01163 0.02473 0.02535 0.04994 0.04288 0.06751 C 0.04566 0.07884 0.04323 0.07236 0.05243 0.08462 C 0.054 0.0867 0.05712 0.09086 0.05712 0.09086 C 0.05973 0.10034 0.06528 0.10658 0.06997 0.11421 C 0.07639 0.12485 0.08177 0.13618 0.08889 0.14589 C 0.09271 0.16115 0.10087 0.17502 0.10799 0.1882 C 0.11181 0.20369 0.11771 0.21757 0.12223 0.23259 C 0.12518 0.24231 0.12587 0.25132 0.13021 0.25988 C 0.13212 0.26774 0.13247 0.27814 0.1349 0.28531 C 0.13646 0.28994 0.14132 0.29803 0.14132 0.29803 C 0.14566 0.33317 0.15018 0.37063 0.16042 0.40369 C 0.16163 0.41248 0.16354 0.42057 0.16511 0.42913 C 0.16806 0.49803 0.16754 0.46843 0.16511 0.57918 C 0.16476 0.59306 0.16441 0.60624 0.16198 0.61941 C 0.15973 0.6319 0.15608 0.67213 0.15087 0.68277 C 0.14028 0.70404 0.1349 0.73387 0.1349 0.75884 E">
                                      <p:cBhvr>
                                        <p:cTn id="12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1">
                                  <p:stCondLst>
                                    <p:cond delay="6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10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5.37572E-006 C -0.00086 0.01988 -0.00086 0.03999 -0.00486 0.05918 C -0.00625 0.0867 -0.00781 0.11745 -0.01423 0.14381 C -0.01857 0.18034 -0.02604 0.21595 -0.03333 0.25155 C -0.0408 0.28809 -0.04739 0.32577 -0.06041 0.35953 C -0.06371 0.37664 -0.06805 0.39352 -0.07309 0.41017 C -0.07725 0.42404 -0.08333 0.43629 -0.08732 0.4504 C -0.09149 0.46496 -0.09357 0.48254 -0.09843 0.49687 C -0.10069 0.50358 -0.10382 0.50936 -0.10642 0.51583 C -0.10833 0.53132 -0.11198 0.54843 -0.11753 0.5623 C -0.11805 0.56577 -0.11823 0.56947 -0.11909 0.57294 C -0.11979 0.57525 -0.12152 0.5771 -0.12222 0.57941 C -0.12378 0.58496 -0.12396 0.59074 -0.12534 0.59629 C -0.12916 0.61086 -0.13472 0.62774 -0.14132 0.64069 C -0.14722 0.65248 -0.15434 0.66288 -0.16041 0.67444 C -0.1625 0.68277 -0.16614 0.69086 -0.17152 0.69548 C -0.17361 0.69965 -0.17569 0.70404 -0.17777 0.7082 C -0.17864 0.70982 -0.17986 0.71121 -0.1809 0.71259 C -0.18194 0.71398 -0.1842 0.71676 -0.1842 0.71676 E">
                                      <p:cBhvr>
                                        <p:cTn id="14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10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-2.25434E-006 C -0.02274 0.07399 -0.01285 0.0407 -0.03003 0.09942 C -0.04028 0.13457 -0.06041 0.17411 -0.06823 0.21133 C -0.07326 0.23515 -0.08055 0.25919 -0.08889 0.28116 C -0.09305 0.30659 -0.09948 0.33064 -0.10937 0.35307 C -0.11389 0.3748 -0.10729 0.34659 -0.1158 0.36994 C -0.11788 0.37549 -0.11857 0.38289 -0.12048 0.3889 C -0.12743 0.41156 -0.13489 0.43376 -0.14114 0.45665 C -0.14739 0.47908 -0.15364 0.50289 -0.15712 0.52648 C -0.16059 0.54937 -0.1618 0.56809 -0.16666 0.58983 C -0.16823 0.61202 -0.1717 0.6333 -0.17448 0.65526 C -0.17639 0.74937 -0.17309 0.70359 -0.17778 0.74613 C -0.1783 0.75098 -0.17864 0.75607 -0.17934 0.76093 C -0.17969 0.7637 -0.18055 0.76671 -0.1809 0.76948 C -0.1816 0.77434 -0.18177 0.77942 -0.18246 0.78428 C -0.18281 0.78636 -0.18403 0.79052 -0.18403 0.79052 E">
                                      <p:cBhvr>
                                        <p:cTn id="14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862080" y="5303160"/>
            <a:ext cx="4966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Три зайчонка, пять щенят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Ходят вместе в детский сад.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Посчитать мы вас попросим,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колько было малышей? Их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зайка"/>
          <p:cNvPicPr/>
          <p:nvPr/>
        </p:nvPicPr>
        <p:blipFill>
          <a:blip r:embed="rId2"/>
          <a:stretch/>
        </p:blipFill>
        <p:spPr>
          <a:xfrm>
            <a:off x="3708360" y="2997360"/>
            <a:ext cx="736560" cy="113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мульт собачка 4"/>
          <p:cNvPicPr/>
          <p:nvPr/>
        </p:nvPicPr>
        <p:blipFill>
          <a:blip r:embed="rId3"/>
          <a:stretch/>
        </p:blipFill>
        <p:spPr>
          <a:xfrm>
            <a:off x="6012000" y="4278240"/>
            <a:ext cx="108108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зайка"/>
          <p:cNvPicPr/>
          <p:nvPr/>
        </p:nvPicPr>
        <p:blipFill>
          <a:blip r:embed="rId4"/>
          <a:stretch/>
        </p:blipFill>
        <p:spPr>
          <a:xfrm>
            <a:off x="539640" y="3284640"/>
            <a:ext cx="700200" cy="107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зайка"/>
          <p:cNvPicPr/>
          <p:nvPr/>
        </p:nvPicPr>
        <p:blipFill>
          <a:blip r:embed="rId5"/>
          <a:stretch/>
        </p:blipFill>
        <p:spPr>
          <a:xfrm>
            <a:off x="3203640" y="4508640"/>
            <a:ext cx="876240" cy="135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мульт собачка 4"/>
          <p:cNvPicPr/>
          <p:nvPr/>
        </p:nvPicPr>
        <p:blipFill>
          <a:blip r:embed="rId6"/>
          <a:stretch/>
        </p:blipFill>
        <p:spPr>
          <a:xfrm>
            <a:off x="0" y="4508640"/>
            <a:ext cx="1116000" cy="912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мульт собачка 4"/>
          <p:cNvPicPr/>
          <p:nvPr/>
        </p:nvPicPr>
        <p:blipFill>
          <a:blip r:embed="rId7"/>
          <a:stretch/>
        </p:blipFill>
        <p:spPr>
          <a:xfrm flipH="1">
            <a:off x="468360" y="5589720"/>
            <a:ext cx="1079280" cy="88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мульт собачка 4"/>
          <p:cNvPicPr/>
          <p:nvPr/>
        </p:nvPicPr>
        <p:blipFill>
          <a:blip r:embed="rId8"/>
          <a:stretch/>
        </p:blipFill>
        <p:spPr>
          <a:xfrm>
            <a:off x="2340000" y="5915160"/>
            <a:ext cx="1152360" cy="94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мульт собачка 4"/>
          <p:cNvPicPr/>
          <p:nvPr/>
        </p:nvPicPr>
        <p:blipFill>
          <a:blip r:embed="rId9"/>
          <a:stretch/>
        </p:blipFill>
        <p:spPr>
          <a:xfrm flipH="1">
            <a:off x="2340000" y="2924280"/>
            <a:ext cx="1225440" cy="1001520"/>
          </a:xfrm>
          <a:prstGeom prst="rect">
            <a:avLst/>
          </a:prstGeom>
          <a:ln w="0">
            <a:noFill/>
          </a:ln>
        </p:spPr>
      </p:pic>
      <p:pic>
        <p:nvPicPr>
          <p:cNvPr id="116" name="сл 7.wav" descr=""/>
          <p:cNvPicPr/>
          <p:nvPr/>
        </p:nvPicPr>
        <p:blipFill>
          <a:blip r:embed="rId10"/>
          <a:stretch/>
        </p:blipFill>
        <p:spPr>
          <a:xfrm>
            <a:off x="831708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902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фон обл"/>
          <p:cNvPicPr/>
          <p:nvPr/>
        </p:nvPicPr>
        <p:blipFill>
          <a:blip r:embed="rId1"/>
          <a:stretch/>
        </p:blipFill>
        <p:spPr>
          <a:xfrm>
            <a:off x="324000" y="0"/>
            <a:ext cx="8885160" cy="671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фон обл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4100400" y="4290480"/>
            <a:ext cx="50439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емь гусей пустились в путь.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Два решили отдохнуть.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колько их под облаками?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осчитайте, дети,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мульт гусь2"/>
          <p:cNvPicPr/>
          <p:nvPr/>
        </p:nvPicPr>
        <p:blipFill>
          <a:blip r:embed="rId3"/>
          <a:stretch/>
        </p:blipFill>
        <p:spPr>
          <a:xfrm>
            <a:off x="7451640" y="69228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утка ныряет"/>
          <p:cNvPicPr/>
          <p:nvPr/>
        </p:nvPicPr>
        <p:blipFill>
          <a:blip r:embed="rId4"/>
          <a:stretch/>
        </p:blipFill>
        <p:spPr>
          <a:xfrm>
            <a:off x="2268360" y="5300640"/>
            <a:ext cx="1905120" cy="55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мульт утка"/>
          <p:cNvPicPr/>
          <p:nvPr/>
        </p:nvPicPr>
        <p:blipFill>
          <a:blip r:embed="rId5"/>
          <a:stretch/>
        </p:blipFill>
        <p:spPr>
          <a:xfrm>
            <a:off x="3348000" y="0"/>
            <a:ext cx="1152720" cy="976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утка ныряет"/>
          <p:cNvPicPr/>
          <p:nvPr/>
        </p:nvPicPr>
        <p:blipFill>
          <a:blip r:embed="rId6"/>
          <a:stretch/>
        </p:blipFill>
        <p:spPr>
          <a:xfrm>
            <a:off x="250920" y="6021360"/>
            <a:ext cx="190476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мульт гусь2"/>
          <p:cNvPicPr/>
          <p:nvPr/>
        </p:nvPicPr>
        <p:blipFill>
          <a:blip r:embed="rId7"/>
          <a:stretch/>
        </p:blipFill>
        <p:spPr>
          <a:xfrm>
            <a:off x="5003640" y="33336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мульт гусь2"/>
          <p:cNvPicPr/>
          <p:nvPr/>
        </p:nvPicPr>
        <p:blipFill>
          <a:blip r:embed="rId8"/>
          <a:stretch/>
        </p:blipFill>
        <p:spPr>
          <a:xfrm>
            <a:off x="6227640" y="40464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мульт утка"/>
          <p:cNvPicPr/>
          <p:nvPr/>
        </p:nvPicPr>
        <p:blipFill>
          <a:blip r:embed="rId9"/>
          <a:stretch/>
        </p:blipFill>
        <p:spPr>
          <a:xfrm>
            <a:off x="4211640" y="765000"/>
            <a:ext cx="1081080" cy="91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мульт утка"/>
          <p:cNvPicPr/>
          <p:nvPr/>
        </p:nvPicPr>
        <p:blipFill>
          <a:blip r:embed="rId10"/>
          <a:stretch/>
        </p:blipFill>
        <p:spPr>
          <a:xfrm>
            <a:off x="5292720" y="1125360"/>
            <a:ext cx="1295280" cy="109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мульт гусь2"/>
          <p:cNvPicPr/>
          <p:nvPr/>
        </p:nvPicPr>
        <p:blipFill>
          <a:blip r:embed="rId11"/>
          <a:stretch/>
        </p:blipFill>
        <p:spPr>
          <a:xfrm>
            <a:off x="6516720" y="162864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сл8.wav" descr=""/>
          <p:cNvPicPr/>
          <p:nvPr/>
        </p:nvPicPr>
        <p:blipFill>
          <a:blip r:embed="rId12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8882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8.33333E-007 1.96532E-006 C -0.00903 -0.00393 -0.02274 0.00092 -0.03177 0.00208 C -0.04323 0.01225 -0.04496 0.01364 -0.05712 0.01896 C -0.06041 0.02543 -0.06423 0.02844 -0.06979 0.03167 C -0.07291 0.03352 -0.07621 0.03445 -0.07934 0.03584 C -0.0809 0.03653 -0.0842 0.03792 -0.0842 0.03792 C -0.08906 0.04254 -0.09635 0.04925 -0.10156 0.05271 C -0.10451 0.0548 -0.11111 0.05711 -0.11111 0.05711 C -0.12222 0.0719 -0.11632 0.06844 -0.12708 0.0719 C -0.13785 0.08647 -0.13264 0.08138 -0.14132 0.08878 C -0.14774 0.10173 -0.15642 0.1126 -0.16354 0.12462 C -0.16545 0.12786 -0.16649 0.13202 -0.16823 0.13526 C -0.17482 0.14751 -0.1868 0.16162 -0.19531 0.1711 C -0.20035 0.17664 -0.19739 0.17618 -0.20312 0.18381 C -0.20781 0.19006 -0.21354 0.19792 -0.2191 0.203 C -0.2243 0.21341 -0.22587 0.21734 -0.23333 0.22404 C -0.23489 0.22751 -0.23611 0.23144 -0.23819 0.23468 C -0.23941 0.23653 -0.24184 0.23676 -0.24288 0.23884 C -0.25 0.25248 -0.25278 0.26728 -0.26354 0.27699 C -0.26545 0.28763 -0.26996 0.29133 -0.27465 0.30011 C -0.28021 0.31052 -0.28611 0.32162 -0.29531 0.32555 C -0.29826 0.33711 -0.29462 0.32786 -0.30486 0.33618 C -0.30937 0.33988 -0.31319 0.34497 -0.31753 0.34867 C -0.32378 0.36162 -0.33472 0.37133 -0.34288 0.38266 C -0.34444 0.38497 -0.34462 0.38844 -0.346 0.39098 C -0.34774 0.39422 -0.35052 0.3963 -0.35243 0.39954 C -0.35816 0.40948 -0.3625 0.42127 -0.36823 0.43121 C -0.37344 0.44 -0.37448 0.4363 -0.3809 0.44601 C -0.38437 0.45133 -0.38732 0.45711 -0.39045 0.46289 C -0.39583 0.47283 -0.39965 0.48393 -0.40642 0.49248 C -0.40816 0.49734 -0.40885 0.50289 -0.41111 0.50728 C -0.4158 0.51653 -0.42378 0.5237 -0.42864 0.53271 C -0.4375 0.54959 -0.43264 0.54427 -0.44132 0.55167 C -0.44323 0.55954 -0.44566 0.56439 -0.4493 0.57063 C -0.45156 0.5748 -0.45555 0.58335 -0.45555 0.58335 C -0.4592 0.59884 -0.45434 0.58196 -0.46041 0.59399 C -0.46128 0.59584 -0.46458 0.60693 -0.46666 0.60878 C -0.46857 0.6104 -0.471 0.61017 -0.47309 0.61086 C -0.47621 0.61503 -0.48125 0.6178 -0.48264 0.62358 C -0.48472 0.63214 -0.48281 0.62867 -0.48889 0.63422 C -0.49236 0.64138 -0.49062 0.63884 -0.49375 0.64254 E">
                                      <p:cBhvr>
                                        <p:cTn id="25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61111E-006 -1.50289E-006 C -0.0132 0.0007 -0.02656 0.00047 -0.03976 0.00209 C -0.04306 0.00255 -0.04601 0.00532 -0.04931 0.00648 C -0.06233 0.01087 -0.0757 0.0155 -0.08889 0.01896 C -0.10087 0.0296 -0.11077 0.03006 -0.12379 0.04024 C -0.15087 0.06151 -0.17847 0.0807 -0.20486 0.10359 C -0.22309 0.11931 -0.23716 0.14266 -0.254 0.1607 C -0.25955 0.16671 -0.26736 0.16972 -0.27153 0.17758 C -0.27587 0.18567 -0.27952 0.19122 -0.28577 0.19654 C -0.28681 0.19862 -0.28733 0.20139 -0.28889 0.20301 C -0.29028 0.2044 -0.29254 0.20347 -0.29375 0.20509 C -0.29775 0.21041 -0.3 0.21781 -0.30313 0.22405 C -0.30643 0.23052 -0.31268 0.24324 -0.31268 0.24324 C -0.31563 0.26729 -0.31129 0.24671 -0.3191 0.2622 C -0.32448 0.27284 -0.32795 0.28833 -0.33177 0.30012 C -0.33768 0.31769 -0.34393 0.33526 -0.34931 0.35307 C -0.35052 0.35723 -0.35 0.36255 -0.35243 0.36579 C -0.36042 0.37642 -0.36511 0.38937 -0.37309 0.39954 C -0.37865 0.4148 -0.38629 0.42891 -0.39202 0.44394 C -0.39445 0.45041 -0.4 0.46289 -0.4 0.46289 C -0.40209 0.47145 -0.40608 0.47399 -0.40955 0.48209 C -0.41129 0.48625 -0.41233 0.49087 -0.41424 0.4948 C -0.41771 0.5022 -0.42379 0.50798 -0.42709 0.51584 E">
                                      <p:cBhvr>
                                        <p:cTn id="26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17:45Z</dcterms:created>
  <dc:creator>lusya</dc:creator>
  <dc:description/>
  <dc:language>en-US</dc:language>
  <cp:lastModifiedBy>ОЕМ</cp:lastModifiedBy>
  <dcterms:modified xsi:type="dcterms:W3CDTF">2010-01-21T07:04:16Z</dcterms:modified>
  <cp:revision>8</cp:revision>
  <dc:subject/>
  <dc:title>Слайд 1</dc:title>
</cp:coreProperties>
</file>