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2F5-D41B-4F3F-982F-742C5B56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795D-E88A-49FD-93DC-78B0E0C2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263F-B506-4524-AA3C-D82DA0CF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068-2AC4-456A-9899-2E3AC2C5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FF63-4FAC-48E0-8766-0C3FB561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8A9-955A-4784-9017-0777DFC6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3E25-7938-465D-96EA-69E0049C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641-0FDF-4BF1-96AE-5B5A7A03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4121-5C23-4E8B-98E8-9F55849C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F96-539E-4931-96F2-88D4A823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FF77-B966-404D-BDD6-F670196C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87A-773F-45A0-91D6-967E2FE1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4EEA-A993-4923-92FD-3791E08869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719520" y="2744640"/>
            <a:ext cx="1704960" cy="1366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2205000" y="642960"/>
            <a:ext cx="4095720" cy="5214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0" descr="118"/>
          <p:cNvPicPr/>
          <p:nvPr/>
        </p:nvPicPr>
        <p:blipFill>
          <a:blip r:embed="rId3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0" descr="118"/>
          <p:cNvPicPr/>
          <p:nvPr/>
        </p:nvPicPr>
        <p:blipFill>
          <a:blip r:embed="rId4">
            <a:lum bright="-6000"/>
          </a:blip>
          <a:stretch/>
        </p:blipFill>
        <p:spPr>
          <a:xfrm flipH="1">
            <a:off x="7286400" y="4214880"/>
            <a:ext cx="16635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 rot="178200">
            <a:off x="1142640" y="1714320"/>
            <a:ext cx="6588000" cy="3500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 rot="165000">
            <a:off x="1361880" y="2141640"/>
            <a:ext cx="6349680" cy="3644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285920" y="285840"/>
            <a:ext cx="6215040" cy="557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 rot="152400">
            <a:off x="929880" y="1358640"/>
            <a:ext cx="7354800" cy="507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643040" y="928800"/>
            <a:ext cx="5357880" cy="5000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500120" y="571680"/>
            <a:ext cx="6643800" cy="5500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7143840" cy="535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 rot="334200">
            <a:off x="770040" y="998640"/>
            <a:ext cx="7805520" cy="380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 rot="190200">
            <a:off x="1225440" y="934560"/>
            <a:ext cx="6919920" cy="4038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 rot="187800">
            <a:off x="1499760" y="1371240"/>
            <a:ext cx="6618240" cy="355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 rot="192000">
            <a:off x="1370160" y="1569600"/>
            <a:ext cx="6343560" cy="3714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 rot="161400">
            <a:off x="1285920" y="999720"/>
            <a:ext cx="6286320" cy="457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3:34:49Z</dcterms:created>
  <dc:creator>home</dc:creator>
  <dc:description/>
  <dc:language>en-US</dc:language>
  <cp:lastModifiedBy>home</cp:lastModifiedBy>
  <dcterms:modified xsi:type="dcterms:W3CDTF">2012-01-25T13:47:17Z</dcterms:modified>
  <cp:revision>2</cp:revision>
  <dc:subject/>
  <dc:title>Слайд 1</dc:title>
</cp:coreProperties>
</file>