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312-4BB8-4B48-9318-2A2032AF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5812-1EA7-4516-8925-200C226F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BEE-50C5-492D-8F85-BC3B1C61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B2F-EBC9-4227-BF64-212F0F36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31A-A3D0-4C04-8A76-A7B5DECE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579-51F9-4070-9361-C7F37F4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A56-1A0D-435A-8FBB-8C47A2D9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E19-BC26-40CC-AA10-A605F18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F0F-8B2E-40C0-B3E9-D9EB6ED5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F81-8D6E-4230-8443-B6F95470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F7A-D7E2-450E-B7E1-65DE0CC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85C-9E6A-4ADD-A418-4646907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6C6-1977-4001-A4EF-80480AAD2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19520" y="2744640"/>
            <a:ext cx="1704960" cy="1366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2205000" y="642960"/>
            <a:ext cx="4095720" cy="521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118"/>
          <p:cNvPicPr/>
          <p:nvPr/>
        </p:nvPicPr>
        <p:blipFill>
          <a:blip r:embed="rId3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118"/>
          <p:cNvPicPr/>
          <p:nvPr/>
        </p:nvPicPr>
        <p:blipFill>
          <a:blip r:embed="rId4">
            <a:lum bright="-6000"/>
          </a:blip>
          <a:stretch/>
        </p:blipFill>
        <p:spPr>
          <a:xfrm flipH="1">
            <a:off x="7286400" y="4214880"/>
            <a:ext cx="16635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78200">
            <a:off x="1142640" y="1714320"/>
            <a:ext cx="6588000" cy="3500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 rot="165000">
            <a:off x="1361880" y="2141640"/>
            <a:ext cx="6349680" cy="364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285920" y="285840"/>
            <a:ext cx="6215040" cy="55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 rot="152400">
            <a:off x="929880" y="1358640"/>
            <a:ext cx="7354800" cy="507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1643040" y="928800"/>
            <a:ext cx="5357880" cy="5000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500120" y="571680"/>
            <a:ext cx="6643800" cy="550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143840" cy="5357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 rot="334200">
            <a:off x="770040" y="998640"/>
            <a:ext cx="780552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 rot="190200">
            <a:off x="1225440" y="934560"/>
            <a:ext cx="6919920" cy="4038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 rot="187800">
            <a:off x="1499760" y="1371240"/>
            <a:ext cx="6618240" cy="355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 rot="192000">
            <a:off x="1370160" y="1569600"/>
            <a:ext cx="6343560" cy="371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 rot="161400">
            <a:off x="1285920" y="9997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0" descr="118"/>
          <p:cNvPicPr/>
          <p:nvPr/>
        </p:nvPicPr>
        <p:blipFill>
          <a:blip r:embed="rId2">
            <a:lum bright="-6000"/>
          </a:blip>
          <a:stretch/>
        </p:blipFill>
        <p:spPr>
          <a:xfrm flipH="1">
            <a:off x="7308720" y="4221000"/>
            <a:ext cx="166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3:34:49Z</dcterms:created>
  <dc:creator>home</dc:creator>
  <dc:description/>
  <dc:language>en-US</dc:language>
  <cp:lastModifiedBy>home</cp:lastModifiedBy>
  <dcterms:modified xsi:type="dcterms:W3CDTF">2012-01-25T13:47:17Z</dcterms:modified>
  <cp:revision>2</cp:revision>
  <dc:subject/>
  <dc:title>Слайд 1</dc:title>
</cp:coreProperties>
</file>