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352-1B57-4A7B-BD6F-D108337E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658-B7E2-4946-88C6-B93DD83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492-B50F-4415-A7BA-EB924E6F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67D-FCD2-4FDA-BE77-B8252DF2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433-1FA5-4CF3-B2A4-B7A46B63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804-F8B6-49FE-9427-48A4E32E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875-1FBE-4CDD-BDBD-4D28D663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451-86F1-4AA4-87F1-586E451D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817-1B5F-4839-BD88-4920310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C96-FF17-42B5-8749-7973AD4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2C5-CBE3-4D20-ACF9-EDFF9119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69D-BD99-4E41-B52C-346E585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F52-AFFB-4325-BC18-598F6A7A2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1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чк чн щн ч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900193312[1]"/>
          <p:cNvPicPr/>
          <p:nvPr/>
        </p:nvPicPr>
        <p:blipFill>
          <a:blip r:embed="rId1"/>
          <a:stretch/>
        </p:blipFill>
        <p:spPr>
          <a:xfrm>
            <a:off x="4114800" y="2666880"/>
            <a:ext cx="467208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Красная Шапоч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\\school9-srv\_users$\Remap\dmm\Рабочий стол\iCAFCQTWT.jpg"/>
          <p:cNvPicPr/>
          <p:nvPr/>
        </p:nvPicPr>
        <p:blipFill>
          <a:blip r:embed="rId1"/>
          <a:stretch/>
        </p:blipFill>
        <p:spPr>
          <a:xfrm>
            <a:off x="2009880" y="1676520"/>
            <a:ext cx="55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пиши только слова с шипящими согласными. Подчеркните буквы, которые обозначают шипящие согласные зв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бота, щётка, шутка, время, чисто, угол, жу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буквосочетаниях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к, чн, ч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мягкий знак (ь) не пишется 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, ме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, н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900440407[1]"/>
          <p:cNvPicPr/>
          <p:nvPr/>
        </p:nvPicPr>
        <p:blipFill>
          <a:blip r:embed="rId1"/>
          <a:stretch/>
        </p:blipFill>
        <p:spPr>
          <a:xfrm>
            <a:off x="228600" y="380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900382613[1]"/>
          <p:cNvPicPr/>
          <p:nvPr/>
        </p:nvPicPr>
        <p:blipFill>
          <a:blip r:embed="rId2"/>
          <a:stretch/>
        </p:blipFill>
        <p:spPr>
          <a:xfrm>
            <a:off x="3200400" y="609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4800600" y="990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MC900310558[1]"/>
          <p:cNvPicPr/>
          <p:nvPr/>
        </p:nvPicPr>
        <p:blipFill>
          <a:blip r:embed="rId3"/>
          <a:stretch/>
        </p:blipFill>
        <p:spPr>
          <a:xfrm>
            <a:off x="5867280" y="457200"/>
            <a:ext cx="1882800" cy="1590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924680" y="1066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MC900193312[1]"/>
          <p:cNvPicPr/>
          <p:nvPr/>
        </p:nvPicPr>
        <p:blipFill>
          <a:blip r:embed="rId4"/>
          <a:stretch/>
        </p:blipFill>
        <p:spPr>
          <a:xfrm>
            <a:off x="838080" y="2666880"/>
            <a:ext cx="2133720" cy="180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3809880" y="3276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7315200" y="3276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MC900109229[1]"/>
          <p:cNvPicPr/>
          <p:nvPr/>
        </p:nvPicPr>
        <p:blipFill>
          <a:blip r:embed="rId5"/>
          <a:stretch/>
        </p:blipFill>
        <p:spPr>
          <a:xfrm rot="20541000">
            <a:off x="5714640" y="2590920"/>
            <a:ext cx="145404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MC900084010[1]"/>
          <p:cNvPicPr/>
          <p:nvPr/>
        </p:nvPicPr>
        <p:blipFill>
          <a:blip r:embed="rId6"/>
          <a:stretch/>
        </p:blipFill>
        <p:spPr>
          <a:xfrm>
            <a:off x="1295280" y="4883040"/>
            <a:ext cx="2362320" cy="1508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6"/>
          <p:cNvSpPr/>
          <p:nvPr/>
        </p:nvSpPr>
        <p:spPr>
          <a:xfrm>
            <a:off x="731520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MC900441413[1]"/>
          <p:cNvPicPr/>
          <p:nvPr/>
        </p:nvPicPr>
        <p:blipFill>
          <a:blip r:embed="rId7"/>
          <a:stretch/>
        </p:blipFill>
        <p:spPr>
          <a:xfrm>
            <a:off x="5181480" y="4664160"/>
            <a:ext cx="1752840" cy="1574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8"/>
          <p:cNvSpPr/>
          <p:nvPr/>
        </p:nvSpPr>
        <p:spPr>
          <a:xfrm>
            <a:off x="731520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3962520" y="5257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, ру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, листо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, грибо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, сини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щу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, бело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900193312[1]"/>
          <p:cNvPicPr/>
          <p:nvPr/>
        </p:nvPicPr>
        <p:blipFill>
          <a:blip r:embed="rId1"/>
          <a:stretch/>
        </p:blipFill>
        <p:spPr>
          <a:xfrm>
            <a:off x="228600" y="5181480"/>
            <a:ext cx="17524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илетела к нам сини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ела прямо над ок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Эту маленькую пти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 нетерпением мы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 чтоб ей полегче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Ведь исчезли червя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ля неё кусочки с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Мы повесим на су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арк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 ходим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парк.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у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м ска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 ры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 белки. Они совсем ру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ые. Мы носим им разную пи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щ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от б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 пу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ш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я бело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Ест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ук зёрна р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гр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белка аним"/>
          <p:cNvPicPr/>
          <p:nvPr/>
        </p:nvPicPr>
        <p:blipFill>
          <a:blip r:embed="rId1"/>
          <a:stretch/>
        </p:blipFill>
        <p:spPr>
          <a:xfrm>
            <a:off x="1600200" y="5562720"/>
            <a:ext cx="1828800" cy="100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белка аним"/>
          <p:cNvPicPr/>
          <p:nvPr/>
        </p:nvPicPr>
        <p:blipFill>
          <a:blip r:embed="rId2"/>
          <a:stretch/>
        </p:blipFill>
        <p:spPr>
          <a:xfrm rot="3177000">
            <a:off x="-259920" y="375840"/>
            <a:ext cx="18288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mm</cp:lastModifiedBy>
  <dcterms:modified xsi:type="dcterms:W3CDTF">2013-04-18T08:22:3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