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63A1-1D96-41DA-8E23-446C1FFC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65A2-CD6F-4092-898A-13FF25AF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01A2-F0C6-4513-A17A-8D299F13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B55C-4906-4722-86D8-315D0E55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ED02-1CBF-44E1-B51E-85E8D6F1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5D2-977E-452E-9D6D-47E9E7BC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6609-9010-4E22-B3EF-9CA0D622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8C1-4CE8-4E58-A9CB-60D3BA7F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E3A7-AB02-4F44-9DAB-65B64611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14F7-5E7D-4292-9226-165C3A56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2216-1C4E-4CB6-9724-75ABF5D3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C35F-3FFB-4869-BFFF-B8FCDA5A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9B44-B0BE-4EB0-8D8A-830F766561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1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Arial"/>
              </a:rPr>
              <a:t>чк чн щн ч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MC900193312[1]"/>
          <p:cNvPicPr/>
          <p:nvPr/>
        </p:nvPicPr>
        <p:blipFill>
          <a:blip r:embed="rId1"/>
          <a:stretch/>
        </p:blipFill>
        <p:spPr>
          <a:xfrm>
            <a:off x="4114800" y="2666880"/>
            <a:ext cx="467208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Arial"/>
              </a:rPr>
              <a:t>Красная Шапоч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\\school9-srv\_users$\Remap\dmm\Рабочий стол\iCAFCQTWT.jpg"/>
          <p:cNvPicPr/>
          <p:nvPr/>
        </p:nvPicPr>
        <p:blipFill>
          <a:blip r:embed="rId1"/>
          <a:stretch/>
        </p:blipFill>
        <p:spPr>
          <a:xfrm>
            <a:off x="2009880" y="1676520"/>
            <a:ext cx="5533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Запиши только слова с шипящими согласными. Подчеркните буквы, которые обозначают шипящие согласные зву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абота, щётка, шутка, время, чисто, угол, жу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 буквосочетаниях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чк, чн, ч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, мягкий знак (ь) не пишется 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чк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, ме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ч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, но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чк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900440407[1]"/>
          <p:cNvPicPr/>
          <p:nvPr/>
        </p:nvPicPr>
        <p:blipFill>
          <a:blip r:embed="rId1"/>
          <a:stretch/>
        </p:blipFill>
        <p:spPr>
          <a:xfrm>
            <a:off x="228600" y="380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MC900382613[1]"/>
          <p:cNvPicPr/>
          <p:nvPr/>
        </p:nvPicPr>
        <p:blipFill>
          <a:blip r:embed="rId2"/>
          <a:stretch/>
        </p:blipFill>
        <p:spPr>
          <a:xfrm>
            <a:off x="3200400" y="6094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4800600" y="9907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MC900310558[1]"/>
          <p:cNvPicPr/>
          <p:nvPr/>
        </p:nvPicPr>
        <p:blipFill>
          <a:blip r:embed="rId3"/>
          <a:stretch/>
        </p:blipFill>
        <p:spPr>
          <a:xfrm>
            <a:off x="5867280" y="457200"/>
            <a:ext cx="1882800" cy="15908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7924680" y="1066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MC900193312[1]"/>
          <p:cNvPicPr/>
          <p:nvPr/>
        </p:nvPicPr>
        <p:blipFill>
          <a:blip r:embed="rId4"/>
          <a:stretch/>
        </p:blipFill>
        <p:spPr>
          <a:xfrm>
            <a:off x="838080" y="2666880"/>
            <a:ext cx="2133720" cy="1803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0"/>
          <p:cNvSpPr/>
          <p:nvPr/>
        </p:nvSpPr>
        <p:spPr>
          <a:xfrm>
            <a:off x="3809880" y="32767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7315200" y="32767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MC900109229[1]"/>
          <p:cNvPicPr/>
          <p:nvPr/>
        </p:nvPicPr>
        <p:blipFill>
          <a:blip r:embed="rId5"/>
          <a:stretch/>
        </p:blipFill>
        <p:spPr>
          <a:xfrm rot="20541000">
            <a:off x="5714640" y="2590920"/>
            <a:ext cx="1454040" cy="1752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MC900084010[1]"/>
          <p:cNvPicPr/>
          <p:nvPr/>
        </p:nvPicPr>
        <p:blipFill>
          <a:blip r:embed="rId6"/>
          <a:stretch/>
        </p:blipFill>
        <p:spPr>
          <a:xfrm>
            <a:off x="1295280" y="4883040"/>
            <a:ext cx="2362320" cy="15084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6"/>
          <p:cNvSpPr/>
          <p:nvPr/>
        </p:nvSpPr>
        <p:spPr>
          <a:xfrm>
            <a:off x="7315200" y="5105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7" descr="MC900441413[1]"/>
          <p:cNvPicPr/>
          <p:nvPr/>
        </p:nvPicPr>
        <p:blipFill>
          <a:blip r:embed="rId7"/>
          <a:stretch/>
        </p:blipFill>
        <p:spPr>
          <a:xfrm>
            <a:off x="5181480" y="4664160"/>
            <a:ext cx="1752840" cy="1574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8"/>
          <p:cNvSpPr/>
          <p:nvPr/>
        </p:nvSpPr>
        <p:spPr>
          <a:xfrm>
            <a:off x="7315200" y="5105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3962520" y="52578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чк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, ру</a:t>
            </a: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чк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, листо</a:t>
            </a: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чк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и, грибо</a:t>
            </a: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чк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и, сини</a:t>
            </a: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чк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1" lang="ru-RU" sz="6000" spc="-1" strike="noStrike">
                <a:solidFill>
                  <a:srgbClr val="0000ff"/>
                </a:solidFill>
                <a:latin typeface="Arial"/>
              </a:rPr>
              <a:t>щу</a:t>
            </a: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чк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, бело</a:t>
            </a: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чк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C900193312[1]"/>
          <p:cNvPicPr/>
          <p:nvPr/>
        </p:nvPicPr>
        <p:blipFill>
          <a:blip r:embed="rId1"/>
          <a:stretch/>
        </p:blipFill>
        <p:spPr>
          <a:xfrm>
            <a:off x="228600" y="5181480"/>
            <a:ext cx="175248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Прилетела к нам синич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Села прямо над ок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Эту маленькую птич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С нетерпением мы жд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И чтоб ей полегче ста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Ведь исчезли червя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Для неё кусочки с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Мы повесим на су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парк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ы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ч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о ходим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парк.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су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ч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м ска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ч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 ры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 белки. Они совсем ру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чн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ые. Мы носим им разную пи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щ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Вот бе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 пу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ш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я бело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ч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. Ест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из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рук зёрна р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гре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ч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белка аним"/>
          <p:cNvPicPr/>
          <p:nvPr/>
        </p:nvPicPr>
        <p:blipFill>
          <a:blip r:embed="rId1"/>
          <a:stretch/>
        </p:blipFill>
        <p:spPr>
          <a:xfrm>
            <a:off x="1600200" y="5562720"/>
            <a:ext cx="1828800" cy="1009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белка аним"/>
          <p:cNvPicPr/>
          <p:nvPr/>
        </p:nvPicPr>
        <p:blipFill>
          <a:blip r:embed="rId2"/>
          <a:stretch/>
        </p:blipFill>
        <p:spPr>
          <a:xfrm rot="3177000">
            <a:off x="-259920" y="375840"/>
            <a:ext cx="182880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mm</cp:lastModifiedBy>
  <dcterms:modified xsi:type="dcterms:W3CDTF">2013-04-18T08:22:34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