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05A-D7F0-4715-B49A-F7F59CCC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37B-C163-4F68-BFE2-E1645537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C42-0EB4-4C6C-94E7-61A5FDD8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C9C-CF43-44F2-8689-32F22EBB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16B3-F256-4626-98CA-C3001CA3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EE2F-51A5-4066-9C19-5830CEB2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01C7-D91B-49B6-BF6C-09D16C56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BE07-4AF7-4D14-9B08-0B6689F8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F34C-FD47-4D2E-946B-84E8FAD9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18AD-FADC-4B90-B1A5-FA3EB42E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DC6E-38DB-4264-82C6-87D676C3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084-B589-4E87-80D7-B3A2B873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8AB6-C3DB-472F-8161-B03D0BBC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6257-CFD9-4D21-AC78-F778C3BD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CD69-5117-4F4E-8517-64E071D3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1FD1-0567-4059-A502-9AFE67D4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2937-0F8D-45D0-9FD8-0E49D477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71E-9AA1-4AB3-8478-EE4AC93F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191-DA62-457D-B1C8-47151904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31B-2482-4529-9FF0-56D35E86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6F7-E6B3-4E7F-B4FF-F070B565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3DD-4C2F-4CB7-B09C-76A3A55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B20-3F9B-449A-A337-28CDBD2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C70-61B7-4206-A40F-DF501848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F14-CF90-4E07-AA41-AF150C7266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E850-B2CF-4D43-9365-78B3789FEF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Реферат</a:t>
            </a:r>
            <a:br>
              <a:rPr sz="3200"/>
            </a:b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Франция: экономико-географическая характеристика страны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763640" y="4292280"/>
            <a:ext cx="6624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Выполнил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ученица 9 клас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МКОУ Грибановской СОШ №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Терских Али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ecff"/>
                </a:solidFill>
                <a:latin typeface="Times New Roman"/>
              </a:rPr>
              <a:t>Учитель: Ильина И. 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 Ли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5" descr="лион"/>
          <p:cNvPicPr/>
          <p:nvPr/>
        </p:nvPicPr>
        <p:blipFill>
          <a:blip r:embed="rId1"/>
          <a:stretch/>
        </p:blipFill>
        <p:spPr>
          <a:xfrm>
            <a:off x="900000" y="1557360"/>
            <a:ext cx="7080480" cy="49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ионский муз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6" descr="лионский музей"/>
          <p:cNvPicPr/>
          <p:nvPr/>
        </p:nvPicPr>
        <p:blipFill>
          <a:blip r:embed="rId1"/>
          <a:stretch/>
        </p:blipFill>
        <p:spPr>
          <a:xfrm>
            <a:off x="826920" y="1773360"/>
            <a:ext cx="747720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рманд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6" descr="Нормандия"/>
          <p:cNvPicPr/>
          <p:nvPr/>
        </p:nvPicPr>
        <p:blipFill>
          <a:blip r:embed="rId1"/>
          <a:stretch/>
        </p:blipFill>
        <p:spPr>
          <a:xfrm>
            <a:off x="826920" y="1557360"/>
            <a:ext cx="7488360" cy="5030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6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азурный бере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5" descr="Лазурный берег"/>
          <p:cNvPicPr/>
          <p:nvPr/>
        </p:nvPicPr>
        <p:blipFill>
          <a:blip r:embed="rId1"/>
          <a:stretch/>
        </p:blipFill>
        <p:spPr>
          <a:xfrm>
            <a:off x="1042920" y="1413000"/>
            <a:ext cx="7150320" cy="514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68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68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6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ристы во Фра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6" descr="туристы во франции"/>
          <p:cNvPicPr/>
          <p:nvPr/>
        </p:nvPicPr>
        <p:blipFill>
          <a:blip r:embed="rId1"/>
          <a:stretch/>
        </p:blipFill>
        <p:spPr>
          <a:xfrm>
            <a:off x="900000" y="1557360"/>
            <a:ext cx="7266240" cy="5126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rance-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рансуа Оллан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6" descr="762_algerie-excuses-francaises-a-l-algerie-hollande-les-fera-t-il_XL2-564x376"/>
          <p:cNvPicPr/>
          <p:nvPr/>
        </p:nvPicPr>
        <p:blipFill>
          <a:blip r:embed="rId1"/>
          <a:stretch/>
        </p:blipFill>
        <p:spPr>
          <a:xfrm>
            <a:off x="1042920" y="1916280"/>
            <a:ext cx="6624720" cy="4416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лаг Фра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6" descr="флаг 2"/>
          <p:cNvPicPr/>
          <p:nvPr/>
        </p:nvPicPr>
        <p:blipFill>
          <a:blip r:embed="rId1"/>
          <a:stretch/>
        </p:blipFill>
        <p:spPr>
          <a:xfrm>
            <a:off x="1403280" y="1773360"/>
            <a:ext cx="6410520" cy="4525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ерб Фран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5" descr="0008-008-Frantsija"/>
          <p:cNvPicPr/>
          <p:nvPr/>
        </p:nvPicPr>
        <p:blipFill>
          <a:blip r:embed="rId1"/>
          <a:stretch/>
        </p:blipFill>
        <p:spPr>
          <a:xfrm>
            <a:off x="1332000" y="1557360"/>
            <a:ext cx="6618240" cy="4964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2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бор Парижской Богоматер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6" descr="собор парижской богоматери"/>
          <p:cNvPicPr/>
          <p:nvPr/>
        </p:nvPicPr>
        <p:blipFill>
          <a:blip r:embed="rId1"/>
          <a:stretch/>
        </p:blipFill>
        <p:spPr>
          <a:xfrm>
            <a:off x="1476360" y="1700280"/>
            <a:ext cx="6335640" cy="47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ворец Лув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5" descr="лувр"/>
          <p:cNvPicPr/>
          <p:nvPr/>
        </p:nvPicPr>
        <p:blipFill>
          <a:blip r:embed="rId1"/>
          <a:stretch/>
        </p:blipFill>
        <p:spPr>
          <a:xfrm>
            <a:off x="571680" y="1557360"/>
            <a:ext cx="8001000" cy="511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риумфальная арка и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Эйфелева башн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Picture 5" descr="триумфальная арка"/>
          <p:cNvPicPr/>
          <p:nvPr/>
        </p:nvPicPr>
        <p:blipFill>
          <a:blip r:embed="rId1"/>
          <a:stretch/>
        </p:blipFill>
        <p:spPr>
          <a:xfrm>
            <a:off x="457200" y="1773360"/>
            <a:ext cx="3610080" cy="48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a495c84e8fc8t"/>
          <p:cNvPicPr/>
          <p:nvPr/>
        </p:nvPicPr>
        <p:blipFill>
          <a:blip r:embed="rId2"/>
          <a:stretch/>
        </p:blipFill>
        <p:spPr>
          <a:xfrm>
            <a:off x="4648320" y="1773360"/>
            <a:ext cx="4038480" cy="48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улонский ле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6" descr="булонский лес"/>
          <p:cNvPicPr/>
          <p:nvPr/>
        </p:nvPicPr>
        <p:blipFill>
          <a:blip r:embed="rId1"/>
          <a:stretch/>
        </p:blipFill>
        <p:spPr>
          <a:xfrm>
            <a:off x="1187280" y="1628640"/>
            <a:ext cx="6840720" cy="4899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0:18:24Z</dcterms:created>
  <dc:creator>Администратор</dc:creator>
  <dc:description/>
  <dc:language>en-US</dc:language>
  <cp:lastModifiedBy>user</cp:lastModifiedBy>
  <dcterms:modified xsi:type="dcterms:W3CDTF">2013-04-22T15:06:51Z</dcterms:modified>
  <cp:revision>10</cp:revision>
  <dc:subject/>
  <dc:title>Реферат «Франция: экономико-географическая характеристика страны»</dc:title>
</cp:coreProperties>
</file>