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4711-BEDE-43F9-848F-95C5E3A7F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C125-C267-4AB8-BBC1-16FE29A4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7179-7D3C-46D0-BE56-1A12B4F71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5469-A27C-4DA7-9B24-CC0AA1E40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45950-C508-4965-98F1-9BBB47A80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8D3B-62E5-4BC6-BCDC-BC5A1C80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DA6D-2A36-46DE-8B79-2F139007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8A96-B9F3-4F0D-B696-997A9CD7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0B4EC-D2C0-484E-B1F7-E00F1E55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D95A-41CC-4156-B887-0A5A5DF3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A018-DAAF-4AA0-AADC-A992E477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722B-9236-4852-A2B0-CB2DF284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F3B80-B618-4942-9509-3D14512F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821DA-555B-44AA-8DBA-44A65035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B43BD-780A-4341-B138-3769ECB6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C08D4-BCA6-4EF3-A6D0-9E49C6E38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9F11-95FB-4FF5-B519-F49A60AD8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A291-A08C-48D4-A007-DE95E8B4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AD58-D3B9-4793-B22C-6E4E3421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5BB9-C5FD-486B-AA47-F289AFAC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E5D2-776A-437A-8C4C-7A9272F1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F58D-164E-4B23-809A-4724886B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1BF2-1BB5-44E4-98BF-C98C1C08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657B-20A2-4EAE-B624-92614AC4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1E15-34AC-4950-9102-AA4A230870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D39E-3461-4B31-AA9A-3175E7A3DDB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Реферат</a:t>
            </a:r>
            <a:br>
              <a:rPr sz="3200"/>
            </a:b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Франция: экономико-географическая характеристика страны»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763640" y="4292280"/>
            <a:ext cx="662472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ecff"/>
                </a:solidFill>
                <a:latin typeface="Times New Roman"/>
              </a:rPr>
              <a:t>Выполнила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ecff"/>
                </a:solidFill>
                <a:latin typeface="Times New Roman"/>
              </a:rPr>
              <a:t>ученица 9 класс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ecff"/>
                </a:solidFill>
                <a:latin typeface="Times New Roman"/>
              </a:rPr>
              <a:t>МКОУ Грибановской СОШ № 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ecff"/>
                </a:solidFill>
                <a:latin typeface="Times New Roman"/>
              </a:rPr>
              <a:t>Терских Алин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ecff"/>
                </a:solidFill>
                <a:latin typeface="Times New Roman"/>
              </a:rPr>
              <a:t>Учитель: Ильина И. 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ород Лио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Picture 5" descr="лион"/>
          <p:cNvPicPr/>
          <p:nvPr/>
        </p:nvPicPr>
        <p:blipFill>
          <a:blip r:embed="rId1"/>
          <a:stretch/>
        </p:blipFill>
        <p:spPr>
          <a:xfrm>
            <a:off x="900000" y="1557360"/>
            <a:ext cx="7080480" cy="496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98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ионский музе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Picture 6" descr="лионский музей"/>
          <p:cNvPicPr/>
          <p:nvPr/>
        </p:nvPicPr>
        <p:blipFill>
          <a:blip r:embed="rId1"/>
          <a:stretch/>
        </p:blipFill>
        <p:spPr>
          <a:xfrm>
            <a:off x="826920" y="1773360"/>
            <a:ext cx="7477200" cy="4608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орманд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Picture 6" descr="Нормандия"/>
          <p:cNvPicPr/>
          <p:nvPr/>
        </p:nvPicPr>
        <p:blipFill>
          <a:blip r:embed="rId1"/>
          <a:stretch/>
        </p:blipFill>
        <p:spPr>
          <a:xfrm>
            <a:off x="826920" y="1557360"/>
            <a:ext cx="7488360" cy="5030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96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азурный бере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Picture 5" descr="Лазурный берег"/>
          <p:cNvPicPr/>
          <p:nvPr/>
        </p:nvPicPr>
        <p:blipFill>
          <a:blip r:embed="rId1"/>
          <a:stretch/>
        </p:blipFill>
        <p:spPr>
          <a:xfrm>
            <a:off x="1042920" y="1413000"/>
            <a:ext cx="7150320" cy="5145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768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768" fill="hold"/>
                                        <p:tgtEl>
                                          <p:spTgt spid="2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768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768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уристы во Фран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Picture 6" descr="туристы во франции"/>
          <p:cNvPicPr/>
          <p:nvPr/>
        </p:nvPicPr>
        <p:blipFill>
          <a:blip r:embed="rId1"/>
          <a:stretch/>
        </p:blipFill>
        <p:spPr>
          <a:xfrm>
            <a:off x="900000" y="1557360"/>
            <a:ext cx="7266240" cy="5126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8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7" descr="france-ma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Франсуа Олланд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5" name="Picture 6" descr="762_algerie-excuses-francaises-a-l-algerie-hollande-les-fera-t-il_XL2-564x376"/>
          <p:cNvPicPr/>
          <p:nvPr/>
        </p:nvPicPr>
        <p:blipFill>
          <a:blip r:embed="rId1"/>
          <a:stretch/>
        </p:blipFill>
        <p:spPr>
          <a:xfrm>
            <a:off x="1042920" y="1916280"/>
            <a:ext cx="6624720" cy="4416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Флаг Фран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7" name="Picture 6" descr="флаг 2"/>
          <p:cNvPicPr/>
          <p:nvPr/>
        </p:nvPicPr>
        <p:blipFill>
          <a:blip r:embed="rId1"/>
          <a:stretch/>
        </p:blipFill>
        <p:spPr>
          <a:xfrm>
            <a:off x="1403280" y="1773360"/>
            <a:ext cx="6410520" cy="4525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ерб Фран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Picture 5" descr="0008-008-Frantsija"/>
          <p:cNvPicPr/>
          <p:nvPr/>
        </p:nvPicPr>
        <p:blipFill>
          <a:blip r:embed="rId1"/>
          <a:stretch/>
        </p:blipFill>
        <p:spPr>
          <a:xfrm>
            <a:off x="1332000" y="1557360"/>
            <a:ext cx="6618240" cy="4964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768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768" fill="hold"/>
                                        <p:tgtEl>
                                          <p:spTgt spid="2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" dur="768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" dur="768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обор Парижской Богоматер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Picture 6" descr="собор парижской богоматери"/>
          <p:cNvPicPr/>
          <p:nvPr/>
        </p:nvPicPr>
        <p:blipFill>
          <a:blip r:embed="rId1"/>
          <a:stretch/>
        </p:blipFill>
        <p:spPr>
          <a:xfrm>
            <a:off x="1476360" y="1700280"/>
            <a:ext cx="6335640" cy="47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ворец Лув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Picture 5" descr="лувр"/>
          <p:cNvPicPr/>
          <p:nvPr/>
        </p:nvPicPr>
        <p:blipFill>
          <a:blip r:embed="rId1"/>
          <a:stretch/>
        </p:blipFill>
        <p:spPr>
          <a:xfrm>
            <a:off x="571680" y="1557360"/>
            <a:ext cx="8001000" cy="5111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Триумфальная арка и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Эйфелева башн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Picture 5" descr="триумфальная арка"/>
          <p:cNvPicPr/>
          <p:nvPr/>
        </p:nvPicPr>
        <p:blipFill>
          <a:blip r:embed="rId1"/>
          <a:stretch/>
        </p:blipFill>
        <p:spPr>
          <a:xfrm>
            <a:off x="457200" y="1773360"/>
            <a:ext cx="3610080" cy="4895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a495c84e8fc8t"/>
          <p:cNvPicPr/>
          <p:nvPr/>
        </p:nvPicPr>
        <p:blipFill>
          <a:blip r:embed="rId2"/>
          <a:stretch/>
        </p:blipFill>
        <p:spPr>
          <a:xfrm>
            <a:off x="4648320" y="1773360"/>
            <a:ext cx="4038480" cy="4895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Булонский ле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8" name="Picture 6" descr="булонский лес"/>
          <p:cNvPicPr/>
          <p:nvPr/>
        </p:nvPicPr>
        <p:blipFill>
          <a:blip r:embed="rId1"/>
          <a:stretch/>
        </p:blipFill>
        <p:spPr>
          <a:xfrm>
            <a:off x="1187280" y="1628640"/>
            <a:ext cx="6840720" cy="48992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8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10:18:24Z</dcterms:created>
  <dc:creator>Администратор</dc:creator>
  <dc:description/>
  <dc:language>en-US</dc:language>
  <cp:lastModifiedBy>user</cp:lastModifiedBy>
  <dcterms:modified xsi:type="dcterms:W3CDTF">2013-04-22T15:06:51Z</dcterms:modified>
  <cp:revision>10</cp:revision>
  <dc:subject/>
  <dc:title>Реферат «Франция: экономико-географическая характеристика страны»</dc:title>
</cp:coreProperties>
</file>