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331-7D64-458B-A84A-ED742635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248-2EAA-4432-ACF9-3A1F5146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0E0-6E9B-46AD-89C1-27DFFC3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F1A-D10F-40B8-A0CA-046866FA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4205-9C5D-430D-B11E-1B1EDDE9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B358-C77F-410D-92C9-9DBB6BF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FFF6-B3D0-4811-BA7C-774136C8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DD2F-D90F-4E46-8462-EC2ECD8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5EAB-846A-484A-95B7-31CFFD0E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EDCA-3892-4364-9519-177060CC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5030-5797-4EDE-8873-31C43124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9C2-18F2-497C-8191-5DCB044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41B-71FA-4ADF-BD28-A14C9339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CA97-659A-49CD-9C20-0FAEA8D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6D11-F9C8-4835-A9A3-E2A3EF42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89D0-3DB1-489C-97D2-12B7C6E7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2043-B63D-489E-B065-B2CC9280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73A3-9E01-4588-8C58-DB2C023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212-A0B8-4339-84AB-8607136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39D-8CE2-4639-A92D-8CDCFDFD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056-D953-4773-A239-DA7E7772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BCD-B856-4086-88CD-5C4E130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B3A-0434-4C40-B5A9-C9E49B67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ED9-9B04-4883-B7AF-52A8F25D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2F65-D2C7-4D4D-B97D-5B32E7B8E5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BC34-3545-485F-98F0-DC9045D45F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030fe"/>
                </a:solidFill>
                <a:latin typeface="Arial"/>
              </a:rPr>
              <a:t>Тема: Природа электрического заряд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030fe"/>
                </a:solidFill>
                <a:latin typeface="Arial"/>
              </a:rPr>
              <a:t>Цель: определить строение          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fe"/>
                </a:solidFill>
                <a:latin typeface="Arial"/>
              </a:rPr>
              <a:t>Проблемный вопрос: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98100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де прячутся электроны?</a:t>
            </a:r>
            <a:endParaRPr b="1" i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2951280"/>
            <a:ext cx="2519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541200">
            <a:off x="2057400" y="463680"/>
            <a:ext cx="7053120" cy="3456000"/>
          </a:xfrm>
          <a:prstGeom prst="rect">
            <a:avLst/>
          </a:prstGeom>
          <a:solidFill>
            <a:srgbClr val="f9bb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Быть  может эти электрон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Миры, где пять материк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Искусства, знанья, войны, тро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И память сорока веков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                                       </a:t>
            </a:r>
            <a:r>
              <a:rPr b="1" i="1" lang="en-US" sz="2400" spc="-1" strike="noStrike">
                <a:solidFill>
                  <a:srgbClr val="3030fe"/>
                </a:solidFill>
                <a:latin typeface="Arial"/>
              </a:rPr>
              <a:t>В. Брю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1897 году Дж. Дж. Томсон приходит к выводу: в природе существует наименьшая порция отрицательного заряда – элект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выглядит                                  Неизвес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                                              Исключительно м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ер                                            Исключительно м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арактер                                         Весьма подвиж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о обитания                              Где – то внутри 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сто работы                                 Электроэнергетика, электро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ойства                                         Элементарный отрицат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ря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так, где же находиться эта мельчайшая невидимая отрицательно заряженная частица -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электрон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0000" y="260280"/>
            <a:ext cx="705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комьтесь: электрон!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Тело – молекула – атом</a:t>
            </a:r>
            <a:br>
              <a:rPr sz="2800"/>
            </a:b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q = 0          q = 0         q = 0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следовательно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Эрнест Резерфорд, ученик Д. Д. Томсона, решил обстрелять атом альфа – частицами. На основе опытов он установил, как устроен атом. Атом состоит из ядра и движущихся вокруг него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электрон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Ядро состоит из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протонов и нейтр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292720" y="1268280"/>
            <a:ext cx="367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утри атомов!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все частицы, из которых вы состоите, сложить вплотную, то вы уменьшитесь в 100000 раз ! И под микроскопом вас будет не видно. А масса те же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0 кг !  Вот это кроха! Но самое потрясающее, что такие объекты существуют в природе! Не на Земле, не в Солнечной системе: нейтронные звезды, расположенные в разных местах Вселенной, состоят из одних ядер, уложенных вплот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360" y="404640"/>
            <a:ext cx="784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разительные сведения об атоме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921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кольку в состав атомного ядра входят протоны, ядро имеет положительный заряд. Однако в целом атом нейтрален: количество электронов, движущихся вокруг ядра, равно количеству протонов в ядре. Атомы отличаются друг от друга числом протонов, нейтронов, электронов. Если от атома отрываются электроны или, наоборот, присоединяются дополнительные электроны, то образуется частицы, называемые ион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оны обладают электрическим зарядом. Положительный ион – положительным, отрицательный ион – отрицательным. Чем больше приобрел или потерял атом электронов, тем больше заряд и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63640" y="0"/>
            <a:ext cx="61930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томы и ионы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 создать облик того, что никогда не видел и не увидишь. Воображение рисует нам электрон похожим на реальный предмет: очень-очень маленький шарик. Многочисленные эксперименты подтверждают, что 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электрон существует внутри атома, кроме того была рассчитана его масса и заряд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        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m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= 9,1 х 10</a:t>
            </a:r>
            <a:r>
              <a:rPr b="0" i="1" lang="en-US" sz="2400" spc="-1" strike="noStrike" baseline="52000">
                <a:solidFill>
                  <a:srgbClr val="ff00ff"/>
                </a:solidFill>
                <a:latin typeface="Arial"/>
              </a:rPr>
              <a:t> -31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   кг,  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 = 1,6 х 10</a:t>
            </a:r>
            <a:r>
              <a:rPr b="0" i="1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400" spc="-1" strike="noStrike" baseline="50000">
                <a:solidFill>
                  <a:srgbClr val="ff00ff"/>
                </a:solidFill>
                <a:latin typeface="Arial"/>
              </a:rPr>
              <a:t>-19</a:t>
            </a:r>
            <a:r>
              <a:rPr b="0" i="1" lang="ru-RU" sz="2400" spc="-1" strike="noStrike">
                <a:solidFill>
                  <a:srgbClr val="ff00ff"/>
                </a:solidFill>
                <a:latin typeface="Arial"/>
              </a:rPr>
              <a:t>К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ядро состоит из нейтронов и протонов. Если номер элемента в периодической системе и его массовое число равны соответственно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А, то число протонов в ядре составляет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а число нейтронов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А. Никаких других частиц в ядре 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другой стороны при одном из типов радиоактивных распадов ядро атома распадается с выбросом бета – частицы, т. е. обычного электрона.       Откуда же берутся электроны в яд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0"/>
            <a:ext cx="7993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сть ли внутри ядра электроны?</a:t>
            </a:r>
            <a:endParaRPr b="0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0:42:04Z</dcterms:created>
  <dc:creator>Андрей</dc:creator>
  <dc:description/>
  <dc:language>en-US</dc:language>
  <cp:lastModifiedBy>Андрей</cp:lastModifiedBy>
  <dcterms:modified xsi:type="dcterms:W3CDTF">2006-12-25T15:40:28Z</dcterms:modified>
  <cp:revision>7</cp:revision>
  <dc:subject/>
  <dc:title>Тема: Природа электрического заряда</dc:title>
</cp:coreProperties>
</file>