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146B-6526-401A-8A93-580269EBA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E101-3D6C-47EF-A32C-607C5CAA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99D9-1669-44C1-92C0-4CE143777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C010-ABF0-49C3-AB6C-0E9050C98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C69D-056D-4AB4-854D-99C7A8905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C98F-582E-4243-B597-EC564970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597C-F8E7-414C-B102-F3F90704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9D75-E3C2-414F-AD60-8645142E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A19C-2C15-4466-B569-2534340C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7FA2-D05B-4E3A-B6BF-8B070BA6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3FA0-C784-4C8C-9546-AE559F1D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27CA-E22B-4E6F-BF39-6E3345A8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EC70-0DF3-4A0C-AEE6-830A80E0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8D0E-741E-446E-A6B5-489A9C71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E66B-C70B-4784-8129-102E90AF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3E3C-821E-40F9-92F2-E80C43FFC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CFAB-A18C-4103-B11E-2C1C41D5F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448F-C685-48FE-B427-9FEED703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F0FC-972A-4426-9F11-E9A197AF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70FC-BA46-4079-977C-17A24872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D4F8-28FB-4537-B156-3631A970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2923-C7A1-4AED-B8D5-E7C07450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9FB9-B216-471F-A34C-8FCB234B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E457-7B56-4838-A294-AC5F8F9C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A480-B7A4-43B6-801E-B42FF734BA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92BF-AD3C-489B-86A1-AF2A001D03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030fe"/>
                </a:solidFill>
                <a:latin typeface="Arial"/>
              </a:rPr>
              <a:t>Тема: Природа электрического заряд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030fe"/>
                </a:solidFill>
                <a:latin typeface="Arial"/>
              </a:rPr>
              <a:t>Цель: определить строение           ато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30fe"/>
                </a:solidFill>
                <a:latin typeface="Arial"/>
              </a:rPr>
              <a:t>Проблемный вопрос:</a:t>
            </a: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24000" y="981000"/>
            <a:ext cx="8280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де прячутся электроны?</a:t>
            </a:r>
            <a:endParaRPr b="1" i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916360" y="2951280"/>
            <a:ext cx="251928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 rot="541200">
            <a:off x="2057400" y="463680"/>
            <a:ext cx="7053120" cy="3456000"/>
          </a:xfrm>
          <a:prstGeom prst="rect">
            <a:avLst/>
          </a:prstGeom>
          <a:solidFill>
            <a:srgbClr val="f9bb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030fe"/>
                </a:solidFill>
                <a:latin typeface="Arial"/>
              </a:rPr>
              <a:t>Быть  может эти электроны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030fe"/>
                </a:solidFill>
                <a:latin typeface="Arial"/>
              </a:rPr>
              <a:t>Миры, где пять материко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030fe"/>
                </a:solidFill>
                <a:latin typeface="Arial"/>
              </a:rPr>
              <a:t>Искусства, знанья, войны, тро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030fe"/>
                </a:solidFill>
                <a:latin typeface="Arial"/>
              </a:rPr>
              <a:t>И память сорока веков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030fe"/>
                </a:solidFill>
                <a:latin typeface="Arial"/>
              </a:rPr>
              <a:t>                                       </a:t>
            </a:r>
            <a:r>
              <a:rPr b="1" i="1" lang="en-US" sz="2400" spc="-1" strike="noStrike">
                <a:solidFill>
                  <a:srgbClr val="3030fe"/>
                </a:solidFill>
                <a:latin typeface="Arial"/>
              </a:rPr>
              <a:t>В. Брю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1897 году Дж. Дж. Томсон приходит к выводу: в природе существует наименьшая порция отрицательного заряда – электро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к выглядит                                  Неизвест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сса                                              Исключительно ма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змер                                            Исключительно м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Характер                                         Весьма подвиж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есто обитания                              Где – то внутри те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есто работы                                 Электроэнергетика, электро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войства                                         Элементарный отрицатель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ря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так, где же находиться эта мельчайшая невидимая отрицательно заряженная частица -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 электро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00000" y="260280"/>
            <a:ext cx="7056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накомьтесь: электрон!</a:t>
            </a:r>
            <a:endParaRPr b="0" i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Тело – молекула – атом</a:t>
            </a:r>
            <a:br>
              <a:rPr sz="2800"/>
            </a:b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q = 0          q = 0         q = 0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следовательно</a:t>
            </a: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Эрнест Резерфорд, ученик Д. Д. Томсона, решил обстрелять атом альфа – частицами. На основе опытов он установил, как устроен атом. Атом состоит из ядра и движущихся вокруг него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электроно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Ядро состоит из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протонов и нейтрон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292720" y="1268280"/>
            <a:ext cx="3672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48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нутри атомов!</a:t>
            </a:r>
            <a:endParaRPr b="0" i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все частицы, из которых вы состоите, сложить вплотную, то вы уменьшитесь в 100000 раз ! И под микроскопом вас будет не видно. А масса те же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0 кг !  Вот это кроха! Но самое потрясающее, что такие объекты существуют в природе! Не на Земле, не в Солнечной системе: нейтронные звезды, расположенные в разных местах Вселенной, состоят из одних ядер, уложенных вплотн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4360" y="404640"/>
            <a:ext cx="7848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разительные сведения об атоме</a:t>
            </a:r>
            <a:endParaRPr b="0" i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9217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скольку в состав атомного ядра входят протоны, ядро имеет положительный заряд. Однако в целом атом нейтрален: количество электронов, движущихся вокруг ядра, равно количеству протонов в ядре. Атомы отличаются друг от друга числом протонов, нейтронов, электронов. Если от атома отрываются электроны или, наоборот, присоединяются дополнительные электроны, то образуется частицы, называемые ион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оны обладают электрическим зарядом. Положительный ион – положительным, отрицательный ион – отрицательным. Чем больше приобрел или потерял атом электронов, тем больше заряд и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763640" y="0"/>
            <a:ext cx="61930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томы и ионы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удно создать облик того, что никогда не видел и не увидишь. Воображение рисует нам электрон похожим на реальный предмет: очень-очень маленький шарик. Многочисленные эксперименты подтверждают, что </a:t>
            </a:r>
            <a:r>
              <a:rPr b="0" i="1" lang="ru-RU" sz="2400" spc="-1" strike="noStrike">
                <a:solidFill>
                  <a:srgbClr val="ff00ff"/>
                </a:solidFill>
                <a:latin typeface="Arial"/>
              </a:rPr>
              <a:t>электрон существует внутри атома, кроме того была рассчитана его масса и заряд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ff"/>
                </a:solidFill>
                <a:latin typeface="Arial"/>
              </a:rPr>
              <a:t>          </a:t>
            </a:r>
            <a:r>
              <a:rPr b="0" i="1" lang="en-US" sz="2400" spc="-1" strike="noStrike">
                <a:solidFill>
                  <a:srgbClr val="ff00ff"/>
                </a:solidFill>
                <a:latin typeface="Arial"/>
              </a:rPr>
              <a:t>m</a:t>
            </a:r>
            <a:r>
              <a:rPr b="0" i="1" lang="ru-RU" sz="2400" spc="-1" strike="noStrike">
                <a:solidFill>
                  <a:srgbClr val="ff00ff"/>
                </a:solidFill>
                <a:latin typeface="Arial"/>
              </a:rPr>
              <a:t> = 9,1 х 10</a:t>
            </a:r>
            <a:r>
              <a:rPr b="0" i="1" lang="en-US" sz="2400" spc="-1" strike="noStrike" baseline="52000">
                <a:solidFill>
                  <a:srgbClr val="ff00ff"/>
                </a:solidFill>
                <a:latin typeface="Arial"/>
              </a:rPr>
              <a:t> -31</a:t>
            </a:r>
            <a:r>
              <a:rPr b="0" i="1" lang="ru-RU" sz="2400" spc="-1" strike="noStrike">
                <a:solidFill>
                  <a:srgbClr val="ff00ff"/>
                </a:solidFill>
                <a:latin typeface="Arial"/>
              </a:rPr>
              <a:t>    кг,  </a:t>
            </a:r>
            <a:r>
              <a:rPr b="0" i="1" lang="en-US" sz="24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i="1" lang="ru-RU" sz="2400" spc="-1" strike="noStrike">
                <a:solidFill>
                  <a:srgbClr val="ff00ff"/>
                </a:solidFill>
                <a:latin typeface="Arial"/>
              </a:rPr>
              <a:t> = 1,6 х 10</a:t>
            </a:r>
            <a:r>
              <a:rPr b="0" i="1" lang="en-US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i="1" lang="en-US" sz="2400" spc="-1" strike="noStrike" baseline="50000">
                <a:solidFill>
                  <a:srgbClr val="ff00ff"/>
                </a:solidFill>
                <a:latin typeface="Arial"/>
              </a:rPr>
              <a:t>-19</a:t>
            </a:r>
            <a:r>
              <a:rPr b="0" i="1" lang="ru-RU" sz="2400" spc="-1" strike="noStrike">
                <a:solidFill>
                  <a:srgbClr val="ff00ff"/>
                </a:solidFill>
                <a:latin typeface="Arial"/>
              </a:rPr>
              <a:t>К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так, ядро состоит из нейтронов и протонов. Если номер элемента в периодической системе и его массовое число равны соответственно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А, то число протонов в ядре составляет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а число нейтронов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А. Никаких других частиц в ядре н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другой стороны при одном из типов радиоактивных распадов ядро атома распадается с выбросом бета – частицы, т. е. обычного электрона.       Откуда же берутся электроны в ядр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9640" y="0"/>
            <a:ext cx="799308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сть ли внутри ядра электроны?</a:t>
            </a:r>
            <a:endParaRPr b="0" i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0:42:04Z</dcterms:created>
  <dc:creator>Андрей</dc:creator>
  <dc:description/>
  <dc:language>en-US</dc:language>
  <cp:lastModifiedBy>Андрей</cp:lastModifiedBy>
  <dcterms:modified xsi:type="dcterms:W3CDTF">2006-12-25T15:40:28Z</dcterms:modified>
  <cp:revision>7</cp:revision>
  <dc:subject/>
  <dc:title>Тема: Природа электрического заряда</dc:title>
</cp:coreProperties>
</file>