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6.wmf" ContentType="image/x-wmf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gif" ContentType="image/gif"/>
  <Override PartName="/ppt/media/image27.jpeg" ContentType="image/jpeg"/>
  <Override PartName="/ppt/media/image5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46.png" ContentType="image/png"/>
  <Override PartName="/ppt/media/image35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10.png" ContentType="image/png"/>
  <Override PartName="/ppt/media/image54.gif" ContentType="image/gif"/>
  <Override PartName="/ppt/media/image47.png" ContentType="image/png"/>
  <Override PartName="/ppt/media/image49.png" ContentType="image/png"/>
  <Override PartName="/ppt/media/image12.png" ContentType="image/png"/>
  <Override PartName="/ppt/media/image44.gif" ContentType="image/gi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2869-C343-4B62-8DA8-D99D61A6CA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221F-D987-44DD-B2C5-106F8933B4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98F-D9C0-464D-877F-D26D111C4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248-2280-4175-AF1A-9C9CD1E0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308-107D-4DF9-BB7D-A4F95F24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CA1-95B8-49EE-B9D2-C9117129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788-3064-4C7C-B8A4-6C004A31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8BD2-7B9B-4452-8DDE-6D7C7005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2A70-00EE-45ED-B06A-FA4FF572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FC34-6D0A-4E67-976B-B3FAC9ED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4473-0D1A-4989-A511-9054FC59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6166-4A06-435E-BB44-4AEDCE0D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B456-D6FF-45C1-A690-5073BE4A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76BA-E573-471F-9370-6A75A6A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458-6591-4AF3-9C70-031FCE7E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1AA9-0EF9-462E-80D8-8DAB34B4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8055-928F-4554-9252-7C924D1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5A3D-FF2B-4BAC-82A8-A4678AF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CCAD-0708-45C5-92AA-8D23ECB6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FF5B-783A-479E-BF9C-D0C965BE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02FD-1221-43AF-8EFE-3EE964FA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48AEB-7CE9-4327-85D2-F8C617D4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D43BF-E802-4001-8721-D634B87D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B863-B582-4E71-92CF-640DF6A7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E586-9C3A-479B-89F0-B9CD30B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F96-4300-4F13-99BC-AFC1CA3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123A-1EE5-4DEA-9C46-4360BC5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75EA-0169-4CEE-875D-3B66C1F7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5815-A950-4D41-8B2E-5334138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984D-B300-4BEC-984E-F6CD79F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445D-663F-4AFE-8127-8F0CCCC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563AC-7DB2-4D58-9F40-BE84F90D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EC35A-7603-466C-97EA-BD6C650D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1AF01-2576-4264-9A54-96A062C5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8DCE-B672-4E09-A7E7-4BA1D55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2354A-E735-440A-93A5-E9423078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959-13EC-42C7-BFFA-0327753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85DFC-DD45-4CEE-A948-7532C5D8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1AF4-62E8-4869-98D3-14296DE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E0F8-1E88-4E0C-93C9-B0F0509E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398DC-C34C-4234-91B7-7430EAF3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BDB3-02D1-46CC-AF7F-3FBDF88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AA86-39D4-44B5-AE46-66324BB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84C2C-6C6E-4CC0-A96A-82623FF0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9B906-FDDE-4AD7-8327-47130EA5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21A9-2DEC-4E8B-93DB-B25F2753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CEC33-80D7-474E-9D1C-13BCCE17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74E-35DD-4E9E-AF14-DDCCFEE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D1C7-20A6-48BD-A5C4-10D9DAFE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43E7F-FA19-4355-A49C-B7C2B29D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8794-A528-4D15-8C7B-C272663A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B599A-6DB6-42CA-9110-321C94CD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4EC4-0444-4871-AC24-10CBF8AE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57F7-5FA1-4CDE-9BFD-BD016B6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6EE6E-473E-4F7F-9207-7027C30D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3E84-A526-4379-900A-1CC33DA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5086A-4B0F-4A0A-9934-1064037B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06D53-5A21-48A7-98DA-CA3499D9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5DD-DB50-41EE-97C4-AA3CA7A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222D3-A8A5-4A72-84BD-3EF97044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D033-60FE-4BB4-A67E-79F2AB50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3C6F-E2C1-4F5A-9BBB-27FC8D15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5B96E-EC96-40BD-AF1B-81477F3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51083-7333-46B3-9AE4-27AAE7E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FD71-CFCC-43D1-9F73-A9AC320F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CE81-2CA8-4692-9D2A-3832CAD6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782F-E67A-4B80-B27C-8E20358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A19A3-1BF6-47FE-A1F3-EBBC3FA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D881A-CFB5-4A5A-A4EB-6C24ED46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EFB-15C5-41A1-8170-93ACDB4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B804B-FE8D-4C66-B037-7A3CD35A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E2CA2-3FFD-4738-927F-4032F49C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A6EC-27C4-4AE0-8A5E-425D5A6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6A911-3871-47B5-8E85-80C6A831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2FBD-77DB-49BC-A1CA-DC1491D9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43E9-F31F-418B-A17D-B1750BF2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94D16-829D-4D81-8B56-B63D009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6F1E4-8E31-49C6-93CB-CA74D266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0EA0E-C21F-4595-88D3-7357BB5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32BD-A593-4E3A-B7FD-AFF7A33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906-7040-46B1-A09D-DD0B7C1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C118-45C2-40FB-8FB6-FEC1B4B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017F7-02F7-498A-B271-55F3E03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F1DB7-244E-4C5F-8313-20D46BB5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B374-91D0-4050-AB00-C8DFAF3F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8D43-32C1-411C-B21A-847A1FF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696C2-5143-4C09-B728-BBBCF47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12F3A-719D-4CF2-8534-5ED31D1C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1FF5C-59E8-409C-ADF7-E991AED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BED2C-2D7C-45BD-958A-E8ED42BF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A2A61-A81B-4FC2-AD72-FD98D6B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7C8-259C-4191-9A00-EB8FB6C0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0683-C3C6-4943-91AB-CAD77ECC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9BF00-6F36-4619-A5F2-A55FDC5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5917B-94BA-4122-A2A6-03CF059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B725B-5C63-42A3-8B86-0DD026E8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5A76-662B-4A1F-BFF7-166F937B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39088-2FE2-47A2-92A8-C5FC0E95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9B4F6-C981-49B4-9F27-16443AE4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529-513E-4806-A821-71FF94EB27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6C0-CA7C-4A5B-AD1A-4D9F040D85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FCC-5E75-4FBC-95FD-7C30C79262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D4D1-BE6E-4737-993F-02A8BCC3B8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EF87-A3C7-4072-AAFF-F2E0315839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4FB7-6039-4BD2-B3E9-9808962D4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A5C6-BAF5-4955-9B9C-5B7665AD6B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FD6-83B9-4071-9B02-B62E8D06F7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7.gif"/><Relationship Id="rId11" Type="http://schemas.openxmlformats.org/officeDocument/2006/relationships/image" Target="../media/image17.gif"/><Relationship Id="rId12" Type="http://schemas.openxmlformats.org/officeDocument/2006/relationships/image" Target="../media/image22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image" Target="../media/image26.wmf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1.png"/><Relationship Id="rId10" Type="http://schemas.openxmlformats.org/officeDocument/2006/relationships/image" Target="../media/image39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853920" y="249120"/>
            <a:ext cx="8015400" cy="3060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27432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Иванова И.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Comic Sans MS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82" name="Группа 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483" name="Овал 4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484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86" name="Прямоугольник 5"/>
            <p:cNvGrpSpPr/>
            <p:nvPr/>
          </p:nvGrpSpPr>
          <p:grpSpPr>
            <a:xfrm>
              <a:off x="1936080" y="2303640"/>
              <a:ext cx="5083200" cy="2671920"/>
              <a:chOff x="1936080" y="2303640"/>
              <a:chExt cx="5083200" cy="2671920"/>
            </a:xfrm>
          </p:grpSpPr>
          <p:pic>
            <p:nvPicPr>
              <p:cNvPr id="487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303640"/>
                <a:ext cx="5083200" cy="264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8" name=""/>
              <p:cNvSpPr/>
              <p:nvPr/>
            </p:nvSpPr>
            <p:spPr>
              <a:xfrm>
                <a:off x="1956600" y="2321280"/>
                <a:ext cx="504900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Полнота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 (мечта историка- иметь информацию о минувших  эпохах, но полнота информации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 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уменьшается по мере удалённости от нас исторической эпохи)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89" name="Управляющая кнопка: возврат 7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91" name="Группа 3"/>
          <p:cNvGrpSpPr/>
          <p:nvPr/>
        </p:nvGrpSpPr>
        <p:grpSpPr>
          <a:xfrm>
            <a:off x="714240" y="1643040"/>
            <a:ext cx="7929720" cy="3643200"/>
            <a:chOff x="714240" y="1643040"/>
            <a:chExt cx="7929720" cy="3643200"/>
          </a:xfrm>
        </p:grpSpPr>
        <p:grpSp>
          <p:nvGrpSpPr>
            <p:cNvPr id="492" name="Овал 4"/>
            <p:cNvGrpSpPr/>
            <p:nvPr/>
          </p:nvGrpSpPr>
          <p:grpSpPr>
            <a:xfrm>
              <a:off x="714240" y="1643040"/>
              <a:ext cx="7929720" cy="3643200"/>
              <a:chOff x="714240" y="1643040"/>
              <a:chExt cx="7929720" cy="3643200"/>
            </a:xfrm>
          </p:grpSpPr>
          <p:pic>
            <p:nvPicPr>
              <p:cNvPr id="493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240" y="1643040"/>
                <a:ext cx="792972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1906920" y="2208600"/>
                <a:ext cx="555084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95" name="Прямоугольник 5"/>
            <p:cNvGrpSpPr/>
            <p:nvPr/>
          </p:nvGrpSpPr>
          <p:grpSpPr>
            <a:xfrm>
              <a:off x="2223000" y="2160720"/>
              <a:ext cx="5087520" cy="1572120"/>
              <a:chOff x="2223000" y="2160720"/>
              <a:chExt cx="5087520" cy="1572120"/>
            </a:xfrm>
          </p:grpSpPr>
          <p:pic>
            <p:nvPicPr>
              <p:cNvPr id="496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3000" y="2160720"/>
                <a:ext cx="5087520" cy="15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7" name=""/>
              <p:cNvSpPr/>
              <p:nvPr/>
            </p:nvSpPr>
            <p:spPr>
              <a:xfrm>
                <a:off x="2242440" y="2175840"/>
                <a:ext cx="5053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Достоверность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Lucida Sans Unicode"/>
                  </a:rPr>
                  <a:t>- она уменьшается с уменьшением полноты</a:t>
                </a: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98" name="Управляющая кнопка: возврат 7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500" name="Группа 5"/>
          <p:cNvGrpSpPr/>
          <p:nvPr/>
        </p:nvGrpSpPr>
        <p:grpSpPr>
          <a:xfrm>
            <a:off x="428760" y="1500120"/>
            <a:ext cx="7929360" cy="3643560"/>
            <a:chOff x="428760" y="1500120"/>
            <a:chExt cx="7929360" cy="3643560"/>
          </a:xfrm>
        </p:grpSpPr>
        <p:grpSp>
          <p:nvGrpSpPr>
            <p:cNvPr id="501" name="Овал 6"/>
            <p:cNvGrpSpPr/>
            <p:nvPr/>
          </p:nvGrpSpPr>
          <p:grpSpPr>
            <a:xfrm>
              <a:off x="428760" y="1500120"/>
              <a:ext cx="7929360" cy="3643560"/>
              <a:chOff x="428760" y="1500120"/>
              <a:chExt cx="7929360" cy="3643560"/>
            </a:xfrm>
          </p:grpSpPr>
          <p:pic>
            <p:nvPicPr>
              <p:cNvPr id="502" name="Овал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500120"/>
                <a:ext cx="7929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1621440" y="2064240"/>
                <a:ext cx="5546520" cy="252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504" name="Прямоугольник 7"/>
            <p:cNvGrpSpPr/>
            <p:nvPr/>
          </p:nvGrpSpPr>
          <p:grpSpPr>
            <a:xfrm>
              <a:off x="1936080" y="2221560"/>
              <a:ext cx="5083200" cy="1819800"/>
              <a:chOff x="1936080" y="2221560"/>
              <a:chExt cx="5083200" cy="1819800"/>
            </a:xfrm>
          </p:grpSpPr>
          <p:pic>
            <p:nvPicPr>
              <p:cNvPr id="505" name="Прямоугольник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221560"/>
                <a:ext cx="5083200" cy="180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1956600" y="2241000"/>
                <a:ext cx="504900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Новизна</a:t>
                </a:r>
                <a:r>
                  <a:rPr b="0" lang="en-US" sz="2800" spc="-1" strike="noStrike">
                    <a:solidFill>
                      <a:srgbClr val="002060"/>
                    </a:solidFill>
                    <a:latin typeface="Lucida Sans Unicode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с течением времени информация стареет, например, газетная.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507" name="Прямоугольник 10"/>
          <p:cNvSpPr/>
          <p:nvPr/>
        </p:nvSpPr>
        <p:spPr>
          <a:xfrm>
            <a:off x="2214720" y="3000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Управляющая кнопка: возврат 11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Прямоугольник 2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510" name="Группа 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511" name="Овал 4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512" name="Овал 4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514" name="Прямоугольник 5"/>
            <p:cNvGrpSpPr/>
            <p:nvPr/>
          </p:nvGrpSpPr>
          <p:grpSpPr>
            <a:xfrm>
              <a:off x="2080800" y="2232360"/>
              <a:ext cx="4407840" cy="2733840"/>
              <a:chOff x="2080800" y="2232360"/>
              <a:chExt cx="4407840" cy="2733840"/>
            </a:xfrm>
          </p:grpSpPr>
          <p:pic>
            <p:nvPicPr>
              <p:cNvPr id="515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0800" y="2232360"/>
                <a:ext cx="4407840" cy="270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2097720" y="2251800"/>
                <a:ext cx="4381200" cy="27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c00000"/>
                    </a:solidFill>
                    <a:latin typeface="Lucida Sans Unicode"/>
                  </a:rPr>
                  <a:t>Ценность- </a:t>
                </a:r>
                <a:endParaRPr b="0" lang="en-US" sz="32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самая ценная информация- достаточно полезная, достоверная, полная и новая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517" name="Управляющая кнопка: возврат 8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Прямоугольник 1" descr=""/>
          <p:cNvPicPr/>
          <p:nvPr/>
        </p:nvPicPr>
        <p:blipFill>
          <a:blip r:embed="rId1"/>
          <a:stretch/>
        </p:blipFill>
        <p:spPr>
          <a:xfrm>
            <a:off x="3230640" y="2182680"/>
            <a:ext cx="3225600" cy="1687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hel92"/>
          <p:cNvPicPr/>
          <p:nvPr/>
        </p:nvPicPr>
        <p:blipFill>
          <a:blip r:embed="rId2"/>
          <a:stretch/>
        </p:blipFill>
        <p:spPr>
          <a:xfrm>
            <a:off x="1857240" y="642960"/>
            <a:ext cx="1846440" cy="27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40426E-006 C 0.11094 -0.06336 0.22188 -0.12673 0.2915 -0.12673 C 0.36111 -0.12673 0.39479 -0.02914 0.41736 -3.40426E-006 C 0.43993 0.02914 0.39271 0.02591 0.42726 0.04765 C 0.46181 0.06938 0.60365 0.04857 0.62483 0.12998 C 0.64601 0.21138 0.68611 0.50047 0.55434 0.53608 C 0.42257 0.5717 -0.04531 0.37581 -0.16528 0.34367 E">
                                      <p:cBhvr>
                                        <p:cTn id="367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Прямоугольник 1" descr=""/>
          <p:cNvPicPr/>
          <p:nvPr/>
        </p:nvPicPr>
        <p:blipFill>
          <a:blip r:embed="rId1"/>
          <a:stretch/>
        </p:blipFill>
        <p:spPr>
          <a:xfrm>
            <a:off x="493560" y="1285920"/>
            <a:ext cx="5426280" cy="969840"/>
          </a:xfrm>
          <a:prstGeom prst="rect">
            <a:avLst/>
          </a:prstGeom>
          <a:ln w="0">
            <a:noFill/>
          </a:ln>
        </p:spPr>
      </p:pic>
      <p:pic>
        <p:nvPicPr>
          <p:cNvPr id="380" name="Прямоугольник 2" descr=""/>
          <p:cNvPicPr/>
          <p:nvPr/>
        </p:nvPicPr>
        <p:blipFill>
          <a:blip r:embed="rId2"/>
          <a:stretch/>
        </p:blipFill>
        <p:spPr>
          <a:xfrm>
            <a:off x="1743120" y="-30240"/>
            <a:ext cx="5584680" cy="1687680"/>
          </a:xfrm>
          <a:prstGeom prst="rect">
            <a:avLst/>
          </a:prstGeom>
          <a:ln w="0">
            <a:noFill/>
          </a:ln>
        </p:spPr>
      </p:pic>
      <p:pic>
        <p:nvPicPr>
          <p:cNvPr id="381" name="Прямоугольник 3" descr=""/>
          <p:cNvPicPr/>
          <p:nvPr/>
        </p:nvPicPr>
        <p:blipFill>
          <a:blip r:embed="rId3"/>
          <a:stretch/>
        </p:blipFill>
        <p:spPr>
          <a:xfrm>
            <a:off x="590400" y="1932120"/>
            <a:ext cx="8345520" cy="969840"/>
          </a:xfrm>
          <a:prstGeom prst="rect">
            <a:avLst/>
          </a:prstGeom>
          <a:ln w="0">
            <a:noFill/>
          </a:ln>
        </p:spPr>
      </p:pic>
      <p:pic>
        <p:nvPicPr>
          <p:cNvPr id="382" name="Прямоугольник 4" descr=""/>
          <p:cNvPicPr/>
          <p:nvPr/>
        </p:nvPicPr>
        <p:blipFill>
          <a:blip r:embed="rId4"/>
          <a:stretch/>
        </p:blipFill>
        <p:spPr>
          <a:xfrm>
            <a:off x="566640" y="2719440"/>
            <a:ext cx="4687920" cy="968400"/>
          </a:xfrm>
          <a:prstGeom prst="rect">
            <a:avLst/>
          </a:prstGeom>
          <a:ln w="0">
            <a:noFill/>
          </a:ln>
        </p:spPr>
      </p:pic>
      <p:pic>
        <p:nvPicPr>
          <p:cNvPr id="383" name="Прямоугольник 6" descr=""/>
          <p:cNvPicPr/>
          <p:nvPr/>
        </p:nvPicPr>
        <p:blipFill>
          <a:blip r:embed="rId5"/>
          <a:stretch/>
        </p:blipFill>
        <p:spPr>
          <a:xfrm>
            <a:off x="1352520" y="3492360"/>
            <a:ext cx="7321680" cy="44640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8" descr=""/>
          <p:cNvPicPr/>
          <p:nvPr/>
        </p:nvPicPr>
        <p:blipFill>
          <a:blip r:embed="rId6"/>
          <a:stretch/>
        </p:blipFill>
        <p:spPr>
          <a:xfrm>
            <a:off x="1352520" y="3846600"/>
            <a:ext cx="7053120" cy="450720"/>
          </a:xfrm>
          <a:prstGeom prst="rect">
            <a:avLst/>
          </a:prstGeom>
          <a:ln w="0">
            <a:noFill/>
          </a:ln>
        </p:spPr>
      </p:pic>
      <p:pic>
        <p:nvPicPr>
          <p:cNvPr id="385" name="Прямоугольник 10" descr=""/>
          <p:cNvPicPr/>
          <p:nvPr/>
        </p:nvPicPr>
        <p:blipFill>
          <a:blip r:embed="rId7"/>
          <a:stretch/>
        </p:blipFill>
        <p:spPr>
          <a:xfrm>
            <a:off x="1352520" y="4206960"/>
            <a:ext cx="5773680" cy="44424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11" descr=""/>
          <p:cNvPicPr/>
          <p:nvPr/>
        </p:nvPicPr>
        <p:blipFill>
          <a:blip r:embed="rId8"/>
          <a:stretch/>
        </p:blipFill>
        <p:spPr>
          <a:xfrm>
            <a:off x="566640" y="4784760"/>
            <a:ext cx="565812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4"/>
          <p:cNvSpPr/>
          <p:nvPr/>
        </p:nvSpPr>
        <p:spPr>
          <a:xfrm>
            <a:off x="357120" y="1071720"/>
            <a:ext cx="84297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Вещество, энергия и информация – важнейшие сущности нашего мир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Энергия приводит наш мир в движение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нергия химических реакций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нергия солнечных лучей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электрическая энерг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Lucida Sans Unicode"/>
              </a:rPr>
              <a:t>механическая энерги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Прямоугольник 5" descr=""/>
          <p:cNvPicPr/>
          <p:nvPr/>
        </p:nvPicPr>
        <p:blipFill>
          <a:blip r:embed="rId1"/>
          <a:stretch/>
        </p:blipFill>
        <p:spPr>
          <a:xfrm>
            <a:off x="-96840" y="42840"/>
            <a:ext cx="9393120" cy="16826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6" descr="6.gif"/>
          <p:cNvPicPr/>
          <p:nvPr/>
        </p:nvPicPr>
        <p:blipFill>
          <a:blip r:embed="rId2"/>
          <a:stretch/>
        </p:blipFill>
        <p:spPr>
          <a:xfrm rot="5400000">
            <a:off x="422172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7" descr="6.gif"/>
          <p:cNvPicPr/>
          <p:nvPr/>
        </p:nvPicPr>
        <p:blipFill>
          <a:blip r:embed="rId3"/>
          <a:stretch/>
        </p:blipFill>
        <p:spPr>
          <a:xfrm rot="5400000">
            <a:off x="560592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8" descr="6.gif"/>
          <p:cNvPicPr/>
          <p:nvPr/>
        </p:nvPicPr>
        <p:blipFill>
          <a:blip r:embed="rId4"/>
          <a:stretch/>
        </p:blipFill>
        <p:spPr>
          <a:xfrm rot="5400000">
            <a:off x="6990480" y="5444280"/>
            <a:ext cx="385560" cy="2124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9" descr="6.gif"/>
          <p:cNvPicPr/>
          <p:nvPr/>
        </p:nvPicPr>
        <p:blipFill>
          <a:blip r:embed="rId5"/>
          <a:stretch/>
        </p:blipFill>
        <p:spPr>
          <a:xfrm rot="5400000">
            <a:off x="8426880" y="5444280"/>
            <a:ext cx="385560" cy="212760"/>
          </a:xfrm>
          <a:prstGeom prst="rect">
            <a:avLst/>
          </a:prstGeom>
          <a:ln w="0">
            <a:noFill/>
          </a:ln>
        </p:spPr>
      </p:pic>
      <p:pic>
        <p:nvPicPr>
          <p:cNvPr id="393" name="Прямоугольник 11" descr=""/>
          <p:cNvPicPr/>
          <p:nvPr/>
        </p:nvPicPr>
        <p:blipFill>
          <a:blip r:embed="rId6"/>
          <a:stretch/>
        </p:blipFill>
        <p:spPr>
          <a:xfrm>
            <a:off x="3816360" y="5962680"/>
            <a:ext cx="1193760" cy="444600"/>
          </a:xfrm>
          <a:prstGeom prst="rect">
            <a:avLst/>
          </a:prstGeom>
          <a:ln w="0">
            <a:noFill/>
          </a:ln>
        </p:spPr>
      </p:pic>
      <p:pic>
        <p:nvPicPr>
          <p:cNvPr id="394" name="Прямоугольник 12" descr=""/>
          <p:cNvPicPr/>
          <p:nvPr/>
        </p:nvPicPr>
        <p:blipFill>
          <a:blip r:embed="rId7"/>
          <a:stretch/>
        </p:blipFill>
        <p:spPr>
          <a:xfrm>
            <a:off x="5175360" y="5962680"/>
            <a:ext cx="1195200" cy="444600"/>
          </a:xfrm>
          <a:prstGeom prst="rect">
            <a:avLst/>
          </a:prstGeom>
          <a:ln w="0">
            <a:noFill/>
          </a:ln>
        </p:spPr>
      </p:pic>
      <p:pic>
        <p:nvPicPr>
          <p:cNvPr id="395" name="Прямоугольник 13" descr=""/>
          <p:cNvPicPr/>
          <p:nvPr/>
        </p:nvPicPr>
        <p:blipFill>
          <a:blip r:embed="rId8"/>
          <a:stretch/>
        </p:blipFill>
        <p:spPr>
          <a:xfrm>
            <a:off x="6589800" y="5962680"/>
            <a:ext cx="1218960" cy="431640"/>
          </a:xfrm>
          <a:prstGeom prst="rect">
            <a:avLst/>
          </a:prstGeom>
          <a:ln w="0">
            <a:noFill/>
          </a:ln>
        </p:spPr>
      </p:pic>
      <p:pic>
        <p:nvPicPr>
          <p:cNvPr id="396" name="Прямоугольник 14" descr=""/>
          <p:cNvPicPr/>
          <p:nvPr/>
        </p:nvPicPr>
        <p:blipFill>
          <a:blip r:embed="rId9"/>
          <a:stretch/>
        </p:blipFill>
        <p:spPr>
          <a:xfrm>
            <a:off x="7961400" y="5962680"/>
            <a:ext cx="1195200" cy="44460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17"/>
          <p:cNvSpPr/>
          <p:nvPr/>
        </p:nvSpPr>
        <p:spPr>
          <a:xfrm flipH="1" flipV="1">
            <a:off x="3643200" y="2571840"/>
            <a:ext cx="5214960" cy="1440"/>
          </a:xfrm>
          <a:prstGeom prst="line">
            <a:avLst/>
          </a:prstGeom>
          <a:ln w="9360">
            <a:solidFill>
              <a:srgbClr val="2da2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Прямая соединительная линия 18"/>
          <p:cNvSpPr/>
          <p:nvPr/>
        </p:nvSpPr>
        <p:spPr>
          <a:xfrm flipH="1" flipV="1">
            <a:off x="142920" y="1356840"/>
            <a:ext cx="5214960" cy="1800"/>
          </a:xfrm>
          <a:prstGeom prst="line">
            <a:avLst/>
          </a:prstGeom>
          <a:ln w="9360">
            <a:solidFill>
              <a:srgbClr val="2da2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TextBox 19"/>
          <p:cNvSpPr/>
          <p:nvPr/>
        </p:nvSpPr>
        <p:spPr>
          <a:xfrm>
            <a:off x="4214880" y="4857840"/>
            <a:ext cx="457200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ИНФОРМАЦИОННЫЕ ПРОЦЕССЫ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TextBox 20"/>
          <p:cNvSpPr/>
          <p:nvPr/>
        </p:nvSpPr>
        <p:spPr>
          <a:xfrm>
            <a:off x="428760" y="33577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бытовой смыс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ведения получаемые из окружающей сред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 помощью органов чувст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Рисунок 21" descr="6.gif"/>
          <p:cNvPicPr/>
          <p:nvPr/>
        </p:nvPicPr>
        <p:blipFill>
          <a:blip r:embed="rId10"/>
          <a:stretch/>
        </p:blipFill>
        <p:spPr>
          <a:xfrm rot="5400000">
            <a:off x="2130480" y="30589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2" descr="6.gif"/>
          <p:cNvPicPr/>
          <p:nvPr/>
        </p:nvPicPr>
        <p:blipFill>
          <a:blip r:embed="rId11"/>
          <a:stretch/>
        </p:blipFill>
        <p:spPr>
          <a:xfrm rot="5400000">
            <a:off x="6715080" y="307188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23"/>
          <p:cNvSpPr/>
          <p:nvPr/>
        </p:nvSpPr>
        <p:spPr>
          <a:xfrm>
            <a:off x="1785960" y="2643120"/>
            <a:ext cx="550080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Прямоугольник 24"/>
          <p:cNvSpPr/>
          <p:nvPr/>
        </p:nvSpPr>
        <p:spPr>
          <a:xfrm>
            <a:off x="4714920" y="335772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в нау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совокупность сведений, циркулирующих в природе, обществе, а также в созданных человеком системах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Picture 2" descr="F:\босова диск\Плакаты\Как мы воспринимаем информацию.jpg"/>
          <p:cNvPicPr/>
          <p:nvPr/>
        </p:nvPicPr>
        <p:blipFill>
          <a:blip r:embed="rId12"/>
          <a:stretch/>
        </p:blipFill>
        <p:spPr>
          <a:xfrm>
            <a:off x="142920" y="4643280"/>
            <a:ext cx="3643200" cy="1714680"/>
          </a:xfrm>
          <a:prstGeom prst="rect">
            <a:avLst/>
          </a:prstGeom>
          <a:ln w="0">
            <a:noFill/>
          </a:ln>
        </p:spPr>
      </p:pic>
      <p:sp>
        <p:nvSpPr>
          <p:cNvPr id="406" name="Управляющая кнопка: домой 27">
            <a:hlinkClick r:id="rId13" action="ppaction://hlinksldjump"/>
          </p:cNvPr>
          <p:cNvSpPr/>
          <p:nvPr/>
        </p:nvSpPr>
        <p:spPr>
          <a:xfrm>
            <a:off x="8643960" y="650088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Прямоугольник 1" descr=""/>
          <p:cNvPicPr/>
          <p:nvPr/>
        </p:nvPicPr>
        <p:blipFill>
          <a:blip r:embed="rId1"/>
          <a:stretch/>
        </p:blipFill>
        <p:spPr>
          <a:xfrm>
            <a:off x="1494000" y="122400"/>
            <a:ext cx="6583320" cy="1657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5"/>
          <p:cNvSpPr/>
          <p:nvPr/>
        </p:nvSpPr>
        <p:spPr>
          <a:xfrm>
            <a:off x="857160" y="2214720"/>
            <a:ext cx="357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Аналогова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(непрерывная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5522400" y="2214720"/>
            <a:ext cx="167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Дискретная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Lucida Sans Unicode"/>
              </a:rPr>
              <a:t>(прерывистая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Picture 16" descr="C:\WINDOWS\Application Data\Microsoft\Media Catalog\Downloaded Clips\cl8e\j0356569.wmf"/>
          <p:cNvPicPr/>
          <p:nvPr/>
        </p:nvPicPr>
        <p:blipFill>
          <a:blip r:embed="rId2">
            <a:lum bright="24000"/>
          </a:blip>
          <a:stretch/>
        </p:blipFill>
        <p:spPr>
          <a:xfrm flipH="1">
            <a:off x="428400" y="2786040"/>
            <a:ext cx="1189080" cy="2776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морзе-алфавит"/>
          <p:cNvPicPr/>
          <p:nvPr/>
        </p:nvPicPr>
        <p:blipFill>
          <a:blip r:embed="rId3"/>
          <a:stretch/>
        </p:blipFill>
        <p:spPr>
          <a:xfrm>
            <a:off x="4714920" y="3000240"/>
            <a:ext cx="1298520" cy="1882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133" descr="C:\WINDOWS\Application Data\Microsoft\Media Catalog\Downloaded Clips\cl5c\j0231063.wmf"/>
          <p:cNvPicPr/>
          <p:nvPr/>
        </p:nvPicPr>
        <p:blipFill>
          <a:blip r:embed="rId4"/>
          <a:stretch/>
        </p:blipFill>
        <p:spPr>
          <a:xfrm>
            <a:off x="1714680" y="3071880"/>
            <a:ext cx="2214360" cy="1138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2" descr="037"/>
          <p:cNvPicPr/>
          <p:nvPr/>
        </p:nvPicPr>
        <p:blipFill>
          <a:blip r:embed="rId5"/>
          <a:stretch/>
        </p:blipFill>
        <p:spPr>
          <a:xfrm>
            <a:off x="6286680" y="3857760"/>
            <a:ext cx="2019240" cy="15145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4" name="Picture 20" descr="holod_small"/>
          <p:cNvPicPr/>
          <p:nvPr/>
        </p:nvPicPr>
        <p:blipFill>
          <a:blip r:embed="rId6"/>
          <a:stretch/>
        </p:blipFill>
        <p:spPr>
          <a:xfrm rot="771600">
            <a:off x="6324120" y="3014280"/>
            <a:ext cx="1543320" cy="115740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5" name="Picture 20" descr="Левитан Владимирка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7429680" y="4714920"/>
            <a:ext cx="1449360" cy="94284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8"/>
          <a:stretch/>
        </p:blipFill>
        <p:spPr>
          <a:xfrm>
            <a:off x="7500960" y="2857680"/>
            <a:ext cx="1446120" cy="1500120"/>
          </a:xfrm>
          <a:prstGeom prst="rect">
            <a:avLst/>
          </a:prstGeom>
          <a:ln w="38160">
            <a:solidFill>
              <a:srgbClr val="00b0f0"/>
            </a:solidFill>
            <a:miter/>
          </a:ln>
        </p:spPr>
      </p:pic>
      <p:sp>
        <p:nvSpPr>
          <p:cNvPr id="417" name="TextBox 18"/>
          <p:cNvSpPr/>
          <p:nvPr/>
        </p:nvSpPr>
        <p:spPr>
          <a:xfrm>
            <a:off x="4655160" y="49291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Азбука Морзе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TextBox 19"/>
          <p:cNvSpPr/>
          <p:nvPr/>
        </p:nvSpPr>
        <p:spPr>
          <a:xfrm>
            <a:off x="6929280" y="5786280"/>
            <a:ext cx="16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Времена года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Box 20"/>
          <p:cNvSpPr/>
          <p:nvPr/>
        </p:nvSpPr>
        <p:spPr>
          <a:xfrm>
            <a:off x="1712880" y="4286160"/>
            <a:ext cx="21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Движение автомобил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TextBox 21"/>
          <p:cNvSpPr/>
          <p:nvPr/>
        </p:nvSpPr>
        <p:spPr>
          <a:xfrm>
            <a:off x="502920" y="56437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Sans Unicode"/>
              </a:rPr>
              <a:t>Мелоди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TextBox 22"/>
          <p:cNvSpPr/>
          <p:nvPr/>
        </p:nvSpPr>
        <p:spPr>
          <a:xfrm>
            <a:off x="2032200" y="4929120"/>
            <a:ext cx="2199960" cy="3682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 Unicode"/>
              </a:rPr>
              <a:t>Температура тел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Прямоугольник 23" descr=""/>
          <p:cNvPicPr/>
          <p:nvPr/>
        </p:nvPicPr>
        <p:blipFill>
          <a:blip r:embed="rId9"/>
          <a:stretch/>
        </p:blipFill>
        <p:spPr>
          <a:xfrm>
            <a:off x="1633680" y="1096920"/>
            <a:ext cx="5876640" cy="1701720"/>
          </a:xfrm>
          <a:prstGeom prst="rect">
            <a:avLst/>
          </a:prstGeom>
          <a:ln w="0">
            <a:noFill/>
          </a:ln>
        </p:spPr>
      </p:pic>
      <p:sp>
        <p:nvSpPr>
          <p:cNvPr id="423" name="Управляющая кнопка: домой 24">
            <a:hlinkClick r:id="rId10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700"/>
                            </p:stCondLst>
                            <p:childTnLst>
                              <p:par>
                                <p:cTn id="1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200"/>
                            </p:stCondLst>
                            <p:childTnLst>
                              <p:par>
                                <p:cTn id="18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7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7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200"/>
                            </p:stCondLst>
                            <p:childTnLst>
                              <p:par>
                                <p:cTn id="2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77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770" fill="hold"/>
                                        <p:tgtEl>
                                          <p:spTgt spid="4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1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3" dur="77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92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Прямоугольник 1" descr=""/>
          <p:cNvPicPr/>
          <p:nvPr/>
        </p:nvPicPr>
        <p:blipFill>
          <a:blip r:embed="rId1"/>
          <a:stretch/>
        </p:blipFill>
        <p:spPr>
          <a:xfrm>
            <a:off x="609480" y="42840"/>
            <a:ext cx="8089920" cy="16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500040" y="1428840"/>
          <a:ext cx="8286840" cy="4022640"/>
        </p:xfrm>
        <a:graphic>
          <a:graphicData uri="http://schemas.openxmlformats.org/drawingml/2006/table">
            <a:tbl>
              <a:tblPr/>
              <a:tblGrid>
                <a:gridCol w="3559320"/>
                <a:gridCol w="47275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ВИДЫ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ИНФОРМ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3a276"/>
                          </a:solidFill>
                          <a:latin typeface="Lucida Sans Unicode"/>
                        </a:rPr>
                        <a:t>ПОДВИДЫ ИНФОРМАЦ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Массова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общественно-полит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научно-популя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Специаль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нау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техн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эконом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управлен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3171e"/>
                          </a:solidFill>
                          <a:latin typeface="Comic Sans MS"/>
                          <a:ea typeface="AngsanaUPC"/>
                        </a:rPr>
                        <a:t>Личн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262626"/>
                          </a:solidFill>
                          <a:latin typeface="Comic Sans MS"/>
                        </a:rPr>
                        <a:t>знания, умения, интуи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sp>
        <p:nvSpPr>
          <p:cNvPr id="426" name="TextBox 5"/>
          <p:cNvSpPr/>
          <p:nvPr/>
        </p:nvSpPr>
        <p:spPr>
          <a:xfrm>
            <a:off x="874440" y="5715000"/>
            <a:ext cx="75567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Деление информации по признаку  «общественное назначение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Управляющая кнопка: домой 6">
            <a:hlinkClick r:id="rId4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Прямоугольник 3" descr=""/>
          <p:cNvPicPr/>
          <p:nvPr/>
        </p:nvPicPr>
        <p:blipFill>
          <a:blip r:embed="rId1"/>
          <a:stretch/>
        </p:blipFill>
        <p:spPr>
          <a:xfrm>
            <a:off x="542880" y="-30240"/>
            <a:ext cx="8088480" cy="16876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4"/>
          <p:cNvSpPr/>
          <p:nvPr/>
        </p:nvSpPr>
        <p:spPr>
          <a:xfrm>
            <a:off x="1571760" y="128592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02000" y="1143000"/>
            <a:ext cx="72032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Деление информации по признаку  «область возникновения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31" name="Блок-схема: перфолента 6"/>
          <p:cNvGrpSpPr/>
          <p:nvPr/>
        </p:nvGrpSpPr>
        <p:grpSpPr>
          <a:xfrm>
            <a:off x="523800" y="1579680"/>
            <a:ext cx="2732040" cy="1176120"/>
            <a:chOff x="523800" y="1579680"/>
            <a:chExt cx="2732040" cy="1176120"/>
          </a:xfrm>
        </p:grpSpPr>
        <p:pic>
          <p:nvPicPr>
            <p:cNvPr id="432" name="Блок-схема: перфолента 6" descr=""/>
            <p:cNvPicPr/>
            <p:nvPr/>
          </p:nvPicPr>
          <p:blipFill>
            <a:blip r:embed="rId2"/>
            <a:stretch/>
          </p:blipFill>
          <p:spPr>
            <a:xfrm>
              <a:off x="523800" y="1579680"/>
              <a:ext cx="273204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71680" y="191448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элементарн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34" name="Блок-схема: перфолента 7"/>
          <p:cNvGrpSpPr/>
          <p:nvPr/>
        </p:nvGrpSpPr>
        <p:grpSpPr>
          <a:xfrm>
            <a:off x="3309840" y="1579680"/>
            <a:ext cx="2730600" cy="1176120"/>
            <a:chOff x="3309840" y="1579680"/>
            <a:chExt cx="2730600" cy="1176120"/>
          </a:xfrm>
        </p:grpSpPr>
        <p:pic>
          <p:nvPicPr>
            <p:cNvPr id="435" name="Блок-схема: перфолента 7" descr=""/>
            <p:cNvPicPr/>
            <p:nvPr/>
          </p:nvPicPr>
          <p:blipFill>
            <a:blip r:embed="rId3"/>
            <a:stretch/>
          </p:blipFill>
          <p:spPr>
            <a:xfrm>
              <a:off x="3309840" y="1579680"/>
              <a:ext cx="27306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357720" y="191448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биологическ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37" name="Блок-схема: перфолента 8"/>
          <p:cNvGrpSpPr/>
          <p:nvPr/>
        </p:nvGrpSpPr>
        <p:grpSpPr>
          <a:xfrm>
            <a:off x="6095880" y="1596960"/>
            <a:ext cx="2730600" cy="1060560"/>
            <a:chOff x="6095880" y="1596960"/>
            <a:chExt cx="2730600" cy="1060560"/>
          </a:xfrm>
        </p:grpSpPr>
        <p:pic>
          <p:nvPicPr>
            <p:cNvPr id="438" name="Блок-схема: перфолента 8" descr=""/>
            <p:cNvPicPr/>
            <p:nvPr/>
          </p:nvPicPr>
          <p:blipFill>
            <a:blip r:embed="rId4"/>
            <a:stretch/>
          </p:blipFill>
          <p:spPr>
            <a:xfrm>
              <a:off x="6095880" y="1596960"/>
              <a:ext cx="27306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6143760" y="1843200"/>
              <a:ext cx="26431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3171e"/>
                  </a:solidFill>
                  <a:latin typeface="Lucida Sans Unicode"/>
                </a:rPr>
                <a:t>социальная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40" name="Блок-схема: данные 9"/>
          <p:cNvGrpSpPr/>
          <p:nvPr/>
        </p:nvGrpSpPr>
        <p:grpSpPr>
          <a:xfrm>
            <a:off x="158760" y="3243240"/>
            <a:ext cx="3322800" cy="2298600"/>
            <a:chOff x="158760" y="3243240"/>
            <a:chExt cx="3322800" cy="2298600"/>
          </a:xfrm>
        </p:grpSpPr>
        <p:pic>
          <p:nvPicPr>
            <p:cNvPr id="441" name="Блок-схема: данные 9" descr=""/>
            <p:cNvPicPr/>
            <p:nvPr/>
          </p:nvPicPr>
          <p:blipFill>
            <a:blip r:embed="rId5"/>
            <a:stretch/>
          </p:blipFill>
          <p:spPr>
            <a:xfrm>
              <a:off x="158760" y="3243240"/>
              <a:ext cx="332280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857160" y="3286080"/>
              <a:ext cx="19288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и явления неодушевлённой природы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43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6"/>
          <a:stretch/>
        </p:blipFill>
        <p:spPr>
          <a:xfrm rot="5400000">
            <a:off x="1942920" y="2842920"/>
            <a:ext cx="476280" cy="362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7"/>
          <a:stretch/>
        </p:blipFill>
        <p:spPr>
          <a:xfrm rot="5400000">
            <a:off x="7372080" y="2772000"/>
            <a:ext cx="476280" cy="3618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КПК\Мои документы\Мои рисунки\Картинки\анимация\стрелки\12.gif"/>
          <p:cNvPicPr/>
          <p:nvPr/>
        </p:nvPicPr>
        <p:blipFill>
          <a:blip r:embed="rId8"/>
          <a:stretch/>
        </p:blipFill>
        <p:spPr>
          <a:xfrm rot="5400000">
            <a:off x="4586040" y="2771640"/>
            <a:ext cx="476280" cy="362160"/>
          </a:xfrm>
          <a:prstGeom prst="rect">
            <a:avLst/>
          </a:prstGeom>
          <a:ln w="0">
            <a:noFill/>
          </a:ln>
        </p:spPr>
      </p:pic>
      <p:grpSp>
        <p:nvGrpSpPr>
          <p:cNvPr id="446" name="Блок-схема: данные 13"/>
          <p:cNvGrpSpPr/>
          <p:nvPr/>
        </p:nvGrpSpPr>
        <p:grpSpPr>
          <a:xfrm>
            <a:off x="5589720" y="3243240"/>
            <a:ext cx="3316320" cy="2298600"/>
            <a:chOff x="5589720" y="3243240"/>
            <a:chExt cx="3316320" cy="2298600"/>
          </a:xfrm>
        </p:grpSpPr>
        <p:pic>
          <p:nvPicPr>
            <p:cNvPr id="447" name="Блок-схема: данные 13" descr=""/>
            <p:cNvPicPr/>
            <p:nvPr/>
          </p:nvPicPr>
          <p:blipFill>
            <a:blip r:embed="rId9"/>
            <a:stretch/>
          </p:blipFill>
          <p:spPr>
            <a:xfrm>
              <a:off x="5589720" y="3243240"/>
              <a:ext cx="331632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6286680" y="3286080"/>
              <a:ext cx="192852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человеческого обществ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449" name="Блок-схема: данные 15"/>
          <p:cNvGrpSpPr/>
          <p:nvPr/>
        </p:nvGrpSpPr>
        <p:grpSpPr>
          <a:xfrm>
            <a:off x="2871720" y="3243240"/>
            <a:ext cx="3321000" cy="2298600"/>
            <a:chOff x="2871720" y="3243240"/>
            <a:chExt cx="3321000" cy="2298600"/>
          </a:xfrm>
        </p:grpSpPr>
        <p:pic>
          <p:nvPicPr>
            <p:cNvPr id="450" name="Блок-схема: данные 15" descr=""/>
            <p:cNvPicPr/>
            <p:nvPr/>
          </p:nvPicPr>
          <p:blipFill>
            <a:blip r:embed="rId10"/>
            <a:stretch/>
          </p:blipFill>
          <p:spPr>
            <a:xfrm>
              <a:off x="2871720" y="3243240"/>
              <a:ext cx="332100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571920" y="3286080"/>
              <a:ext cx="1928880" cy="221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Lucida Sans Unicode"/>
                </a:rPr>
                <a:t>отражает процессы растительного и животного мира</a:t>
              </a:r>
              <a:endParaRPr b="0" lang="en-US" sz="16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52" name="Управляющая кнопка: домой 27">
            <a:hlinkClick r:id="rId11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7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Прямоугольник 1" descr=""/>
          <p:cNvPicPr/>
          <p:nvPr/>
        </p:nvPicPr>
        <p:blipFill>
          <a:blip r:embed="rId1"/>
          <a:stretch/>
        </p:blipFill>
        <p:spPr>
          <a:xfrm>
            <a:off x="542880" y="-30240"/>
            <a:ext cx="8088480" cy="168768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 flipH="1">
            <a:off x="1285200" y="1071720"/>
            <a:ext cx="64292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По способу восприятия и передачи информаци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Багетная рамка 3"/>
          <p:cNvSpPr/>
          <p:nvPr/>
        </p:nvSpPr>
        <p:spPr>
          <a:xfrm>
            <a:off x="571680" y="5072040"/>
            <a:ext cx="2357280" cy="57168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Машин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Багетная рамка 4"/>
          <p:cNvSpPr/>
          <p:nvPr/>
        </p:nvSpPr>
        <p:spPr>
          <a:xfrm>
            <a:off x="571680" y="4071960"/>
            <a:ext cx="2357280" cy="71424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Органо-лептическ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Багетная рамка 5"/>
          <p:cNvSpPr/>
          <p:nvPr/>
        </p:nvSpPr>
        <p:spPr>
          <a:xfrm>
            <a:off x="571680" y="3214800"/>
            <a:ext cx="2357280" cy="64296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Тактиль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Багетная рамка 6"/>
          <p:cNvSpPr/>
          <p:nvPr/>
        </p:nvSpPr>
        <p:spPr>
          <a:xfrm>
            <a:off x="571680" y="2428920"/>
            <a:ext cx="2357280" cy="57132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Аудиальная</a:t>
            </a: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Багетная рамка 7"/>
          <p:cNvSpPr/>
          <p:nvPr/>
        </p:nvSpPr>
        <p:spPr>
          <a:xfrm>
            <a:off x="571680" y="1643040"/>
            <a:ext cx="2357280" cy="571680"/>
          </a:xfrm>
          <a:prstGeom prst="bevel">
            <a:avLst>
              <a:gd name="adj" fmla="val 12500"/>
            </a:avLst>
          </a:prstGeom>
          <a:solidFill>
            <a:srgbClr val="b5e9f4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</a:rPr>
              <a:t>Визуальная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Пятиугольник 8"/>
          <p:cNvSpPr/>
          <p:nvPr/>
        </p:nvSpPr>
        <p:spPr>
          <a:xfrm flipH="1">
            <a:off x="3142440" y="164304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видимыми образами и символ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Пятиугольник 9"/>
          <p:cNvSpPr/>
          <p:nvPr/>
        </p:nvSpPr>
        <p:spPr>
          <a:xfrm flipH="1">
            <a:off x="3071880" y="2428920"/>
            <a:ext cx="5000400" cy="571320"/>
          </a:xfrm>
          <a:custGeom>
            <a:avLst/>
            <a:gdLst>
              <a:gd name="textAreaLeft" fmla="*/ 360 w 5000400"/>
              <a:gd name="textAreaRight" fmla="*/ 5001120 w 50004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звук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Пятиугольник 10"/>
          <p:cNvSpPr/>
          <p:nvPr/>
        </p:nvSpPr>
        <p:spPr>
          <a:xfrm flipH="1">
            <a:off x="3142440" y="328608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ощущения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Пятиугольник 11"/>
          <p:cNvSpPr/>
          <p:nvPr/>
        </p:nvSpPr>
        <p:spPr>
          <a:xfrm flipH="1">
            <a:off x="3142440" y="4143240"/>
            <a:ext cx="5000760" cy="571680"/>
          </a:xfrm>
          <a:custGeom>
            <a:avLst/>
            <a:gdLst>
              <a:gd name="textAreaLeft" fmla="*/ -360 w 5000760"/>
              <a:gd name="textAreaRight" fmla="*/ 5000760 w 500076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Передаётся запахами и вкусом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Пятиугольник 12"/>
          <p:cNvSpPr/>
          <p:nvPr/>
        </p:nvSpPr>
        <p:spPr>
          <a:xfrm flipH="1">
            <a:off x="3214800" y="5072040"/>
            <a:ext cx="5000400" cy="571680"/>
          </a:xfrm>
          <a:custGeom>
            <a:avLst/>
            <a:gdLst>
              <a:gd name="textAreaLeft" fmla="*/ 360 w 5000400"/>
              <a:gd name="textAreaRight" fmla="*/ 5001120 w 5000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6" y="0"/>
                </a:lnTo>
                <a:lnTo>
                  <a:pt x="21600" y="10800"/>
                </a:lnTo>
                <a:lnTo>
                  <a:pt x="203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Lucida Sans Unicode"/>
              </a:rPr>
              <a:t>Выдаваемую и воспринимаемую средствами ВТ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Управляющая кнопка: домой 13">
            <a:hlinkClick r:id="rId2" action="ppaction://hlinksldjump"/>
          </p:cNvPr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500"/>
                            </p:stCondLst>
                            <p:childTnLst>
                              <p:par>
                                <p:cTn id="3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500"/>
                            </p:stCondLst>
                            <p:childTnLst>
                              <p:par>
                                <p:cTn id="3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500"/>
                            </p:stCondLst>
                            <p:childTnLst>
                              <p:par>
                                <p:cTn id="3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Прямоугольни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67" name="Прямоугольник 3"/>
          <p:cNvGrpSpPr/>
          <p:nvPr/>
        </p:nvGrpSpPr>
        <p:grpSpPr>
          <a:xfrm>
            <a:off x="1474920" y="1335240"/>
            <a:ext cx="6400800" cy="4284360"/>
            <a:chOff x="1474920" y="1335240"/>
            <a:chExt cx="6400800" cy="4284360"/>
          </a:xfrm>
        </p:grpSpPr>
        <p:pic>
          <p:nvPicPr>
            <p:cNvPr id="46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474920" y="1335240"/>
              <a:ext cx="6400800" cy="42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1500120" y="1357200"/>
              <a:ext cx="635796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Полезность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Полнота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Достоверность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Новизна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>
                <a:buClr>
                  <a:srgbClr val="00206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060"/>
                  </a:solidFill>
                  <a:latin typeface="Lucida Sans Unicode"/>
                </a:rPr>
                <a:t>Ценность  </a:t>
              </a:r>
              <a:endParaRPr b="0" lang="en-US" sz="5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70" name="Picture 7" descr="baby19"/>
          <p:cNvPicPr/>
          <p:nvPr/>
        </p:nvPicPr>
        <p:blipFill>
          <a:blip r:embed="rId3"/>
          <a:stretch/>
        </p:blipFill>
        <p:spPr>
          <a:xfrm>
            <a:off x="6286680" y="4214880"/>
            <a:ext cx="2361960" cy="2068560"/>
          </a:xfrm>
          <a:prstGeom prst="rect">
            <a:avLst/>
          </a:prstGeom>
          <a:ln w="0">
            <a:noFill/>
          </a:ln>
        </p:spPr>
      </p:pic>
      <p:sp>
        <p:nvSpPr>
          <p:cNvPr id="471" name="Управляющая кнопка: домой 5"/>
          <p:cNvSpPr/>
          <p:nvPr/>
        </p:nvSpPr>
        <p:spPr>
          <a:xfrm>
            <a:off x="8643960" y="6357960"/>
            <a:ext cx="285840" cy="35712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357120"/>
              <a:gd name="textAreaBottom" fmla="*/ 338760 h 3571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Прямоугольник 1" descr=""/>
          <p:cNvPicPr/>
          <p:nvPr/>
        </p:nvPicPr>
        <p:blipFill>
          <a:blip r:embed="rId1"/>
          <a:stretch/>
        </p:blipFill>
        <p:spPr>
          <a:xfrm>
            <a:off x="-146160" y="-6480"/>
            <a:ext cx="9429840" cy="1586160"/>
          </a:xfrm>
          <a:prstGeom prst="rect">
            <a:avLst/>
          </a:prstGeom>
          <a:ln w="0">
            <a:noFill/>
          </a:ln>
        </p:spPr>
      </p:pic>
      <p:grpSp>
        <p:nvGrpSpPr>
          <p:cNvPr id="473" name="Группа 13"/>
          <p:cNvGrpSpPr/>
          <p:nvPr/>
        </p:nvGrpSpPr>
        <p:grpSpPr>
          <a:xfrm>
            <a:off x="428760" y="1785960"/>
            <a:ext cx="7929360" cy="3643200"/>
            <a:chOff x="428760" y="1785960"/>
            <a:chExt cx="7929360" cy="3643200"/>
          </a:xfrm>
        </p:grpSpPr>
        <p:grpSp>
          <p:nvGrpSpPr>
            <p:cNvPr id="474" name="Овал 11"/>
            <p:cNvGrpSpPr/>
            <p:nvPr/>
          </p:nvGrpSpPr>
          <p:grpSpPr>
            <a:xfrm>
              <a:off x="428760" y="1785960"/>
              <a:ext cx="7929360" cy="3643200"/>
              <a:chOff x="428760" y="1785960"/>
              <a:chExt cx="7929360" cy="3643200"/>
            </a:xfrm>
          </p:grpSpPr>
          <p:pic>
            <p:nvPicPr>
              <p:cNvPr id="475" name="Овал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28760" y="1785960"/>
                <a:ext cx="7929360" cy="36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1621440" y="2354400"/>
                <a:ext cx="5546520" cy="25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grpSp>
          <p:nvGrpSpPr>
            <p:cNvPr id="477" name="Прямоугольник 12"/>
            <p:cNvGrpSpPr/>
            <p:nvPr/>
          </p:nvGrpSpPr>
          <p:grpSpPr>
            <a:xfrm>
              <a:off x="1936080" y="2720520"/>
              <a:ext cx="5083200" cy="1576080"/>
              <a:chOff x="1936080" y="2720520"/>
              <a:chExt cx="5083200" cy="1576080"/>
            </a:xfrm>
          </p:grpSpPr>
          <p:pic>
            <p:nvPicPr>
              <p:cNvPr id="478" name="Прямоугольник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1936080" y="2720520"/>
                <a:ext cx="5083200" cy="156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"/>
              <p:cNvSpPr/>
              <p:nvPr/>
            </p:nvSpPr>
            <p:spPr>
              <a:xfrm>
                <a:off x="1956600" y="2739960"/>
                <a:ext cx="5049000" cy="155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00000"/>
                    </a:solidFill>
                    <a:latin typeface="Lucida Sans Unicode"/>
                  </a:rPr>
                  <a:t>Полезность </a:t>
                </a:r>
                <a:endParaRPr b="0" lang="en-US" sz="4000" spc="-1" strike="noStrike">
                  <a:solidFill>
                    <a:srgbClr val="000000"/>
                  </a:solidFill>
                  <a:latin typeface="Lucida Sans Unicod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Lucida Sans Unicode"/>
                  </a:rPr>
                  <a:t>(относительно конкретной информационной системы)</a:t>
                </a:r>
                <a:endParaRPr b="0" lang="en-US" sz="2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</p:grpSp>
      <p:sp>
        <p:nvSpPr>
          <p:cNvPr id="480" name="Управляющая кнопка: возврат 14"/>
          <p:cNvSpPr/>
          <p:nvPr/>
        </p:nvSpPr>
        <p:spPr>
          <a:xfrm>
            <a:off x="8501040" y="6357960"/>
            <a:ext cx="142920" cy="21420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4200"/>
              <a:gd name="textAreaBottom" fmla="*/ 205200 h 214200"/>
            </a:gdLst>
            <a:ahLst/>
            <a:rect l="textAreaLeft" t="textAreaTop" r="textAreaRight" b="textAreaBottom"/>
            <a:pathLst>
              <a:path w="21600" h="32346">
                <a:moveTo>
                  <a:pt x="0" y="0"/>
                </a:moveTo>
                <a:lnTo>
                  <a:pt x="21600" y="0"/>
                </a:lnTo>
                <a:lnTo>
                  <a:pt x="21600" y="32346"/>
                </a:lnTo>
                <a:lnTo>
                  <a:pt x="0" y="32346"/>
                </a:lnTo>
                <a:close/>
              </a:path>
              <a:path fill="lightenLess" w="21600" h="32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46">
                <a:moveTo>
                  <a:pt x="21600" y="0"/>
                </a:moveTo>
                <a:lnTo>
                  <a:pt x="21600" y="32346"/>
                </a:lnTo>
                <a:lnTo>
                  <a:pt x="20200" y="30946"/>
                </a:lnTo>
                <a:lnTo>
                  <a:pt x="20200" y="1400"/>
                </a:lnTo>
                <a:close/>
              </a:path>
              <a:path fill="darkenLess" w="21600" h="32346">
                <a:moveTo>
                  <a:pt x="21600" y="32346"/>
                </a:moveTo>
                <a:lnTo>
                  <a:pt x="0" y="32346"/>
                </a:lnTo>
                <a:lnTo>
                  <a:pt x="1400" y="30946"/>
                </a:lnTo>
                <a:lnTo>
                  <a:pt x="20200" y="30946"/>
                </a:lnTo>
                <a:close/>
              </a:path>
              <a:path fill="lighten" w="21600" h="32346">
                <a:moveTo>
                  <a:pt x="0" y="32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46"/>
                </a:lnTo>
                <a:close/>
              </a:path>
              <a:path fill="darken" w="21600" h="32346">
                <a:moveTo>
                  <a:pt x="3794" y="12865"/>
                </a:moveTo>
                <a:lnTo>
                  <a:pt x="7301" y="12865"/>
                </a:lnTo>
                <a:lnTo>
                  <a:pt x="7301" y="18201"/>
                </a:lnTo>
                <a:cubicBezTo>
                  <a:pt x="7301" y="19123"/>
                  <a:pt x="8102" y="19855"/>
                  <a:pt x="9138" y="19855"/>
                </a:cubicBezTo>
                <a:lnTo>
                  <a:pt x="10800" y="19855"/>
                </a:lnTo>
                <a:cubicBezTo>
                  <a:pt x="11836" y="19855"/>
                  <a:pt x="12636" y="19123"/>
                  <a:pt x="12636" y="18201"/>
                </a:cubicBezTo>
                <a:lnTo>
                  <a:pt x="12636" y="12865"/>
                </a:lnTo>
                <a:lnTo>
                  <a:pt x="10800" y="12865"/>
                </a:lnTo>
                <a:lnTo>
                  <a:pt x="14308" y="9358"/>
                </a:lnTo>
                <a:lnTo>
                  <a:pt x="17981" y="12865"/>
                </a:lnTo>
                <a:lnTo>
                  <a:pt x="16144" y="12865"/>
                </a:lnTo>
                <a:lnTo>
                  <a:pt x="16144" y="18201"/>
                </a:lnTo>
                <a:cubicBezTo>
                  <a:pt x="16144" y="20969"/>
                  <a:pt x="13568" y="23527"/>
                  <a:pt x="10800" y="23527"/>
                </a:cubicBezTo>
                <a:lnTo>
                  <a:pt x="9138" y="23527"/>
                </a:lnTo>
                <a:cubicBezTo>
                  <a:pt x="6370" y="23527"/>
                  <a:pt x="3794" y="20969"/>
                  <a:pt x="3794" y="18201"/>
                </a:cubicBezTo>
                <a:close/>
              </a:path>
            </a:pathLst>
          </a:custGeom>
          <a:solidFill>
            <a:srgbClr val="def5fa"/>
          </a:solidFill>
          <a:ln w="55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4:02:24Z</dcterms:created>
  <dc:creator>Valued Acer Customer</dc:creator>
  <dc:description/>
  <dc:language>en-US</dc:language>
  <cp:lastModifiedBy>Irina Petrova</cp:lastModifiedBy>
  <dcterms:modified xsi:type="dcterms:W3CDTF">2013-04-22T14:07:46Z</dcterms:modified>
  <cp:revision>80</cp:revision>
  <dc:subject/>
  <dc:title>Информация: понятия свойства виды</dc:title>
</cp:coreProperties>
</file>