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6.wmf" ContentType="image/x-wmf"/>
  <Override PartName="/ppt/media/image24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7.gif" ContentType="image/gif"/>
  <Override PartName="/ppt/media/image27.jpeg" ContentType="image/jpeg"/>
  <Override PartName="/ppt/media/image5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0.gif" ContentType="image/gif"/>
  <Override PartName="/ppt/media/image46.png" ContentType="image/png"/>
  <Override PartName="/ppt/media/image35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36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10.png" ContentType="image/png"/>
  <Override PartName="/ppt/media/image54.gif" ContentType="image/gif"/>
  <Override PartName="/ppt/media/image47.png" ContentType="image/png"/>
  <Override PartName="/ppt/media/image49.png" ContentType="image/png"/>
  <Override PartName="/ppt/media/image12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D2E0-4306-40E4-B5D5-466526100E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E116-4186-47A6-9034-E7AC70C0B3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DFEE-B7B7-4714-9401-F901DFE957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E57-4478-42F5-B9F3-13EBEB82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196-A582-431E-B71F-28245409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E880-7C45-46D8-B956-24ADC2F2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BE3-094F-429E-A501-BDA0ECFE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1002-FC15-4F81-BCA6-791AE614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ED47-6C3D-489C-8E13-B9F2314B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92D2-3699-48D0-A1EA-EE208C3D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69F3-8CF6-4BEC-9A58-BD9C6F4A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FDAA-7F5D-48A4-8FF0-6B8C79A6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2010-D563-456F-A096-6F9A0DEA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3F1D-FE25-4424-9634-E9F3A594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043-7913-4435-BBCE-4AF1D7C6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1EB6-FECC-4E35-82C6-F8637010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4674-53A3-4C81-A624-4A38C003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1BA8-FD67-4352-A159-F57E32B2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5587-947E-4DF3-BAC9-37A57691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CE24-581D-4165-A4C5-431B787F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F98D4-6462-44D8-A6E6-239D8B90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C7F61-E4F0-4E79-BBB0-A816E6ED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B48CE-8470-40AB-BF94-91BA90B4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C0C0A-E1D5-46F4-967E-5720A05D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223C7-9C47-4F60-901E-CDCE7CB9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053-2A9A-4956-BA76-0C73FF48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B54AE-79EC-4F49-B882-2DB7C970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2AD89-2791-4C53-9549-0AB1E1A1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47961-2FC9-4835-9F35-D52CC810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5DCE3-9037-4A10-A149-9123C8A2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2DA99-B0A5-4340-B4CC-E46CBC61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ADEB0-3EB3-4E2B-867C-4E46BC15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BB7ED-7BAA-46CF-9024-BED0E54E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B4D90-3FA7-4FD0-98EF-91771CF9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3C0BE-5A7C-48A0-8D6F-87A621E4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FCCB-A134-49B4-8E4C-A4D89E3A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5B5-84B3-4E9B-AF5B-48E02531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F4D37-FCCE-46C9-A3BD-29BA0AD8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25AE6-4F50-4D98-A896-7F8B0F64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40028-1F37-47A6-9811-778C0BFE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02AEF-E519-4339-8C2C-622FFB91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8A397-972F-4EC5-A613-5C91198D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50F94-C5EF-4F98-837D-C4AC9355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335FB-FFF3-4550-A099-AFA37747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37E25-00DB-4750-B305-F15D9073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85BBD-7BBB-4173-92CD-D222CFD3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0726E-B311-4AAB-877D-1EE0D8A3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6C56-745D-43C0-BCB8-0692D58D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CA04F-3B96-438B-A7D2-BC5A949B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7E065-E0D9-4F75-B1E8-F8C73EEA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57C97-9C06-407B-91DD-0453ED98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3B6D6-BFC8-41DD-8798-273196DA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86910-B9E7-4F72-AAAB-7E9F8605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F68E1-88DE-4457-ACE3-A3C57D76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8750B-4B2E-47A7-AE70-F8FA038F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513D1-4885-4104-B8C0-7298A76B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0ED10-1549-461A-8F04-3470541A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8FD38-34EE-4F73-9798-24AFD127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573-46B7-4C16-9ECA-B8178A25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D1BA4-18D6-44B0-A438-6DF61713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CCE0E-D969-4061-8D38-66F89368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A6B2D-B24B-4941-BAD5-EC554BD0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CFEAD-8AD7-4675-BC44-4A665D23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6382B-CDA2-4DF1-AC84-20FD6179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615F1-D0AB-4265-9A24-ED655F25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54028-B809-4E4F-B653-8BAFFCF2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A2C84-EAA7-4DFC-A6FF-B2482B63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D81D1-0A4D-4608-93D9-59185FC6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492C6-B9AC-4EE2-9D06-C5940E4C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2EFE-E2C7-47BA-9888-3E093787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DFA49-0CE1-41B6-B6A7-292285F4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C2222-78B1-4CC6-9BEC-FA418363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15912-4CB6-4C08-9769-08CB3104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BBE5A-FB83-4C3F-97A3-C33F1D37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566C9-1DE9-4734-803C-A2E20D7D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B2C01-B023-414A-B998-7B5A6B42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03E5A-4E1B-49A8-B69A-CFB84B5F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FAAB0-745C-4C71-ABE4-7DB2156D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4CF86-B94D-4A2C-9AD6-5C225770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C5BB9-DE24-4F95-A512-2EB3C15C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50DD-A7F8-4047-9CB4-C988EAFF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FE7CA-F9A5-43EE-8C6E-2DFC46AF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C3E1E-6595-4ADC-90F4-6989C0F0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35A8E-7E54-439D-80C8-AC5D7340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11A7D-39E2-445B-A65D-7844AA23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A883C-BDE5-4E30-A561-79ED8687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7DEBD-4636-4F18-9125-0BB4B2C8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F06C8-B2B4-4D0A-BE6B-FEBA8683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7A56C-DCD9-4EB5-9058-AE6B2896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2A378-FC71-4ACA-9C3F-A0D03AA0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9069C-D0FD-4002-A245-EF4AFC06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4AD-7CE9-41A4-AA6A-D5CC5942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56F73-3EF0-4A26-804B-069D77DB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8820F-7204-4839-893E-C9565F58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BA23F-E42E-4773-AA50-481A361C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8F4D5-B00C-483E-ABFA-2098F943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C3704-7EE4-4A97-A419-A0F7CC84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C05C0-C6DC-4740-AF72-29733D27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B4320-EAA9-4FCF-8F0E-B3DE98E5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A0BB-2D94-496E-B384-D6F1608EC9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7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1868-C31B-4E39-B88D-A956538C6C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9A13-27C3-4636-84B9-16A06A20DA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C760-33ED-43CB-9A4F-B4D77F89E6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2D72-F027-4A29-A4FF-549AD95238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DAA1-B2E1-450D-BB71-130D55BAFC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6172-53C2-40F3-916F-DC6D4E50AA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7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8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6AC5-6A6E-466F-A517-17FACD727F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5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5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22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wmf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gif"/><Relationship Id="rId7" Type="http://schemas.openxmlformats.org/officeDocument/2006/relationships/image" Target="../media/image40.gif"/><Relationship Id="rId8" Type="http://schemas.openxmlformats.org/officeDocument/2006/relationships/image" Target="../media/image40.gif"/><Relationship Id="rId9" Type="http://schemas.openxmlformats.org/officeDocument/2006/relationships/image" Target="../media/image41.png"/><Relationship Id="rId10" Type="http://schemas.openxmlformats.org/officeDocument/2006/relationships/image" Target="../media/image39.png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853920" y="249120"/>
            <a:ext cx="8015400" cy="30607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274320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omic Sans MS"/>
              </a:rPr>
              <a:t>Иванова И.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Comic Sans MS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0"/>
                            </p:stCondLst>
                            <p:childTnLst>
                              <p:par>
                                <p:cTn id="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Прямоугольник 2" descr=""/>
          <p:cNvPicPr/>
          <p:nvPr/>
        </p:nvPicPr>
        <p:blipFill>
          <a:blip r:embed="rId1"/>
          <a:stretch/>
        </p:blipFill>
        <p:spPr>
          <a:xfrm>
            <a:off x="-146160" y="-6480"/>
            <a:ext cx="9429840" cy="1586160"/>
          </a:xfrm>
          <a:prstGeom prst="rect">
            <a:avLst/>
          </a:prstGeom>
          <a:ln w="0">
            <a:noFill/>
          </a:ln>
        </p:spPr>
      </p:pic>
      <p:grpSp>
        <p:nvGrpSpPr>
          <p:cNvPr id="482" name="Группа 3"/>
          <p:cNvGrpSpPr/>
          <p:nvPr/>
        </p:nvGrpSpPr>
        <p:grpSpPr>
          <a:xfrm>
            <a:off x="428760" y="1785960"/>
            <a:ext cx="7929360" cy="3643200"/>
            <a:chOff x="428760" y="1785960"/>
            <a:chExt cx="7929360" cy="3643200"/>
          </a:xfrm>
        </p:grpSpPr>
        <p:grpSp>
          <p:nvGrpSpPr>
            <p:cNvPr id="483" name="Овал 4"/>
            <p:cNvGrpSpPr/>
            <p:nvPr/>
          </p:nvGrpSpPr>
          <p:grpSpPr>
            <a:xfrm>
              <a:off x="428760" y="1785960"/>
              <a:ext cx="7929360" cy="3643200"/>
              <a:chOff x="428760" y="1785960"/>
              <a:chExt cx="7929360" cy="3643200"/>
            </a:xfrm>
          </p:grpSpPr>
          <p:pic>
            <p:nvPicPr>
              <p:cNvPr id="484" name="Овал 4" descr=""/>
              <p:cNvPicPr/>
              <p:nvPr/>
            </p:nvPicPr>
            <p:blipFill>
              <a:blip r:embed="rId2"/>
              <a:stretch/>
            </p:blipFill>
            <p:spPr>
              <a:xfrm>
                <a:off x="428760" y="1785960"/>
                <a:ext cx="7929360" cy="36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>
                <a:off x="1621440" y="2354400"/>
                <a:ext cx="5546520" cy="251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grpSp>
          <p:nvGrpSpPr>
            <p:cNvPr id="486" name="Прямоугольник 5"/>
            <p:cNvGrpSpPr/>
            <p:nvPr/>
          </p:nvGrpSpPr>
          <p:grpSpPr>
            <a:xfrm>
              <a:off x="1936080" y="2303640"/>
              <a:ext cx="5083200" cy="2671920"/>
              <a:chOff x="1936080" y="2303640"/>
              <a:chExt cx="5083200" cy="2671920"/>
            </a:xfrm>
          </p:grpSpPr>
          <p:pic>
            <p:nvPicPr>
              <p:cNvPr id="487" name="Прямоугольник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936080" y="2303640"/>
                <a:ext cx="5083200" cy="264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"/>
              <p:cNvSpPr/>
              <p:nvPr/>
            </p:nvSpPr>
            <p:spPr>
              <a:xfrm>
                <a:off x="1956600" y="2321280"/>
                <a:ext cx="5049000" cy="26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00000"/>
                    </a:solidFill>
                    <a:latin typeface="Lucida Sans Unicode"/>
                  </a:rPr>
                  <a:t>Полнота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Lucida Sans Unicode"/>
                  </a:rPr>
                  <a:t> (мечта историка- иметь информацию о минувших  эпохах, но полнота информации</a:t>
                </a: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Lucida Sans Unicode"/>
                  </a:rPr>
                  <a:t> 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Lucida Sans Unicode"/>
                  </a:rPr>
                  <a:t>уменьшается по мере удалённости от нас исторической эпохи)</a:t>
                </a: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</p:grpSp>
      <p:sp>
        <p:nvSpPr>
          <p:cNvPr id="489" name="Управляющая кнопка: возврат 7"/>
          <p:cNvSpPr/>
          <p:nvPr/>
        </p:nvSpPr>
        <p:spPr>
          <a:xfrm>
            <a:off x="8501040" y="6357960"/>
            <a:ext cx="142920" cy="21420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4200"/>
              <a:gd name="textAreaBottom" fmla="*/ 205200 h 214200"/>
            </a:gdLst>
            <a:ahLst/>
            <a:rect l="textAreaLeft" t="textAreaTop" r="textAreaRight" b="textAreaBottom"/>
            <a:pathLst>
              <a:path w="21600" h="32346">
                <a:moveTo>
                  <a:pt x="0" y="0"/>
                </a:moveTo>
                <a:lnTo>
                  <a:pt x="21600" y="0"/>
                </a:lnTo>
                <a:lnTo>
                  <a:pt x="21600" y="32346"/>
                </a:lnTo>
                <a:lnTo>
                  <a:pt x="0" y="32346"/>
                </a:lnTo>
                <a:close/>
              </a:path>
              <a:path fill="lightenLess" w="21600" h="32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46">
                <a:moveTo>
                  <a:pt x="21600" y="0"/>
                </a:moveTo>
                <a:lnTo>
                  <a:pt x="21600" y="32346"/>
                </a:lnTo>
                <a:lnTo>
                  <a:pt x="20200" y="30946"/>
                </a:lnTo>
                <a:lnTo>
                  <a:pt x="20200" y="1400"/>
                </a:lnTo>
                <a:close/>
              </a:path>
              <a:path fill="darkenLess" w="21600" h="32346">
                <a:moveTo>
                  <a:pt x="21600" y="32346"/>
                </a:moveTo>
                <a:lnTo>
                  <a:pt x="0" y="32346"/>
                </a:lnTo>
                <a:lnTo>
                  <a:pt x="1400" y="30946"/>
                </a:lnTo>
                <a:lnTo>
                  <a:pt x="20200" y="30946"/>
                </a:lnTo>
                <a:close/>
              </a:path>
              <a:path fill="lighten" w="21600" h="32346">
                <a:moveTo>
                  <a:pt x="0" y="32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46"/>
                </a:lnTo>
                <a:close/>
              </a:path>
              <a:path fill="darken" w="21600" h="32346">
                <a:moveTo>
                  <a:pt x="3794" y="12865"/>
                </a:moveTo>
                <a:lnTo>
                  <a:pt x="7301" y="12865"/>
                </a:lnTo>
                <a:lnTo>
                  <a:pt x="7301" y="18201"/>
                </a:lnTo>
                <a:cubicBezTo>
                  <a:pt x="7301" y="19123"/>
                  <a:pt x="8102" y="19855"/>
                  <a:pt x="9138" y="19855"/>
                </a:cubicBezTo>
                <a:lnTo>
                  <a:pt x="10800" y="19855"/>
                </a:lnTo>
                <a:cubicBezTo>
                  <a:pt x="11836" y="19855"/>
                  <a:pt x="12636" y="19123"/>
                  <a:pt x="12636" y="18201"/>
                </a:cubicBezTo>
                <a:lnTo>
                  <a:pt x="12636" y="12865"/>
                </a:lnTo>
                <a:lnTo>
                  <a:pt x="10800" y="12865"/>
                </a:lnTo>
                <a:lnTo>
                  <a:pt x="14308" y="9358"/>
                </a:lnTo>
                <a:lnTo>
                  <a:pt x="17981" y="12865"/>
                </a:lnTo>
                <a:lnTo>
                  <a:pt x="16144" y="12865"/>
                </a:lnTo>
                <a:lnTo>
                  <a:pt x="16144" y="18201"/>
                </a:lnTo>
                <a:cubicBezTo>
                  <a:pt x="16144" y="20969"/>
                  <a:pt x="13568" y="23527"/>
                  <a:pt x="10800" y="23527"/>
                </a:cubicBezTo>
                <a:lnTo>
                  <a:pt x="9138" y="23527"/>
                </a:lnTo>
                <a:cubicBezTo>
                  <a:pt x="6370" y="23527"/>
                  <a:pt x="3794" y="20969"/>
                  <a:pt x="3794" y="18201"/>
                </a:cubicBezTo>
                <a:close/>
              </a:path>
            </a:pathLst>
          </a:custGeom>
          <a:solidFill>
            <a:srgbClr val="def5fa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Прямоугольник 2" descr=""/>
          <p:cNvPicPr/>
          <p:nvPr/>
        </p:nvPicPr>
        <p:blipFill>
          <a:blip r:embed="rId1"/>
          <a:stretch/>
        </p:blipFill>
        <p:spPr>
          <a:xfrm>
            <a:off x="-146160" y="-6480"/>
            <a:ext cx="9429840" cy="1586160"/>
          </a:xfrm>
          <a:prstGeom prst="rect">
            <a:avLst/>
          </a:prstGeom>
          <a:ln w="0">
            <a:noFill/>
          </a:ln>
        </p:spPr>
      </p:pic>
      <p:grpSp>
        <p:nvGrpSpPr>
          <p:cNvPr id="491" name="Группа 3"/>
          <p:cNvGrpSpPr/>
          <p:nvPr/>
        </p:nvGrpSpPr>
        <p:grpSpPr>
          <a:xfrm>
            <a:off x="714240" y="1643040"/>
            <a:ext cx="7929720" cy="3643200"/>
            <a:chOff x="714240" y="1643040"/>
            <a:chExt cx="7929720" cy="3643200"/>
          </a:xfrm>
        </p:grpSpPr>
        <p:grpSp>
          <p:nvGrpSpPr>
            <p:cNvPr id="492" name="Овал 4"/>
            <p:cNvGrpSpPr/>
            <p:nvPr/>
          </p:nvGrpSpPr>
          <p:grpSpPr>
            <a:xfrm>
              <a:off x="714240" y="1643040"/>
              <a:ext cx="7929720" cy="3643200"/>
              <a:chOff x="714240" y="1643040"/>
              <a:chExt cx="7929720" cy="3643200"/>
            </a:xfrm>
          </p:grpSpPr>
          <p:pic>
            <p:nvPicPr>
              <p:cNvPr id="493" name="Овал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14240" y="1643040"/>
                <a:ext cx="7929720" cy="36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"/>
              <p:cNvSpPr/>
              <p:nvPr/>
            </p:nvSpPr>
            <p:spPr>
              <a:xfrm>
                <a:off x="1906920" y="2208600"/>
                <a:ext cx="5550840" cy="251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grpSp>
          <p:nvGrpSpPr>
            <p:cNvPr id="495" name="Прямоугольник 5"/>
            <p:cNvGrpSpPr/>
            <p:nvPr/>
          </p:nvGrpSpPr>
          <p:grpSpPr>
            <a:xfrm>
              <a:off x="2223000" y="2160720"/>
              <a:ext cx="5087520" cy="1572120"/>
              <a:chOff x="2223000" y="2160720"/>
              <a:chExt cx="5087520" cy="1572120"/>
            </a:xfrm>
          </p:grpSpPr>
          <p:pic>
            <p:nvPicPr>
              <p:cNvPr id="496" name="Прямоугольник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23000" y="2160720"/>
                <a:ext cx="5087520" cy="155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7" name=""/>
              <p:cNvSpPr/>
              <p:nvPr/>
            </p:nvSpPr>
            <p:spPr>
              <a:xfrm>
                <a:off x="2242440" y="2175840"/>
                <a:ext cx="50533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00000"/>
                    </a:solidFill>
                    <a:latin typeface="Lucida Sans Unicode"/>
                  </a:rPr>
                  <a:t>Достоверность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Lucida Sans Unicode"/>
                  </a:rPr>
                  <a:t>- она уменьшается с уменьшением полноты</a:t>
                </a: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</p:grpSp>
      <p:sp>
        <p:nvSpPr>
          <p:cNvPr id="498" name="Управляющая кнопка: возврат 7"/>
          <p:cNvSpPr/>
          <p:nvPr/>
        </p:nvSpPr>
        <p:spPr>
          <a:xfrm>
            <a:off x="8501040" y="6357960"/>
            <a:ext cx="142920" cy="21420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4200"/>
              <a:gd name="textAreaBottom" fmla="*/ 205200 h 214200"/>
            </a:gdLst>
            <a:ahLst/>
            <a:rect l="textAreaLeft" t="textAreaTop" r="textAreaRight" b="textAreaBottom"/>
            <a:pathLst>
              <a:path w="21600" h="32346">
                <a:moveTo>
                  <a:pt x="0" y="0"/>
                </a:moveTo>
                <a:lnTo>
                  <a:pt x="21600" y="0"/>
                </a:lnTo>
                <a:lnTo>
                  <a:pt x="21600" y="32346"/>
                </a:lnTo>
                <a:lnTo>
                  <a:pt x="0" y="32346"/>
                </a:lnTo>
                <a:close/>
              </a:path>
              <a:path fill="lightenLess" w="21600" h="32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46">
                <a:moveTo>
                  <a:pt x="21600" y="0"/>
                </a:moveTo>
                <a:lnTo>
                  <a:pt x="21600" y="32346"/>
                </a:lnTo>
                <a:lnTo>
                  <a:pt x="20200" y="30946"/>
                </a:lnTo>
                <a:lnTo>
                  <a:pt x="20200" y="1400"/>
                </a:lnTo>
                <a:close/>
              </a:path>
              <a:path fill="darkenLess" w="21600" h="32346">
                <a:moveTo>
                  <a:pt x="21600" y="32346"/>
                </a:moveTo>
                <a:lnTo>
                  <a:pt x="0" y="32346"/>
                </a:lnTo>
                <a:lnTo>
                  <a:pt x="1400" y="30946"/>
                </a:lnTo>
                <a:lnTo>
                  <a:pt x="20200" y="30946"/>
                </a:lnTo>
                <a:close/>
              </a:path>
              <a:path fill="lighten" w="21600" h="32346">
                <a:moveTo>
                  <a:pt x="0" y="32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46"/>
                </a:lnTo>
                <a:close/>
              </a:path>
              <a:path fill="darken" w="21600" h="32346">
                <a:moveTo>
                  <a:pt x="3794" y="12865"/>
                </a:moveTo>
                <a:lnTo>
                  <a:pt x="7301" y="12865"/>
                </a:lnTo>
                <a:lnTo>
                  <a:pt x="7301" y="18201"/>
                </a:lnTo>
                <a:cubicBezTo>
                  <a:pt x="7301" y="19123"/>
                  <a:pt x="8102" y="19855"/>
                  <a:pt x="9138" y="19855"/>
                </a:cubicBezTo>
                <a:lnTo>
                  <a:pt x="10800" y="19855"/>
                </a:lnTo>
                <a:cubicBezTo>
                  <a:pt x="11836" y="19855"/>
                  <a:pt x="12636" y="19123"/>
                  <a:pt x="12636" y="18201"/>
                </a:cubicBezTo>
                <a:lnTo>
                  <a:pt x="12636" y="12865"/>
                </a:lnTo>
                <a:lnTo>
                  <a:pt x="10800" y="12865"/>
                </a:lnTo>
                <a:lnTo>
                  <a:pt x="14308" y="9358"/>
                </a:lnTo>
                <a:lnTo>
                  <a:pt x="17981" y="12865"/>
                </a:lnTo>
                <a:lnTo>
                  <a:pt x="16144" y="12865"/>
                </a:lnTo>
                <a:lnTo>
                  <a:pt x="16144" y="18201"/>
                </a:lnTo>
                <a:cubicBezTo>
                  <a:pt x="16144" y="20969"/>
                  <a:pt x="13568" y="23527"/>
                  <a:pt x="10800" y="23527"/>
                </a:cubicBezTo>
                <a:lnTo>
                  <a:pt x="9138" y="23527"/>
                </a:lnTo>
                <a:cubicBezTo>
                  <a:pt x="6370" y="23527"/>
                  <a:pt x="3794" y="20969"/>
                  <a:pt x="3794" y="18201"/>
                </a:cubicBezTo>
                <a:close/>
              </a:path>
            </a:pathLst>
          </a:custGeom>
          <a:solidFill>
            <a:srgbClr val="def5fa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Прямоугольник 2" descr=""/>
          <p:cNvPicPr/>
          <p:nvPr/>
        </p:nvPicPr>
        <p:blipFill>
          <a:blip r:embed="rId1"/>
          <a:stretch/>
        </p:blipFill>
        <p:spPr>
          <a:xfrm>
            <a:off x="-146160" y="-6480"/>
            <a:ext cx="9429840" cy="1586160"/>
          </a:xfrm>
          <a:prstGeom prst="rect">
            <a:avLst/>
          </a:prstGeom>
          <a:ln w="0">
            <a:noFill/>
          </a:ln>
        </p:spPr>
      </p:pic>
      <p:grpSp>
        <p:nvGrpSpPr>
          <p:cNvPr id="500" name="Группа 5"/>
          <p:cNvGrpSpPr/>
          <p:nvPr/>
        </p:nvGrpSpPr>
        <p:grpSpPr>
          <a:xfrm>
            <a:off x="428760" y="1500120"/>
            <a:ext cx="7929360" cy="3643560"/>
            <a:chOff x="428760" y="1500120"/>
            <a:chExt cx="7929360" cy="3643560"/>
          </a:xfrm>
        </p:grpSpPr>
        <p:grpSp>
          <p:nvGrpSpPr>
            <p:cNvPr id="501" name="Овал 6"/>
            <p:cNvGrpSpPr/>
            <p:nvPr/>
          </p:nvGrpSpPr>
          <p:grpSpPr>
            <a:xfrm>
              <a:off x="428760" y="1500120"/>
              <a:ext cx="7929360" cy="3643560"/>
              <a:chOff x="428760" y="1500120"/>
              <a:chExt cx="7929360" cy="3643560"/>
            </a:xfrm>
          </p:grpSpPr>
          <p:pic>
            <p:nvPicPr>
              <p:cNvPr id="502" name="Овал 6" descr=""/>
              <p:cNvPicPr/>
              <p:nvPr/>
            </p:nvPicPr>
            <p:blipFill>
              <a:blip r:embed="rId2"/>
              <a:stretch/>
            </p:blipFill>
            <p:spPr>
              <a:xfrm>
                <a:off x="428760" y="1500120"/>
                <a:ext cx="7929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>
                <a:off x="1621440" y="2064240"/>
                <a:ext cx="5546520" cy="25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grpSp>
          <p:nvGrpSpPr>
            <p:cNvPr id="504" name="Прямоугольник 7"/>
            <p:cNvGrpSpPr/>
            <p:nvPr/>
          </p:nvGrpSpPr>
          <p:grpSpPr>
            <a:xfrm>
              <a:off x="1936080" y="2221560"/>
              <a:ext cx="5083200" cy="1819800"/>
              <a:chOff x="1936080" y="2221560"/>
              <a:chExt cx="5083200" cy="1819800"/>
            </a:xfrm>
          </p:grpSpPr>
          <p:pic>
            <p:nvPicPr>
              <p:cNvPr id="505" name="Прямоугольник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936080" y="2221560"/>
                <a:ext cx="5083200" cy="180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"/>
              <p:cNvSpPr/>
              <p:nvPr/>
            </p:nvSpPr>
            <p:spPr>
              <a:xfrm>
                <a:off x="1956600" y="2241000"/>
                <a:ext cx="504900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00000"/>
                    </a:solidFill>
                    <a:latin typeface="Lucida Sans Unicode"/>
                  </a:rPr>
                  <a:t>Новизна</a:t>
                </a:r>
                <a:r>
                  <a:rPr b="0" lang="en-US" sz="2800" spc="-1" strike="noStrike">
                    <a:solidFill>
                      <a:srgbClr val="002060"/>
                    </a:solidFill>
                    <a:latin typeface="Lucida Sans Unicode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Lucida Sans Unicode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00000"/>
                    </a:solidFill>
                    <a:latin typeface="Lucida Sans Unicode"/>
                  </a:rPr>
                  <a:t>с течением времени информация стареет, например, газетная.</a:t>
                </a:r>
                <a:endParaRPr b="0" lang="en-US" sz="2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</p:grpSp>
      <p:sp>
        <p:nvSpPr>
          <p:cNvPr id="507" name="Прямоугольник 10"/>
          <p:cNvSpPr/>
          <p:nvPr/>
        </p:nvSpPr>
        <p:spPr>
          <a:xfrm>
            <a:off x="2214720" y="30002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Управляющая кнопка: возврат 11"/>
          <p:cNvSpPr/>
          <p:nvPr/>
        </p:nvSpPr>
        <p:spPr>
          <a:xfrm>
            <a:off x="8501040" y="6357960"/>
            <a:ext cx="142920" cy="21420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4200"/>
              <a:gd name="textAreaBottom" fmla="*/ 205200 h 214200"/>
            </a:gdLst>
            <a:ahLst/>
            <a:rect l="textAreaLeft" t="textAreaTop" r="textAreaRight" b="textAreaBottom"/>
            <a:pathLst>
              <a:path w="21600" h="32346">
                <a:moveTo>
                  <a:pt x="0" y="0"/>
                </a:moveTo>
                <a:lnTo>
                  <a:pt x="21600" y="0"/>
                </a:lnTo>
                <a:lnTo>
                  <a:pt x="21600" y="32346"/>
                </a:lnTo>
                <a:lnTo>
                  <a:pt x="0" y="32346"/>
                </a:lnTo>
                <a:close/>
              </a:path>
              <a:path fill="lightenLess" w="21600" h="32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46">
                <a:moveTo>
                  <a:pt x="21600" y="0"/>
                </a:moveTo>
                <a:lnTo>
                  <a:pt x="21600" y="32346"/>
                </a:lnTo>
                <a:lnTo>
                  <a:pt x="20200" y="30946"/>
                </a:lnTo>
                <a:lnTo>
                  <a:pt x="20200" y="1400"/>
                </a:lnTo>
                <a:close/>
              </a:path>
              <a:path fill="darkenLess" w="21600" h="32346">
                <a:moveTo>
                  <a:pt x="21600" y="32346"/>
                </a:moveTo>
                <a:lnTo>
                  <a:pt x="0" y="32346"/>
                </a:lnTo>
                <a:lnTo>
                  <a:pt x="1400" y="30946"/>
                </a:lnTo>
                <a:lnTo>
                  <a:pt x="20200" y="30946"/>
                </a:lnTo>
                <a:close/>
              </a:path>
              <a:path fill="lighten" w="21600" h="32346">
                <a:moveTo>
                  <a:pt x="0" y="32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46"/>
                </a:lnTo>
                <a:close/>
              </a:path>
              <a:path fill="darken" w="21600" h="32346">
                <a:moveTo>
                  <a:pt x="3794" y="12865"/>
                </a:moveTo>
                <a:lnTo>
                  <a:pt x="7301" y="12865"/>
                </a:lnTo>
                <a:lnTo>
                  <a:pt x="7301" y="18201"/>
                </a:lnTo>
                <a:cubicBezTo>
                  <a:pt x="7301" y="19123"/>
                  <a:pt x="8102" y="19855"/>
                  <a:pt x="9138" y="19855"/>
                </a:cubicBezTo>
                <a:lnTo>
                  <a:pt x="10800" y="19855"/>
                </a:lnTo>
                <a:cubicBezTo>
                  <a:pt x="11836" y="19855"/>
                  <a:pt x="12636" y="19123"/>
                  <a:pt x="12636" y="18201"/>
                </a:cubicBezTo>
                <a:lnTo>
                  <a:pt x="12636" y="12865"/>
                </a:lnTo>
                <a:lnTo>
                  <a:pt x="10800" y="12865"/>
                </a:lnTo>
                <a:lnTo>
                  <a:pt x="14308" y="9358"/>
                </a:lnTo>
                <a:lnTo>
                  <a:pt x="17981" y="12865"/>
                </a:lnTo>
                <a:lnTo>
                  <a:pt x="16144" y="12865"/>
                </a:lnTo>
                <a:lnTo>
                  <a:pt x="16144" y="18201"/>
                </a:lnTo>
                <a:cubicBezTo>
                  <a:pt x="16144" y="20969"/>
                  <a:pt x="13568" y="23527"/>
                  <a:pt x="10800" y="23527"/>
                </a:cubicBezTo>
                <a:lnTo>
                  <a:pt x="9138" y="23527"/>
                </a:lnTo>
                <a:cubicBezTo>
                  <a:pt x="6370" y="23527"/>
                  <a:pt x="3794" y="20969"/>
                  <a:pt x="3794" y="18201"/>
                </a:cubicBezTo>
                <a:close/>
              </a:path>
            </a:pathLst>
          </a:custGeom>
          <a:solidFill>
            <a:srgbClr val="def5fa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Прямоугольник 2" descr=""/>
          <p:cNvPicPr/>
          <p:nvPr/>
        </p:nvPicPr>
        <p:blipFill>
          <a:blip r:embed="rId1"/>
          <a:stretch/>
        </p:blipFill>
        <p:spPr>
          <a:xfrm>
            <a:off x="-146160" y="-6480"/>
            <a:ext cx="9429840" cy="1586160"/>
          </a:xfrm>
          <a:prstGeom prst="rect">
            <a:avLst/>
          </a:prstGeom>
          <a:ln w="0">
            <a:noFill/>
          </a:ln>
        </p:spPr>
      </p:pic>
      <p:grpSp>
        <p:nvGrpSpPr>
          <p:cNvPr id="510" name="Группа 3"/>
          <p:cNvGrpSpPr/>
          <p:nvPr/>
        </p:nvGrpSpPr>
        <p:grpSpPr>
          <a:xfrm>
            <a:off x="428760" y="1785960"/>
            <a:ext cx="7929360" cy="3643200"/>
            <a:chOff x="428760" y="1785960"/>
            <a:chExt cx="7929360" cy="3643200"/>
          </a:xfrm>
        </p:grpSpPr>
        <p:grpSp>
          <p:nvGrpSpPr>
            <p:cNvPr id="511" name="Овал 4"/>
            <p:cNvGrpSpPr/>
            <p:nvPr/>
          </p:nvGrpSpPr>
          <p:grpSpPr>
            <a:xfrm>
              <a:off x="428760" y="1785960"/>
              <a:ext cx="7929360" cy="3643200"/>
              <a:chOff x="428760" y="1785960"/>
              <a:chExt cx="7929360" cy="3643200"/>
            </a:xfrm>
          </p:grpSpPr>
          <p:pic>
            <p:nvPicPr>
              <p:cNvPr id="512" name="Овал 4" descr=""/>
              <p:cNvPicPr/>
              <p:nvPr/>
            </p:nvPicPr>
            <p:blipFill>
              <a:blip r:embed="rId2"/>
              <a:stretch/>
            </p:blipFill>
            <p:spPr>
              <a:xfrm>
                <a:off x="428760" y="1785960"/>
                <a:ext cx="7929360" cy="36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"/>
              <p:cNvSpPr/>
              <p:nvPr/>
            </p:nvSpPr>
            <p:spPr>
              <a:xfrm>
                <a:off x="1621440" y="2354400"/>
                <a:ext cx="5546520" cy="251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grpSp>
          <p:nvGrpSpPr>
            <p:cNvPr id="514" name="Прямоугольник 5"/>
            <p:cNvGrpSpPr/>
            <p:nvPr/>
          </p:nvGrpSpPr>
          <p:grpSpPr>
            <a:xfrm>
              <a:off x="2080800" y="2232360"/>
              <a:ext cx="4407840" cy="2733840"/>
              <a:chOff x="2080800" y="2232360"/>
              <a:chExt cx="4407840" cy="2733840"/>
            </a:xfrm>
          </p:grpSpPr>
          <p:pic>
            <p:nvPicPr>
              <p:cNvPr id="515" name="Прямоугольник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0800" y="2232360"/>
                <a:ext cx="4407840" cy="270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" name=""/>
              <p:cNvSpPr/>
              <p:nvPr/>
            </p:nvSpPr>
            <p:spPr>
              <a:xfrm>
                <a:off x="2097720" y="2251800"/>
                <a:ext cx="4381200" cy="27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00000"/>
                    </a:solidFill>
                    <a:latin typeface="Lucida Sans Unicode"/>
                  </a:rPr>
                  <a:t>Ценность- </a:t>
                </a:r>
                <a:endParaRPr b="0" lang="en-US" sz="3200" spc="-1" strike="noStrike">
                  <a:solidFill>
                    <a:srgbClr val="000000"/>
                  </a:solidFill>
                  <a:latin typeface="Lucida Sans Unicode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00000"/>
                    </a:solidFill>
                    <a:latin typeface="Lucida Sans Unicode"/>
                  </a:rPr>
                  <a:t>самая ценная информация- достаточно полезная, достоверная, полная и новая</a:t>
                </a:r>
                <a:endParaRPr b="0" lang="en-US" sz="2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</p:grpSp>
      <p:sp>
        <p:nvSpPr>
          <p:cNvPr id="517" name="Управляющая кнопка: возврат 8"/>
          <p:cNvSpPr/>
          <p:nvPr/>
        </p:nvSpPr>
        <p:spPr>
          <a:xfrm>
            <a:off x="8501040" y="6357960"/>
            <a:ext cx="142920" cy="21420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4200"/>
              <a:gd name="textAreaBottom" fmla="*/ 205200 h 214200"/>
            </a:gdLst>
            <a:ahLst/>
            <a:rect l="textAreaLeft" t="textAreaTop" r="textAreaRight" b="textAreaBottom"/>
            <a:pathLst>
              <a:path w="21600" h="32346">
                <a:moveTo>
                  <a:pt x="0" y="0"/>
                </a:moveTo>
                <a:lnTo>
                  <a:pt x="21600" y="0"/>
                </a:lnTo>
                <a:lnTo>
                  <a:pt x="21600" y="32346"/>
                </a:lnTo>
                <a:lnTo>
                  <a:pt x="0" y="32346"/>
                </a:lnTo>
                <a:close/>
              </a:path>
              <a:path fill="lightenLess" w="21600" h="32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46">
                <a:moveTo>
                  <a:pt x="21600" y="0"/>
                </a:moveTo>
                <a:lnTo>
                  <a:pt x="21600" y="32346"/>
                </a:lnTo>
                <a:lnTo>
                  <a:pt x="20200" y="30946"/>
                </a:lnTo>
                <a:lnTo>
                  <a:pt x="20200" y="1400"/>
                </a:lnTo>
                <a:close/>
              </a:path>
              <a:path fill="darkenLess" w="21600" h="32346">
                <a:moveTo>
                  <a:pt x="21600" y="32346"/>
                </a:moveTo>
                <a:lnTo>
                  <a:pt x="0" y="32346"/>
                </a:lnTo>
                <a:lnTo>
                  <a:pt x="1400" y="30946"/>
                </a:lnTo>
                <a:lnTo>
                  <a:pt x="20200" y="30946"/>
                </a:lnTo>
                <a:close/>
              </a:path>
              <a:path fill="lighten" w="21600" h="32346">
                <a:moveTo>
                  <a:pt x="0" y="32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46"/>
                </a:lnTo>
                <a:close/>
              </a:path>
              <a:path fill="darken" w="21600" h="32346">
                <a:moveTo>
                  <a:pt x="3794" y="12865"/>
                </a:moveTo>
                <a:lnTo>
                  <a:pt x="7301" y="12865"/>
                </a:lnTo>
                <a:lnTo>
                  <a:pt x="7301" y="18201"/>
                </a:lnTo>
                <a:cubicBezTo>
                  <a:pt x="7301" y="19123"/>
                  <a:pt x="8102" y="19855"/>
                  <a:pt x="9138" y="19855"/>
                </a:cubicBezTo>
                <a:lnTo>
                  <a:pt x="10800" y="19855"/>
                </a:lnTo>
                <a:cubicBezTo>
                  <a:pt x="11836" y="19855"/>
                  <a:pt x="12636" y="19123"/>
                  <a:pt x="12636" y="18201"/>
                </a:cubicBezTo>
                <a:lnTo>
                  <a:pt x="12636" y="12865"/>
                </a:lnTo>
                <a:lnTo>
                  <a:pt x="10800" y="12865"/>
                </a:lnTo>
                <a:lnTo>
                  <a:pt x="14308" y="9358"/>
                </a:lnTo>
                <a:lnTo>
                  <a:pt x="17981" y="12865"/>
                </a:lnTo>
                <a:lnTo>
                  <a:pt x="16144" y="12865"/>
                </a:lnTo>
                <a:lnTo>
                  <a:pt x="16144" y="18201"/>
                </a:lnTo>
                <a:cubicBezTo>
                  <a:pt x="16144" y="20969"/>
                  <a:pt x="13568" y="23527"/>
                  <a:pt x="10800" y="23527"/>
                </a:cubicBezTo>
                <a:lnTo>
                  <a:pt x="9138" y="23527"/>
                </a:lnTo>
                <a:cubicBezTo>
                  <a:pt x="6370" y="23527"/>
                  <a:pt x="3794" y="20969"/>
                  <a:pt x="3794" y="18201"/>
                </a:cubicBezTo>
                <a:close/>
              </a:path>
            </a:pathLst>
          </a:custGeom>
          <a:solidFill>
            <a:srgbClr val="def5fa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Прямоугольник 1" descr=""/>
          <p:cNvPicPr/>
          <p:nvPr/>
        </p:nvPicPr>
        <p:blipFill>
          <a:blip r:embed="rId1"/>
          <a:stretch/>
        </p:blipFill>
        <p:spPr>
          <a:xfrm>
            <a:off x="3230640" y="2182680"/>
            <a:ext cx="3225600" cy="1687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chel92"/>
          <p:cNvPicPr/>
          <p:nvPr/>
        </p:nvPicPr>
        <p:blipFill>
          <a:blip r:embed="rId2"/>
          <a:stretch/>
        </p:blipFill>
        <p:spPr>
          <a:xfrm>
            <a:off x="1857240" y="642960"/>
            <a:ext cx="1846440" cy="27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40426E-006 C 0.11094 -0.06336 0.22188 -0.12673 0.2915 -0.12673 C 0.36111 -0.12673 0.39479 -0.02914 0.41736 -3.40426E-006 C 0.43993 0.02914 0.39271 0.02591 0.42726 0.04765 C 0.46181 0.06938 0.60365 0.04857 0.62483 0.12998 C 0.64601 0.21138 0.68611 0.50047 0.55434 0.53608 C 0.42257 0.5717 -0.04531 0.37581 -0.16528 0.34367 E">
                                      <p:cBhvr>
                                        <p:cTn id="364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Прямоугольник 1" descr=""/>
          <p:cNvPicPr/>
          <p:nvPr/>
        </p:nvPicPr>
        <p:blipFill>
          <a:blip r:embed="rId1"/>
          <a:stretch/>
        </p:blipFill>
        <p:spPr>
          <a:xfrm>
            <a:off x="493560" y="1285920"/>
            <a:ext cx="5426280" cy="96984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2" descr=""/>
          <p:cNvPicPr/>
          <p:nvPr/>
        </p:nvPicPr>
        <p:blipFill>
          <a:blip r:embed="rId2"/>
          <a:stretch/>
        </p:blipFill>
        <p:spPr>
          <a:xfrm>
            <a:off x="1743120" y="-30240"/>
            <a:ext cx="5584680" cy="1687680"/>
          </a:xfrm>
          <a:prstGeom prst="rect">
            <a:avLst/>
          </a:prstGeom>
          <a:ln w="0">
            <a:noFill/>
          </a:ln>
        </p:spPr>
      </p:pic>
      <p:pic>
        <p:nvPicPr>
          <p:cNvPr id="381" name="Прямоугольник 3" descr=""/>
          <p:cNvPicPr/>
          <p:nvPr/>
        </p:nvPicPr>
        <p:blipFill>
          <a:blip r:embed="rId3"/>
          <a:stretch/>
        </p:blipFill>
        <p:spPr>
          <a:xfrm>
            <a:off x="590400" y="1932120"/>
            <a:ext cx="8345520" cy="969840"/>
          </a:xfrm>
          <a:prstGeom prst="rect">
            <a:avLst/>
          </a:prstGeom>
          <a:ln w="0">
            <a:noFill/>
          </a:ln>
        </p:spPr>
      </p:pic>
      <p:pic>
        <p:nvPicPr>
          <p:cNvPr id="382" name="Прямоугольник 4" descr=""/>
          <p:cNvPicPr/>
          <p:nvPr/>
        </p:nvPicPr>
        <p:blipFill>
          <a:blip r:embed="rId4"/>
          <a:stretch/>
        </p:blipFill>
        <p:spPr>
          <a:xfrm>
            <a:off x="566640" y="2719440"/>
            <a:ext cx="4687920" cy="968400"/>
          </a:xfrm>
          <a:prstGeom prst="rect">
            <a:avLst/>
          </a:prstGeom>
          <a:ln w="0">
            <a:noFill/>
          </a:ln>
        </p:spPr>
      </p:pic>
      <p:pic>
        <p:nvPicPr>
          <p:cNvPr id="383" name="Прямоугольник 6" descr=""/>
          <p:cNvPicPr/>
          <p:nvPr/>
        </p:nvPicPr>
        <p:blipFill>
          <a:blip r:embed="rId5"/>
          <a:stretch/>
        </p:blipFill>
        <p:spPr>
          <a:xfrm>
            <a:off x="1352520" y="3492360"/>
            <a:ext cx="7321680" cy="44640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8" descr=""/>
          <p:cNvPicPr/>
          <p:nvPr/>
        </p:nvPicPr>
        <p:blipFill>
          <a:blip r:embed="rId6"/>
          <a:stretch/>
        </p:blipFill>
        <p:spPr>
          <a:xfrm>
            <a:off x="1352520" y="3846600"/>
            <a:ext cx="7053120" cy="45072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10" descr=""/>
          <p:cNvPicPr/>
          <p:nvPr/>
        </p:nvPicPr>
        <p:blipFill>
          <a:blip r:embed="rId7"/>
          <a:stretch/>
        </p:blipFill>
        <p:spPr>
          <a:xfrm>
            <a:off x="1352520" y="4206960"/>
            <a:ext cx="5773680" cy="44424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11" descr=""/>
          <p:cNvPicPr/>
          <p:nvPr/>
        </p:nvPicPr>
        <p:blipFill>
          <a:blip r:embed="rId8"/>
          <a:stretch/>
        </p:blipFill>
        <p:spPr>
          <a:xfrm>
            <a:off x="566640" y="4784760"/>
            <a:ext cx="5658120" cy="96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4"/>
          <p:cNvSpPr/>
          <p:nvPr/>
        </p:nvSpPr>
        <p:spPr>
          <a:xfrm>
            <a:off x="357120" y="1071720"/>
            <a:ext cx="842976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Вещество, энергия и информация – важнейшие сущности нашего мир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Энергия приводит наш мир в движение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Lucida Sans Unicode"/>
              </a:rPr>
              <a:t>энергия химических реакций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Lucida Sans Unicode"/>
              </a:rPr>
              <a:t>энергия солнечных лучей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Lucida Sans Unicode"/>
              </a:rPr>
              <a:t>электрическая энерги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Lucida Sans Unicode"/>
              </a:rPr>
              <a:t>механическая энергия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Прямоугольник 5" descr=""/>
          <p:cNvPicPr/>
          <p:nvPr/>
        </p:nvPicPr>
        <p:blipFill>
          <a:blip r:embed="rId1"/>
          <a:stretch/>
        </p:blipFill>
        <p:spPr>
          <a:xfrm>
            <a:off x="-96840" y="42840"/>
            <a:ext cx="9393120" cy="16826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6" descr="6.gif"/>
          <p:cNvPicPr/>
          <p:nvPr/>
        </p:nvPicPr>
        <p:blipFill>
          <a:blip r:embed="rId2"/>
          <a:stretch/>
        </p:blipFill>
        <p:spPr>
          <a:xfrm rot="5400000">
            <a:off x="4221720" y="5444280"/>
            <a:ext cx="385560" cy="21276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7" descr="6.gif"/>
          <p:cNvPicPr/>
          <p:nvPr/>
        </p:nvPicPr>
        <p:blipFill>
          <a:blip r:embed="rId3"/>
          <a:stretch/>
        </p:blipFill>
        <p:spPr>
          <a:xfrm rot="5400000">
            <a:off x="5605920" y="5444280"/>
            <a:ext cx="385560" cy="21276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8" descr="6.gif"/>
          <p:cNvPicPr/>
          <p:nvPr/>
        </p:nvPicPr>
        <p:blipFill>
          <a:blip r:embed="rId4"/>
          <a:stretch/>
        </p:blipFill>
        <p:spPr>
          <a:xfrm rot="5400000">
            <a:off x="6990480" y="5444280"/>
            <a:ext cx="385560" cy="2124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9" descr="6.gif"/>
          <p:cNvPicPr/>
          <p:nvPr/>
        </p:nvPicPr>
        <p:blipFill>
          <a:blip r:embed="rId5"/>
          <a:stretch/>
        </p:blipFill>
        <p:spPr>
          <a:xfrm rot="5400000">
            <a:off x="8426880" y="5444280"/>
            <a:ext cx="385560" cy="212760"/>
          </a:xfrm>
          <a:prstGeom prst="rect">
            <a:avLst/>
          </a:prstGeom>
          <a:ln w="0">
            <a:noFill/>
          </a:ln>
        </p:spPr>
      </p:pic>
      <p:pic>
        <p:nvPicPr>
          <p:cNvPr id="393" name="Прямоугольник 11" descr=""/>
          <p:cNvPicPr/>
          <p:nvPr/>
        </p:nvPicPr>
        <p:blipFill>
          <a:blip r:embed="rId6"/>
          <a:stretch/>
        </p:blipFill>
        <p:spPr>
          <a:xfrm>
            <a:off x="3816360" y="5962680"/>
            <a:ext cx="1193760" cy="44460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12" descr=""/>
          <p:cNvPicPr/>
          <p:nvPr/>
        </p:nvPicPr>
        <p:blipFill>
          <a:blip r:embed="rId7"/>
          <a:stretch/>
        </p:blipFill>
        <p:spPr>
          <a:xfrm>
            <a:off x="5175360" y="5962680"/>
            <a:ext cx="1195200" cy="44460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13" descr=""/>
          <p:cNvPicPr/>
          <p:nvPr/>
        </p:nvPicPr>
        <p:blipFill>
          <a:blip r:embed="rId8"/>
          <a:stretch/>
        </p:blipFill>
        <p:spPr>
          <a:xfrm>
            <a:off x="6589800" y="5962680"/>
            <a:ext cx="1218960" cy="43164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14" descr=""/>
          <p:cNvPicPr/>
          <p:nvPr/>
        </p:nvPicPr>
        <p:blipFill>
          <a:blip r:embed="rId9"/>
          <a:stretch/>
        </p:blipFill>
        <p:spPr>
          <a:xfrm>
            <a:off x="7961400" y="5962680"/>
            <a:ext cx="1195200" cy="44460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ая соединительная линия 17"/>
          <p:cNvSpPr/>
          <p:nvPr/>
        </p:nvSpPr>
        <p:spPr>
          <a:xfrm flipH="1" flipV="1">
            <a:off x="3643200" y="2571840"/>
            <a:ext cx="5214960" cy="1440"/>
          </a:xfrm>
          <a:prstGeom prst="line">
            <a:avLst/>
          </a:prstGeom>
          <a:ln w="9360">
            <a:solidFill>
              <a:srgbClr val="2da2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Прямая соединительная линия 18"/>
          <p:cNvSpPr/>
          <p:nvPr/>
        </p:nvSpPr>
        <p:spPr>
          <a:xfrm flipH="1" flipV="1">
            <a:off x="142920" y="1356840"/>
            <a:ext cx="5214960" cy="1800"/>
          </a:xfrm>
          <a:prstGeom prst="line">
            <a:avLst/>
          </a:prstGeom>
          <a:ln w="9360">
            <a:solidFill>
              <a:srgbClr val="2da2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TextBox 19"/>
          <p:cNvSpPr/>
          <p:nvPr/>
        </p:nvSpPr>
        <p:spPr>
          <a:xfrm>
            <a:off x="4214880" y="4857840"/>
            <a:ext cx="4572000" cy="3373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ИНФОРМАЦИОННЫЕ ПРОЦЕССЫ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TextBox 20"/>
          <p:cNvSpPr/>
          <p:nvPr/>
        </p:nvSpPr>
        <p:spPr>
          <a:xfrm>
            <a:off x="428760" y="335772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бытовой смыс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сведения получаемые из окружающей среды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С помощью органов чувст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Рисунок 21" descr="6.gif"/>
          <p:cNvPicPr/>
          <p:nvPr/>
        </p:nvPicPr>
        <p:blipFill>
          <a:blip r:embed="rId10"/>
          <a:stretch/>
        </p:blipFill>
        <p:spPr>
          <a:xfrm rot="5400000">
            <a:off x="2130480" y="305892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22" descr="6.gif"/>
          <p:cNvPicPr/>
          <p:nvPr/>
        </p:nvPicPr>
        <p:blipFill>
          <a:blip r:embed="rId11"/>
          <a:stretch/>
        </p:blipFill>
        <p:spPr>
          <a:xfrm rot="5400000">
            <a:off x="6715080" y="307188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23"/>
          <p:cNvSpPr/>
          <p:nvPr/>
        </p:nvSpPr>
        <p:spPr>
          <a:xfrm>
            <a:off x="1785960" y="2643120"/>
            <a:ext cx="550080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Информаци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Прямоугольник 24"/>
          <p:cNvSpPr/>
          <p:nvPr/>
        </p:nvSpPr>
        <p:spPr>
          <a:xfrm>
            <a:off x="4714920" y="3357720"/>
            <a:ext cx="414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в наук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совокупность сведений, циркулирующих в природе, обществе, а также в созданных человеком системах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Picture 2" descr="F:\босова диск\Плакаты\Как мы воспринимаем информацию.jpg"/>
          <p:cNvPicPr/>
          <p:nvPr/>
        </p:nvPicPr>
        <p:blipFill>
          <a:blip r:embed="rId12"/>
          <a:stretch/>
        </p:blipFill>
        <p:spPr>
          <a:xfrm>
            <a:off x="142920" y="4643280"/>
            <a:ext cx="3643200" cy="1714680"/>
          </a:xfrm>
          <a:prstGeom prst="rect">
            <a:avLst/>
          </a:prstGeom>
          <a:ln w="0">
            <a:noFill/>
          </a:ln>
        </p:spPr>
      </p:pic>
      <p:sp>
        <p:nvSpPr>
          <p:cNvPr id="406" name="Управляющая кнопка: домой 27">
            <a:hlinkClick r:id="rId13" action="ppaction://hlinksldjump"/>
          </p:cNvPr>
          <p:cNvSpPr/>
          <p:nvPr/>
        </p:nvSpPr>
        <p:spPr>
          <a:xfrm>
            <a:off x="8643960" y="650088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Прямоугольник 1" descr=""/>
          <p:cNvPicPr/>
          <p:nvPr/>
        </p:nvPicPr>
        <p:blipFill>
          <a:blip r:embed="rId1"/>
          <a:stretch/>
        </p:blipFill>
        <p:spPr>
          <a:xfrm>
            <a:off x="1494000" y="122400"/>
            <a:ext cx="6583320" cy="1657080"/>
          </a:xfrm>
          <a:prstGeom prst="rect">
            <a:avLst/>
          </a:prstGeom>
          <a:ln w="0">
            <a:noFill/>
          </a:ln>
        </p:spPr>
      </p:pic>
      <p:sp>
        <p:nvSpPr>
          <p:cNvPr id="408" name="TextBox 5"/>
          <p:cNvSpPr/>
          <p:nvPr/>
        </p:nvSpPr>
        <p:spPr>
          <a:xfrm>
            <a:off x="857160" y="2214720"/>
            <a:ext cx="3571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Аналоговая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(непрерывная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TextBox 6"/>
          <p:cNvSpPr/>
          <p:nvPr/>
        </p:nvSpPr>
        <p:spPr>
          <a:xfrm>
            <a:off x="5522400" y="2214720"/>
            <a:ext cx="1671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Дискретная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(прерывистая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Picture 16" descr="C:\WINDOWS\Application Data\Microsoft\Media Catalog\Downloaded Clips\cl8e\j0356569.wmf"/>
          <p:cNvPicPr/>
          <p:nvPr/>
        </p:nvPicPr>
        <p:blipFill>
          <a:blip r:embed="rId2">
            <a:lum bright="24000"/>
          </a:blip>
          <a:stretch/>
        </p:blipFill>
        <p:spPr>
          <a:xfrm flipH="1">
            <a:off x="428400" y="2786040"/>
            <a:ext cx="1189080" cy="2776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морзе-алфавит"/>
          <p:cNvPicPr/>
          <p:nvPr/>
        </p:nvPicPr>
        <p:blipFill>
          <a:blip r:embed="rId3"/>
          <a:stretch/>
        </p:blipFill>
        <p:spPr>
          <a:xfrm>
            <a:off x="4714920" y="3000240"/>
            <a:ext cx="1298520" cy="1882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133" descr="C:\WINDOWS\Application Data\Microsoft\Media Catalog\Downloaded Clips\cl5c\j0231063.wmf"/>
          <p:cNvPicPr/>
          <p:nvPr/>
        </p:nvPicPr>
        <p:blipFill>
          <a:blip r:embed="rId4"/>
          <a:stretch/>
        </p:blipFill>
        <p:spPr>
          <a:xfrm>
            <a:off x="1714680" y="3071880"/>
            <a:ext cx="2214360" cy="1138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2" descr="037"/>
          <p:cNvPicPr/>
          <p:nvPr/>
        </p:nvPicPr>
        <p:blipFill>
          <a:blip r:embed="rId5"/>
          <a:stretch/>
        </p:blipFill>
        <p:spPr>
          <a:xfrm>
            <a:off x="6286680" y="3857760"/>
            <a:ext cx="2019240" cy="151452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pic>
        <p:nvPicPr>
          <p:cNvPr id="414" name="Picture 20" descr="holod_small"/>
          <p:cNvPicPr/>
          <p:nvPr/>
        </p:nvPicPr>
        <p:blipFill>
          <a:blip r:embed="rId6"/>
          <a:stretch/>
        </p:blipFill>
        <p:spPr>
          <a:xfrm rot="771600">
            <a:off x="6324120" y="3014280"/>
            <a:ext cx="1543320" cy="115740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pic>
        <p:nvPicPr>
          <p:cNvPr id="415" name="Picture 20" descr="Левитан Владимирка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7429680" y="4714920"/>
            <a:ext cx="1449360" cy="94284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pic>
        <p:nvPicPr>
          <p:cNvPr id="416" name="Picture 3" descr=""/>
          <p:cNvPicPr/>
          <p:nvPr/>
        </p:nvPicPr>
        <p:blipFill>
          <a:blip r:embed="rId8"/>
          <a:stretch/>
        </p:blipFill>
        <p:spPr>
          <a:xfrm>
            <a:off x="7500960" y="2857680"/>
            <a:ext cx="1446120" cy="150012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sp>
        <p:nvSpPr>
          <p:cNvPr id="417" name="TextBox 18"/>
          <p:cNvSpPr/>
          <p:nvPr/>
        </p:nvSpPr>
        <p:spPr>
          <a:xfrm>
            <a:off x="4655160" y="49291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Азбука Морзе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TextBox 19"/>
          <p:cNvSpPr/>
          <p:nvPr/>
        </p:nvSpPr>
        <p:spPr>
          <a:xfrm>
            <a:off x="6929280" y="5786280"/>
            <a:ext cx="16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Времена года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TextBox 20"/>
          <p:cNvSpPr/>
          <p:nvPr/>
        </p:nvSpPr>
        <p:spPr>
          <a:xfrm>
            <a:off x="1712880" y="4286160"/>
            <a:ext cx="21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Движение автомобил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TextBox 21"/>
          <p:cNvSpPr/>
          <p:nvPr/>
        </p:nvSpPr>
        <p:spPr>
          <a:xfrm>
            <a:off x="502920" y="564372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Мелоди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TextBox 22"/>
          <p:cNvSpPr/>
          <p:nvPr/>
        </p:nvSpPr>
        <p:spPr>
          <a:xfrm>
            <a:off x="2032200" y="4929120"/>
            <a:ext cx="2199960" cy="36828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Температура тел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Прямоугольник 23" descr=""/>
          <p:cNvPicPr/>
          <p:nvPr/>
        </p:nvPicPr>
        <p:blipFill>
          <a:blip r:embed="rId9"/>
          <a:stretch/>
        </p:blipFill>
        <p:spPr>
          <a:xfrm>
            <a:off x="1633680" y="1096920"/>
            <a:ext cx="5876640" cy="1701720"/>
          </a:xfrm>
          <a:prstGeom prst="rect">
            <a:avLst/>
          </a:prstGeom>
          <a:ln w="0">
            <a:noFill/>
          </a:ln>
        </p:spPr>
      </p:pic>
      <p:sp>
        <p:nvSpPr>
          <p:cNvPr id="423" name="Управляющая кнопка: домой 24">
            <a:hlinkClick r:id="rId10" action="ppaction://hlinksldjump"/>
          </p:cNvPr>
          <p:cNvSpPr/>
          <p:nvPr/>
        </p:nvSpPr>
        <p:spPr>
          <a:xfrm>
            <a:off x="8643960" y="635796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700"/>
                            </p:stCondLst>
                            <p:childTnLst>
                              <p:par>
                                <p:cTn id="17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200"/>
                            </p:stCondLst>
                            <p:childTnLst>
                              <p:par>
                                <p:cTn id="18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7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700"/>
                            </p:stCondLst>
                            <p:childTnLst>
                              <p:par>
                                <p:cTn id="1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200"/>
                            </p:stCondLst>
                            <p:childTnLst>
                              <p:par>
                                <p:cTn id="2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77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770" fill="hold"/>
                                        <p:tgtEl>
                                          <p:spTgt spid="4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2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2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Прямоугольник 1" descr=""/>
          <p:cNvPicPr/>
          <p:nvPr/>
        </p:nvPicPr>
        <p:blipFill>
          <a:blip r:embed="rId1"/>
          <a:stretch/>
        </p:blipFill>
        <p:spPr>
          <a:xfrm>
            <a:off x="609480" y="42840"/>
            <a:ext cx="8089920" cy="168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500040" y="1428840"/>
          <a:ext cx="8286840" cy="4022640"/>
        </p:xfrm>
        <a:graphic>
          <a:graphicData uri="http://schemas.openxmlformats.org/drawingml/2006/table">
            <a:tbl>
              <a:tblPr/>
              <a:tblGrid>
                <a:gridCol w="3559320"/>
                <a:gridCol w="47275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3a276"/>
                          </a:solidFill>
                          <a:latin typeface="Lucida Sans Unicode"/>
                        </a:rPr>
                        <a:t>ВИДЫ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3a276"/>
                          </a:solidFill>
                          <a:latin typeface="Lucida Sans Unicode"/>
                        </a:rPr>
                        <a:t>ИНФОРМАЦ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3a276"/>
                          </a:solidFill>
                          <a:latin typeface="Lucida Sans Unicode"/>
                        </a:rPr>
                        <a:t>ПОДВИДЫ ИНФОРМАЦ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3171e"/>
                          </a:solidFill>
                          <a:latin typeface="Comic Sans MS"/>
                          <a:ea typeface="AngsanaUPC"/>
                        </a:rPr>
                        <a:t>Массова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общественно-полит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8900000"/>
                    </a:gra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научно-популя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8900000"/>
                    </a:gradFill>
                  </a:tcPr>
                </a:tc>
              </a:tr>
              <a:tr h="398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3171e"/>
                          </a:solidFill>
                          <a:latin typeface="Comic Sans MS"/>
                          <a:ea typeface="AngsanaUPC"/>
                        </a:rPr>
                        <a:t>Специальна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нау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8900000"/>
                    </a:gra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техн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8900000"/>
                    </a:gra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эконом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8900000"/>
                    </a:gra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управленческ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8900000"/>
                    </a:gra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3171e"/>
                          </a:solidFill>
                          <a:latin typeface="Comic Sans MS"/>
                          <a:ea typeface="AngsanaUPC"/>
                        </a:rPr>
                        <a:t>Лична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знания, умения, интуи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sp>
        <p:nvSpPr>
          <p:cNvPr id="426" name="TextBox 5"/>
          <p:cNvSpPr/>
          <p:nvPr/>
        </p:nvSpPr>
        <p:spPr>
          <a:xfrm>
            <a:off x="874440" y="5715000"/>
            <a:ext cx="755676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Деление информации по признаку  «общественное назначение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Управляющая кнопка: домой 6">
            <a:hlinkClick r:id="rId4" action="ppaction://hlinksldjump"/>
          </p:cNvPr>
          <p:cNvSpPr/>
          <p:nvPr/>
        </p:nvSpPr>
        <p:spPr>
          <a:xfrm>
            <a:off x="8643960" y="635796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Прямоугольник 3" descr=""/>
          <p:cNvPicPr/>
          <p:nvPr/>
        </p:nvPicPr>
        <p:blipFill>
          <a:blip r:embed="rId1"/>
          <a:stretch/>
        </p:blipFill>
        <p:spPr>
          <a:xfrm>
            <a:off x="542880" y="-30240"/>
            <a:ext cx="8088480" cy="1687680"/>
          </a:xfrm>
          <a:prstGeom prst="rect">
            <a:avLst/>
          </a:prstGeom>
          <a:ln w="0">
            <a:noFill/>
          </a:ln>
        </p:spPr>
      </p:pic>
      <p:sp>
        <p:nvSpPr>
          <p:cNvPr id="429" name="TextBox 4"/>
          <p:cNvSpPr/>
          <p:nvPr/>
        </p:nvSpPr>
        <p:spPr>
          <a:xfrm>
            <a:off x="1571760" y="1285920"/>
            <a:ext cx="621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702000" y="1143000"/>
            <a:ext cx="720324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Деление информации по признаку  «область возникновения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31" name="Блок-схема: перфолента 6"/>
          <p:cNvGrpSpPr/>
          <p:nvPr/>
        </p:nvGrpSpPr>
        <p:grpSpPr>
          <a:xfrm>
            <a:off x="523800" y="1579680"/>
            <a:ext cx="2732040" cy="1176120"/>
            <a:chOff x="523800" y="1579680"/>
            <a:chExt cx="2732040" cy="1176120"/>
          </a:xfrm>
        </p:grpSpPr>
        <p:pic>
          <p:nvPicPr>
            <p:cNvPr id="432" name="Блок-схема: перфолента 6" descr=""/>
            <p:cNvPicPr/>
            <p:nvPr/>
          </p:nvPicPr>
          <p:blipFill>
            <a:blip r:embed="rId2"/>
            <a:stretch/>
          </p:blipFill>
          <p:spPr>
            <a:xfrm>
              <a:off x="523800" y="1579680"/>
              <a:ext cx="27320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571680" y="1914480"/>
              <a:ext cx="26431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3171e"/>
                  </a:solidFill>
                  <a:latin typeface="Lucida Sans Unicode"/>
                </a:rPr>
                <a:t>элементарная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434" name="Блок-схема: перфолента 7"/>
          <p:cNvGrpSpPr/>
          <p:nvPr/>
        </p:nvGrpSpPr>
        <p:grpSpPr>
          <a:xfrm>
            <a:off x="3309840" y="1579680"/>
            <a:ext cx="2730600" cy="1176120"/>
            <a:chOff x="3309840" y="1579680"/>
            <a:chExt cx="2730600" cy="1176120"/>
          </a:xfrm>
        </p:grpSpPr>
        <p:pic>
          <p:nvPicPr>
            <p:cNvPr id="435" name="Блок-схема: перфолента 7" descr=""/>
            <p:cNvPicPr/>
            <p:nvPr/>
          </p:nvPicPr>
          <p:blipFill>
            <a:blip r:embed="rId3"/>
            <a:stretch/>
          </p:blipFill>
          <p:spPr>
            <a:xfrm>
              <a:off x="3309840" y="1579680"/>
              <a:ext cx="273060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357720" y="1914480"/>
              <a:ext cx="26431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3171e"/>
                  </a:solidFill>
                  <a:latin typeface="Lucida Sans Unicode"/>
                </a:rPr>
                <a:t>биологическая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437" name="Блок-схема: перфолента 8"/>
          <p:cNvGrpSpPr/>
          <p:nvPr/>
        </p:nvGrpSpPr>
        <p:grpSpPr>
          <a:xfrm>
            <a:off x="6095880" y="1596960"/>
            <a:ext cx="2730600" cy="1060560"/>
            <a:chOff x="6095880" y="1596960"/>
            <a:chExt cx="2730600" cy="1060560"/>
          </a:xfrm>
        </p:grpSpPr>
        <p:pic>
          <p:nvPicPr>
            <p:cNvPr id="438" name="Блок-схема: перфолента 8" descr=""/>
            <p:cNvPicPr/>
            <p:nvPr/>
          </p:nvPicPr>
          <p:blipFill>
            <a:blip r:embed="rId4"/>
            <a:stretch/>
          </p:blipFill>
          <p:spPr>
            <a:xfrm>
              <a:off x="6095880" y="1596960"/>
              <a:ext cx="273060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6143760" y="1843200"/>
              <a:ext cx="26431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3171e"/>
                  </a:solidFill>
                  <a:latin typeface="Lucida Sans Unicode"/>
                </a:rPr>
                <a:t>социальная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440" name="Блок-схема: данные 9"/>
          <p:cNvGrpSpPr/>
          <p:nvPr/>
        </p:nvGrpSpPr>
        <p:grpSpPr>
          <a:xfrm>
            <a:off x="158760" y="3243240"/>
            <a:ext cx="3322800" cy="2298600"/>
            <a:chOff x="158760" y="3243240"/>
            <a:chExt cx="3322800" cy="2298600"/>
          </a:xfrm>
        </p:grpSpPr>
        <p:pic>
          <p:nvPicPr>
            <p:cNvPr id="441" name="Блок-схема: данные 9" descr=""/>
            <p:cNvPicPr/>
            <p:nvPr/>
          </p:nvPicPr>
          <p:blipFill>
            <a:blip r:embed="rId5"/>
            <a:stretch/>
          </p:blipFill>
          <p:spPr>
            <a:xfrm>
              <a:off x="158760" y="3243240"/>
              <a:ext cx="3322800" cy="22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857160" y="3286080"/>
              <a:ext cx="1928880" cy="22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Lucida Sans Unicode"/>
                </a:rPr>
                <a:t>отражает процессы и явления неодушевлённой природы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43" name="Picture 2" descr="C:\Documents and Settings\КПК\Мои документы\Мои рисунки\Картинки\анимация\стрелки\12.gif"/>
          <p:cNvPicPr/>
          <p:nvPr/>
        </p:nvPicPr>
        <p:blipFill>
          <a:blip r:embed="rId6"/>
          <a:stretch/>
        </p:blipFill>
        <p:spPr>
          <a:xfrm rot="5400000">
            <a:off x="1942920" y="2842920"/>
            <a:ext cx="476280" cy="3621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" descr="C:\Documents and Settings\КПК\Мои документы\Мои рисунки\Картинки\анимация\стрелки\12.gif"/>
          <p:cNvPicPr/>
          <p:nvPr/>
        </p:nvPicPr>
        <p:blipFill>
          <a:blip r:embed="rId7"/>
          <a:stretch/>
        </p:blipFill>
        <p:spPr>
          <a:xfrm rot="5400000">
            <a:off x="7372080" y="27720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C:\Documents and Settings\КПК\Мои документы\Мои рисунки\Картинки\анимация\стрелки\12.gif"/>
          <p:cNvPicPr/>
          <p:nvPr/>
        </p:nvPicPr>
        <p:blipFill>
          <a:blip r:embed="rId8"/>
          <a:stretch/>
        </p:blipFill>
        <p:spPr>
          <a:xfrm rot="5400000">
            <a:off x="4586040" y="2771640"/>
            <a:ext cx="476280" cy="362160"/>
          </a:xfrm>
          <a:prstGeom prst="rect">
            <a:avLst/>
          </a:prstGeom>
          <a:ln w="0">
            <a:noFill/>
          </a:ln>
        </p:spPr>
      </p:pic>
      <p:grpSp>
        <p:nvGrpSpPr>
          <p:cNvPr id="446" name="Блок-схема: данные 13"/>
          <p:cNvGrpSpPr/>
          <p:nvPr/>
        </p:nvGrpSpPr>
        <p:grpSpPr>
          <a:xfrm>
            <a:off x="5589720" y="3243240"/>
            <a:ext cx="3316320" cy="2298600"/>
            <a:chOff x="5589720" y="3243240"/>
            <a:chExt cx="3316320" cy="2298600"/>
          </a:xfrm>
        </p:grpSpPr>
        <p:pic>
          <p:nvPicPr>
            <p:cNvPr id="447" name="Блок-схема: данные 13" descr=""/>
            <p:cNvPicPr/>
            <p:nvPr/>
          </p:nvPicPr>
          <p:blipFill>
            <a:blip r:embed="rId9"/>
            <a:stretch/>
          </p:blipFill>
          <p:spPr>
            <a:xfrm>
              <a:off x="5589720" y="3243240"/>
              <a:ext cx="3316320" cy="22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6286680" y="3286080"/>
              <a:ext cx="1928520" cy="22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Lucida Sans Unicode"/>
                </a:rPr>
                <a:t>отражает процессы человеческого общества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449" name="Блок-схема: данные 15"/>
          <p:cNvGrpSpPr/>
          <p:nvPr/>
        </p:nvGrpSpPr>
        <p:grpSpPr>
          <a:xfrm>
            <a:off x="2871720" y="3243240"/>
            <a:ext cx="3321000" cy="2298600"/>
            <a:chOff x="2871720" y="3243240"/>
            <a:chExt cx="3321000" cy="2298600"/>
          </a:xfrm>
        </p:grpSpPr>
        <p:pic>
          <p:nvPicPr>
            <p:cNvPr id="450" name="Блок-схема: данные 15" descr=""/>
            <p:cNvPicPr/>
            <p:nvPr/>
          </p:nvPicPr>
          <p:blipFill>
            <a:blip r:embed="rId10"/>
            <a:stretch/>
          </p:blipFill>
          <p:spPr>
            <a:xfrm>
              <a:off x="2871720" y="3243240"/>
              <a:ext cx="3321000" cy="22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3571920" y="3286080"/>
              <a:ext cx="1928880" cy="22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Lucida Sans Unicode"/>
                </a:rPr>
                <a:t>отражает процессы растительного и животного мира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52" name="Управляющая кнопка: домой 27">
            <a:hlinkClick r:id="rId11" action="ppaction://hlinksldjump"/>
          </p:cNvPr>
          <p:cNvSpPr/>
          <p:nvPr/>
        </p:nvSpPr>
        <p:spPr>
          <a:xfrm>
            <a:off x="8643960" y="635796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5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7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Прямоугольник 1" descr=""/>
          <p:cNvPicPr/>
          <p:nvPr/>
        </p:nvPicPr>
        <p:blipFill>
          <a:blip r:embed="rId1"/>
          <a:stretch/>
        </p:blipFill>
        <p:spPr>
          <a:xfrm>
            <a:off x="542880" y="-30240"/>
            <a:ext cx="8088480" cy="1687680"/>
          </a:xfrm>
          <a:prstGeom prst="rect">
            <a:avLst/>
          </a:prstGeom>
          <a:ln w="0">
            <a:noFill/>
          </a:ln>
        </p:spPr>
      </p:pic>
      <p:sp>
        <p:nvSpPr>
          <p:cNvPr id="454" name="TextBox 2"/>
          <p:cNvSpPr/>
          <p:nvPr/>
        </p:nvSpPr>
        <p:spPr>
          <a:xfrm flipH="1">
            <a:off x="1285200" y="1071720"/>
            <a:ext cx="642924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По способу восприятия и передачи информаци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Багетная рамка 3"/>
          <p:cNvSpPr/>
          <p:nvPr/>
        </p:nvSpPr>
        <p:spPr>
          <a:xfrm>
            <a:off x="571680" y="5072040"/>
            <a:ext cx="2357280" cy="571680"/>
          </a:xfrm>
          <a:prstGeom prst="bevel">
            <a:avLst>
              <a:gd name="adj" fmla="val 12500"/>
            </a:avLst>
          </a:prstGeom>
          <a:solidFill>
            <a:srgbClr val="b5e9f4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Sans Unicode"/>
              </a:rPr>
              <a:t>Машинна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Багетная рамка 4"/>
          <p:cNvSpPr/>
          <p:nvPr/>
        </p:nvSpPr>
        <p:spPr>
          <a:xfrm>
            <a:off x="571680" y="4071960"/>
            <a:ext cx="2357280" cy="714240"/>
          </a:xfrm>
          <a:prstGeom prst="bevel">
            <a:avLst>
              <a:gd name="adj" fmla="val 12500"/>
            </a:avLst>
          </a:prstGeom>
          <a:solidFill>
            <a:srgbClr val="b5e9f4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Органо-лептическа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Багетная рамка 5"/>
          <p:cNvSpPr/>
          <p:nvPr/>
        </p:nvSpPr>
        <p:spPr>
          <a:xfrm>
            <a:off x="571680" y="3214800"/>
            <a:ext cx="2357280" cy="642960"/>
          </a:xfrm>
          <a:prstGeom prst="bevel">
            <a:avLst>
              <a:gd name="adj" fmla="val 12500"/>
            </a:avLst>
          </a:prstGeom>
          <a:solidFill>
            <a:srgbClr val="b5e9f4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Sans Unicode"/>
              </a:rPr>
              <a:t>Тактильна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Багетная рамка 6"/>
          <p:cNvSpPr/>
          <p:nvPr/>
        </p:nvSpPr>
        <p:spPr>
          <a:xfrm>
            <a:off x="571680" y="2428920"/>
            <a:ext cx="2357280" cy="571320"/>
          </a:xfrm>
          <a:prstGeom prst="bevel">
            <a:avLst>
              <a:gd name="adj" fmla="val 12500"/>
            </a:avLst>
          </a:prstGeom>
          <a:solidFill>
            <a:srgbClr val="b5e9f4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Аудиальная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Багетная рамка 7"/>
          <p:cNvSpPr/>
          <p:nvPr/>
        </p:nvSpPr>
        <p:spPr>
          <a:xfrm>
            <a:off x="571680" y="1643040"/>
            <a:ext cx="2357280" cy="571680"/>
          </a:xfrm>
          <a:prstGeom prst="bevel">
            <a:avLst>
              <a:gd name="adj" fmla="val 12500"/>
            </a:avLst>
          </a:prstGeom>
          <a:solidFill>
            <a:srgbClr val="b5e9f4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Sans Unicode"/>
              </a:rPr>
              <a:t>Визуальна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Пятиугольник 8"/>
          <p:cNvSpPr/>
          <p:nvPr/>
        </p:nvSpPr>
        <p:spPr>
          <a:xfrm flipH="1">
            <a:off x="3142440" y="1643040"/>
            <a:ext cx="5000760" cy="571680"/>
          </a:xfrm>
          <a:custGeom>
            <a:avLst/>
            <a:gdLst>
              <a:gd name="textAreaLeft" fmla="*/ -360 w 5000760"/>
              <a:gd name="textAreaRight" fmla="*/ 5000760 w 500076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6" y="0"/>
                </a:lnTo>
                <a:lnTo>
                  <a:pt x="21600" y="10800"/>
                </a:lnTo>
                <a:lnTo>
                  <a:pt x="203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ef5fa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Lucida Sans Unicode"/>
              </a:rPr>
              <a:t>Передаётся видимыми образами и символам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Пятиугольник 9"/>
          <p:cNvSpPr/>
          <p:nvPr/>
        </p:nvSpPr>
        <p:spPr>
          <a:xfrm flipH="1">
            <a:off x="3071880" y="2428920"/>
            <a:ext cx="5000400" cy="571320"/>
          </a:xfrm>
          <a:custGeom>
            <a:avLst/>
            <a:gdLst>
              <a:gd name="textAreaLeft" fmla="*/ 360 w 5000400"/>
              <a:gd name="textAreaRight" fmla="*/ 5001120 w 50004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6" y="0"/>
                </a:lnTo>
                <a:lnTo>
                  <a:pt x="21600" y="10800"/>
                </a:lnTo>
                <a:lnTo>
                  <a:pt x="203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ef5fa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Lucida Sans Unicode"/>
              </a:rPr>
              <a:t>Передаётся звукам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Пятиугольник 10"/>
          <p:cNvSpPr/>
          <p:nvPr/>
        </p:nvSpPr>
        <p:spPr>
          <a:xfrm flipH="1">
            <a:off x="3142440" y="3286080"/>
            <a:ext cx="5000760" cy="571680"/>
          </a:xfrm>
          <a:custGeom>
            <a:avLst/>
            <a:gdLst>
              <a:gd name="textAreaLeft" fmla="*/ -360 w 5000760"/>
              <a:gd name="textAreaRight" fmla="*/ 5000760 w 500076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6" y="0"/>
                </a:lnTo>
                <a:lnTo>
                  <a:pt x="21600" y="10800"/>
                </a:lnTo>
                <a:lnTo>
                  <a:pt x="203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ef5fa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Lucida Sans Unicode"/>
              </a:rPr>
              <a:t>Передаётся ощущениям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Пятиугольник 11"/>
          <p:cNvSpPr/>
          <p:nvPr/>
        </p:nvSpPr>
        <p:spPr>
          <a:xfrm flipH="1">
            <a:off x="3142440" y="4143240"/>
            <a:ext cx="5000760" cy="571680"/>
          </a:xfrm>
          <a:custGeom>
            <a:avLst/>
            <a:gdLst>
              <a:gd name="textAreaLeft" fmla="*/ -360 w 5000760"/>
              <a:gd name="textAreaRight" fmla="*/ 5000760 w 500076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6" y="0"/>
                </a:lnTo>
                <a:lnTo>
                  <a:pt x="21600" y="10800"/>
                </a:lnTo>
                <a:lnTo>
                  <a:pt x="203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ef5fa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Lucida Sans Unicode"/>
              </a:rPr>
              <a:t>Передаётся запахами и вкусом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Пятиугольник 12"/>
          <p:cNvSpPr/>
          <p:nvPr/>
        </p:nvSpPr>
        <p:spPr>
          <a:xfrm flipH="1">
            <a:off x="3214800" y="5072040"/>
            <a:ext cx="5000400" cy="571680"/>
          </a:xfrm>
          <a:custGeom>
            <a:avLst/>
            <a:gdLst>
              <a:gd name="textAreaLeft" fmla="*/ 360 w 5000400"/>
              <a:gd name="textAreaRight" fmla="*/ 5001120 w 500040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6" y="0"/>
                </a:lnTo>
                <a:lnTo>
                  <a:pt x="21600" y="10800"/>
                </a:lnTo>
                <a:lnTo>
                  <a:pt x="203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ef5fa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Lucida Sans Unicode"/>
              </a:rPr>
              <a:t>Выдаваемую и воспринимаемую средствами ВТ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Управляющая кнопка: домой 13">
            <a:hlinkClick r:id="rId2" action="ppaction://hlinksldjump"/>
          </p:cNvPr>
          <p:cNvSpPr/>
          <p:nvPr/>
        </p:nvSpPr>
        <p:spPr>
          <a:xfrm>
            <a:off x="8643960" y="635796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500"/>
                            </p:stCondLst>
                            <p:childTnLst>
                              <p:par>
                                <p:cTn id="3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500"/>
                            </p:stCondLst>
                            <p:childTnLst>
                              <p:par>
                                <p:cTn id="3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Прямоугольник 1" descr=""/>
          <p:cNvPicPr/>
          <p:nvPr/>
        </p:nvPicPr>
        <p:blipFill>
          <a:blip r:embed="rId1"/>
          <a:stretch/>
        </p:blipFill>
        <p:spPr>
          <a:xfrm>
            <a:off x="-146160" y="-6480"/>
            <a:ext cx="9429840" cy="1586160"/>
          </a:xfrm>
          <a:prstGeom prst="rect">
            <a:avLst/>
          </a:prstGeom>
          <a:ln w="0">
            <a:noFill/>
          </a:ln>
        </p:spPr>
      </p:pic>
      <p:grpSp>
        <p:nvGrpSpPr>
          <p:cNvPr id="467" name="Прямоугольник 3"/>
          <p:cNvGrpSpPr/>
          <p:nvPr/>
        </p:nvGrpSpPr>
        <p:grpSpPr>
          <a:xfrm>
            <a:off x="1474920" y="1335240"/>
            <a:ext cx="6400800" cy="4284360"/>
            <a:chOff x="1474920" y="1335240"/>
            <a:chExt cx="6400800" cy="4284360"/>
          </a:xfrm>
        </p:grpSpPr>
        <p:pic>
          <p:nvPicPr>
            <p:cNvPr id="468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474920" y="1335240"/>
              <a:ext cx="6400800" cy="42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1500120" y="1357200"/>
              <a:ext cx="635796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206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2060"/>
                  </a:solidFill>
                  <a:latin typeface="Lucida Sans Unicode"/>
                </a:rPr>
                <a:t>Полезность </a:t>
              </a:r>
              <a:endParaRPr b="0" lang="en-US" sz="5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buClr>
                  <a:srgbClr val="00206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2060"/>
                  </a:solidFill>
                  <a:latin typeface="Lucida Sans Unicode"/>
                </a:rPr>
                <a:t>Полнота </a:t>
              </a:r>
              <a:endParaRPr b="0" lang="en-US" sz="5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buClr>
                  <a:srgbClr val="00206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2060"/>
                  </a:solidFill>
                  <a:latin typeface="Lucida Sans Unicode"/>
                </a:rPr>
                <a:t>Достоверность </a:t>
              </a:r>
              <a:endParaRPr b="0" lang="en-US" sz="5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buClr>
                  <a:srgbClr val="00206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2060"/>
                  </a:solidFill>
                  <a:latin typeface="Lucida Sans Unicode"/>
                </a:rPr>
                <a:t>Новизна </a:t>
              </a:r>
              <a:endParaRPr b="0" lang="en-US" sz="5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buClr>
                  <a:srgbClr val="00206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2060"/>
                  </a:solidFill>
                  <a:latin typeface="Lucida Sans Unicode"/>
                </a:rPr>
                <a:t>Ценность  </a:t>
              </a:r>
              <a:endParaRPr b="0" lang="en-US" sz="5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70" name="Picture 7" descr="baby19"/>
          <p:cNvPicPr/>
          <p:nvPr/>
        </p:nvPicPr>
        <p:blipFill>
          <a:blip r:embed="rId3"/>
          <a:stretch/>
        </p:blipFill>
        <p:spPr>
          <a:xfrm>
            <a:off x="6286680" y="4214880"/>
            <a:ext cx="2361960" cy="2068560"/>
          </a:xfrm>
          <a:prstGeom prst="rect">
            <a:avLst/>
          </a:prstGeom>
          <a:ln w="0">
            <a:noFill/>
          </a:ln>
        </p:spPr>
      </p:pic>
      <p:sp>
        <p:nvSpPr>
          <p:cNvPr id="471" name="Управляющая кнопка: домой 5"/>
          <p:cNvSpPr/>
          <p:nvPr/>
        </p:nvSpPr>
        <p:spPr>
          <a:xfrm>
            <a:off x="8643960" y="635796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Прямоугольник 1" descr=""/>
          <p:cNvPicPr/>
          <p:nvPr/>
        </p:nvPicPr>
        <p:blipFill>
          <a:blip r:embed="rId1"/>
          <a:stretch/>
        </p:blipFill>
        <p:spPr>
          <a:xfrm>
            <a:off x="-146160" y="-6480"/>
            <a:ext cx="9429840" cy="1586160"/>
          </a:xfrm>
          <a:prstGeom prst="rect">
            <a:avLst/>
          </a:prstGeom>
          <a:ln w="0">
            <a:noFill/>
          </a:ln>
        </p:spPr>
      </p:pic>
      <p:grpSp>
        <p:nvGrpSpPr>
          <p:cNvPr id="473" name="Группа 13"/>
          <p:cNvGrpSpPr/>
          <p:nvPr/>
        </p:nvGrpSpPr>
        <p:grpSpPr>
          <a:xfrm>
            <a:off x="428760" y="1785960"/>
            <a:ext cx="7929360" cy="3643200"/>
            <a:chOff x="428760" y="1785960"/>
            <a:chExt cx="7929360" cy="3643200"/>
          </a:xfrm>
        </p:grpSpPr>
        <p:grpSp>
          <p:nvGrpSpPr>
            <p:cNvPr id="474" name="Овал 11"/>
            <p:cNvGrpSpPr/>
            <p:nvPr/>
          </p:nvGrpSpPr>
          <p:grpSpPr>
            <a:xfrm>
              <a:off x="428760" y="1785960"/>
              <a:ext cx="7929360" cy="3643200"/>
              <a:chOff x="428760" y="1785960"/>
              <a:chExt cx="7929360" cy="3643200"/>
            </a:xfrm>
          </p:grpSpPr>
          <p:pic>
            <p:nvPicPr>
              <p:cNvPr id="475" name="Овал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28760" y="1785960"/>
                <a:ext cx="7929360" cy="36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>
                <a:off x="1621440" y="2354400"/>
                <a:ext cx="5546520" cy="251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grpSp>
          <p:nvGrpSpPr>
            <p:cNvPr id="477" name="Прямоугольник 12"/>
            <p:cNvGrpSpPr/>
            <p:nvPr/>
          </p:nvGrpSpPr>
          <p:grpSpPr>
            <a:xfrm>
              <a:off x="1936080" y="2720520"/>
              <a:ext cx="5083200" cy="1576080"/>
              <a:chOff x="1936080" y="2720520"/>
              <a:chExt cx="5083200" cy="1576080"/>
            </a:xfrm>
          </p:grpSpPr>
          <p:pic>
            <p:nvPicPr>
              <p:cNvPr id="478" name="Прямоугольник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1936080" y="2720520"/>
                <a:ext cx="5083200" cy="156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"/>
              <p:cNvSpPr/>
              <p:nvPr/>
            </p:nvSpPr>
            <p:spPr>
              <a:xfrm>
                <a:off x="1956600" y="2739960"/>
                <a:ext cx="5049000" cy="155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00000"/>
                    </a:solidFill>
                    <a:latin typeface="Lucida Sans Unicode"/>
                  </a:rPr>
                  <a:t>Полезность </a:t>
                </a:r>
                <a:endParaRPr b="0" lang="en-US" sz="4000" spc="-1" strike="noStrike">
                  <a:solidFill>
                    <a:srgbClr val="000000"/>
                  </a:solidFill>
                  <a:latin typeface="Lucida Sans Unicode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00000"/>
                    </a:solidFill>
                    <a:latin typeface="Lucida Sans Unicode"/>
                  </a:rPr>
                  <a:t>(относительно конкретной информационной системы)</a:t>
                </a:r>
                <a:endParaRPr b="0" lang="en-US" sz="2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</p:grpSp>
      <p:sp>
        <p:nvSpPr>
          <p:cNvPr id="480" name="Управляющая кнопка: возврат 14"/>
          <p:cNvSpPr/>
          <p:nvPr/>
        </p:nvSpPr>
        <p:spPr>
          <a:xfrm>
            <a:off x="8501040" y="6357960"/>
            <a:ext cx="142920" cy="21420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4200"/>
              <a:gd name="textAreaBottom" fmla="*/ 205200 h 214200"/>
            </a:gdLst>
            <a:ahLst/>
            <a:rect l="textAreaLeft" t="textAreaTop" r="textAreaRight" b="textAreaBottom"/>
            <a:pathLst>
              <a:path w="21600" h="32346">
                <a:moveTo>
                  <a:pt x="0" y="0"/>
                </a:moveTo>
                <a:lnTo>
                  <a:pt x="21600" y="0"/>
                </a:lnTo>
                <a:lnTo>
                  <a:pt x="21600" y="32346"/>
                </a:lnTo>
                <a:lnTo>
                  <a:pt x="0" y="32346"/>
                </a:lnTo>
                <a:close/>
              </a:path>
              <a:path fill="lightenLess" w="21600" h="32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46">
                <a:moveTo>
                  <a:pt x="21600" y="0"/>
                </a:moveTo>
                <a:lnTo>
                  <a:pt x="21600" y="32346"/>
                </a:lnTo>
                <a:lnTo>
                  <a:pt x="20200" y="30946"/>
                </a:lnTo>
                <a:lnTo>
                  <a:pt x="20200" y="1400"/>
                </a:lnTo>
                <a:close/>
              </a:path>
              <a:path fill="darkenLess" w="21600" h="32346">
                <a:moveTo>
                  <a:pt x="21600" y="32346"/>
                </a:moveTo>
                <a:lnTo>
                  <a:pt x="0" y="32346"/>
                </a:lnTo>
                <a:lnTo>
                  <a:pt x="1400" y="30946"/>
                </a:lnTo>
                <a:lnTo>
                  <a:pt x="20200" y="30946"/>
                </a:lnTo>
                <a:close/>
              </a:path>
              <a:path fill="lighten" w="21600" h="32346">
                <a:moveTo>
                  <a:pt x="0" y="32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46"/>
                </a:lnTo>
                <a:close/>
              </a:path>
              <a:path fill="darken" w="21600" h="32346">
                <a:moveTo>
                  <a:pt x="3794" y="12865"/>
                </a:moveTo>
                <a:lnTo>
                  <a:pt x="7301" y="12865"/>
                </a:lnTo>
                <a:lnTo>
                  <a:pt x="7301" y="18201"/>
                </a:lnTo>
                <a:cubicBezTo>
                  <a:pt x="7301" y="19123"/>
                  <a:pt x="8102" y="19855"/>
                  <a:pt x="9138" y="19855"/>
                </a:cubicBezTo>
                <a:lnTo>
                  <a:pt x="10800" y="19855"/>
                </a:lnTo>
                <a:cubicBezTo>
                  <a:pt x="11836" y="19855"/>
                  <a:pt x="12636" y="19123"/>
                  <a:pt x="12636" y="18201"/>
                </a:cubicBezTo>
                <a:lnTo>
                  <a:pt x="12636" y="12865"/>
                </a:lnTo>
                <a:lnTo>
                  <a:pt x="10800" y="12865"/>
                </a:lnTo>
                <a:lnTo>
                  <a:pt x="14308" y="9358"/>
                </a:lnTo>
                <a:lnTo>
                  <a:pt x="17981" y="12865"/>
                </a:lnTo>
                <a:lnTo>
                  <a:pt x="16144" y="12865"/>
                </a:lnTo>
                <a:lnTo>
                  <a:pt x="16144" y="18201"/>
                </a:lnTo>
                <a:cubicBezTo>
                  <a:pt x="16144" y="20969"/>
                  <a:pt x="13568" y="23527"/>
                  <a:pt x="10800" y="23527"/>
                </a:cubicBezTo>
                <a:lnTo>
                  <a:pt x="9138" y="23527"/>
                </a:lnTo>
                <a:cubicBezTo>
                  <a:pt x="6370" y="23527"/>
                  <a:pt x="3794" y="20969"/>
                  <a:pt x="3794" y="18201"/>
                </a:cubicBezTo>
                <a:close/>
              </a:path>
            </a:pathLst>
          </a:custGeom>
          <a:solidFill>
            <a:srgbClr val="def5fa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4:02:24Z</dcterms:created>
  <dc:creator>Valued Acer Customer</dc:creator>
  <dc:description/>
  <dc:language>en-US</dc:language>
  <cp:lastModifiedBy>Irina Petrova</cp:lastModifiedBy>
  <dcterms:modified xsi:type="dcterms:W3CDTF">2013-04-22T14:07:46Z</dcterms:modified>
  <cp:revision>80</cp:revision>
  <dc:subject/>
  <dc:title>Информация: понятия свойства виды</dc:title>
</cp:coreProperties>
</file>