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CB9-A490-41A7-97E9-20A9CE2C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0D4-2DF0-4DD2-A4F4-F754121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5004-4A12-486C-A2F6-D996FABC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3F1F-6916-4D78-A5AC-1684E7D9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E54-83BE-41DB-8251-AD71E3F6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BD6-3512-4E97-AA75-4DD393E7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39F-6FB8-405E-B11E-7378EB65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3077-7BFA-493A-9588-3A570C35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6E8-F8B0-4AC8-9838-C2A2420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E55-5340-40F3-BA13-80D8A3B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A19-A760-4F7C-8521-7970118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601-4F30-477E-A4DB-B7BA765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3D36-540D-4ECA-9F90-D9A8F82ACEB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следования популяции пеликана кудрявого на озере Большое Кабань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Выполнил: Скрипец Ил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Руководитель :Шевлякова Татьяна Ивано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Учитель биологии МБОУ СОШ №13 г.Славгор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дители приносят в клюве также воду для птенц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L:\фото пеликанов\Photo-0439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гнездах присутствовали птенцы не моложе 10 дневного возраста, вес их составлял 1-2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L:\фото пеликанов\P100025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вых числах августа молодняк начал выходить из гнезд на воду, но держались вблизи своих коло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E:\фото пеликанов\Photo-0426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189000"/>
          <a:ext cx="6096240" cy="6513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45160">
                <a:tc rowSpan="3">
                  <a:txBody>
                    <a:bodyPr lIns="25560" rIns="25560" tIns="0" bIns="0" anchor="t">
                      <a:noAutofit/>
                    </a:bodyPr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ид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рилё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90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marL="7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та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marL="1407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316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я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90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я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6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6360" indent="84240">
                        <a:lnSpc>
                          <a:spcPts val="2112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4.2012 День 12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-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8560">
                <a:tc>
                  <a:txBody>
                    <a:bodyPr lIns="25560" rIns="25560" tIns="0" bIns="0" anchor="t">
                      <a:noAutofit/>
                    </a:bodyPr>
                    <a:p>
                      <a:pPr marL="176040">
                        <a:lnSpc>
                          <a:spcPts val="2112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ройка гнез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3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 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7240">
                <a:tc rowSpan="3">
                  <a:txBody>
                    <a:bodyPr lIns="25560" rIns="25560" tIns="0" bIns="0" anchor="t">
                      <a:noAutofit/>
                    </a:bodyPr>
                    <a:p>
                      <a:pPr marL="8424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незд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424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вление и развитие птен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14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-19 Число гнезд с яйцом-7 Число яиц в гнезде 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гнезд -20 Число гнезд с яйцом-2 Число яиц в гнезде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944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5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яиц-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яиц в гнезде 0-1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 яиц-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яиц в гнезде-0-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9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7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6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яиц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и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 во птенцов до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ей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яиц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нии-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 во птенцов до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ей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523880" y="189000"/>
          <a:ext cx="6096240" cy="5825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99480">
                <a:tc rowSpan="6"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незд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явление и развитие птен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68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лодняк и взрослые осо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6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яиц-7 Кол-во птенцов- 19 молодняк после 10 дней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40" indent="612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яиц-8 Кол-во птенцов-16            молодняк после 10 дней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7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197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птенцов-21 (вес 1-2 кг)Молодняк-24 (вес 4-5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760" indent="2376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 -во птенцов-18 (вес 1-2 кг.)Молодняк-18 (вес 4-5к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27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08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е количество молодняка-42 Вес 7-9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ts val="2061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е количество молодняка-36 7-9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52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6.09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marL="1249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тают на кры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520" indent="8424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10.2012 День 13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4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 всего-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енность всего-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0.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9440" indent="23760">
                        <a:lnSpc>
                          <a:spcPts val="2013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у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В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ловиях заказника «Ондатровый»,  озеро Большое Кабанье                          Бурлинского района Алтайского края,  с 2000 года гнездится кудрявый пеликан, который внесен в Красные книги МСОП и России как редкий вид, численность которого резко сокращается в связи с появлением на озере  большого баклана в 2005 году, популяция которого увеличивается, что указывает на наличие прямой связи численности данных видов - пищевых конкурентов.                                                                                                                      2. Согласно проведенным исследованиям, резкого отличия по численности пеликанов в первой и во второй колониях не наблюдается. В виду сложившихся одинаковых условий питания и гнездования различий в численности яиц, птенцов не отмечено. Озеро Большое Кабанье является единственным местом гнездования кудрявого пеликана в Алтайском крае.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кт  исследования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зеро Большое Кабанье заказник «Ондатровы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E:\фото пеликанов\Photo-0426.jpg"/>
          <p:cNvPicPr/>
          <p:nvPr/>
        </p:nvPicPr>
        <p:blipFill>
          <a:blip r:embed="rId1"/>
          <a:stretch/>
        </p:blipFill>
        <p:spPr>
          <a:xfrm>
            <a:off x="3575160" y="1154160"/>
            <a:ext cx="5111640" cy="4089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мет исследования: Популяция пеликана кудрявого в условиях заказника «Ондатровый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азник «Ондатровый  организован 07.04.1989 г. решением Алтайского .крайисполкома. Постановлением администрации Алтайского края от 07 ноября 1999 г. действие заказника продлено бессрочно. В 2001 году преобразован в комплексный. В 2006 году материалы комплексного экологического обследования территории заказника «Ондатровый» для придания правового статуса особо охраняемой природной территории получили положительное заключение государственной экологической экспертиз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2005 года озеро Большое Кабанье заказник «Ондатровый» облюбовал большой баклан. Гнездился он на тех же островках, что и пелик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L:\фото пеликанов\P100025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ние проходило в тех же местах, где и кудрявого пеликан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L:\фото пеликанов\Photo-0437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незда расположены  в линию по кромке камыша протяженностью в 1 км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L:\фото пеликанов\Photo-0430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йца с грубоватой известковой коростой, белые, в последствии желтеющие, размером 80-100мм (длина) и 50-70 мм (ширина), масса яйца от 150 до 200 г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E:\фото пеликанов\Photo-0423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6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тенцы вылупляются голыми с розоватым оттенком кожи, клюв и ноги черные, слепыми и беспомощны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E:\фото пеликанов\Photo-0427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несколько дней у них открываются глаза, и они покрываются густым пух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L:\фото пеликанов\Photo-0435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тались птенцы исключительно рыбой, которую приносили им их родит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L:\фото пеликанов\Photo-0438.jpg"/>
          <p:cNvPicPr/>
          <p:nvPr/>
        </p:nvPicPr>
        <p:blipFill>
          <a:blip r:embed="rId1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1:43:26Z</dcterms:created>
  <dc:creator>Таня</dc:creator>
  <dc:description/>
  <dc:language>en-US</dc:language>
  <cp:lastModifiedBy>Admin</cp:lastModifiedBy>
  <dcterms:modified xsi:type="dcterms:W3CDTF">2013-04-17T07:22:56Z</dcterms:modified>
  <cp:revision>62</cp:revision>
  <dc:subject/>
  <dc:title>Слайд 1</dc:title>
</cp:coreProperties>
</file>