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9B7-F00E-4D03-AB32-9662D39A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C87C-BF02-4D1F-BB5C-66C46EF1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309-7FA8-416C-A8BD-8DDE9855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B13-FAC2-469C-BBB1-D42FAB3F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B09-6FBC-4C7B-88AB-C9CB0037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627-4D00-4CAB-BCA2-0FB14564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68DD-D83D-49A8-8903-51D4C3F7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10E1-BD0B-4D39-9648-A808D881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893-19D8-4CC3-A327-4905DF7C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7F2-33AD-4CC1-86B6-C757DAC2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54E5-08EF-481B-BA8E-22481C42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ECB8-DD99-4E33-86D9-CC3D7881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1C8A-9CCA-4029-97E3-7942C463D31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следования популяции пеликана кудрявого на озере Большое Кабань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Выполнил: Скрипец Ил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Руководитель :Шевлякова Татьяна Иванов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Учитель биологии МБОУ СОШ №13 г.Славгоро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и приносят в клюве также воду для птенц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L:\фото пеликанов\Photo-0439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гнездах присутствовали птенцы не моложе 10 дневного возраста, вес их составлял 1-2 к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L:\фото пеликанов\P100025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вых числах августа молодняк начал выходить из гнезд на воду, но держались вблизи своих колон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E:\фото пеликанов\Photo-0426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523880" y="189000"/>
          <a:ext cx="6096240" cy="65134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245160">
                <a:tc rowSpan="3">
                  <a:txBody>
                    <a:bodyPr lIns="25560" rIns="25560" tIns="0" bIns="0" anchor="t">
                      <a:noAutofit/>
                    </a:bodyPr>
                    <a:p>
                      <a:pPr marL="1890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ид уч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90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90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илё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90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marL="7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ата уч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25560" rIns="25560" tIns="0" bIns="0" anchor="t">
                      <a:noAutofit/>
                    </a:bodyPr>
                    <a:p>
                      <a:pPr marL="140796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езульт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ония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904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ония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6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6360" indent="84240">
                        <a:lnSpc>
                          <a:spcPts val="2112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4.2012 День 12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енность 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енность-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8560">
                <a:tc>
                  <a:txBody>
                    <a:bodyPr lIns="25560" rIns="25560" tIns="0" bIns="0" anchor="t">
                      <a:noAutofit/>
                    </a:bodyPr>
                    <a:p>
                      <a:pPr marL="176040">
                        <a:lnSpc>
                          <a:spcPts val="2112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тройка гнез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033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3.05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гнезд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гнезд 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7240">
                <a:tc rowSpan="3">
                  <a:txBody>
                    <a:bodyPr lIns="25560" rIns="25560" tIns="0" bIns="0" anchor="t">
                      <a:noAutofit/>
                    </a:bodyPr>
                    <a:p>
                      <a:pPr marL="84240">
                        <a:lnSpc>
                          <a:spcPts val="201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нездов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>
                        <a:lnSpc>
                          <a:spcPts val="201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явление и развитие птен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5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гнезд-19 Число гнезд с яйцом-7 Число яиц в гнезде 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гнезд -20 Число гнезд с яйцом-2 Число яиц в гнезде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7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094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5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ts val="201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 яиц-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ts val="201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яиц в гнезде 0-1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ts val="201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 яиц-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яиц в гнезде-0-2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9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27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06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яиц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онии-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 - во птенцов до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ней-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яиц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онии-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 - во птенцов до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ней-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523880" y="189000"/>
          <a:ext cx="6096240" cy="58258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99480">
                <a:tc rowSpan="6">
                  <a:txBody>
                    <a:bodyPr lIns="25560" rIns="25560" tIns="0" bIns="0" anchor="t">
                      <a:noAutofit/>
                    </a:bodyPr>
                    <a:p>
                      <a:pPr marL="968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нездов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явление и развитие птен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лодняк и взрослые особ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033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.06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 -во яиц-7 Кол-во птенцов- 19 молодняк после 10 дней-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7640" indent="6120">
                        <a:lnSpc>
                          <a:spcPts val="201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 -во яиц-8 Кол-во птенцов-16            молодняк после 10 дней-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6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07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97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 -во птенцов-21 (вес 1-2 кг)Молодняк-24 (вес 4-5к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3760" indent="23760">
                        <a:lnSpc>
                          <a:spcPts val="201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 -во птенцов-18 (вес 1-2 кг.)Молодняк-18 (вес 4-5к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27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08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201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ее количество молодняка-42 Вес 7-9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02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ее количество молодняка-36 7-9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7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06.09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25560" rIns="25560" tIns="0" bIns="0" anchor="t">
                      <a:noAutofit/>
                    </a:bodyPr>
                    <a:p>
                      <a:pPr marL="1249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тают на кры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7520" indent="84240">
                        <a:lnSpc>
                          <a:spcPts val="201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10.2012 День 13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енность всего-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14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енность всего-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10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09440" indent="23760">
                        <a:lnSpc>
                          <a:spcPts val="201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сутству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сутству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ловиях заказника «Ондатровый»,  озеро Большое Кабанье                          Бурлинского района Алтайского края,  с 2000 года гнездится кудрявый пеликан, который внесен в Красные книги МСОП и России как редкий вид, численность которого резко сокращается в связи с появлением на озере  большого баклана в 2005 году, популяция которого увеличивается, что указывает на наличие прямой связи численности данных видов - пищевых конкурентов.                                                                                                                      2. Согласно проведенным исследованиям, резкого отличия по численности пеликанов в первой и во второй колониях не наблюдается. В виду сложившихся одинаковых условий питания и гнездования различий в численности яиц, птенцов не отмечено. Озеро Большое Кабанье является единственным местом гнездования кудрявого пеликана в Алтайском крае.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ъект  исследования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зеро Большое Кабанье заказник «Ондатровый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E:\фото пеликанов\Photo-0426.jpg"/>
          <p:cNvPicPr/>
          <p:nvPr/>
        </p:nvPicPr>
        <p:blipFill>
          <a:blip r:embed="rId1"/>
          <a:stretch/>
        </p:blipFill>
        <p:spPr>
          <a:xfrm>
            <a:off x="3575160" y="1154160"/>
            <a:ext cx="5111640" cy="4089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едмет исследования: Популяция пеликана кудрявого в условиях заказника «Ондатровый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азник «Ондатровый  организован 07.04.1989 г. решением Алтайского .крайисполкома. Постановлением администрации Алтайского края от 07 ноября 1999 г. действие заказника продлено бессрочно. В 2001 году преобразован в комплексный. В 2006 году материалы комплексного экологического обследования территории заказника «Ондатровый» для придания правового статуса особо охраняемой природной территории получили положительное заключение государственной экологической экспертиз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2005 года озеро Большое Кабанье заказник «Ондатровый» облюбовал большой баклан. Гнездился он на тех же островках, что и пелика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L:\фото пеликанов\P1000255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тание проходило в тех же местах, где и кудрявого пеликан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L:\фото пеликанов\Photo-0437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незда расположены  в линию по кромке камыша протяженностью в 1 км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L:\фото пеликанов\Photo-0430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йца с грубоватой известковой коростой, белые, в последствии желтеющие, размером 80-100мм (длина) и 50-70 мм (ширина), масса яйца от 150 до 200 г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E:\фото пеликанов\Photo-0423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76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тенцы вылупляются голыми с розоватым оттенком кожи, клюв и ноги черные, слепыми и беспомощны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E:\фото пеликанов\Photo-0427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з несколько дней у них открываются глаза, и они покрываются густым пух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L:\фото пеликанов\Photo-0435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тались птенцы исключительно рыбой, которую приносили им их родит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L:\фото пеликанов\Photo-0438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11:43:26Z</dcterms:created>
  <dc:creator>Таня</dc:creator>
  <dc:description/>
  <dc:language>en-US</dc:language>
  <cp:lastModifiedBy>Admin</cp:lastModifiedBy>
  <dcterms:modified xsi:type="dcterms:W3CDTF">2013-04-17T07:22:56Z</dcterms:modified>
  <cp:revision>62</cp:revision>
  <dc:subject/>
  <dc:title>Слайд 1</dc:title>
</cp:coreProperties>
</file>