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9073-8509-4540-BF1D-717AE3D4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8596-A2B0-4219-818D-C2473E67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D326-2C23-4B7C-9473-9A4426234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F859-13F2-47C4-A48D-81A62D63E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504E-ABCB-4B43-B75F-B1686DB9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CEB7-2383-4389-9FB4-F35E4C9C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E8B0-4C31-4D75-9CEE-ED462B8C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E09F-B67C-4B1F-BDC9-BF709F9C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ECF6-8B38-4A06-9007-A645B5B6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D9F4-6E67-46AD-AE63-4EB33F12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CED5-6B82-4EED-ABC4-D8CBF288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2B11-DBBE-4E54-A296-4D7EA3AB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1CD5-93AF-4650-91D6-A9A9D076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1C2E-FF49-4DCC-BF5B-845E0899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DC86-9DAB-48BE-89FA-F53330F9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954C-5788-49A7-BCA7-012AFD912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3CE1-E93E-4463-8F64-F5B94DE3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56141-6949-495D-9E78-75BF33532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66D65-A855-4E77-8D5C-13A726FC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64C69-BDDE-464F-90EF-EF3CC9F4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CC69D-F853-4F5B-BF09-27646909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BFEA8-E348-4D6D-B543-F7CABD1C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8946-6D0A-48C5-B071-2073F7CF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87861-16D2-4612-B0EC-490D8B07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54B8D-0D11-4FA4-963D-FE8C86F3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DA653-5B63-4D4F-B4B2-EEE92A33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7A56A-ED89-4344-8D9F-6C6BEEC9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09C77-E24A-4365-9C00-74B37B98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294FB-013B-4BA4-8C31-C27312FE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E676F-9459-4809-A45F-D8831C46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57619-AD75-4DBE-BF97-9AF32C19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3E76D-E8FD-4104-8397-F8DCA9DF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5BD02-64FF-491A-ACDB-FC7738F5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E512-9384-4870-8CD7-D1A78403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FA74B-E132-43FB-BF85-6D4DBF51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D2A1F-7F06-4571-B4FD-2354302D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88653-63F2-4330-B3D9-770DF9C4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43113-3A92-4547-A8A6-830F85C6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A67E2-C840-41BD-8EF5-7ADC5377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73F8D-3F58-4E9C-B4CA-9CEB2C6A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FFD1A-6B26-4818-B0EE-CC609E75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8869F-2659-41B0-94FB-52979B33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68368-1694-42AA-810C-EB7907A1D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DDA6A-0B08-4BAE-95F1-0776FDFA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7E72-9598-4B97-A542-E9B15493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155A9-C2FB-48BE-939C-0EC0D834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E2C3A-FE68-43F8-BEBB-DE408F0B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BE0E4-F6A4-4A05-B5B8-FA236E44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0C838-CBA1-425A-9363-003CD6C5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499BD-6809-4128-88F2-639662AE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61470-80C8-4D03-AAF0-CAE46364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5869A-0FC0-41D6-81B1-FF1E4D7E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12B70-8F5A-4981-9F30-597EE45A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D6E60-2049-4A6B-9A03-3B915988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CDF36-9B7F-4CCC-A0F5-D66956B2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A10D-3861-48E3-A158-58127D04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F1DD3-4971-48DC-B7F1-6E19B6637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91C59-AE9F-46BF-A6DE-1A6660E0D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136EC-F184-4F4F-8E66-98FEB8E2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CC156-83D4-4620-A3A8-8B9AD36E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711CA-E31F-4472-9D52-BC433726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75523-A5C3-47E5-B7B8-4E8879E6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F844E-8166-4474-83BA-9BBA3C25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9BDF5-E5DB-4B34-8C3E-28C46562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8788C-A19A-4966-8501-49A83C95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79E5D-CBCC-4ACD-B0C8-FE899872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4779-03CC-402E-BB1A-4652CA58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1C6B6-0037-43DE-A25A-75D88A2D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0F7DC-A918-4CC5-8FEB-3C0EE38AB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E1EEF-10B7-4CF7-A908-A5BA72FCB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67CAA0-FE81-436D-9417-FBB959221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434157-5DFA-4909-A855-EDEA4D03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2112E1-505A-49B7-9A2B-DA5BF592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BF3315-802A-4D81-8C8E-3D81EA85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457312-CF65-4C0E-91D1-C0FC0FD0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7614E2-CB50-4B46-9DC3-41E857A3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C070EC-B70F-451E-B252-DA6B98E6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64C6-6D1C-4FC5-9DAA-C47C120C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BBCEA7-491E-4417-AFE5-5280552B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A14921-1B51-445E-B7B4-5A6C2C82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33923B-E4AC-4CFB-B717-F406B04B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5E69F5-4470-4FA2-9657-A0BA8E17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5E4D9C-3E6A-478A-8B1D-C358AF7A6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0CE8E-B5C1-49A9-B2C3-694FD639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49864-92D0-4446-A2F8-1E4A364C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E924A-88AA-454F-B23B-37D95810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E7177-799A-44BA-B0B6-C08E3694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66F3E-BA01-404A-AF9A-ACDBA8C3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F4A0-5A12-4000-8056-4DB804CF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B3877-E3AF-426E-B193-862D4F65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DA7C1-CD17-41B8-B3A4-A86BEAF0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D61F7-7DC4-40ED-A9FA-CA03ADC4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AC48D-103B-4380-AC97-74C04426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8AD30-B45B-49BA-970E-4CB96BB5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1F2B1-A1B0-4DF5-80A2-1F9E1592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E145B-C648-4499-85E2-1675B04C3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E369-D634-408E-B003-B7D13A14557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0A0D-4191-43F6-9130-419241DCC53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2049-0515-4791-BE95-E3C87724DA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4BA4-771A-4EEE-82E1-BF7D702037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70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72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7657-DA4C-4087-B829-7D88EE546D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76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78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FB54-3C8A-4F54-9F51-FCB2B15306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C94A-D443-473C-BB1D-B48929EEBF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8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8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3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3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1574-6046-4BC3-A6E9-EF78EE38CD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684360" y="691920"/>
            <a:ext cx="7704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ИСТОРИЧЕСКИЙ ВЫБОР РОССИИ НА РУБЕЖЕ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XIX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XX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ВВ.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УТИ РАЗВИТИЯ – РЕФОРМЫ ИЛИ РЕВОЛЮЦИЯ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Tahoma"/>
              </a:rPr>
              <a:t>НИКОЛАЙ </a:t>
            </a: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II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2411280" y="1125360"/>
            <a:ext cx="439272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Б.Н.Чичерин «Россия накануне </a:t>
            </a:r>
            <a:r>
              <a:rPr b="0" lang="en-US" sz="3200" spc="-1" strike="noStrike">
                <a:solidFill>
                  <a:srgbClr val="e5e5ff"/>
                </a:solidFill>
                <a:latin typeface="Garamond"/>
              </a:rPr>
              <a:t>xx</a:t>
            </a: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 столетия»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5400" y="1341360"/>
            <a:ext cx="82263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Для всякого мыслящего наблюдателя современной русской жизн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очевидно, что главное зло, нас разъединяющее, заключается в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том безграничном произволе, который царствует всюду, и в той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сети мин, которой сверху донизу опутано русское общество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Корень того и другого лежит в бюрократическом управлении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которое... подавляет все независимые силы и, более и боле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захватывая власть в свои руки, растлевает всю русскую жизнь..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Но ограничить бюрократию невозможно, не коснувшись той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власти, которой она служит орудием и которая ещё чаще служит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ей орудием, - то есть неограниченной власти монарха. Пока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оследняя существует, безграничный произвол на вершине всегд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будет порождать такой же произвол в подчинённых сферах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Законный порядок никогда не может упрочиться там, где всё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зависит от личной воли и где каждое облечённое властью лицо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может поставить себя выше закона, прикрыв себя высочайшим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овелением..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Развитие железнодорожного транспорт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457200" y="1600200"/>
          <a:ext cx="8229600" cy="4970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97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оды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крыто за год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верст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сего к концу года (верст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9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9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769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6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9487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Капиталовложение стран Западной Европы в экономику России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179280" y="1981080"/>
          <a:ext cx="8383680" cy="4114800"/>
        </p:xfrm>
        <a:graphic>
          <a:graphicData uri="http://schemas.openxmlformats.org/drawingml/2006/table">
            <a:tbl>
              <a:tblPr/>
              <a:tblGrid>
                <a:gridCol w="970200"/>
                <a:gridCol w="901440"/>
                <a:gridCol w="1114560"/>
                <a:gridCol w="1076400"/>
                <a:gridCol w="1152360"/>
                <a:gridCol w="1081080"/>
                <a:gridCol w="935280"/>
                <a:gridCol w="11523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ран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нгли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ермани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ельги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р. стр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тог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л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6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6.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9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6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1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7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.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Развитие добывающей промышленности (млн. пуд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457200" y="1981080"/>
          <a:ext cx="8229600" cy="4114800"/>
        </p:xfrm>
        <a:graphic>
          <a:graphicData uri="http://schemas.openxmlformats.org/drawingml/2006/table">
            <a:tbl>
              <a:tblPr/>
              <a:tblGrid>
                <a:gridCol w="1162080"/>
                <a:gridCol w="1581120"/>
                <a:gridCol w="1371600"/>
                <a:gridCol w="1371600"/>
                <a:gridCol w="1371600"/>
                <a:gridCol w="13716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быча угл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быч. неф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пл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угу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пл. ста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из. желез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7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8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7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Уровень производства на душу населения (пуд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455760" y="1598760"/>
          <a:ext cx="8226000" cy="4496760"/>
        </p:xfrm>
        <a:graphic>
          <a:graphicData uri="http://schemas.openxmlformats.org/drawingml/2006/table">
            <a:tbl>
              <a:tblPr/>
              <a:tblGrid>
                <a:gridCol w="1371240"/>
                <a:gridCol w="1370880"/>
                <a:gridCol w="1370880"/>
                <a:gridCol w="1370880"/>
                <a:gridCol w="1370880"/>
                <a:gridCol w="1371240"/>
              </a:tblGrid>
              <a:tr h="14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аименовани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осси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Франци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Германи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Ш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нгли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Чугу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4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Каменный угол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6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С.Ю.ВИТТЕ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410920" y="1196640"/>
            <a:ext cx="47530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2411280" y="1197000"/>
            <a:ext cx="47530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66"/>
                </a:solidFill>
                <a:latin typeface="Arial"/>
              </a:rPr>
              <a:t>Население России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сего 126 млн. чел (равно населению Франции, Германии, Англии, вместе взятых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Из них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Крестьян                                        71 %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Мещан                                            11 %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Купцов                                             0,5 %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Духовенство                                    0,5 %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Дворянство                                      1,5 %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Промышленный пролетариат         4%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66"/>
                </a:solidFill>
                <a:latin typeface="Arial"/>
              </a:rPr>
              <a:t>Уровень городского населения (%)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468360" y="1628640"/>
          <a:ext cx="8226360" cy="2962440"/>
        </p:xfrm>
        <a:graphic>
          <a:graphicData uri="http://schemas.openxmlformats.org/drawingml/2006/table">
            <a:tbl>
              <a:tblPr/>
              <a:tblGrid>
                <a:gridCol w="2057400"/>
                <a:gridCol w="2055600"/>
                <a:gridCol w="2057400"/>
                <a:gridCol w="2055960"/>
              </a:tblGrid>
              <a:tr h="138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осс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нгл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Франц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Ш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6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5" name=""/>
          <p:cNvGraphicFramePr/>
          <p:nvPr/>
        </p:nvGraphicFramePr>
        <p:xfrm>
          <a:off x="430200" y="798480"/>
          <a:ext cx="8534520" cy="501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798480"/>
                    <a:ext cx="8534520" cy="50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4:38:49Z</dcterms:created>
  <dc:creator>Венера</dc:creator>
  <dc:description/>
  <dc:language>en-US</dc:language>
  <cp:lastModifiedBy>Венера</cp:lastModifiedBy>
  <dcterms:modified xsi:type="dcterms:W3CDTF">2010-01-31T08:12:56Z</dcterms:modified>
  <cp:revision>11</cp:revision>
  <dc:subject/>
  <dc:title>Слайд 1</dc:title>
</cp:coreProperties>
</file>