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FAF-C4BF-47C5-A5B2-309CD2C1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92F3-7FFA-4F66-883F-C7835C7B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A64-922D-4FA5-8E06-96979584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B74D-5205-4C34-A147-4A697B15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B810-295B-4FA7-8E88-C7FE81D7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726A-26E8-4E0A-B23A-1D1AF0D7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F5E7-6FE8-430D-B3C7-04D0880C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9E48-BB7C-4630-95ED-90DB03B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258A-900F-46E0-872D-8B966AE1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F52F-E308-470B-B378-981837FA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1D12-1F41-45F3-8D22-65B62E62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CE3-E662-47E1-B702-3E7656BA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458-4FE4-4CB9-B03F-F8911628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8021-75CB-424C-B4EC-D009936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FF6C-4688-4E0D-A968-702D8D9C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ED64-1559-466A-AD45-67EC850F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D9D5-CC51-4040-AAF0-A24987B7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AC34-96D1-47D1-A72A-AFCC90297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F641-F074-4B28-B2DF-C38D2BCE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86FAC-12B7-4BA7-828A-920B96B5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5D18-AD46-43CB-BA7E-0FD03789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B089-7177-4210-91FA-55329377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141-4C49-46B8-A500-2E46B974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E9D1-702E-4D3A-9DD3-445ED79A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C459-83ED-438F-981D-35D0FB8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70D2-AA62-4B47-B9EF-D02128CD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B64D-6474-4045-AFA1-29CFEA7F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5011-0134-4572-904B-EE60AF3C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4869-46C2-4DC4-BCE7-3C644A87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92B6E-E518-4D9D-AD20-759155F7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BBE71-636B-4331-A742-FBBB697B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39B2-D9E8-42B5-861B-29E7127A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89E97-6D4B-486C-8A46-3C6F10B1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0D7-0E9C-4280-9FEA-9948AA05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7698-18FC-439C-AAEC-CC730C2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39CC-3BCE-40FE-AF2E-82069D2F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8342-6BB6-46E8-8D3A-4499339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A5EC-F1F4-40E6-B145-1474ADC4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16C0-D2BA-4995-923F-438B0D97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AB037-F39A-48F2-B650-4B515C7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A6892-FDA4-4B8F-8856-D86C167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182BC-FDF3-4081-906A-012CD9FC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98A4D-D211-44F3-B37F-8D5C7AA1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59C33-C439-4223-BBC8-B0AA930E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FFA-BB98-471D-8D37-902203DD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401D-DF3E-4ABD-A41E-8794D6EC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E07A9-84C6-47D8-A9E9-FCDE00AE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85EA1-74A6-4B2A-BAC3-4AECECB4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5A61D-A406-442E-818C-879CC49C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CB6F0-8AFC-47A9-9E9C-FFD64B49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FFC6-BC3A-4016-A48A-7435554D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B6C54-9C54-45D8-BE4B-66172FC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4A431-D72F-407E-B1C5-B13369CF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F4D37-86C5-44AD-9082-8105229E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2E4A7-3EBE-4E5A-B5F0-0B5194AB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79A-1CD9-41B6-BD2D-FFA8003F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D37F5-B783-42FA-834F-80C24C6C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72D6D-F938-4F71-B997-74358954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C578-5D28-4659-929F-263F0235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9BB8D-55D0-49E9-B554-851BE92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19F38-16A3-49F0-A0D0-BFE91F45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C70B5-702A-4B44-8DDB-888B3CA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185AA-D185-46F6-964C-4A45382E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8428-0C0C-404A-B8D9-CA48518B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88CCB-FAAE-49BC-9B89-1DD7D3AC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5F036-DCE5-4539-BE7A-C00FDB22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4A5-380F-4185-A89A-166C8E8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1082D-FA64-4610-B984-14606932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C4B84-829B-42A9-BC45-22664595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5F6C5-D84F-4AF6-8DBC-B1FDB59A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F8261F-BF14-4265-9C2B-3D27CFD9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71F8D-4425-475D-A345-BF84EFC9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73E544-5192-43A5-A3DA-94D8A832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AE84D-494F-4E91-89D2-B3DE61C8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A762C-7C01-4ED1-BADD-28DF1F65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989801-44EC-4315-BC1D-4A417EAC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42AB9-A305-41AB-A605-542A697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567-F6E7-4148-826E-3616E2A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D4D458-8C8D-4C69-9435-2873ECFE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568DA-439B-4138-8600-9C40C0DC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B7F677-08BA-4630-A441-59600E4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01384-8160-476E-B9C4-F6A06DD8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C0AA8-CC27-4EC3-831D-D814354E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C30AE-E71D-4BA4-B77B-FA911BC2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841CF-2C53-403E-9D75-078D9589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595A1-68E0-4B47-A622-D489EE03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BCDB0-769C-4AD0-A7A4-E1388DCD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DD65C-4DBE-484B-901A-0C4D2EE6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5C2-1301-4F26-86AD-17449480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D7BC7-D1CE-4F3B-A7A5-B13675F5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B1925-4377-485F-9931-D6BF74F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E63D7-35E9-4AAC-88D2-078E026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8B88C-0587-490A-B39B-F00D2CA3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ED1FC-3B75-4ABE-8F88-FAD83D00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D3365-6F32-4433-B996-C254C226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617D4-4756-4298-8116-95E37519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2C5B-0D60-4291-858E-CCF73A470C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4DDF-9283-489D-90AE-C106BA7374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950-86A5-4AD1-9969-3DFAE442E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4B52-A502-43BF-A42B-1BF8AE7E8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CA68-B2D4-4DCD-82A3-FD6624E776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7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7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B14-11FD-4A1B-8889-E255A2C603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36F9-C1DE-450F-B3B8-A66261253E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8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8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3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3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F921-F8F4-419E-AA21-E484EE8A5A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0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ИСТОРИЧЕСКИЙ ВЫБОР РОССИИ НА РУБЕЖЕ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XIX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ВВ.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УТИ РАЗВИТИЯ – РЕФОРМЫ ИЛИ РЕВОЛЮЦИЯ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НИКОЛАЙ </a:t>
            </a: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II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3927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Б.Н.Чичерин «Россия накануне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xx</a:t>
            </a: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 столетия»: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5400" y="1341360"/>
            <a:ext cx="8226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ля всякого мыслящего наблюдателя современной русской жиз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чевидно, что главное зло, нас разъединяющее, заключается 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ом безграничном произволе, который царствует всюду, и в то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ети мин, которой сверху донизу опутано русское обществ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орень того и другого лежит в бюрократическом управлении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которое... подавляет все независимые силы и, более и боле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ахватывая власть в свои руки, растлевает всю русскую жизнь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о ограничить бюрократию невозможно, не коснувшись той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ласти, которой она служит орудием и которая ещё чаще служи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ей орудием, - то есть неограниченной власти монарха. Пок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следняя существует, безграничный произвол на вершине всегд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удет порождать такой же произвол в подчинённых сфер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аконный порядок никогда не может упрочиться там, где всё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зависит от личной воли и где каждое облечённое властью лиц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может поставить себя выше закона, прикрыв себя высочайши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велением..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азвитие железнодорожного транспор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457200" y="1600200"/>
          <a:ext cx="8229600" cy="4970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ы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крыто за год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верст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го к концу года (верст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9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9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76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6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48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питаловложение стран Западной Европы в экономику Росс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179280" y="1981080"/>
          <a:ext cx="8383680" cy="4114800"/>
        </p:xfrm>
        <a:graphic>
          <a:graphicData uri="http://schemas.openxmlformats.org/drawingml/2006/table">
            <a:tbl>
              <a:tblPr/>
              <a:tblGrid>
                <a:gridCol w="970200"/>
                <a:gridCol w="901440"/>
                <a:gridCol w="1114560"/>
                <a:gridCol w="1076400"/>
                <a:gridCol w="1152360"/>
                <a:gridCol w="1081080"/>
                <a:gridCol w="935280"/>
                <a:gridCol w="115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гл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рма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льг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. стра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л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6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6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9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6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азвитие добывающей промышленности (млн. пуд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1162080"/>
                <a:gridCol w="1581120"/>
                <a:gridCol w="1371600"/>
                <a:gridCol w="1371600"/>
                <a:gridCol w="1371600"/>
                <a:gridCol w="1371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быча уг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быч. неф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угу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ыпл. ста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из. желе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Уровень производства на душу населения (пуд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5760" y="1598760"/>
          <a:ext cx="8226000" cy="4496760"/>
        </p:xfrm>
        <a:graphic>
          <a:graphicData uri="http://schemas.openxmlformats.org/drawingml/2006/table">
            <a:tbl>
              <a:tblPr/>
              <a:tblGrid>
                <a:gridCol w="1371240"/>
                <a:gridCol w="1370880"/>
                <a:gridCol w="1370880"/>
                <a:gridCol w="1370880"/>
                <a:gridCol w="1370880"/>
                <a:gridCol w="1371240"/>
              </a:tblGrid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осс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ранц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ерман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Ш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нгл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Чугу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аменный уго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.Ю.ВИТТ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410920" y="1196640"/>
            <a:ext cx="475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411280" y="1197000"/>
            <a:ext cx="4753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66"/>
                </a:solidFill>
                <a:latin typeface="Arial"/>
              </a:rPr>
              <a:t>Население России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сего 126 млн. чел (равно населению Франции, Германии, Англии, вместе взят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Из них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рестьян                                        71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ещан                                            11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Купцов                                             0,5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Духовенство                                    0,5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Дворянство                                      1,5 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ромышленный пролетариат         4%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66"/>
                </a:solidFill>
                <a:latin typeface="Arial"/>
              </a:rPr>
              <a:t>Уровень городского населения (%)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68360" y="1628640"/>
          <a:ext cx="8226360" cy="2962440"/>
        </p:xfrm>
        <a:graphic>
          <a:graphicData uri="http://schemas.openxmlformats.org/drawingml/2006/table">
            <a:tbl>
              <a:tblPr/>
              <a:tblGrid>
                <a:gridCol w="2057400"/>
                <a:gridCol w="2055600"/>
                <a:gridCol w="2057400"/>
                <a:gridCol w="2055960"/>
              </a:tblGrid>
              <a:tr h="13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нгл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ранц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430200" y="798480"/>
          <a:ext cx="8534520" cy="50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798480"/>
                    <a:ext cx="853452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4:38:49Z</dcterms:created>
  <dc:creator>Венера</dc:creator>
  <dc:description/>
  <dc:language>en-US</dc:language>
  <cp:lastModifiedBy>Венера</cp:lastModifiedBy>
  <dcterms:modified xsi:type="dcterms:W3CDTF">2010-01-31T08:12:56Z</dcterms:modified>
  <cp:revision>11</cp:revision>
  <dc:subject/>
  <dc:title>Слайд 1</dc:title>
</cp:coreProperties>
</file>