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9B0-C798-4F34-8FBE-F08FA508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AB9-D5F1-4D2E-AC3C-76A63893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FD1-77F1-407D-A339-298367A3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5E26-B134-4611-82BC-AA2186BC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03A-8314-4D09-8401-AE29B3A0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C5D-E0DB-4701-9D5B-434D77B0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CED-6DA6-42F6-AFFA-FBB0C331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D6E-0775-4E18-9ED6-EE415701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A7C-937E-403A-A5B6-F558F43A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022-AF52-451B-BD8F-92BB621E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262-BAA4-4E0A-9298-99E0BFD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679-82CC-41CB-B8D4-93ED94E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1E7C-CFBA-46DC-A088-C114FF716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unin.niv.ru/images/family/gerb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4965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Иван Алексеевич Бунин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(1870 - 195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885840"/>
            <a:ext cx="80643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ff"/>
                </a:solidFill>
                <a:latin typeface="Arial"/>
              </a:rPr>
              <a:t>«Я происхожу из старого дворянского рода, давшего России немало видных деятелей… где особенно известны два поэта начала прошлого века: Анна Бунина и Василий Жуковский, один из корифеев русской литературы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Герб Бунины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404640"/>
            <a:ext cx="3201840" cy="29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2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Отец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Алексей Николаевич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Бун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371628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Алексей Николаевич, помещик Орловской и Тульской губернии, был вспыльчивый, азартный, более всего любящий охоту и пение под гитару старинных романсов. В конце концов он, из-за пристрастия к вину и картам, растратил не только собственное наследство, но и состояние жены. Но несмотря на эти пороки, его все очень любили за веселый нрав, щедрость, художественную одаренность. В его доме никогда никого не наказывал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лексей Николаевич Бунин"/>
          <p:cNvPicPr/>
          <p:nvPr/>
        </p:nvPicPr>
        <p:blipFill>
          <a:blip r:embed="rId1"/>
          <a:stretch/>
        </p:blipFill>
        <p:spPr>
          <a:xfrm>
            <a:off x="6161040" y="476280"/>
            <a:ext cx="2476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ать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Людмила Александровна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Бунина, </a:t>
            </a: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урожденная Чуба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65188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ать Ивана Бунина была полной противоположностью мужу: кроткой, нежной и чувствительной натурой, воспитанной на лирике Пушкина и Жуковского, и занималась, в первую очередь, воспитанием детей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ера Николаевна Муромцева, жена Бунина, вспоминает: «Мать его, Людмила Александровна, всегда говорила мне, что «Ваня с самого рождения отличался от остальных детей», что она всегда знала, что он будет «особенный», «ни у кого нет такой тонкой души, как у него».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Людмила Александровна Бунина"/>
          <p:cNvPicPr/>
          <p:nvPr/>
        </p:nvPicPr>
        <p:blipFill>
          <a:blip r:embed="rId1"/>
          <a:stretch/>
        </p:blipFill>
        <p:spPr>
          <a:xfrm>
            <a:off x="324000" y="476280"/>
            <a:ext cx="2487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7280" y="1341000"/>
            <a:ext cx="397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Брат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Юли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393336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Старший брат Бунина - Юлий Алексеевич - оказал большое влияние на формирование писателя. Он был для брата как бы домашним учителем.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Иван Алексеевич писал о брате: "Он прошел со мной весь гимназический курс, занимался со мной языками, читал мне начатки психологии, философии, общественных и естественных наук; кроме того, мы без конца вели с ним разговоры о литературе"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Брат Бунина Юлий"/>
          <p:cNvPicPr/>
          <p:nvPr/>
        </p:nvPicPr>
        <p:blipFill>
          <a:blip r:embed="rId1"/>
          <a:stretch/>
        </p:blipFill>
        <p:spPr>
          <a:xfrm>
            <a:off x="539640" y="476280"/>
            <a:ext cx="26733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00360" y="5714640"/>
            <a:ext cx="15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И.А. Бунин. 189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692280"/>
            <a:ext cx="447516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3300"/>
                </a:solidFill>
                <a:uFillTx/>
                <a:latin typeface="Arial"/>
              </a:rPr>
              <a:t>В мае 1887 года журнал "Родина" напечатал стихотворение "Нищий" шестнадцатилетнего Вани Бунина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. С этого времени началась его более или менее постоянная литературная деятельность, в которой нашлось место и для стихов, и для проз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3300"/>
                </a:solidFill>
                <a:uFillTx/>
                <a:latin typeface="Arial"/>
              </a:rPr>
              <a:t>В 1901 году вышел поэтический сборник "Листопад",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 который был восторженно принят и читателями, и крит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211720" y="404640"/>
            <a:ext cx="354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699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В 1917 году произошла революция, которая коренным образом изменила жизнь в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95280" y="1483920"/>
            <a:ext cx="47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В 1920 году Бунин, не приняв революцию, эмигрировал из России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, "испив несказанную чашу душевных страданий", как позже он писал в своей биогра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28 марта Бунин вместе с женой прибыл в Париж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3200400" cy="470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24360" y="4437000"/>
            <a:ext cx="52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У птицы есть гнездо, у зверя есть н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Как горько было сердцу молодо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Когда я уходил с отцовског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казать «прости» родному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3959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"/>
              </a:rPr>
              <a:t>10 ноября 1933 года газеты в Париже вышли с огромными заголовками "Бунин - Нобелевский лауреат".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 Впервые за время существования этой премии награда по литературе была вручена русскому писателю. Всероссийская известность Бунина переросла во всемирную сла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аждый русский в Париже, даже тот, который не прочитал ни одной строчки Бунина, воспринял это как личный праздник. Русские люди испытали сладчайшее из чувств - благородное чувство</a:t>
            </a: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национальной гордост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278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0" y="404280"/>
            <a:ext cx="41860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В два часа ночи с 7 на 8 ноября 1953 года Иван Алексеевич Бунин скончался.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Отпевание было торжественным - в русской церкви на улице Дарю в Париже при большом стечении народа. Все газеты - и русские, и французские - поместили обширные некрол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 сами похороны состоялись намного позже,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30 января 1954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 года (до этого прах находился во временном склепе). </a:t>
            </a:r>
            <a:r>
              <a:rPr b="1" lang="ru-RU" sz="2000" spc="-1" strike="noStrike" u="sng">
                <a:solidFill>
                  <a:srgbClr val="993300"/>
                </a:solidFill>
                <a:uFillTx/>
                <a:latin typeface="Arial"/>
              </a:rPr>
              <a:t>Похоронили Ивана Алексеевича на русском кладбище Сен-Женевьев де Буа под Парижем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005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20:55:08Z</dcterms:created>
  <dc:creator>User</dc:creator>
  <dc:description/>
  <dc:language>en-US</dc:language>
  <cp:lastModifiedBy>Admin</cp:lastModifiedBy>
  <dcterms:modified xsi:type="dcterms:W3CDTF">2013-04-20T16:08:31Z</dcterms:modified>
  <cp:revision>5</cp:revision>
  <dc:subject/>
  <dc:title>Иван Алексеевич Бунин (1870 - 1953)</dc:title>
</cp:coreProperties>
</file>