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9F0-3AEF-407B-A414-7E4B309D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DAE-5D6F-4F88-A06D-D159FF7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683-B636-4618-A515-669A169C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6A5-A67C-4CE2-88C0-BAA11244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AC6-5DA5-41FB-8F49-EDC36F8C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FED-1047-4213-A3E9-EDB4200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DD2-FFE5-4A46-85D7-6DB5048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D00-6572-499C-9E78-AE3214D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764-6888-494C-AE6E-5F6B18B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99C-E3D7-4D91-9E53-40A421F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943-BFA6-41B2-A1FD-D864256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943-8ED4-4247-A5D8-2016DC1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3B0-086B-4E94-8D3E-7FAC2BD01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unin.niv.ru/images/family/gerb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4965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Иван Алексеевич Бунин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1870 - 195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885840"/>
            <a:ext cx="8064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«Я происхожу из старого дворянского рода, давшего России немало видных деятелей… где особенно известны два поэта начала прошлого века: Анна Бунина и Василий Жуковский, один из корифеев русской литератур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Герб Бунины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04640"/>
            <a:ext cx="3201840" cy="29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Отец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Алексей Николаевич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Бу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371628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Алексей Николаевич, помещик Орловской и Тульской губернии,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Но несмотря на эти пороки, его все очень любили за веселый нрав, щедрость, художественную одаренность. В его доме никогда никого не наказывал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лексей Николаевич Бунин"/>
          <p:cNvPicPr/>
          <p:nvPr/>
        </p:nvPicPr>
        <p:blipFill>
          <a:blip r:embed="rId1"/>
          <a:stretch/>
        </p:blipFill>
        <p:spPr>
          <a:xfrm>
            <a:off x="6161040" y="476280"/>
            <a:ext cx="2476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ать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Людмила Александровна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Бунина, 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рожденная Чуб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6518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, и занималась, в первую очередь, воспитанием детей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ера Николаевна Муромцева, жена Бунина, вспоминает: «Мать его, Людмила Александровна, всегда говорила мне, что «Ваня с самого рождения отличался от остальных детей», что она всегда знала, что он будет «особенный», «ни у кого нет такой тонкой души, как у него»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Людмила Александровна Бунина"/>
          <p:cNvPicPr/>
          <p:nvPr/>
        </p:nvPicPr>
        <p:blipFill>
          <a:blip r:embed="rId1"/>
          <a:stretch/>
        </p:blipFill>
        <p:spPr>
          <a:xfrm>
            <a:off x="324000" y="476280"/>
            <a:ext cx="2487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7280" y="134100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Бра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Юл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Старший брат Бунина - Юлий Алексеевич - оказал большое влияние на формирование писателя. Он был для брата как бы домашним учителем.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Иван Алексеевич писал о брате: "Он прошел со мной весь гимназический курс, занимался со мной языками, читал мне начатки психологии, философии, общественных и естественных наук; кроме того, мы без конца вели с ним разговоры о литературе"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Брат Бунина Юлий"/>
          <p:cNvPicPr/>
          <p:nvPr/>
        </p:nvPicPr>
        <p:blipFill>
          <a:blip r:embed="rId1"/>
          <a:stretch/>
        </p:blipFill>
        <p:spPr>
          <a:xfrm>
            <a:off x="539640" y="476280"/>
            <a:ext cx="26733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360" y="5714640"/>
            <a:ext cx="15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И.А. Бунин. 189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3300"/>
                </a:solidFill>
                <a:uFillTx/>
                <a:latin typeface="Arial"/>
              </a:rPr>
              <a:t>В мае 1887 года журнал "Родина" напечатал стихотворение "Нищий" шестнадцатилетнего Вани Бунина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. С этого времени началась его более или менее постоянная литературная деятельность, в которой нашлось место и для стихов, и для проз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3300"/>
                </a:solidFill>
                <a:uFillTx/>
                <a:latin typeface="Arial"/>
              </a:rPr>
              <a:t>В 1901 году вышел поэтический сборник "Листопад",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 который был восторженно принят и читателями, и крит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11720" y="404640"/>
            <a:ext cx="354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9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1917 году произошла революция, которая коренным образом изменила жизнь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47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В 1920 году Бунин, не приняв революцию, эмигрировал из России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"испив несказанную чашу душевных страданий", как позже он писал в своей биогра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28 марта Бунин вместе с женой прибыл в Париж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200400" cy="470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24360" y="4437000"/>
            <a:ext cx="52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У птицы есть гнездо, у зверя есть н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Как горько было сердцу молод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Когда я уходил с отцовског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казать «прости» родному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3959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10 ноября 1933 года газеты в Париже вышли с огромными заголовками "Бунин - Нобелевский лауреат".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Впервые за время существования этой премии награда по литературе была вручена русскому писателю. Всероссийская известность Бунина переросла во всемирную сла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ждый русский в Париже, даже тот, который не прочитал ни одной строчки Бунина, воспринял это как личный праздник. Русские люди испытали сладчайшее из чувств - благородное чувство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ациональной горд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278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186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В два часа ночи с 7 на 8 ноября 1953 года Иван Алексеевич Бунин скончался.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Отпевание было торжественным - в русской церкви на улице Дарю в Париже при большом стечении народа. Все газеты - и русские, и французские - поместили обширные некрол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 сами похороны состоялись намного позже,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30 января 1954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года (до этого прах находился во временном склепе).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Похоронили Ивана Алексеевича на русском кладбище Сен-Женевьев де Буа под Парижем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00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20:55:08Z</dcterms:created>
  <dc:creator>User</dc:creator>
  <dc:description/>
  <dc:language>en-US</dc:language>
  <cp:lastModifiedBy>Admin</cp:lastModifiedBy>
  <dcterms:modified xsi:type="dcterms:W3CDTF">2013-04-20T16:08:31Z</dcterms:modified>
  <cp:revision>5</cp:revision>
  <dc:subject/>
  <dc:title>Иван Алексеевич Бунин (1870 - 1953)</dc:title>
</cp:coreProperties>
</file>