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50B-CAD2-4A38-99C5-F8919446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089-6882-4781-943E-7A78676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142-AB96-4C30-84F3-CAB7D3E7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EE8-6F0F-405D-83AA-42CE0C40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5BA-B315-46D0-9380-92B1583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137-B0D2-4D61-8A71-354D7D3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711-FEAD-4500-878D-AF6FAA39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EFB-70BE-4239-BAA4-FA6CCB85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30B-4075-41B7-8409-230BF67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765-D166-408B-9CE2-EBCA6C0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E94-4127-45EA-AB50-EDA6923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41E-0102-46AC-90AC-B141886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3F7-8F38-406D-A509-9449B11F2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1403280" y="486900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 Галецкая С, А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БОУ № 45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1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4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1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800834</cp:lastModifiedBy>
  <dcterms:modified xsi:type="dcterms:W3CDTF">2013-04-22T08:34:29Z</dcterms:modified>
  <cp:revision>90</cp:revision>
  <dc:subject/>
  <dc:title>Слайд 1</dc:title>
</cp:coreProperties>
</file>