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984-08B0-4548-9379-3460261B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2BE-C395-47C5-B22D-8C2361A4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E41-896B-4E27-A902-0DB35F14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9C3-6A01-426F-B753-784EB7AC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8A8-8150-4703-B48B-512B181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502-F4E5-46A1-891E-F638D264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6DD-0A1E-49CB-9E17-57455C9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801-CBF6-4D04-9116-F22CB943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2AB-0169-4D6D-B389-12A32369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F83-EE63-4364-989B-DBEB18B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27D-3DD7-4C38-A7BB-7C3B6764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F4D-14E5-450D-917C-C6E664F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9A29-4B73-4E0C-81FC-BBAD6F8E9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1403280" y="486900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 Галецкая С, А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ГБОУ № 45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1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4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8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1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8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800834</cp:lastModifiedBy>
  <dcterms:modified xsi:type="dcterms:W3CDTF">2013-04-22T08:34:29Z</dcterms:modified>
  <cp:revision>90</cp:revision>
  <dc:subject/>
  <dc:title>Слайд 1</dc:title>
</cp:coreProperties>
</file>