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9EF-07BD-44C4-80D7-D1CC4477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970-FD41-4621-BAC8-9A02D3CB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284-A260-4E18-A281-C54B746F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970-8A57-4354-AA38-F29D038B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01B-9B7F-47F6-94FA-97A0D2CE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78B-13C7-4050-BB96-C00FA8AA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EE2-4595-44E5-B347-065A4A15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FC9-C27A-4B84-B5DB-0564E446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DC8-F926-4875-B4AC-E828F128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AC4-1CA3-4D9C-B2E9-2090672D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9F9-ED69-4875-99D0-3F28D396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A14-8290-4A6D-B32B-2DE2FB0E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4712-F6E9-4F64-96E9-B5137851F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Если основа оканчиваетс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дно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пускается, так как в русском языке три одинаковые согласные подряд не пишутся,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Оде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а - оде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Если основа иноязычного слова оканчиваетс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первое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пускается,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Дам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дам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Сан-Франци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о - сан-франци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этру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этру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(но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б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б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о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 – о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Русские географические названи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бразуют прилагательные без помощи суффикс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Мин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мин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Спас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– спас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Если основа имени существительного оканчивается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ь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рь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букв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ь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не пишет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к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- ко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зв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р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звер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Ряз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ряза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Сиб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р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- сибир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Тюм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тюме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ключе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1) прилагательные, образованные от названий месяцев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ю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сент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окт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но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дека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(но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янв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р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, а также выражение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день-де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2)прилагательные, образованные от некоторых иноязычных географических наименований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куэнь-луньский, сычу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айв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янь-ш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ух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;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в написании прилагательного, образованного от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дыня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блюдаются колебания –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ды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 - гды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 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В прилагательных, образованных от основ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к, ц, ч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ишется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сквор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сквор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ску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ску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д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д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В прилагательных от основ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ишется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сума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х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сума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Примечание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Правило о написании сочетаний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в указанных условиях распространяется и на существительные,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бу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я, сквор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сквор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я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Так же пишутся женские отчества от мужских отчеств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ич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льи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, Никит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Однако в некоторых словах пишется сочетани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ород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двуру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раё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хотя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ородки, рука, раё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90408a"/>
                </a:solidFill>
                <a:latin typeface="Calibri"/>
              </a:rPr>
              <a:t>Примечание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Следует различать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к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(от лоток) и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к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(от лот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0408a"/>
                </a:solidFill>
                <a:latin typeface="Calibri"/>
              </a:rPr>
              <a:t>Примечание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Одинаково допустимы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будн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 и будн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90408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Суффикс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имеет на себе ударение, 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крас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́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правд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́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(</a:t>
            </a:r>
            <a:r>
              <a:rPr b="1" lang="ru-RU" sz="3300" spc="-1" strike="noStrike">
                <a:solidFill>
                  <a:srgbClr val="90408a"/>
                </a:solidFill>
                <a:latin typeface="Calibri"/>
              </a:rPr>
              <a:t>исключения: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ми́лост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 и юро́д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)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в безударном положении пишется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е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 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бо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́й, сире́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В суффиксах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л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ч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производных от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 пишется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,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забот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л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занос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ч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Безударные суффиксы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ов-, -оват-, -овит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пишутся после твердых согласных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ев-, -еват-, -евит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- после мягких согласных, шипящих и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ц.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Например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а)     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дел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й, крас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а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дар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и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б)     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веч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й, си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а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глянц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и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Баренц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 мор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 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В прилагательных на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чий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образованных от существительны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шк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перед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в безударном положении пишется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под ударением –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лягу́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ий – лягу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́чий,           ко́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ий - ко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́ч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ние согласных перед суффиксом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ат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прилагательных тип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ща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ый - веснушчат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280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Calibri"/>
              </a:rPr>
              <a:t> 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Буква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пишется, когда обозначаемый ею звук целиком относится к одной значащей части слова (морфеме)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доск-а - д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а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ый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(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чередуется с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;ср.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в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- в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н-ой, пл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– пл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    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Если в производящей основе перед суффиксом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-к-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стоят буквы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д, с, cт, ш,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то они сохраняются, а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чередуется с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: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весн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ш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весн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ш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, бр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бр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, бороз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бороз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(ср.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ре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- ре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, хлес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хлес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6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Перед суффиксом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чат-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который пишется всегда через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конечное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основы заменяется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кру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кру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,     ресн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ресн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ере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чере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Конечные согласные основы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охраняются,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Волгог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волгог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ф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ф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После конечных согласных основы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, ч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уффикс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упрощается в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к-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ричем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основы меняются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.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бат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бат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к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тк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нем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нем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екоторые прилагательные сохраняют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огласны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узб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узб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адж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тадж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Угл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угл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В прилагательных, образованных от географических названий с основой, оканчивающейся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ишетс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а) 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ц-с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согласная (кром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Конст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 - конст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, Пфа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ъ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пфа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б) 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ц-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гласная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Е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е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к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исключения: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а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г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а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, М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м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ск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в)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иц-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тож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 – 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ц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С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пишутся относительные прилагательные (они не образуют краткой формы)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черкес - черке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Кавказ - кавка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с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– качественные прилагательные (они образуют краткую форму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вя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вязок), ни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низок), жид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жидок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В образованных от географических названий прилагательных, оканчивающихся на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с предшествующей согласной, наблюдаются колебания в написании перед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,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Уэл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ь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уэль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м и уэль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Ара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арак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и арак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 Рей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м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рейм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и рейм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но Даугавпилс - даугавпил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Гельсингфорс – гельсингфор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Если же перед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пишется гласная, то второе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сохраняется, например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Вильн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ю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– вильн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ю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3-02-17T10:21:55Z</dcterms:modified>
  <cp:revision>5</cp:revision>
  <dc:subject/>
  <dc:title>Шаблон презентации</dc:title>
</cp:coreProperties>
</file>