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368-6E17-43F1-A505-3A31B533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688-D3E2-4B80-962F-4CF04E4A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CD0-EA7E-4E65-ADEB-6295584C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29D-F093-4759-B6ED-3EE2FD6C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213-12D7-41A6-9776-0E0E859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0AA-D168-4523-B3CC-75C00A1D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FB8-ADD0-406E-8D8F-D9526B5A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313-EBE8-4750-A026-1BC61F4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673-9C20-4000-B560-7CD7CCF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50D-50B8-4544-A08C-024745F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4FD-0978-4441-A8E9-E954589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78B-D7F6-41CF-BC61-72399CF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1AF8-F858-4E12-8969-751D40B11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дно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так как в русском языке три одинаковые согласные подряд не пишу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а - 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иноязычного сл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первое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 -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(но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 –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Русские географические названи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бразуют прилагательные без помощи суффикс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–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Если основа имени существительного оканчивается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рь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букв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е пише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к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ко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зв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зве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Ряз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ряза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Сиб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сиби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Тюм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тюме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ключ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1) прилагательные, образованные от названий месяцев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ю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сен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ок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о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дека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(но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нв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р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 а также выражение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день-де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2)прилагательные, образованные от некоторых иноязычных географических наименований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уэнь-луньский, сычу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йв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янь-ш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х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;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написании прилагательного, образованного от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ня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блюдаются колебания –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 - гды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 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, ц, 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Примечание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равило о написании сочетаний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указанных условиях распространяется и на существительные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у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я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Так же пишутся женские отчества от мужских отчеств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льи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, Никит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днако в некоторых словах пишется сочетани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двуру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раё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хотя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ки, рука, раё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Следует различать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к) и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Одинаково допустимы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 и 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90408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Суффикс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меет на себе ударение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кра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прав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lang="ru-RU" sz="33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ми́лос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 и юро́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)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бо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́й, сире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суффиксах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л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ч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производных от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,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забо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л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зано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ч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езударные суффиксы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ов-, -оват-, -о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пишутся после твердых согласных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, -еват-, -е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- после мягких согласных, шипящих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ц.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а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дел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кра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дар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веч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си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гля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Баре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 мор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прилагательных 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ий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бразованных от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шк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перед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од ударением –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лягу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– лягу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,           ко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- ко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согласных перед суффикс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ат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илагательных тип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ща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ый - веснушча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Букв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пишется, когда обозначаемый ею звук целиком относится к одной значащей части слова (морфеме)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доск-а - д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а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;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- 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н-ой,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–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Если в производящей основе перед суффиксом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стоят буквы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д, с, cт, ш,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то они сохраняются, 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: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- 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,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6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еред суффиксом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ат-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торый пишется всегда через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нечное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сновы заменя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   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Конечные согласные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храняются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осле конечных согласных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, 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уффикс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упрощается в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к-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риче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сновы меняют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.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екоторые прилагательные сохраняют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гласны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географических названий с основой, оканчивающей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ише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а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с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согласная (кром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- 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ъ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б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гласна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ск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)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тож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– 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утся относительные прилагательные (они не образуют краткой формы)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черкес - черке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Кавказ - кавка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– качественные прилагательные (они образуют краткую форму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я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вязок), ни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низок), жид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жидок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В образованных от географических названий прилагательных, оканчивающихся на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 предшествующей согласной, наблюдаются колебания в написании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Уэл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ь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м и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Ара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 Рей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м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но Даугавпилс - даугавпил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Гельсингфорс – гельсингфор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Если же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ется гласная, то второе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охраняется,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– 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02-17T10:21:55Z</dcterms:modified>
  <cp:revision>5</cp:revision>
  <dc:subject/>
  <dc:title>Шаблон презентации</dc:title>
</cp:coreProperties>
</file>