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85A-A81B-45F4-AC49-B4E49850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699-DFBF-4F1B-BAFA-BA322859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32E-2E85-44B1-9220-D0E04D65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E5A-886F-4D0B-8A0F-3CF13744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761-B37D-495E-9663-9DAE17E7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DA6-BE6C-417C-8E02-C3F24D04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1EA-4D98-4A59-B838-069423C8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FDC-2677-4EBA-BA35-3971C915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DCD-7F27-41C9-AD5A-19734869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115-8EA5-4D08-B76F-013BC5E1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30B-73AE-4143-88E0-622F83CC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8A7-D946-486D-8F16-87027E79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1A27-3FA6-48E8-8FAF-7CA2BE93BE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Если основа оканчивается на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,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то перед суффиксом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одно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опускается, так как в русском языке три одинаковые согласные подряд не пишутся, например: 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Оде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а - оде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Если основа иноязычного слова оканчивается на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,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то перед суффиксом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первое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опускается, например: 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Дама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- дама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Сан-Франци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о - сан-франци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этру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- этру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(но: 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ба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- ба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о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 – о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Русские географические названия на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образуют прилагательные без помощи суффикса 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-ск-,</a:t>
            </a:r>
            <a:r>
              <a:rPr b="0" lang="ru-RU" sz="28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Мин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- мин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, Спас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 – спас</a:t>
            </a:r>
            <a:r>
              <a:rPr b="1" i="1" lang="ru-RU" sz="28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800" spc="-1" strike="noStrike">
                <a:solidFill>
                  <a:srgbClr val="90408a"/>
                </a:solidFill>
                <a:latin typeface="Calibri"/>
              </a:rPr>
              <a:t>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94920" y="1268280"/>
            <a:ext cx="8280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Если основа имени существительного оканчивается на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нь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рь,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то перед суффиксом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буква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ь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не пишет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к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н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- кон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, зве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р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– звер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, Ряза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н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– рязан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, Сиби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р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- сибир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, Тюме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нь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– тюмен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сключения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1) прилагательные, образованные от названий месяцев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ю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сентяб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октяб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нояб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декаб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(но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янв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р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), а также выражение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день-де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о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2)прилагательные, образованные от некоторых иноязычных географических наименований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куэнь-луньский, сычуа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тайва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тянь-ша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уха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;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в написании прилагательного, образованного от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дыня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блюдаются колебания –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ды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н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 - гдын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   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В прилагательных, образованных от основ на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к, ц, ч,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перед суффиксом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н-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пишется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,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скворе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 – скворе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, ску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а – ску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, да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а – да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В прилагательных от основ на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х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перед суффиксом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-н-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пишется 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сума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х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а – сума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3000" spc="-1" strike="noStrike">
                <a:solidFill>
                  <a:srgbClr val="90408a"/>
                </a:solidFill>
                <a:latin typeface="Calibri"/>
              </a:rPr>
              <a:t> </a:t>
            </a:r>
            <a:r>
              <a:rPr b="1" lang="ru-RU" sz="3000" spc="-1" strike="noStrike">
                <a:solidFill>
                  <a:srgbClr val="90408a"/>
                </a:solidFill>
                <a:latin typeface="Calibri"/>
              </a:rPr>
              <a:t>Примечание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Правило о написании сочетаний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в указанных условиях распространяется и на существительные,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було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я, сквор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к, сквор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я.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Так же пишутся женские отчества от мужских отчеств на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ич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льин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, Никит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.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Однако в некоторых словах пишется сочетание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шн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ородо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к, двуру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к, раё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к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хотя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ородки, рука, раё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30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lang="ru-RU" sz="3200" spc="-1" strike="noStrike">
                <a:solidFill>
                  <a:srgbClr val="90408a"/>
                </a:solidFill>
                <a:latin typeface="Calibri"/>
              </a:rPr>
              <a:t>Примечание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Следует различать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ло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, ло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к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(от лоток) и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ло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, лото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к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(от лото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0408a"/>
                </a:solidFill>
                <a:latin typeface="Calibri"/>
              </a:rPr>
              <a:t>Примечание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90408a"/>
                </a:solidFill>
                <a:latin typeface="Calibri"/>
              </a:rPr>
              <a:t>Одинаково допустимы 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будни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ч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ый и будни</a:t>
            </a:r>
            <a:r>
              <a:rPr b="1" i="1" lang="ru-RU" sz="3200" spc="-1" strike="noStrike">
                <a:solidFill>
                  <a:srgbClr val="90408a"/>
                </a:solidFill>
                <a:latin typeface="Calibri"/>
              </a:rPr>
              <a:t>шн</a:t>
            </a:r>
            <a:r>
              <a:rPr b="0" i="1" lang="ru-RU" sz="32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90408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Суффикс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и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имеет на себе ударение, например: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крас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́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правд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́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(</a:t>
            </a:r>
            <a:r>
              <a:rPr b="1" lang="ru-RU" sz="3300" spc="-1" strike="noStrike">
                <a:solidFill>
                  <a:srgbClr val="90408a"/>
                </a:solidFill>
                <a:latin typeface="Calibri"/>
              </a:rPr>
              <a:t>исключения: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ми́лост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 и юро́д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)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в безударном положении пишется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е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, например: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бо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о́й, сире́н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В суффиксах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ли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чи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,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производных от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ив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, пишется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и,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забот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ли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занос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чи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Безударные суффиксы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ов-, -оват-, -овит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пишутся после твердых согласных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-ев-, -еват-, -евит-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- после мягких согласных, шипящих и 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ц.</a:t>
            </a: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Например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а)     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дел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о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ой, красн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оват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дар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овит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;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90408a"/>
                </a:solidFill>
                <a:latin typeface="Calibri"/>
              </a:rPr>
              <a:t>б)      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веч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ой, син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ат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глянц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ит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ый, Баренц</a:t>
            </a:r>
            <a:r>
              <a:rPr b="1" i="1" lang="ru-RU" sz="3300" spc="-1" strike="noStrike">
                <a:solidFill>
                  <a:srgbClr val="90408a"/>
                </a:solidFill>
                <a:latin typeface="Calibri"/>
              </a:rPr>
              <a:t>ев</a:t>
            </a:r>
            <a:r>
              <a:rPr b="0" i="1" lang="ru-RU" sz="3300" spc="-1" strike="noStrike">
                <a:solidFill>
                  <a:srgbClr val="90408a"/>
                </a:solidFill>
                <a:latin typeface="Calibri"/>
              </a:rPr>
              <a:t>о море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5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  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В прилагательных на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-чий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образованных от существительных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на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-шка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перед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в безударном положении пишется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е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под ударением –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а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лягу́ш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е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чий – лягуш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а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́чий,           ко́ш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е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чий - кош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а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́ч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сание согласных перед суффиксом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ат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прилагательных типа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щат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ый - веснушчат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2803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98989"/>
                </a:solidFill>
                <a:latin typeface="Calibri"/>
              </a:rPr>
              <a:t> 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Буква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пишется, когда обозначаемый ею звук целиком относится к одной значащей части слова (морфеме): 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доск-а - д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ат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ый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(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чередуется с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;ср.: 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в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- в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ан-ой, пл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ий – пл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щ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е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)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    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Если в производящей основе перед суффиксом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-к-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стоят буквы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зд, с, cт, ш,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то они сохраняются, а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чередуется с 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: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весну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ш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а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–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весну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ш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ат-ый, бру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о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бру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ат-ый, бороз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д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а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–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бороз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д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ат-ый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 (ср.: 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ре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з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ий - ре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з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е, хлес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ий 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–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 хлес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29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2900" spc="-1" strike="noStrike">
                <a:solidFill>
                  <a:srgbClr val="90408a"/>
                </a:solidFill>
                <a:latin typeface="Calibri"/>
              </a:rPr>
              <a:t>-е</a:t>
            </a:r>
            <a:r>
              <a:rPr b="0" lang="ru-RU" sz="2900" spc="-1" strike="noStrike">
                <a:solidFill>
                  <a:srgbClr val="90408a"/>
                </a:solidFill>
                <a:latin typeface="Calibri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6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Перед суффиксом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-чат-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который пишется всегда через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а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конечное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основы заменяется 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т,</a:t>
            </a: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круп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а – круп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ча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ый,     ресн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а – ресн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ча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ый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череп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а – черепи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</a:t>
            </a:r>
            <a:r>
              <a:rPr b="1" i="1" lang="ru-RU" sz="3600" spc="-1" strike="noStrike">
                <a:solidFill>
                  <a:srgbClr val="90408a"/>
                </a:solidFill>
                <a:latin typeface="Calibri"/>
              </a:rPr>
              <a:t>чат</a:t>
            </a:r>
            <a:r>
              <a:rPr b="0" i="1" lang="ru-RU" sz="3600" spc="-1" strike="noStrike">
                <a:solidFill>
                  <a:srgbClr val="90408a"/>
                </a:solidFill>
                <a:latin typeface="Calibri"/>
              </a:rPr>
              <a:t>-ы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Конечные согласные основы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д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перед суффиксом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охраняются,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Волгогр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д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волгогр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д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фло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т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фло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т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После конечных согласных основы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, ч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уффикс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упрощается в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к-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причем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основы меняются на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пример.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батр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батр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тк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тк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нем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– нем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.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екоторые прилагательные сохраняют перед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огласные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и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узб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узбе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тадж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тадж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к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, Угл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– угл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чск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В прилагательных, образованных от географических названий с основой, оканчивающейся на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пишется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а) 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ц-ский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если перед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тоит согласная (кроме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)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Конст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н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 - конста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нцский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, Пфал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ъ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пфал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ьцский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б) 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ц-кий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если перед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тоит гласная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Ел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е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– ел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ецк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(</a:t>
            </a:r>
            <a:r>
              <a:rPr b="1" lang="ru-RU" sz="3000" spc="-1" strike="noStrike">
                <a:solidFill>
                  <a:srgbClr val="90408a"/>
                </a:solidFill>
                <a:latin typeface="Calibri"/>
              </a:rPr>
              <a:t>исключения: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Г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а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гр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ацский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, М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е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 - м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ецский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в)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-иц-кий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если перед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стоит тоже 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,</a:t>
            </a: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0408a"/>
                </a:solidFill>
                <a:latin typeface="Calibri"/>
              </a:rPr>
              <a:t>например: 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Н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ц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а – ни</a:t>
            </a:r>
            <a:r>
              <a:rPr b="1" i="1" lang="ru-RU" sz="3000" spc="-1" strike="noStrike">
                <a:solidFill>
                  <a:srgbClr val="90408a"/>
                </a:solidFill>
                <a:latin typeface="Calibri"/>
              </a:rPr>
              <a:t>ццкий</a:t>
            </a:r>
            <a:r>
              <a:rPr b="0" i="1" lang="ru-RU" sz="3000" spc="-1" strike="noStrike">
                <a:solidFill>
                  <a:srgbClr val="90408a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5760"/>
            <a:ext cx="8207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94920" y="836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С суффиксом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пишутся относительные прилагательные (они не образуют краткой формы): 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черкес - черкес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, Кавказ - кавказ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с суффиксом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-к-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– качественные прилагательные (они образуют краткую форму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вяз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(вязок), низ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(низок), жид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(жидок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В образованных от географических названий прилагательных, оканчивающихся на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с предшествующей согласной, наблюдаются колебания в написании перед суффиксом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-ск-,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например: 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Уэл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ьс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 - уэль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м и уэль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, Ара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кс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 - арак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и арак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. Рей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мс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 - рейм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 и рейм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, но Даугавпилс - даугавпилс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, Гельсингфорс – гельсингфорс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.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Если же перед суффиксом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-ск-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пишется гласная, то второе 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с</a:t>
            </a:r>
            <a:r>
              <a:rPr b="0" lang="ru-RU" sz="2600" spc="-1" strike="noStrike">
                <a:solidFill>
                  <a:srgbClr val="90408a"/>
                </a:solidFill>
                <a:latin typeface="Calibri"/>
              </a:rPr>
              <a:t> сохраняется, например: 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Вильн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юс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 – вильн</a:t>
            </a:r>
            <a:r>
              <a:rPr b="1" i="1" lang="ru-RU" sz="2600" spc="-1" strike="noStrike">
                <a:solidFill>
                  <a:srgbClr val="90408a"/>
                </a:solidFill>
                <a:latin typeface="Calibri"/>
              </a:rPr>
              <a:t>юсск</a:t>
            </a:r>
            <a:r>
              <a:rPr b="0" i="1" lang="ru-RU" sz="2600" spc="-1" strike="noStrike">
                <a:solidFill>
                  <a:srgbClr val="90408a"/>
                </a:solidFill>
                <a:latin typeface="Calibri"/>
              </a:rPr>
              <a:t>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user</cp:lastModifiedBy>
  <dcterms:modified xsi:type="dcterms:W3CDTF">2013-02-17T10:21:55Z</dcterms:modified>
  <cp:revision>5</cp:revision>
  <dc:subject/>
  <dc:title>Шаблон презентации</dc:title>
</cp:coreProperties>
</file>