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15E-28C6-4589-921A-7FE55E9A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128-7A1E-4BA7-B2A7-F21A7487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1FC-39FA-4570-AF8F-D573A4E0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A20-8978-431F-BC5B-C92C7151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916-1D74-4E32-8159-096C40E7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5BE-DDA4-4F0D-92B1-922FB5B8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F2E-EFBB-46F6-8B6E-A02BA4D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B79-B03C-4CAA-B08F-67B7C65F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D76-0C41-4597-A449-06F94FA8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4DA-751F-4F49-8D62-2856BCE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1B1-C970-4A3F-8104-AD59DA9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37D-C8CE-4146-9E7B-B5BBCCD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6FB7-E7DA-4D8F-B176-101759CC0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ou99.mybb.ru/uploads/000a/5a/3f/3124-1-f.jpg" TargetMode="External"/><Relationship Id="rId2" Type="http://schemas.openxmlformats.org/officeDocument/2006/relationships/hyperlink" Target="http://im3-tub-ru.yandex.net/i?id=184080272-17-72&amp;n=2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смыкающиеся, особенности строения, многообраз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softrank.ru/uploads/posts/2012-05/1337758583_desktop-wallpapers-259-5.jpg"/>
          <p:cNvPicPr/>
          <p:nvPr/>
        </p:nvPicPr>
        <p:blipFill>
          <a:blip r:embed="rId1"/>
          <a:stretch/>
        </p:blipFill>
        <p:spPr>
          <a:xfrm>
            <a:off x="357120" y="2000160"/>
            <a:ext cx="5072040" cy="3071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bm.img.com.ua/img/prikol/images/large/8/8/106488_150280.jpg"/>
          <p:cNvPicPr/>
          <p:nvPr/>
        </p:nvPicPr>
        <p:blipFill>
          <a:blip r:embed="rId2"/>
          <a:stretch/>
        </p:blipFill>
        <p:spPr>
          <a:xfrm>
            <a:off x="5643720" y="3732120"/>
            <a:ext cx="3286080" cy="1982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429000" y="5929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Бавыкина Н.А., учитель биологии МБОУ «Гимназия №5» г. Бел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ттерия         Варан         Анаконда    Коб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етеница    Кайман     Гюрза           У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бра               Гавиал      Хамелеон    Гадюка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900igr.net/datas/morskie-zhiteli/Zmei-2.files/0001-001-Presmykajuschiesja.jpg"/>
          <p:cNvPicPr/>
          <p:nvPr/>
        </p:nvPicPr>
        <p:blipFill>
          <a:blip r:embed="rId1"/>
          <a:stretch/>
        </p:blipFill>
        <p:spPr>
          <a:xfrm>
            <a:off x="1928880" y="3643200"/>
            <a:ext cx="4643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шнее строение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7-tub-ru.yandex.net/i?id=404893192-25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тика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u99.mybb.ru/uploads/000a/5a/3f/3124-1-f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ров тела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3-tub-ru.yandex.net/i?id=184080272-17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ение сердца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4-tub-ru.yandex.net/i?id=611616054-15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елет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4-tub-ru.yandex.net/i?id=676720552-40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гкие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8-tub-ru.yandex.net/i?id=159983636-53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ран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varanus.nl/overig/V_griseus_gris1.jp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5-tub-ru.yandex.net/i?id=986300967-35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мелеон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6oi.ru/main.php/168832-3/01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кодил 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upload.wikimedia.org/wikipedia/commons/thumb/5/5d/Caiman_crocodylus_crocodylus.jpg/800px-Caiman_crocodylus_crocodylu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ее стро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900igr.net/datas/biologija/Klass-presmykajuschiesja/0022-022-Vneshnee-stroenie-JASCHERITSY.jpg"/>
          <p:cNvPicPr/>
          <p:nvPr/>
        </p:nvPicPr>
        <p:blipFill>
          <a:blip r:embed="rId1"/>
          <a:stretch/>
        </p:blipFill>
        <p:spPr>
          <a:xfrm>
            <a:off x="928800" y="500040"/>
            <a:ext cx="807876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900igr.net/datas/biologija/Klass-presmykajuschiesja/0037-037-Pokrov-tela-jascheritsy.jpg"/>
          <p:cNvPicPr/>
          <p:nvPr/>
        </p:nvPicPr>
        <p:blipFill>
          <a:blip r:embed="rId1"/>
          <a:stretch/>
        </p:blipFill>
        <p:spPr>
          <a:xfrm>
            <a:off x="1000080" y="843120"/>
            <a:ext cx="75726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900igr.net/datas/biologija/Stroenie-presmykajuschikhsja/0026-026-Legkie-presmykajuschikhsja.jpg"/>
          <p:cNvPicPr/>
          <p:nvPr/>
        </p:nvPicPr>
        <p:blipFill>
          <a:blip r:embed="rId1"/>
          <a:stretch/>
        </p:blipFill>
        <p:spPr>
          <a:xfrm>
            <a:off x="642960" y="1357200"/>
            <a:ext cx="3500280" cy="300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tepka.ru/biologia/142.jpg"/>
          <p:cNvPicPr/>
          <p:nvPr/>
        </p:nvPicPr>
        <p:blipFill>
          <a:blip r:embed="rId2"/>
          <a:stretch/>
        </p:blipFill>
        <p:spPr>
          <a:xfrm>
            <a:off x="4214880" y="1428840"/>
            <a:ext cx="473400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mou99.mybb.ru/uploads/000a/5a/3f/3124-2.jpg"/>
          <p:cNvPicPr/>
          <p:nvPr/>
        </p:nvPicPr>
        <p:blipFill>
          <a:blip r:embed="rId3"/>
          <a:stretch/>
        </p:blipFill>
        <p:spPr>
          <a:xfrm>
            <a:off x="4286160" y="3857760"/>
            <a:ext cx="30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тика пресмыкаю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mou99.mybb.ru/uploads/000a/5a/3f/3124-1-f.jpg"/>
          <p:cNvPicPr/>
          <p:nvPr/>
        </p:nvPicPr>
        <p:blipFill>
          <a:blip r:embed="rId1"/>
          <a:stretch/>
        </p:blipFill>
        <p:spPr>
          <a:xfrm>
            <a:off x="642960" y="121428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restinworld.ru/nuke/objects/countries_stories/X/x6zn900p9u76167wfr6l3798ml83lha3/image/7f76ff4b21f8.jpg"/>
          <p:cNvPicPr/>
          <p:nvPr/>
        </p:nvPicPr>
        <p:blipFill>
          <a:blip r:embed="rId1"/>
          <a:stretch/>
        </p:blipFill>
        <p:spPr>
          <a:xfrm>
            <a:off x="357120" y="1071720"/>
            <a:ext cx="364356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latimesblogs.latimes.com/outposts/images/2009/03/24/dragon.jpg"/>
          <p:cNvPicPr/>
          <p:nvPr/>
        </p:nvPicPr>
        <p:blipFill>
          <a:blip r:embed="rId2"/>
          <a:stretch/>
        </p:blipFill>
        <p:spPr>
          <a:xfrm>
            <a:off x="4357800" y="128592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ww.varanus.nl/overig/V_griseus_gris1.jpg"/>
          <p:cNvPicPr/>
          <p:nvPr/>
        </p:nvPicPr>
        <p:blipFill>
          <a:blip r:embed="rId3"/>
          <a:stretch/>
        </p:blipFill>
        <p:spPr>
          <a:xfrm>
            <a:off x="357120" y="4214880"/>
            <a:ext cx="4286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меле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o6oi.ru/main.php/168832-3/017.jpg"/>
          <p:cNvPicPr/>
          <p:nvPr/>
        </p:nvPicPr>
        <p:blipFill>
          <a:blip r:embed="rId1"/>
          <a:stretch/>
        </p:blipFill>
        <p:spPr>
          <a:xfrm>
            <a:off x="1143000" y="1357200"/>
            <a:ext cx="71150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кодил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File:Caiman crocodylus crocodylus.jpg"/>
          <p:cNvPicPr/>
          <p:nvPr/>
        </p:nvPicPr>
        <p:blipFill>
          <a:blip r:embed="rId1"/>
          <a:stretch/>
        </p:blipFill>
        <p:spPr>
          <a:xfrm>
            <a:off x="571680" y="1432080"/>
            <a:ext cx="6143400" cy="221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krugosvet.ru/images/1000259_1556_013.jpg"/>
          <p:cNvPicPr/>
          <p:nvPr/>
        </p:nvPicPr>
        <p:blipFill>
          <a:blip r:embed="rId2"/>
          <a:stretch/>
        </p:blipFill>
        <p:spPr>
          <a:xfrm>
            <a:off x="1357200" y="3786120"/>
            <a:ext cx="6786720" cy="2500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7286760" y="22860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й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7072200" y="5143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ви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пресмыкаю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о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ава для оч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х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вед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езнодорожная насып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edu.cap.ru/home/7487/zmij.jpg"/>
          <p:cNvPicPr/>
          <p:nvPr/>
        </p:nvPicPr>
        <p:blipFill>
          <a:blip r:embed="rId1"/>
          <a:stretch/>
        </p:blipFill>
        <p:spPr>
          <a:xfrm>
            <a:off x="4643280" y="1428840"/>
            <a:ext cx="4079880" cy="255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900igr.net/datas/morskie-zhiteli/CHerepakhi.files/0001-001-Presmykajuschiesja.jpg"/>
          <p:cNvPicPr/>
          <p:nvPr/>
        </p:nvPicPr>
        <p:blipFill>
          <a:blip r:embed="rId2"/>
          <a:stretch/>
        </p:blipFill>
        <p:spPr>
          <a:xfrm>
            <a:off x="5500800" y="3911760"/>
            <a:ext cx="36432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5:32:38Z</dcterms:created>
  <dc:creator>User</dc:creator>
  <dc:description/>
  <dc:language>en-US</dc:language>
  <cp:lastModifiedBy>User</cp:lastModifiedBy>
  <dcterms:modified xsi:type="dcterms:W3CDTF">2013-04-22T15:09:45Z</dcterms:modified>
  <cp:revision>10</cp:revision>
  <dc:subject/>
  <dc:title>Слайд 1</dc:title>
</cp:coreProperties>
</file>