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48D-9794-4F0E-BB15-6803E5C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91B-1152-4A4A-B446-CF6FA5B2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B34-1DF2-4CA6-BBD0-1B58494B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0C9-92AF-4BBC-9CCF-06AFBD78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B7B-37B5-47E5-814C-98F45F6C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711-1969-4531-BA75-897FE4B2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43C1-FA30-4717-BE94-D49E266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B83-278E-413C-A836-14BAC23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BDE-643E-4EFE-A1C8-4B5AEEA8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1C1-97E9-4B4D-91D6-84D95C96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A51-37A5-48EA-A67F-0F976BA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CA0-66D3-46D5-9116-D7B6DC5F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7BF9-C56F-4823-9440-179F123916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ou99.mybb.ru/uploads/000a/5a/3f/3124-1-f.jpg" TargetMode="External"/><Relationship Id="rId2" Type="http://schemas.openxmlformats.org/officeDocument/2006/relationships/hyperlink" Target="http://im3-tub-ru.yandex.net/i?id=184080272-17-72&amp;n=21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смыкающиеся, особенности строения, многообраз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softrank.ru/uploads/posts/2012-05/1337758583_desktop-wallpapers-259-5.jpg"/>
          <p:cNvPicPr/>
          <p:nvPr/>
        </p:nvPicPr>
        <p:blipFill>
          <a:blip r:embed="rId1"/>
          <a:stretch/>
        </p:blipFill>
        <p:spPr>
          <a:xfrm>
            <a:off x="357120" y="2000160"/>
            <a:ext cx="5072040" cy="307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bm.img.com.ua/img/prikol/images/large/8/8/106488_150280.jpg"/>
          <p:cNvPicPr/>
          <p:nvPr/>
        </p:nvPicPr>
        <p:blipFill>
          <a:blip r:embed="rId2"/>
          <a:stretch/>
        </p:blipFill>
        <p:spPr>
          <a:xfrm>
            <a:off x="5643720" y="3732120"/>
            <a:ext cx="3286080" cy="1982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3429000" y="5929200"/>
            <a:ext cx="52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Бавыкина Н.А., учитель биологии МБОУ «Гимназия №5» г. Бел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ретий лиш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ттерия         Варан         Анаконда    Коб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етеница    Кайман     Гюрза           У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бра               Гавиал      Хамелеон    Гадюка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900igr.net/datas/morskie-zhiteli/Zmei-2.files/0001-001-Presmykajuschiesja.jpg"/>
          <p:cNvPicPr/>
          <p:nvPr/>
        </p:nvPicPr>
        <p:blipFill>
          <a:blip r:embed="rId1"/>
          <a:stretch/>
        </p:blipFill>
        <p:spPr>
          <a:xfrm>
            <a:off x="1928880" y="3643200"/>
            <a:ext cx="4643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шнее строение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7-tub-ru.yandex.net/i?id=404893192-2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тика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u99.mybb.ru/uploads/000a/5a/3f/3124-1-f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ров тела -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im3-tub-ru.yandex.net/i?id=184080272-17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оение сердца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4-tub-ru.yandex.net/i?id=611616054-1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елет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4-tub-ru.yandex.net/i?id=676720552-40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гкие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8-tub-ru.yandex.net/i?id=159983636-53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аран 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varanus.nl/overig/V_griseus_gris1.jp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im5-tub-ru.yandex.net/i?id=986300967-35-72&amp;n=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мелеон 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6oi.ru/main.php/168832-3/017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кодил 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upload.wikimedia.org/wikipedia/commons/thumb/5/5d/Caiman_crocodylus_crocodylus.jpg/800px-Caiman_crocodylus_crocodylu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ешнее стро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900igr.net/datas/biologija/Klass-presmykajuschiesja/0022-022-Vneshnee-stroenie-JASCHERITSY.jpg"/>
          <p:cNvPicPr/>
          <p:nvPr/>
        </p:nvPicPr>
        <p:blipFill>
          <a:blip r:embed="rId1"/>
          <a:stretch/>
        </p:blipFill>
        <p:spPr>
          <a:xfrm>
            <a:off x="928800" y="500040"/>
            <a:ext cx="807876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900igr.net/datas/biologija/Klass-presmykajuschiesja/0037-037-Pokrov-tela-jascheritsy.jpg"/>
          <p:cNvPicPr/>
          <p:nvPr/>
        </p:nvPicPr>
        <p:blipFill>
          <a:blip r:embed="rId1"/>
          <a:stretch/>
        </p:blipFill>
        <p:spPr>
          <a:xfrm>
            <a:off x="1000080" y="843120"/>
            <a:ext cx="757260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нутреннее стро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900igr.net/datas/biologija/Stroenie-presmykajuschikhsja/0026-026-Legkie-presmykajuschikhsja.jpg"/>
          <p:cNvPicPr/>
          <p:nvPr/>
        </p:nvPicPr>
        <p:blipFill>
          <a:blip r:embed="rId1"/>
          <a:stretch/>
        </p:blipFill>
        <p:spPr>
          <a:xfrm>
            <a:off x="642960" y="1357200"/>
            <a:ext cx="3500280" cy="30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tepka.ru/biologia/142.jpg"/>
          <p:cNvPicPr/>
          <p:nvPr/>
        </p:nvPicPr>
        <p:blipFill>
          <a:blip r:embed="rId2"/>
          <a:stretch/>
        </p:blipFill>
        <p:spPr>
          <a:xfrm>
            <a:off x="4214880" y="1428840"/>
            <a:ext cx="4734000" cy="221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mou99.mybb.ru/uploads/000a/5a/3f/3124-2.jpg"/>
          <p:cNvPicPr/>
          <p:nvPr/>
        </p:nvPicPr>
        <p:blipFill>
          <a:blip r:embed="rId3"/>
          <a:stretch/>
        </p:blipFill>
        <p:spPr>
          <a:xfrm>
            <a:off x="4286160" y="3857760"/>
            <a:ext cx="30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стематика пресмыкаю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mou99.mybb.ru/uploads/000a/5a/3f/3124-1-f.jpg"/>
          <p:cNvPicPr/>
          <p:nvPr/>
        </p:nvPicPr>
        <p:blipFill>
          <a:blip r:embed="rId1"/>
          <a:stretch/>
        </p:blipFill>
        <p:spPr>
          <a:xfrm>
            <a:off x="642960" y="121428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а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restinworld.ru/nuke/objects/countries_stories/X/x6zn900p9u76167wfr6l3798ml83lha3/image/7f76ff4b21f8.jpg"/>
          <p:cNvPicPr/>
          <p:nvPr/>
        </p:nvPicPr>
        <p:blipFill>
          <a:blip r:embed="rId1"/>
          <a:stretch/>
        </p:blipFill>
        <p:spPr>
          <a:xfrm>
            <a:off x="357120" y="1071720"/>
            <a:ext cx="364356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latimesblogs.latimes.com/outposts/images/2009/03/24/dragon.jpg"/>
          <p:cNvPicPr/>
          <p:nvPr/>
        </p:nvPicPr>
        <p:blipFill>
          <a:blip r:embed="rId2"/>
          <a:stretch/>
        </p:blipFill>
        <p:spPr>
          <a:xfrm>
            <a:off x="4357800" y="1285920"/>
            <a:ext cx="4476600" cy="357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ww.varanus.nl/overig/V_griseus_gris1.jpg"/>
          <p:cNvPicPr/>
          <p:nvPr/>
        </p:nvPicPr>
        <p:blipFill>
          <a:blip r:embed="rId3"/>
          <a:stretch/>
        </p:blipFill>
        <p:spPr>
          <a:xfrm>
            <a:off x="357120" y="4214880"/>
            <a:ext cx="4286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меле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o6oi.ru/main.php/168832-3/017.jpg"/>
          <p:cNvPicPr/>
          <p:nvPr/>
        </p:nvPicPr>
        <p:blipFill>
          <a:blip r:embed="rId1"/>
          <a:stretch/>
        </p:blipFill>
        <p:spPr>
          <a:xfrm>
            <a:off x="1143000" y="1357200"/>
            <a:ext cx="71150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009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кодил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File:Caiman crocodylus crocodylus.jpg"/>
          <p:cNvPicPr/>
          <p:nvPr/>
        </p:nvPicPr>
        <p:blipFill>
          <a:blip r:embed="rId1"/>
          <a:stretch/>
        </p:blipFill>
        <p:spPr>
          <a:xfrm>
            <a:off x="571680" y="1432080"/>
            <a:ext cx="6143400" cy="221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krugosvet.ru/images/1000259_1556_013.jpg"/>
          <p:cNvPicPr/>
          <p:nvPr/>
        </p:nvPicPr>
        <p:blipFill>
          <a:blip r:embed="rId2"/>
          <a:stretch/>
        </p:blipFill>
        <p:spPr>
          <a:xfrm>
            <a:off x="1357200" y="3786120"/>
            <a:ext cx="6786720" cy="2500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7"/>
          <p:cNvSpPr/>
          <p:nvPr/>
        </p:nvSpPr>
        <p:spPr>
          <a:xfrm>
            <a:off x="7286760" y="22860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й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7072200" y="5143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ави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ызу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о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ава для оч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х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овед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езнодорожная насып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edu.cap.ru/home/7487/zmij.jpg"/>
          <p:cNvPicPr/>
          <p:nvPr/>
        </p:nvPicPr>
        <p:blipFill>
          <a:blip r:embed="rId1"/>
          <a:stretch/>
        </p:blipFill>
        <p:spPr>
          <a:xfrm>
            <a:off x="4643280" y="1428840"/>
            <a:ext cx="4079880" cy="255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900igr.net/datas/morskie-zhiteli/CHerepakhi.files/0001-001-Presmykajuschiesja.jpg"/>
          <p:cNvPicPr/>
          <p:nvPr/>
        </p:nvPicPr>
        <p:blipFill>
          <a:blip r:embed="rId2"/>
          <a:stretch/>
        </p:blipFill>
        <p:spPr>
          <a:xfrm>
            <a:off x="5500800" y="3911760"/>
            <a:ext cx="36432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15:32:38Z</dcterms:created>
  <dc:creator>User</dc:creator>
  <dc:description/>
  <dc:language>en-US</dc:language>
  <cp:lastModifiedBy>User</cp:lastModifiedBy>
  <dcterms:modified xsi:type="dcterms:W3CDTF">2013-04-22T15:09:45Z</dcterms:modified>
  <cp:revision>10</cp:revision>
  <dc:subject/>
  <dc:title>Слайд 1</dc:title>
</cp:coreProperties>
</file>