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5AA4-856E-4912-9F8C-FE1E1FD70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EB93-D269-4FB0-9DFE-B7318D2E2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D91C-3D26-4F49-8BE0-E3934DA99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7D67-A559-44C1-B2E3-881C48184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7263D-2F2A-434C-9A4D-9D85028F9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F9A2D-64F4-485F-A968-658C7F940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CC847-29C9-4616-97C5-D99F37249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B80BA-8D9C-4888-AA92-E08005DF7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CDBAF-E441-4C04-8781-F4B0C8F0B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1CF7A-6C5F-4F2C-8940-0E3056EA9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223D8-83E6-423B-A0A2-A1056DEB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B79C-047E-450C-8D0B-D6114F585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9984B-0A51-4888-A96D-6CAEC5B7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42E39-5EBB-45A2-98BA-ACDFC131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DEB5D-EFFA-4B30-A9A6-D7219C1D5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7D8DC-BAD4-4B21-977E-11AB7D2EA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BE261-3256-498E-BE08-C733F551A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EBEE-93C3-4E9E-ACAF-A05C4B5D4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2A09-2FA3-41D1-9ED7-FB60CBCFC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B366-D66A-44B7-B61D-8C488ABF7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FA2B-91A5-44CE-80EB-E1293AE89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3C66-DC9F-4EDD-996B-3BC49111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9D81-2989-42DF-90C2-A304221F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D803-B866-4AB9-9662-5C44ADA5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56A9C-1AD4-43D9-BD0E-2A2E0A54C7A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5AA3A-87EA-470B-9128-B7190B96088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собака"/>
          <p:cNvPicPr/>
          <p:nvPr/>
        </p:nvPicPr>
        <p:blipFill>
          <a:blip r:embed="rId1"/>
          <a:stretch/>
        </p:blipFill>
        <p:spPr>
          <a:xfrm>
            <a:off x="17928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фото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собач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картин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ещё собака"/>
          <p:cNvPicPr/>
          <p:nvPr/>
        </p:nvPicPr>
        <p:blipFill>
          <a:blip r:embed="rId1"/>
          <a:stretch/>
        </p:blipFill>
        <p:spPr>
          <a:xfrm>
            <a:off x="900000" y="0"/>
            <a:ext cx="684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кош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рыжи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кешот"/>
          <p:cNvPicPr/>
          <p:nvPr/>
        </p:nvPicPr>
        <p:blipFill>
          <a:blip r:embed="rId1"/>
          <a:stretch/>
        </p:blipFill>
        <p:spPr>
          <a:xfrm>
            <a:off x="571680" y="285840"/>
            <a:ext cx="81277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тож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9T14:06:28Z</dcterms:created>
  <dc:creator>ASUS</dc:creator>
  <dc:description/>
  <dc:language>en-US</dc:language>
  <cp:lastModifiedBy>Админ</cp:lastModifiedBy>
  <dcterms:modified xsi:type="dcterms:W3CDTF">2012-12-17T07:55:45Z</dcterms:modified>
  <cp:revision>3</cp:revision>
  <dc:subject/>
  <dc:title>Слайд 1</dc:title>
</cp:coreProperties>
</file>