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0AA2-7F35-4A26-B27E-8AAC0510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260-A57D-49FF-974B-95520CBA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737-4AED-477C-A378-D617CF04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0B8-C6CD-432D-BEA2-6DB87885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B901-E8BE-4ED0-80AB-650F7A4C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9CE6-A089-446B-A685-BE6152CE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387E-B4F3-4D6F-B6CF-96C44BF6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1DE2-9478-41D3-8623-25257A7E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5A61-2726-4039-85C0-B6399432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E2EF-3585-410D-95CC-FB3AB2A2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E1A4-FC04-45E0-BAD2-D843E851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EE8-6B77-45FD-B906-5E18091F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15C1-4313-42C9-A10B-A024E5CB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2685-DB25-4E49-845D-48D04532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4544-673E-4D1A-81D3-F8427B55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AAAF-BB6A-4774-B314-0FA9994C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330F-794A-42F0-80AD-05C41BAC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E2E-A77F-47C0-AD28-617D205F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126-599C-478E-913C-DFE465B1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C9F-F2E4-487B-8D3F-820A801A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945-0370-4953-90F9-40E54CA4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E8F-5E71-4BDC-92B7-CF682BF3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7FC-23C4-4BCB-BCD1-34B45480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2A97-3F3A-49FD-BAFD-4264451C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7AD6-0763-408C-88FB-4F32E18152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346F-D68D-4A3A-84B6-18A9FF62F9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собака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фото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собач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картин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ещё собака"/>
          <p:cNvPicPr/>
          <p:nvPr/>
        </p:nvPicPr>
        <p:blipFill>
          <a:blip r:embed="rId1"/>
          <a:stretch/>
        </p:blipFill>
        <p:spPr>
          <a:xfrm>
            <a:off x="900000" y="0"/>
            <a:ext cx="68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кош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рыж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ешот"/>
          <p:cNvPicPr/>
          <p:nvPr/>
        </p:nvPicPr>
        <p:blipFill>
          <a:blip r:embed="rId1"/>
          <a:stretch/>
        </p:blipFill>
        <p:spPr>
          <a:xfrm>
            <a:off x="571680" y="285840"/>
            <a:ext cx="8127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тож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4:06:28Z</dcterms:created>
  <dc:creator>ASUS</dc:creator>
  <dc:description/>
  <dc:language>en-US</dc:language>
  <cp:lastModifiedBy>Админ</cp:lastModifiedBy>
  <dcterms:modified xsi:type="dcterms:W3CDTF">2012-12-17T07:55:45Z</dcterms:modified>
  <cp:revision>3</cp:revision>
  <dc:subject/>
  <dc:title>Слайд 1</dc:title>
</cp:coreProperties>
</file>