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5.png" ContentType="image/png"/>
  <Override PartName="/ppt/media/image3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39.png" ContentType="image/png"/>
  <Override PartName="/ppt/media/image2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5DA-C576-4ECF-B9D0-41255EE5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7F33-1051-4896-9A42-09A33DF1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B12E-BE98-47CC-9585-415B0D6F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833-DD12-466D-BD86-A02FCE77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7A0-07F0-4503-8E7F-DB29F51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2DD-6024-4E57-A0C5-01E96818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BBE-7728-404F-A9AD-AD1B45A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929-7240-482C-AC8A-67AFF08F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B83-D2AC-452B-B794-0C42D07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4AD-4FD7-4BDA-8A0E-84CFE910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F7F6-3DF6-444C-8031-379A841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CEB-C92A-425F-B945-1569D518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7B1-9232-48DD-8EE8-5DFBB295A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34.png"/><Relationship Id="rId4" Type="http://schemas.openxmlformats.org/officeDocument/2006/relationships/image" Target="../media/image17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g13.nnm.ru/b/f/2/1/7/bf217a49788d3874ac8fa4482d4899a9_full.jpg" TargetMode="External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Урок литературного чтения 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 3 -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Qwerty\Pictures\cover.jpg"/>
          <p:cNvPicPr/>
          <p:nvPr/>
        </p:nvPicPr>
        <p:blipFill>
          <a:blip r:embed="rId1"/>
          <a:stretch/>
        </p:blipFill>
        <p:spPr>
          <a:xfrm>
            <a:off x="1042920" y="1844640"/>
            <a:ext cx="3443400" cy="4711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5148360" y="3500280"/>
            <a:ext cx="3341520" cy="2891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859280" y="1844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D:\Мои документы2\Презентации. Шаблоны 2\Виньетки\kniga02.png"/>
          <p:cNvPicPr/>
          <p:nvPr/>
        </p:nvPicPr>
        <p:blipFill>
          <a:blip r:embed="rId3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</a:t>
            </a:r>
            <a:br>
              <a:rPr sz="6000"/>
            </a:b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  ускорением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скороговоркой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19640" y="836280"/>
            <a:ext cx="3353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Courier New"/>
              </a:rPr>
              <a:t>Агния  </a:t>
            </a:r>
            <a:br>
              <a:rPr sz="4400"/>
            </a:br>
            <a:r>
              <a:rPr b="1" lang="ru-RU" sz="4400" spc="-1" strike="noStrike">
                <a:solidFill>
                  <a:srgbClr val="6666ff"/>
                </a:solidFill>
                <a:latin typeface="Courier New"/>
              </a:rPr>
              <a:t>Львовна Барт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3280" y="551628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 каких словах стихотворений спрятались ноты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Qwerty\Desktop\9405[1].jpg"/>
          <p:cNvPicPr/>
          <p:nvPr/>
        </p:nvPicPr>
        <p:blipFill>
          <a:blip r:embed="rId1"/>
          <a:stretch/>
        </p:blipFill>
        <p:spPr>
          <a:xfrm>
            <a:off x="1238400" y="1103400"/>
            <a:ext cx="3466800" cy="41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5"/>
          <p:cNvSpPr/>
          <p:nvPr/>
        </p:nvSpPr>
        <p:spPr>
          <a:xfrm>
            <a:off x="5003640" y="25653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тихотворения </a:t>
            </a: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Qwerty\Pictures\8646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84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РЕ  МИ  ФА  СОЛЬ  ЛЯ  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280" y="260280"/>
            <a:ext cx="8172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вы слышит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е чувства и фантазии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озникают у вас, когда з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окном идет дожд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Qwerty\Pictures\Rain.jpg"/>
          <p:cNvPicPr/>
          <p:nvPr/>
        </p:nvPicPr>
        <p:blipFill>
          <a:blip r:embed="rId2"/>
          <a:stretch/>
        </p:blipFill>
        <p:spPr>
          <a:xfrm>
            <a:off x="2268360" y="1197000"/>
            <a:ext cx="5069160" cy="3311640"/>
          </a:xfrm>
          <a:prstGeom prst="rect">
            <a:avLst/>
          </a:prstGeom>
          <a:ln w="0">
            <a:noFill/>
          </a:ln>
        </p:spPr>
      </p:pic>
      <p:pic>
        <p:nvPicPr>
          <p:cNvPr id="96" name="Шум дождя_mp3cut.foxcom.su_.mp3" descr=""/>
          <p:cNvPicPr/>
          <p:nvPr/>
        </p:nvPicPr>
        <p:blipFill>
          <a:blip r:embed="rId3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596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f017p29-1"/>
          <p:cNvPicPr/>
          <p:nvPr/>
        </p:nvPicPr>
        <p:blipFill>
          <a:blip r:embed="rId1"/>
          <a:stretch/>
        </p:blipFill>
        <p:spPr>
          <a:xfrm>
            <a:off x="1547640" y="1268280"/>
            <a:ext cx="2857680" cy="440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4859280" y="4076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4643280" y="1700280"/>
            <a:ext cx="403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f017p29-1"/>
          <p:cNvPicPr/>
          <p:nvPr/>
        </p:nvPicPr>
        <p:blipFill>
          <a:blip r:embed="rId1"/>
          <a:stretch/>
        </p:blipFill>
        <p:spPr>
          <a:xfrm>
            <a:off x="4859280" y="260280"/>
            <a:ext cx="4143600" cy="63817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5"/>
          <p:cNvSpPr txBox="1"/>
          <p:nvPr/>
        </p:nvSpPr>
        <p:spPr>
          <a:xfrm>
            <a:off x="571680" y="2357280"/>
            <a:ext cx="4032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1913-2009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04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478-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268280"/>
            <a:ext cx="2349720" cy="3805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780000" y="2602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одился </a:t>
            </a:r>
            <a:r>
              <a:rPr b="1" lang="ru-RU" sz="2800" spc="-1" strike="noStrike">
                <a:solidFill>
                  <a:srgbClr val="009900"/>
                </a:solidFill>
                <a:latin typeface="Calibri"/>
              </a:rPr>
              <a:t>13 марта 1913 год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851280" y="1268280"/>
            <a:ext cx="46832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собности к поэзии у Сергея обнаружились уже в девять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(14 лет) семья переезжает в Ставропольский край и тогда Сергей начинает печат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15 лет публикуется первое стихотворение «Дорога» в журнале «На подъём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окончания школы Сергей Михалков возвращается в Москву и работает на ткацкой фабр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i"/>
          <p:cNvPicPr/>
          <p:nvPr/>
        </p:nvPicPr>
        <p:blipFill>
          <a:blip r:embed="rId2"/>
          <a:stretch/>
        </p:blipFill>
        <p:spPr>
          <a:xfrm>
            <a:off x="611280" y="5229360"/>
            <a:ext cx="1012680" cy="143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_990828004"/>
          <p:cNvPicPr/>
          <p:nvPr/>
        </p:nvPicPr>
        <p:blipFill>
          <a:blip r:embed="rId3"/>
          <a:stretch/>
        </p:blipFill>
        <p:spPr>
          <a:xfrm>
            <a:off x="2340000" y="5229360"/>
            <a:ext cx="957240" cy="146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Мои документы2\Презентации. Шаблоны 2\Виньетки\kniga02.png"/>
          <p:cNvPicPr/>
          <p:nvPr/>
        </p:nvPicPr>
        <p:blipFill>
          <a:blip r:embed="rId4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6"/>
          <p:cNvSpPr/>
          <p:nvPr/>
        </p:nvSpPr>
        <p:spPr>
          <a:xfrm>
            <a:off x="4606920" y="119700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2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ыходит первое известное произведение— поэм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Дядя Стёпа»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risunok244_350x458"/>
          <p:cNvPicPr/>
          <p:nvPr/>
        </p:nvPicPr>
        <p:blipFill>
          <a:blip r:embed="rId1"/>
          <a:stretch/>
        </p:blipFill>
        <p:spPr>
          <a:xfrm>
            <a:off x="1258920" y="1557360"/>
            <a:ext cx="2940120" cy="38466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4572000" y="2852640"/>
            <a:ext cx="376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4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да, поступает в Литературный инстит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2400" spc="-1" strike="noStrike">
                <a:solidFill>
                  <a:srgbClr val="009900"/>
                </a:solidFill>
                <a:latin typeface="Calibri"/>
              </a:rPr>
              <a:t>26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лет Михалков получает первый орден Ле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4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40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Og10_058_Page_1_Image_0001"/>
          <p:cNvPicPr/>
          <p:nvPr/>
        </p:nvPicPr>
        <p:blipFill>
          <a:blip r:embed="rId1"/>
          <a:stretch/>
        </p:blipFill>
        <p:spPr>
          <a:xfrm>
            <a:off x="3059280" y="404640"/>
            <a:ext cx="3456000" cy="259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3071880" cy="3357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3284640"/>
            <a:ext cx="799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 время Великой Отечественной Войны Михалков корреспондент газет «Во славу Родины», «Сталинский сокол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месте с войсками отступал до Сталинграда, был контуж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граждён боевыми орденами и медалями. Был отмечен Государственной премией СССР в 2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1547640" y="2421000"/>
            <a:ext cx="6377040" cy="12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«Внимательный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ученик»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4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4"/>
          <p:cNvSpPr/>
          <p:nvPr/>
        </p:nvSpPr>
        <p:spPr>
          <a:xfrm>
            <a:off x="2270880" y="4653000"/>
            <a:ext cx="50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Работа в пар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63680" y="268200"/>
            <a:ext cx="8242200" cy="13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3311640" y="620640"/>
            <a:ext cx="58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ле войны Михалков продолжает литературную деятельность, работает в разных жанрах детской литературы, создаёт пьесы для детских театров, сценарии для мультфиль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471069096170302401"/>
          <p:cNvPicPr/>
          <p:nvPr/>
        </p:nvPicPr>
        <p:blipFill>
          <a:blip r:embed="rId1"/>
          <a:stretch/>
        </p:blipFill>
        <p:spPr>
          <a:xfrm>
            <a:off x="611280" y="2852640"/>
            <a:ext cx="5029200" cy="3353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3203640" y="4581360"/>
            <a:ext cx="54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100026852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835280" y="1052640"/>
            <a:ext cx="2979720" cy="47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5148360" y="1773360"/>
            <a:ext cx="295272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2008 году суммарный тираж книг Сергея Михалкова насчитывает око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300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миллионов экземпляров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1557360"/>
            <a:ext cx="446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944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Михалков и его соавтор Г. Эль-Регистан стали авторами  текста гимна нашей страны, победив на всенародном конкур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00000" y="3789360"/>
            <a:ext cx="439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декабря </a:t>
            </a: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а президент В.В.Путин утвердил текст Государственного гимна России на стихи Сергея Михалк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26946-291259-19-obl-l"/>
          <p:cNvPicPr/>
          <p:nvPr/>
        </p:nvPicPr>
        <p:blipFill>
          <a:blip r:embed="rId1"/>
          <a:stretch/>
        </p:blipFill>
        <p:spPr>
          <a:xfrm>
            <a:off x="5508720" y="549360"/>
            <a:ext cx="3247920" cy="5376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54000002020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4437000"/>
            <a:ext cx="1655640" cy="22449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560680" y="189000"/>
            <a:ext cx="65833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200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год — С.В.Михалков один из ав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c00cc"/>
                </a:solidFill>
                <a:latin typeface="Calibri"/>
              </a:rPr>
              <a:t>«Самой большой в мире книги для малыше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1233592497_4aecbea42679"/>
          <p:cNvPicPr/>
          <p:nvPr/>
        </p:nvPicPr>
        <p:blipFill>
          <a:blip r:embed="rId3"/>
          <a:stretch/>
        </p:blipFill>
        <p:spPr>
          <a:xfrm>
            <a:off x="2771640" y="1916280"/>
            <a:ext cx="1656000" cy="2171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vd093"/>
          <p:cNvPicPr/>
          <p:nvPr/>
        </p:nvPicPr>
        <p:blipFill>
          <a:blip r:embed="rId4"/>
          <a:stretch/>
        </p:blipFill>
        <p:spPr>
          <a:xfrm>
            <a:off x="2556000" y="4365720"/>
            <a:ext cx="1584360" cy="229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ardim887"/>
          <p:cNvPicPr/>
          <p:nvPr/>
        </p:nvPicPr>
        <p:blipFill>
          <a:blip r:embed="rId5"/>
          <a:stretch/>
        </p:blipFill>
        <p:spPr>
          <a:xfrm>
            <a:off x="6762600" y="4437000"/>
            <a:ext cx="158760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ac4c96db7063"/>
          <p:cNvPicPr/>
          <p:nvPr/>
        </p:nvPicPr>
        <p:blipFill>
          <a:blip r:embed="rId6"/>
          <a:stretch/>
        </p:blipFill>
        <p:spPr>
          <a:xfrm>
            <a:off x="7093080" y="1628640"/>
            <a:ext cx="1800000" cy="2519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2758"/>
          <p:cNvPicPr/>
          <p:nvPr/>
        </p:nvPicPr>
        <p:blipFill>
          <a:blip r:embed="rId7"/>
          <a:stretch/>
        </p:blipFill>
        <p:spPr>
          <a:xfrm>
            <a:off x="755640" y="1700280"/>
            <a:ext cx="1736640" cy="237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002_23"/>
          <p:cNvPicPr/>
          <p:nvPr/>
        </p:nvPicPr>
        <p:blipFill>
          <a:blip r:embed="rId8"/>
          <a:stretch/>
        </p:blipFill>
        <p:spPr>
          <a:xfrm>
            <a:off x="4716360" y="4365720"/>
            <a:ext cx="1656000" cy="2301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1000333092"/>
          <p:cNvPicPr/>
          <p:nvPr/>
        </p:nvPicPr>
        <p:blipFill>
          <a:blip r:embed="rId9"/>
          <a:stretch/>
        </p:blipFill>
        <p:spPr>
          <a:xfrm>
            <a:off x="4932360" y="1916280"/>
            <a:ext cx="180036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296900"/>
          <p:cNvPicPr/>
          <p:nvPr/>
        </p:nvPicPr>
        <p:blipFill>
          <a:blip r:embed="rId1"/>
          <a:stretch/>
        </p:blipFill>
        <p:spPr>
          <a:xfrm>
            <a:off x="5580000" y="1125360"/>
            <a:ext cx="2809800" cy="2372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4824360" y="3860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менем Михалкова названа одна из малых планет Солнечной Системы (199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планета"/>
          <p:cNvPicPr/>
          <p:nvPr/>
        </p:nvPicPr>
        <p:blipFill>
          <a:blip r:embed="rId2"/>
          <a:stretch/>
        </p:blipFill>
        <p:spPr>
          <a:xfrm>
            <a:off x="285840" y="285840"/>
            <a:ext cx="4587840" cy="633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D:\Мои документы2\Презентации. Шаблоны 2\Виньетки\kniga02.png"/>
          <p:cNvPicPr/>
          <p:nvPr/>
        </p:nvPicPr>
        <p:blipFill>
          <a:blip r:embed="rId3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20"/>
                            </p:stCondLst>
                            <p:childTnLst>
                              <p:par>
                                <p:cTn id="1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971640" y="1052640"/>
            <a:ext cx="78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Определите по отрывкам названия произведений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.В Михал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(работа в пар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"/>
          <p:cNvPicPr/>
          <p:nvPr/>
        </p:nvPicPr>
        <p:blipFill>
          <a:blip r:embed="rId2"/>
          <a:stretch/>
        </p:blipFill>
        <p:spPr>
          <a:xfrm>
            <a:off x="755640" y="2852640"/>
            <a:ext cx="1584360" cy="2252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0533105"/>
          <p:cNvPicPr/>
          <p:nvPr/>
        </p:nvPicPr>
        <p:blipFill>
          <a:blip r:embed="rId3"/>
          <a:stretch/>
        </p:blipFill>
        <p:spPr>
          <a:xfrm>
            <a:off x="5580000" y="5013360"/>
            <a:ext cx="110016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_990828004"/>
          <p:cNvPicPr/>
          <p:nvPr/>
        </p:nvPicPr>
        <p:blipFill>
          <a:blip r:embed="rId4"/>
          <a:stretch/>
        </p:blipFill>
        <p:spPr>
          <a:xfrm>
            <a:off x="7236000" y="2997360"/>
            <a:ext cx="1439640" cy="2203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9164440"/>
          <p:cNvPicPr/>
          <p:nvPr/>
        </p:nvPicPr>
        <p:blipFill>
          <a:blip r:embed="rId5"/>
          <a:stretch/>
        </p:blipFill>
        <p:spPr>
          <a:xfrm>
            <a:off x="2916360" y="4941720"/>
            <a:ext cx="1168200" cy="170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3492360" y="1341360"/>
            <a:ext cx="588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доме восемь дробь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заставы Ильи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 высокий граждан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прозванью «Каланча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фамилии Степ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 имени Степ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районных вели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ый главный велик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risunok244_350x458"/>
          <p:cNvPicPr/>
          <p:nvPr/>
        </p:nvPicPr>
        <p:blipFill>
          <a:blip r:embed="rId2"/>
          <a:stretch/>
        </p:blipFill>
        <p:spPr>
          <a:xfrm>
            <a:off x="324000" y="2565360"/>
            <a:ext cx="2939760" cy="3846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419640" y="1341360"/>
            <a:ext cx="538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егодня сбилась с 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меня пропал щ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часа его зва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часа его жд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уроки не сад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бедать не мо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Users\Qwerty\Pictures\417486.jpg"/>
          <p:cNvPicPr/>
          <p:nvPr/>
        </p:nvPicPr>
        <p:blipFill>
          <a:blip r:embed="rId2"/>
          <a:stretch/>
        </p:blipFill>
        <p:spPr>
          <a:xfrm>
            <a:off x="539640" y="2421000"/>
            <a:ext cx="2880000" cy="3770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970360" y="404640"/>
            <a:ext cx="6173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А у меня в кармане гвоз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у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 у нас сегодня г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у в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А у нас сегодня ко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ла вчера к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тята выросли немнож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есть из блюдца не хо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Users\Qwerty\Pictures\97911-20120213_124511.jpg"/>
          <p:cNvPicPr/>
          <p:nvPr/>
        </p:nvPicPr>
        <p:blipFill>
          <a:blip r:embed="rId2"/>
          <a:stretch/>
        </p:blipFill>
        <p:spPr>
          <a:xfrm>
            <a:off x="250920" y="2565360"/>
            <a:ext cx="2724120" cy="410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2"/>
          <p:cNvSpPr/>
          <p:nvPr/>
        </p:nvSpPr>
        <p:spPr>
          <a:xfrm>
            <a:off x="1835280" y="1052640"/>
            <a:ext cx="69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ы понимаете значение слова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ФАНТАЗИЯ»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33577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нтаз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деятельность воображения,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которая отличается о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условий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68360" y="333360"/>
            <a:ext cx="8496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ие слова спрятались в словах: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агляделся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ограммы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рограммы,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сталось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де нам встречались эти слова?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стихотворениях 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332000" y="836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208680" y="836640"/>
            <a:ext cx="8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6306840" y="83664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332000" y="12682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Картинка 37 из 592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3760"/>
          </a:xfrm>
          <a:prstGeom prst="rect">
            <a:avLst/>
          </a:prstGeom>
          <a:ln w="0">
            <a:noFill/>
          </a:ln>
        </p:spPr>
      </p:pic>
      <p:pic>
        <p:nvPicPr>
          <p:cNvPr id="162" name="Прямоугольник 4" descr=""/>
          <p:cNvPicPr/>
          <p:nvPr/>
        </p:nvPicPr>
        <p:blipFill>
          <a:blip r:embed="rId3"/>
          <a:stretch/>
        </p:blipFill>
        <p:spPr>
          <a:xfrm>
            <a:off x="2170080" y="1620720"/>
            <a:ext cx="4651560" cy="4262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2556000" y="42926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098_Дождя не боимся (М. Минков - Ю. Энтин).mp3" descr=""/>
          <p:cNvPicPr/>
          <p:nvPr/>
        </p:nvPicPr>
        <p:blipFill>
          <a:blip r:embed="rId4"/>
          <a:stretch/>
        </p:blipFill>
        <p:spPr>
          <a:xfrm>
            <a:off x="-9730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098_Дождя не боимся (М. Минков - Ю. Энтин).mp3" descr=""/>
          <p:cNvPicPr/>
          <p:nvPr/>
        </p:nvPicPr>
        <p:blipFill>
          <a:blip r:embed="rId5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f017p29-1"/>
          <p:cNvPicPr/>
          <p:nvPr/>
        </p:nvPicPr>
        <p:blipFill>
          <a:blip r:embed="rId1"/>
          <a:stretch/>
        </p:blipFill>
        <p:spPr>
          <a:xfrm>
            <a:off x="1547640" y="1268280"/>
            <a:ext cx="2857680" cy="440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4859280" y="4076640"/>
            <a:ext cx="40323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тихотвор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4643280" y="1700280"/>
            <a:ext cx="403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Сергей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Владимирович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Михалков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560" y="213372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лушайте стихотворение и ответьте, почему поэт назвал стихотворение «Если»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помогло детям скоротать скучный, дождливый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6443640" y="189000"/>
            <a:ext cx="234324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стихотво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«Е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С</a:t>
            </a:r>
            <a:r>
              <a:rPr b="1" lang="ru-RU" sz="4000" spc="-1" strike="noStrike">
                <a:solidFill>
                  <a:srgbClr val="ff66ff"/>
                </a:solidFill>
                <a:latin typeface="Calibri"/>
              </a:rPr>
              <a:t>Л</a:t>
            </a:r>
            <a:r>
              <a:rPr b="1" lang="ru-RU" sz="4000" spc="-1" strike="noStrike">
                <a:solidFill>
                  <a:srgbClr val="984807"/>
                </a:solidFill>
                <a:latin typeface="Calibri"/>
              </a:rPr>
              <a:t>И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348000" y="4437000"/>
            <a:ext cx="2343240" cy="202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ртисты»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, как разговор двух мальч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ворит задумчиво, но с хитрецой, будто готов похулиганить, повеселить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тор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восторгом и удивлением, как будто он увидел решение задачи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"/>
          <p:cNvSpPr/>
          <p:nvPr/>
        </p:nvSpPr>
        <p:spPr>
          <a:xfrm>
            <a:off x="2197800" y="5732640"/>
            <a:ext cx="50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84807"/>
                </a:solidFill>
                <a:latin typeface="Arial"/>
              </a:rPr>
              <a:t>Работа в пара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чувства вы продемонстрировали при чтении стихотвор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2843280" y="3789360"/>
            <a:ext cx="2703600" cy="233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учшая пара чтецов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276720" y="4149720"/>
            <a:ext cx="2701800" cy="233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C:\Users\Qwerty\Pictures\864643.jpg"/>
          <p:cNvPicPr/>
          <p:nvPr/>
        </p:nvPicPr>
        <p:blipFill>
          <a:blip r:embed="rId1"/>
          <a:stretch/>
        </p:blipFill>
        <p:spPr>
          <a:xfrm>
            <a:off x="611280" y="2133720"/>
            <a:ext cx="8208720" cy="424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971280" y="260280"/>
            <a:ext cx="74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Найди слова с нотами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193" name="Заголовок 6"/>
          <p:cNvSpPr/>
          <p:nvPr/>
        </p:nvSpPr>
        <p:spPr>
          <a:xfrm>
            <a:off x="303120" y="3213000"/>
            <a:ext cx="884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 РЕ  МИ  ФА  СОЛЬ  ЛЯ  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187280" y="1208160"/>
            <a:ext cx="8172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йдите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прочитайте четверостишья,          в которых присутствует слово «есл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что они превратили луж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они хотели бы сделать с туч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 них получилась каплищ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4000" y="1125000"/>
            <a:ext cx="8820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</a:t>
            </a: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мени слово»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Qwerty\Pictures\752a5727aaabc3ba6e3791d1da418427.jpg"/>
          <p:cNvPicPr/>
          <p:nvPr/>
        </p:nvPicPr>
        <p:blipFill>
          <a:blip r:embed="rId2"/>
          <a:stretch/>
        </p:blipFill>
        <p:spPr>
          <a:xfrm>
            <a:off x="3276720" y="4149720"/>
            <a:ext cx="2701800" cy="233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189000"/>
            <a:ext cx="8713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то перечисле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Были – небы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Поэтическая тетрадь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Люби жив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ой раздел изучаем сейча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1103400" y="3933720"/>
            <a:ext cx="66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оэтическая тетрадь №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84360" y="501336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0" y="6021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ие слова из стихотворения   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зашифрованы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8000" y="23320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 р 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п 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л б 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 ж д 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п л 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4365360" y="227664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ир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4358520" y="292428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п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6"/>
          <p:cNvSpPr/>
          <p:nvPr/>
        </p:nvSpPr>
        <p:spPr>
          <a:xfrm>
            <a:off x="4279680" y="3500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уби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7"/>
          <p:cNvSpPr/>
          <p:nvPr/>
        </p:nvSpPr>
        <p:spPr>
          <a:xfrm>
            <a:off x="4288320" y="407664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жд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4215960" y="4653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плищ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аким произведением познакомили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онравилось ли оно вам? Че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се  цели урока достигну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6"/>
          <p:cNvSpPr/>
          <p:nvPr/>
        </p:nvSpPr>
        <p:spPr>
          <a:xfrm>
            <a:off x="1258920" y="14130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7"/>
          <p:cNvSpPr/>
          <p:nvPr/>
        </p:nvSpPr>
        <p:spPr>
          <a:xfrm>
            <a:off x="1258920" y="3105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539640" y="4005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Прямоугольник 9" descr=""/>
          <p:cNvPicPr/>
          <p:nvPr/>
        </p:nvPicPr>
        <p:blipFill>
          <a:blip r:embed="rId3"/>
          <a:stretch/>
        </p:blipFill>
        <p:spPr>
          <a:xfrm>
            <a:off x="957240" y="4711680"/>
            <a:ext cx="7942320" cy="21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Оцени свою работу на уро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Группа 24"/>
          <p:cNvGrpSpPr/>
          <p:nvPr/>
        </p:nvGrpSpPr>
        <p:grpSpPr>
          <a:xfrm>
            <a:off x="539640" y="1341360"/>
            <a:ext cx="9468000" cy="1803600"/>
            <a:chOff x="539640" y="1341360"/>
            <a:chExt cx="9468000" cy="1803600"/>
          </a:xfrm>
        </p:grpSpPr>
        <p:pic>
          <p:nvPicPr>
            <p:cNvPr id="219" name="Рисунок 15" descr="003.gif"/>
            <p:cNvPicPr/>
            <p:nvPr/>
          </p:nvPicPr>
          <p:blipFill>
            <a:blip r:embed="rId1"/>
            <a:stretch/>
          </p:blipFill>
          <p:spPr>
            <a:xfrm>
              <a:off x="539640" y="1537920"/>
              <a:ext cx="1996920" cy="16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Прямоугольник 19"/>
            <p:cNvSpPr/>
            <p:nvPr/>
          </p:nvSpPr>
          <p:spPr>
            <a:xfrm>
              <a:off x="1363320" y="1341360"/>
              <a:ext cx="8644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9900"/>
                  </a:solidFill>
                  <a:latin typeface="Arial"/>
                </a:rPr>
                <a:t>Всё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9900"/>
                  </a:solidFill>
                  <a:latin typeface="Arial"/>
                </a:rPr>
                <a:t>было ИНТЕРЕСНО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Группа 25"/>
          <p:cNvGrpSpPr/>
          <p:nvPr/>
        </p:nvGrpSpPr>
        <p:grpSpPr>
          <a:xfrm>
            <a:off x="611280" y="3284640"/>
            <a:ext cx="7652160" cy="1753920"/>
            <a:chOff x="611280" y="3284640"/>
            <a:chExt cx="7652160" cy="1753920"/>
          </a:xfrm>
        </p:grpSpPr>
        <p:pic>
          <p:nvPicPr>
            <p:cNvPr id="222" name="Рисунок 17" descr="big_smiles_138.gif"/>
            <p:cNvPicPr/>
            <p:nvPr/>
          </p:nvPicPr>
          <p:blipFill>
            <a:blip r:embed="rId2"/>
            <a:stretch/>
          </p:blipFill>
          <p:spPr>
            <a:xfrm>
              <a:off x="611280" y="3298320"/>
              <a:ext cx="2018880" cy="17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Прямоугольник 21"/>
            <p:cNvSpPr/>
            <p:nvPr/>
          </p:nvSpPr>
          <p:spPr>
            <a:xfrm>
              <a:off x="2460600" y="3284640"/>
              <a:ext cx="5802840" cy="173988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00"/>
                  </a:solidFill>
                  <a:latin typeface="Arial"/>
                </a:rPr>
                <a:t>Иногда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ff00"/>
                  </a:solidFill>
                  <a:latin typeface="Arial"/>
                </a:rPr>
                <a:t>было интерес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26"/>
          <p:cNvGrpSpPr/>
          <p:nvPr/>
        </p:nvGrpSpPr>
        <p:grpSpPr>
          <a:xfrm>
            <a:off x="457200" y="4941720"/>
            <a:ext cx="6636600" cy="1511640"/>
            <a:chOff x="457200" y="4941720"/>
            <a:chExt cx="6636600" cy="1511640"/>
          </a:xfrm>
        </p:grpSpPr>
        <p:pic>
          <p:nvPicPr>
            <p:cNvPr id="225" name="Рисунок 16" descr="0023.gif"/>
            <p:cNvPicPr/>
            <p:nvPr/>
          </p:nvPicPr>
          <p:blipFill>
            <a:blip r:embed="rId3"/>
            <a:stretch/>
          </p:blipFill>
          <p:spPr>
            <a:xfrm>
              <a:off x="457200" y="4941720"/>
              <a:ext cx="197172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Прямоугольник 22"/>
            <p:cNvSpPr/>
            <p:nvPr/>
          </p:nvSpPr>
          <p:spPr>
            <a:xfrm>
              <a:off x="2453760" y="5142240"/>
              <a:ext cx="46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ff0000"/>
                  </a:solidFill>
                  <a:latin typeface="Arial"/>
                </a:rPr>
                <a:t>Было скучно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Qwerty\Pictures\Rain.jpg"/>
          <p:cNvPicPr/>
          <p:nvPr/>
        </p:nvPicPr>
        <p:blipFill>
          <a:blip r:embed="rId1"/>
          <a:stretch/>
        </p:blipFill>
        <p:spPr>
          <a:xfrm>
            <a:off x="7020000" y="4292640"/>
            <a:ext cx="1944720" cy="2151000"/>
          </a:xfrm>
          <a:prstGeom prst="rect">
            <a:avLst/>
          </a:prstGeom>
          <a:ln w="0">
            <a:noFill/>
          </a:ln>
        </p:spPr>
      </p:pic>
      <p:sp>
        <p:nvSpPr>
          <p:cNvPr id="229" name="Содержимое 2"/>
          <p:cNvSpPr/>
          <p:nvPr/>
        </p:nvSpPr>
        <p:spPr>
          <a:xfrm>
            <a:off x="90000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118-119-выразительно читать                                    -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«4»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тихотворение наизусть                  –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«5» б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рческое зада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овать сочинить своё стихотворение – фантазию со                       словом «есл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916280" y="765000"/>
            <a:ext cx="63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 чём нам говорят эти сл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3" descr=""/>
          <p:cNvPicPr/>
          <p:nvPr/>
        </p:nvPicPr>
        <p:blipFill>
          <a:blip r:embed="rId2"/>
          <a:stretch/>
        </p:blipFill>
        <p:spPr>
          <a:xfrm>
            <a:off x="1962000" y="1468440"/>
            <a:ext cx="4737240" cy="21589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5"/>
          <p:cNvSpPr/>
          <p:nvPr/>
        </p:nvSpPr>
        <p:spPr>
          <a:xfrm>
            <a:off x="90000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учиться читать в соответствии этим словам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749160" y="49320"/>
            <a:ext cx="8242560" cy="13586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1258920" y="141300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ослушаем выразительное чтение стихотворений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.Л. Барто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Разлука»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 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«В театр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1258920" y="310500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Продолжим путешествие п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литературным страничка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539640" y="4005360"/>
            <a:ext cx="903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этической тетради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9" descr=""/>
          <p:cNvPicPr/>
          <p:nvPr/>
        </p:nvPicPr>
        <p:blipFill>
          <a:blip r:embed="rId3"/>
          <a:stretch/>
        </p:blipFill>
        <p:spPr>
          <a:xfrm>
            <a:off x="957240" y="4711680"/>
            <a:ext cx="7942320" cy="215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1036800" y="146160"/>
            <a:ext cx="8240400" cy="1261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Скороговор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Мои документы2\Презентации. Шаблоны 2\Виньетки\kniga02.png"/>
          <p:cNvPicPr/>
          <p:nvPr/>
        </p:nvPicPr>
        <p:blipFill>
          <a:blip r:embed="rId2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1640" y="764640"/>
            <a:ext cx="71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про себя по слогам.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12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не дожд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ждик, дождик подожд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ай до дому нам дой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Мои документы2\Презентации. Шаблоны 2\Виньетки\kniga02.png"/>
          <p:cNvPicPr/>
          <p:nvPr/>
        </p:nvPicPr>
        <p:blipFill>
          <a:blip r:embed="rId1"/>
          <a:stretch/>
        </p:blipFill>
        <p:spPr>
          <a:xfrm>
            <a:off x="0" y="0"/>
            <a:ext cx="2981160" cy="32590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рочитайте вслух </a:t>
            </a:r>
            <a:br>
              <a:rPr sz="6000"/>
            </a:br>
            <a:r>
              <a:rPr b="1" lang="ru-RU" sz="6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едленно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09:26Z</dcterms:created>
  <dc:creator>Zal</dc:creator>
  <dc:description/>
  <dc:language>en-US</dc:language>
  <cp:lastModifiedBy>Qwerty</cp:lastModifiedBy>
  <dcterms:modified xsi:type="dcterms:W3CDTF">2013-04-21T20:13:03Z</dcterms:modified>
  <cp:revision>55</cp:revision>
  <dc:subject/>
  <dc:title>Слайд 1</dc:title>
</cp:coreProperties>
</file>