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gif" ContentType="image/gif"/>
  <Override PartName="/ppt/media/image5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gif" ContentType="image/gif"/>
  <Override PartName="/ppt/media/image19.gif" ContentType="image/gif"/>
  <Override PartName="/ppt/media/image18.jpeg" ContentType="image/jpeg"/>
  <Override PartName="/ppt/media/image3.gif" ContentType="image/gif"/>
  <Override PartName="/ppt/media/image13.jpeg" ContentType="image/jpeg"/>
  <Override PartName="/ppt/media/image20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2.gif" ContentType="image/gif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C5BB-54D3-4566-895E-BBC2CB473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E025-F676-4565-9157-B77A988AE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C16A-05CE-4503-84B0-21E0BDBE1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3F6F-476D-4FB9-8BB7-22511726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F242-6BB6-4E6E-85AC-D5B0FE300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6E61-D190-4946-8E6E-542D8A7AD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0051-7457-41C4-82BF-3CE57C77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C5B1-CB71-4030-9279-6D7BB5FC0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0FF-FEF8-440A-9F18-2C3EE5FA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007E-256F-43E6-84F3-6B3C7189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F62-3A7B-435F-9707-C666E421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58A-6212-4FE9-8781-5B02E3B5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2056-437A-4B6E-B4D0-7EC94B97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3F79-90D4-4C15-85BA-11713050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3E58-5BB0-4D95-AB54-DFF407F5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9AD2-56B1-422F-92E4-F5350161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43E2-F7B2-4F72-892F-F2B35F5C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CE42-F2A1-4D9A-AC34-33BF8ECA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2AC7-421C-4ED1-A075-6D42AE2D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447-9673-448A-85A4-8812243C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FB56-EFE6-4E76-B79F-B6D5EAA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3B63-0751-478A-8DDA-E42BC1E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0A57-04C1-4BA4-849D-95DDBD64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08ED-4B27-4A44-9577-59ED627F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7746-44A9-4BB5-BFE1-7EA0A052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5D0-E583-437E-812A-FAF39BD5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677-73AC-41B2-B97E-1E32F00F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FFD-600A-43CA-97BD-9EBE09AD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0AB-5FFC-43BF-8919-36617B94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BF76-373A-43D7-9B2B-D81A71F3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E11-EF1B-4803-A332-9021D96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E31-3EE7-4B64-961F-30469C9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B4B-D836-4916-8D35-B05F46D7369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CEDF-5C45-4538-A9EE-A08E44F88EC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T HOM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6" descr="j0205462"/>
          <p:cNvPicPr/>
          <p:nvPr/>
        </p:nvPicPr>
        <p:blipFill>
          <a:blip r:embed="rId1"/>
          <a:stretch/>
        </p:blipFill>
        <p:spPr>
          <a:xfrm>
            <a:off x="4208400" y="3251160"/>
            <a:ext cx="1720800" cy="164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незнайка маленький"/>
          <p:cNvPicPr/>
          <p:nvPr/>
        </p:nvPicPr>
        <p:blipFill>
          <a:blip r:embed="rId2"/>
          <a:stretch/>
        </p:blipFill>
        <p:spPr>
          <a:xfrm>
            <a:off x="5638680" y="152280"/>
            <a:ext cx="350532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ITCH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MPj04392680000[1]"/>
          <p:cNvPicPr/>
          <p:nvPr/>
        </p:nvPicPr>
        <p:blipFill>
          <a:blip r:embed="rId1"/>
          <a:stretch/>
        </p:blipFill>
        <p:spPr>
          <a:xfrm>
            <a:off x="2590920" y="1905120"/>
            <a:ext cx="6400800" cy="421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MPj04312670000[1]"/>
          <p:cNvPicPr/>
          <p:nvPr/>
        </p:nvPicPr>
        <p:blipFill>
          <a:blip r:embed="rId1"/>
          <a:stretch/>
        </p:blipFill>
        <p:spPr>
          <a:xfrm>
            <a:off x="-1523880" y="-1257480"/>
            <a:ext cx="12191760" cy="9372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MPj04140660000[1]"/>
          <p:cNvPicPr/>
          <p:nvPr/>
        </p:nvPicPr>
        <p:blipFill>
          <a:blip r:embed="rId1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MPj04140660000[1]"/>
          <p:cNvPicPr/>
          <p:nvPr/>
        </p:nvPicPr>
        <p:blipFill>
          <a:blip r:embed="rId2"/>
          <a:stretch/>
        </p:blipFill>
        <p:spPr>
          <a:xfrm>
            <a:off x="-304920" y="-1447920"/>
            <a:ext cx="9753840" cy="9753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TH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4" descr="ванная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667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ванная больш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КСИ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AT HOME –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ДО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HOUSE – 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SITTING-ROOM –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 ГОСТИ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DINING-ROOM-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СТОЛОВ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BEDROOM-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СПАЛЬН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ahoma"/>
              </a:rPr>
              <a:t>BEDROOM FOR GUESTS-</a:t>
            </a: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СПАЛЬНЯ ДЛ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ahoma"/>
              </a:rPr>
              <a:t>ГОСТ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4" descr="вовка"/>
          <p:cNvPicPr/>
          <p:nvPr/>
        </p:nvPicPr>
        <p:blipFill>
          <a:blip r:embed="rId1"/>
          <a:stretch/>
        </p:blipFill>
        <p:spPr>
          <a:xfrm>
            <a:off x="6781680" y="990720"/>
            <a:ext cx="1905120" cy="21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98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98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КСИ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ffe1"/>
                </a:solidFill>
                <a:latin typeface="Tahoma"/>
              </a:rPr>
              <a:t>CORRIDOR-</a:t>
            </a:r>
            <a:r>
              <a:rPr b="0" lang="ru-RU" sz="3200" spc="-1" strike="noStrike">
                <a:solidFill>
                  <a:srgbClr val="8effe1"/>
                </a:solidFill>
                <a:latin typeface="Tahoma"/>
              </a:rPr>
              <a:t>КОРИД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ffe1"/>
                </a:solidFill>
                <a:latin typeface="Tahoma"/>
              </a:rPr>
              <a:t>KITCHEN-</a:t>
            </a:r>
            <a:r>
              <a:rPr b="0" lang="ru-RU" sz="3200" spc="-1" strike="noStrike">
                <a:solidFill>
                  <a:srgbClr val="8effe1"/>
                </a:solidFill>
                <a:latin typeface="Tahoma"/>
              </a:rPr>
              <a:t>КУХН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ffe1"/>
                </a:solidFill>
                <a:latin typeface="Tahoma"/>
              </a:rPr>
              <a:t>BATHROOM-</a:t>
            </a:r>
            <a:r>
              <a:rPr b="0" lang="ru-RU" sz="3200" spc="-1" strike="noStrike">
                <a:solidFill>
                  <a:srgbClr val="8effe1"/>
                </a:solidFill>
                <a:latin typeface="Tahoma"/>
              </a:rPr>
              <a:t>ВАННАЯ КОМН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аним микки-маус "/>
          <p:cNvPicPr/>
          <p:nvPr/>
        </p:nvPicPr>
        <p:blipFill>
          <a:blip r:embed="rId1"/>
          <a:stretch/>
        </p:blipFill>
        <p:spPr>
          <a:xfrm>
            <a:off x="7696080" y="49528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mickey_mouse_animated"/>
          <p:cNvPicPr/>
          <p:nvPr/>
        </p:nvPicPr>
        <p:blipFill>
          <a:blip r:embed="rId2"/>
          <a:stretch/>
        </p:blipFill>
        <p:spPr>
          <a:xfrm>
            <a:off x="0" y="38098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ЕЗЕНТАЦИЯ «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T HOM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Составлена учителем ин. яз. (английский), первой квалификационной категор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МКОУ ВСОШ №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Tahoma"/>
              </a:rPr>
              <a:t>Булатошкиной О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кошка аним"/>
          <p:cNvPicPr/>
          <p:nvPr/>
        </p:nvPicPr>
        <p:blipFill>
          <a:blip r:embed="rId1"/>
          <a:stretch/>
        </p:blipFill>
        <p:spPr>
          <a:xfrm>
            <a:off x="7467480" y="4952880"/>
            <a:ext cx="1067040" cy="1095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аним комп"/>
          <p:cNvPicPr/>
          <p:nvPr/>
        </p:nvPicPr>
        <p:blipFill>
          <a:blip r:embed="rId2"/>
          <a:stretch/>
        </p:blipFill>
        <p:spPr>
          <a:xfrm>
            <a:off x="6019920" y="5257800"/>
            <a:ext cx="1333440" cy="762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ДОБР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Tahoma"/>
              </a:rPr>
              <a:t>ПОЖАЛОВАТЬ !!!!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аним приветствие"/>
          <p:cNvPicPr/>
          <p:nvPr/>
        </p:nvPicPr>
        <p:blipFill>
          <a:blip r:embed="rId1"/>
          <a:stretch/>
        </p:blipFill>
        <p:spPr>
          <a:xfrm>
            <a:off x="1143000" y="762120"/>
            <a:ext cx="3867120" cy="82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герои "/>
          <p:cNvPicPr/>
          <p:nvPr/>
        </p:nvPicPr>
        <p:blipFill>
          <a:blip r:embed="rId2"/>
          <a:stretch/>
        </p:blipFill>
        <p:spPr>
          <a:xfrm>
            <a:off x="5715000" y="1905120"/>
            <a:ext cx="323856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дом"/>
          <p:cNvPicPr/>
          <p:nvPr/>
        </p:nvPicPr>
        <p:blipFill>
          <a:blip r:embed="rId1"/>
          <a:stretch/>
        </p:blipFill>
        <p:spPr>
          <a:xfrm>
            <a:off x="3733920" y="-304920"/>
            <a:ext cx="5205240" cy="7620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SITTING-ROOM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гостин англ"/>
          <p:cNvPicPr/>
          <p:nvPr/>
        </p:nvPicPr>
        <p:blipFill>
          <a:blip r:embed="rId1"/>
          <a:stretch/>
        </p:blipFill>
        <p:spPr>
          <a:xfrm>
            <a:off x="1523880" y="1752480"/>
            <a:ext cx="762012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DINING-ROOM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4" descr="карлсон и торт"/>
          <p:cNvPicPr/>
          <p:nvPr/>
        </p:nvPicPr>
        <p:blipFill>
          <a:blip r:embed="rId1"/>
          <a:stretch/>
        </p:blipFill>
        <p:spPr>
          <a:xfrm>
            <a:off x="4038480" y="4114800"/>
            <a:ext cx="186696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NING-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столовая"/>
          <p:cNvPicPr/>
          <p:nvPr/>
        </p:nvPicPr>
        <p:blipFill>
          <a:blip r:embed="rId1"/>
          <a:srcRect l="0" t="-9444" r="0" b="-9916"/>
          <a:stretch/>
        </p:blipFill>
        <p:spPr>
          <a:xfrm>
            <a:off x="1295280" y="-1100160"/>
            <a:ext cx="7620120" cy="909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спальня больш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DROOMS FOR GU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спал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гостиная"/>
          <p:cNvPicPr/>
          <p:nvPr/>
        </p:nvPicPr>
        <p:blipFill>
          <a:blip r:embed="rId2"/>
          <a:stretch/>
        </p:blipFill>
        <p:spPr>
          <a:xfrm>
            <a:off x="1295280" y="40006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RRID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коридор"/>
          <p:cNvPicPr/>
          <p:nvPr/>
        </p:nvPicPr>
        <p:blipFill>
          <a:blip r:embed="rId1"/>
          <a:srcRect l="-32252" t="0" r="0" b="0"/>
          <a:stretch/>
        </p:blipFill>
        <p:spPr>
          <a:xfrm>
            <a:off x="1676520" y="-762120"/>
            <a:ext cx="9448560" cy="9525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68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68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2T16:03:5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