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gif" ContentType="image/gif"/>
  <Override PartName="/ppt/media/image19.gif" ContentType="image/gif"/>
  <Override PartName="/ppt/media/image18.jpeg" ContentType="image/jpeg"/>
  <Override PartName="/ppt/media/image3.gif" ContentType="image/gif"/>
  <Override PartName="/ppt/media/image13.jpeg" ContentType="image/jpeg"/>
  <Override PartName="/ppt/media/image20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9A31-FE4D-4759-8BB0-098E6309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F4DA-561B-4E68-8AAC-E034477B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273-281E-4937-A4F4-7D66425C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583-2F1D-473F-9B00-C69DD209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CBA-EE81-4FFA-ABD7-CA567929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030-B7CF-4358-8FCD-CB303306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EC2-C5D1-4F8A-A74D-9891B2BE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12A-142B-4C38-91E2-2FAF8B7DA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3F8-1EB9-4EF7-B6E2-C23D502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FFC-C61B-4D88-BC3F-287D7759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DA9-940F-478A-9219-DF9CA97A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A6-B654-4C44-9FFD-A25622E9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4EC4-0CE2-47CB-80F0-56BEDEA5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570-440A-400D-8363-A259C00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DB32-EC9D-42DD-949D-609D297F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5A1-1073-4977-9DBE-BCA0D8D6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871C-34BC-4C5D-8417-D2458C61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CFB-65D1-42D0-A87B-3EE2C959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DD8E-F8E3-4F02-A0E5-7D0054E8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550-F051-4215-9298-BE481AE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37C5-C172-48FF-A3AD-497BBD2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F2E1-C687-4180-A2E2-2268437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A6E0-AD70-4F8F-A482-E606E58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FADA-17E0-4103-8774-0CFDA660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1DE-6503-484D-B673-F660390A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A14-98AA-4621-8213-BAE2078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796-1619-4F8B-A299-A07DB99C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FB5-0BFE-44B8-8BFF-3F79540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E00-6BFD-4313-BA4F-34C497C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0C0-FF50-4597-AE06-0F80AA1D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552-8791-4F68-94F3-0E30B41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AED-4E78-447B-BB74-E0A49E4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06C-953C-4B05-BF4B-C18A9C1CE59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9EA-52B6-4BA8-8170-E788B9FBE08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T HOM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6" descr="j0205462"/>
          <p:cNvPicPr/>
          <p:nvPr/>
        </p:nvPicPr>
        <p:blipFill>
          <a:blip r:embed="rId1"/>
          <a:stretch/>
        </p:blipFill>
        <p:spPr>
          <a:xfrm>
            <a:off x="4208400" y="3251160"/>
            <a:ext cx="1720800" cy="164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незнайка маленький"/>
          <p:cNvPicPr/>
          <p:nvPr/>
        </p:nvPicPr>
        <p:blipFill>
          <a:blip r:embed="rId2"/>
          <a:stretch/>
        </p:blipFill>
        <p:spPr>
          <a:xfrm>
            <a:off x="5638680" y="152280"/>
            <a:ext cx="350532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TCH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MPj04392680000[1]"/>
          <p:cNvPicPr/>
          <p:nvPr/>
        </p:nvPicPr>
        <p:blipFill>
          <a:blip r:embed="rId1"/>
          <a:stretch/>
        </p:blipFill>
        <p:spPr>
          <a:xfrm>
            <a:off x="2590920" y="1905120"/>
            <a:ext cx="6400800" cy="421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MPj04312670000[1]"/>
          <p:cNvPicPr/>
          <p:nvPr/>
        </p:nvPicPr>
        <p:blipFill>
          <a:blip r:embed="rId1"/>
          <a:stretch/>
        </p:blipFill>
        <p:spPr>
          <a:xfrm>
            <a:off x="-1523880" y="-1257480"/>
            <a:ext cx="12191760" cy="9372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MPj04140660000[1]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MPj04140660000[1]"/>
          <p:cNvPicPr/>
          <p:nvPr/>
        </p:nvPicPr>
        <p:blipFill>
          <a:blip r:embed="rId2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ванная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66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ванная больш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КСИ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AT HOME –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Д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HOUSE –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SITTING-ROOM –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 ГОСТИ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DINING-ROOM-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СТОЛОВ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BEDROOM-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СПАЛЬ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BEDROOM FOR GUESTS-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СПАЛЬНЯ Д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Г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4" descr="вовка"/>
          <p:cNvPicPr/>
          <p:nvPr/>
        </p:nvPicPr>
        <p:blipFill>
          <a:blip r:embed="rId1"/>
          <a:stretch/>
        </p:blipFill>
        <p:spPr>
          <a:xfrm>
            <a:off x="6781680" y="990720"/>
            <a:ext cx="1905120" cy="21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КСИ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ffe1"/>
                </a:solidFill>
                <a:latin typeface="Tahoma"/>
              </a:rPr>
              <a:t>CORRIDOR-</a:t>
            </a:r>
            <a:r>
              <a:rPr b="0" lang="ru-RU" sz="3200" spc="-1" strike="noStrike">
                <a:solidFill>
                  <a:srgbClr val="8effe1"/>
                </a:solidFill>
                <a:latin typeface="Tahoma"/>
              </a:rPr>
              <a:t>КОРИД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ffe1"/>
                </a:solidFill>
                <a:latin typeface="Tahoma"/>
              </a:rPr>
              <a:t>KITCHEN-</a:t>
            </a:r>
            <a:r>
              <a:rPr b="0" lang="ru-RU" sz="3200" spc="-1" strike="noStrike">
                <a:solidFill>
                  <a:srgbClr val="8effe1"/>
                </a:solidFill>
                <a:latin typeface="Tahoma"/>
              </a:rPr>
              <a:t>КУХ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ffe1"/>
                </a:solidFill>
                <a:latin typeface="Tahoma"/>
              </a:rPr>
              <a:t>BATHROOM-</a:t>
            </a:r>
            <a:r>
              <a:rPr b="0" lang="ru-RU" sz="3200" spc="-1" strike="noStrike">
                <a:solidFill>
                  <a:srgbClr val="8effe1"/>
                </a:solidFill>
                <a:latin typeface="Tahoma"/>
              </a:rPr>
              <a:t>ВАННАЯ КОМН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аним микки-маус "/>
          <p:cNvPicPr/>
          <p:nvPr/>
        </p:nvPicPr>
        <p:blipFill>
          <a:blip r:embed="rId1"/>
          <a:stretch/>
        </p:blipFill>
        <p:spPr>
          <a:xfrm>
            <a:off x="7696080" y="4952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mickey_mouse_animated"/>
          <p:cNvPicPr/>
          <p:nvPr/>
        </p:nvPicPr>
        <p:blipFill>
          <a:blip r:embed="rId2"/>
          <a:stretch/>
        </p:blipFill>
        <p:spPr>
          <a:xfrm>
            <a:off x="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ЕЗЕНТАЦИЯ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 HOM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Составлена учителем ин. яз. (английский), первой квалификационной категор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МКОУ ВСОШ №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Булатошкиной О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кошка аним"/>
          <p:cNvPicPr/>
          <p:nvPr/>
        </p:nvPicPr>
        <p:blipFill>
          <a:blip r:embed="rId1"/>
          <a:stretch/>
        </p:blipFill>
        <p:spPr>
          <a:xfrm>
            <a:off x="7467480" y="4952880"/>
            <a:ext cx="1067040" cy="1095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аним комп"/>
          <p:cNvPicPr/>
          <p:nvPr/>
        </p:nvPicPr>
        <p:blipFill>
          <a:blip r:embed="rId2"/>
          <a:stretch/>
        </p:blipFill>
        <p:spPr>
          <a:xfrm>
            <a:off x="6019920" y="5257800"/>
            <a:ext cx="1333440" cy="76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ДОБ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ПОЖАЛОВАТЬ !!!!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аним приветствие"/>
          <p:cNvPicPr/>
          <p:nvPr/>
        </p:nvPicPr>
        <p:blipFill>
          <a:blip r:embed="rId1"/>
          <a:stretch/>
        </p:blipFill>
        <p:spPr>
          <a:xfrm>
            <a:off x="1143000" y="762120"/>
            <a:ext cx="3867120" cy="8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герои "/>
          <p:cNvPicPr/>
          <p:nvPr/>
        </p:nvPicPr>
        <p:blipFill>
          <a:blip r:embed="rId2"/>
          <a:stretch/>
        </p:blipFill>
        <p:spPr>
          <a:xfrm>
            <a:off x="5715000" y="1905120"/>
            <a:ext cx="323856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дом"/>
          <p:cNvPicPr/>
          <p:nvPr/>
        </p:nvPicPr>
        <p:blipFill>
          <a:blip r:embed="rId1"/>
          <a:stretch/>
        </p:blipFill>
        <p:spPr>
          <a:xfrm>
            <a:off x="3733920" y="-304920"/>
            <a:ext cx="5205240" cy="7620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ITTING-ROO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гостин англ"/>
          <p:cNvPicPr/>
          <p:nvPr/>
        </p:nvPicPr>
        <p:blipFill>
          <a:blip r:embed="rId1"/>
          <a:stretch/>
        </p:blipFill>
        <p:spPr>
          <a:xfrm>
            <a:off x="1523880" y="175248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INING-ROOM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карлсон и торт"/>
          <p:cNvPicPr/>
          <p:nvPr/>
        </p:nvPicPr>
        <p:blipFill>
          <a:blip r:embed="rId1"/>
          <a:stretch/>
        </p:blipFill>
        <p:spPr>
          <a:xfrm>
            <a:off x="4038480" y="411480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-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столовая"/>
          <p:cNvPicPr/>
          <p:nvPr/>
        </p:nvPicPr>
        <p:blipFill>
          <a:blip r:embed="rId1"/>
          <a:srcRect l="0" t="-9444" r="0" b="-9916"/>
          <a:stretch/>
        </p:blipFill>
        <p:spPr>
          <a:xfrm>
            <a:off x="1295280" y="-1100160"/>
            <a:ext cx="7620120" cy="909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спальня больш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S FOR GU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спал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гостиная"/>
          <p:cNvPicPr/>
          <p:nvPr/>
        </p:nvPicPr>
        <p:blipFill>
          <a:blip r:embed="rId2"/>
          <a:stretch/>
        </p:blipFill>
        <p:spPr>
          <a:xfrm>
            <a:off x="129528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коридор"/>
          <p:cNvPicPr/>
          <p:nvPr/>
        </p:nvPicPr>
        <p:blipFill>
          <a:blip r:embed="rId1"/>
          <a:srcRect l="-32252" t="0" r="0" b="0"/>
          <a:stretch/>
        </p:blipFill>
        <p:spPr>
          <a:xfrm>
            <a:off x="1676520" y="-762120"/>
            <a:ext cx="9448560" cy="9525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2T16:03:5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